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32EF-E341-411F-9B00-E76C4023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0AA-BF13-4900-B949-3486528E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A2F-08E5-4469-89C1-9EFCCFBB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16BE-375B-4A7D-885B-13D277E3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E7A6-3D4E-4C78-B037-80D4B030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BCDE-CE5C-44E1-A25E-53CD19C6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2674-9F48-4DD7-9F1C-53AA96D5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5EC6-763F-42C7-8088-537334B4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EBA5-9F56-4FD0-A52B-B5A93242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382E-F367-40A7-80BC-F976F82E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4CF5-DAFF-4577-ADC3-16B22A45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559E-6F83-4BE1-877F-F1348483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8341-68BA-45CD-BB9C-FBA9285F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E746-BF6E-4C4C-8F0D-AC5AB4C4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0696-27D4-45ED-9BC9-A2840F7E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CA5C-20D2-4C25-8980-CF3FB71A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B811-CFE4-4827-BBEE-DC2FF62E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3F6-39F6-4196-BDA6-28A788FD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7E2E-F5E9-4659-BA36-9DDB2CFF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EBAF-6502-4863-8D29-9EFE4DDA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2A6F-FC4C-4BB7-9836-C66A62F0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A44-0DB2-4DB8-B361-D2F0F668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356-B267-44DD-A0B2-DBD537C6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712-1B67-4296-A4BC-DF71C49D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E631-FC90-497E-9EB7-122466090F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49B7-342E-4BAD-A51E-7441F99735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Урок математики во 2 классе.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ема. Прием умножения с            помощью сложения.         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Коробкова А. 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Самостоятельная работ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с.58, №7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МОЛОДЦЫ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4149720"/>
            <a:ext cx="6764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Times New Roman"/>
              </a:rPr>
              <a:t>18+(18-2)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5892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Составьте условие задачи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о решени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80000" y="4292640"/>
            <a:ext cx="29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"/>
              </a:rPr>
              <a:t>= 34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2001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9-26=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2001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39+15=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2001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70-8=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2001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5+37=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00720" y="259920"/>
            <a:ext cx="4038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16360" y="1700280"/>
            <a:ext cx="40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4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95640" y="3141720"/>
            <a:ext cx="40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6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4581360"/>
            <a:ext cx="40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6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Продолжите ряд чисе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40, 42, 44,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35, 40, 45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42, 39, 36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00720" y="1773360"/>
            <a:ext cx="4897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46, 48, 50, 52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00720" y="2852640"/>
            <a:ext cx="4897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50, 55, 60, 65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00720" y="3933720"/>
            <a:ext cx="4897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33, 30, 27, 24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У Миши 7 монет по 2 рубля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   Сколько денег у Миши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+2+2+2+2+2+2=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3789360"/>
            <a:ext cx="822960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х7=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4956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7+8+8+6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17+13+4+4+4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9+9+9+9+9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9+8+8+8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32+32+32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8+8+8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8320" y="188640"/>
            <a:ext cx="44956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8+7+5+8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18+18+18+18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24+23+2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0+0+0+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5+4+3+5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1+1+1+1+1+1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45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5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7" fill="hold">
                                          <p:stCondLst>
                                            <p:cond delay="155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41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424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2x5=2+2+2+2+2=1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4x3=4+4+4=12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1x4=1+1+1+1=4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0x3=0+0+0=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0x2=0+0=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5x4=5+5+5+5=2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-360" y="980640"/>
            <a:ext cx="9396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3+3+3+3+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=3x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15+15+15+1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=15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24+24+24=24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x4=100+100+       +100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12+12+12-7=    x3-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69080" y="9810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53080" y="1052640"/>
            <a:ext cx="94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78520" y="220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734160" y="20606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53080" y="32846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53080" y="32130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7080" y="4292640"/>
            <a:ext cx="132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4720" y="42926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3800" y="53737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50160" y="54450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18520" y="42926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86520" y="4292640"/>
            <a:ext cx="151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Задание на дом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с.58, №8,9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2:29:21Z</dcterms:created>
  <dc:creator>Paige</dc:creator>
  <dc:description/>
  <dc:language>en-US</dc:language>
  <cp:lastModifiedBy>user</cp:lastModifiedBy>
  <dcterms:modified xsi:type="dcterms:W3CDTF">2012-01-19T10:06:27Z</dcterms:modified>
  <cp:revision>12</cp:revision>
  <dc:subject/>
  <dc:title>18+(18-2) </dc:title>
</cp:coreProperties>
</file>