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230-EEB0-4395-ACF0-85689074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DB8-1AC2-492B-81D6-4A0273CD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22A-5EB5-49B7-8BB3-DC5C9AC2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AE5-6620-4BFF-91FC-8751AEF7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36B9-0F21-40B9-8582-24D5DBA0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54A3-E9B4-4181-B738-9B9A1510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B3B9-6DDE-424B-B690-C935C507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D4AD-38DC-4191-B516-CDE2B4B7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D253-E774-45A6-A61D-4BC56D56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0EED-0E75-457F-9B8A-20F14A43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8DF8-9FB6-4E75-AF37-4D644313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2D7-E6A1-4C06-96A3-B8A4FB49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6DF4-8E7C-4223-A842-2855FDEF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86AA-79A5-4901-9A4F-09F0451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679D-094B-42DF-8CDF-04BE6D31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4E80-CC54-45C7-811B-61CE98D7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1530-70EE-4817-9656-0D3160D1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5DE-3B90-4345-8D19-F3F27ED3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C28-A80F-4F6B-B5BF-4739633C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CFA-C966-47BA-BF7B-89005785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2C1-4E92-4D7D-9E8F-D2BF11AB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EE0-0DA6-49B9-BBB0-17BA5529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F18-FD83-40FD-A44B-A22CF789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BA3-48AD-4682-B837-EE9658B5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7945-4FCD-4D3C-A993-60BDA8C686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9898-4EED-4AD0-91F2-3786CF27B2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рок математики во 2 классе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ема. Прием умножения с            помощью сложения.        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Коробкова А. 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Самостоятельная работ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с.58, №7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4149720"/>
            <a:ext cx="6764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Times New Roman"/>
              </a:rPr>
              <a:t>18+(18-2)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ставьте условие задач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о решени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4292640"/>
            <a:ext cx="29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= 3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2001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9-26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2001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9+15=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2001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70-8=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2001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+37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00720" y="259920"/>
            <a:ext cx="4038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1700280"/>
            <a:ext cx="40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95640" y="3141720"/>
            <a:ext cx="40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4581360"/>
            <a:ext cx="40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Продолжите ряд чисе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40, 42, 44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5, 40, 45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42, 39, 36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1773360"/>
            <a:ext cx="48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46, 48, 50, 52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2852640"/>
            <a:ext cx="48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50, 55, 60, 65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3933720"/>
            <a:ext cx="48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3, 30, 27, 24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У Миши 7 монет по 2 рубля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   Сколько денег у Миши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+2+2+2+2+2+2=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3789360"/>
            <a:ext cx="822960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х7=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4956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7+8+8+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17+13+4+4+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9+9+9+9+9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9+8+8+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32+32+32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8+8+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88640"/>
            <a:ext cx="44956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8+7+5+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18+18+18+1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24+23+2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0+0+0+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5+4+3+5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1+1+1+1+1+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7" fill="hold">
                                          <p:stCondLst>
                                            <p:cond delay="1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41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42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2x5=2+2+2+2+2=1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4x3=4+4+4=12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1x4=1+1+1+1=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0x3=0+0+0=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0x2=0+0=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5x4=5+5+5+5=2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939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3+3+3+3+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=3x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5+15+15+1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=15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24+24+24=24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x4=100+100+       +100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2+12+12-7=    x3-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9080" y="981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3080" y="1052640"/>
            <a:ext cx="9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8520" y="220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34160" y="2060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53080" y="3284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3213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7080" y="4292640"/>
            <a:ext cx="132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4720" y="4292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3800" y="5373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50160" y="5445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18520" y="4292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6520" y="4292640"/>
            <a:ext cx="151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Задание на до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8ae8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с.58, №8,9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2:29:21Z</dcterms:created>
  <dc:creator>Paige</dc:creator>
  <dc:description/>
  <dc:language>en-US</dc:language>
  <cp:lastModifiedBy>user</cp:lastModifiedBy>
  <dcterms:modified xsi:type="dcterms:W3CDTF">2012-01-19T10:06:27Z</dcterms:modified>
  <cp:revision>12</cp:revision>
  <dc:subject/>
  <dc:title>18+(18-2) </dc:title>
</cp:coreProperties>
</file>