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470-1130-434E-8D24-C01CCD6D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D9E-AF53-4A88-8541-1DFE98A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3AD-FADA-478F-BF9F-8CD3626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D96-41D9-46CB-A4BB-FF9DCFDD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EA39-A6AB-4F48-87F0-18BFDCE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4A99-D043-4EA9-BE1A-24B6016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435F-A410-4291-8705-71A992F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78F-2792-49E5-83FD-D68C36C9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F571-4F9B-4F79-AC07-D57982AC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5763-3D8D-4E9F-B4AD-EE29FA8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AC53-B8A5-4810-A6BD-66F2BEF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F94-8DE6-4F9C-9C1E-E0C18E4F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32D7-70E0-4EC9-80D8-A9D7A10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F983-FC0D-43B6-84AF-E1011A6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6F7-003F-4C71-A54D-0E375934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1D0-9A65-4ED7-834F-D3F2D36C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E9D-374E-498E-9988-4CDF9CD0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E0B-D52F-4F38-BF41-8367021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5B3-6B70-4F48-B7EC-1A705FBE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EEF-D7BB-4641-A4D5-B4F273C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D07-828A-49B8-8177-3355671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2EF-2D07-4200-A166-3B99CE2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27B-E9B4-4F5F-B6E8-335B084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7CE-6ABC-4272-ADCA-C6944346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1AE-5295-4FEE-8196-6B6583EF23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A25-629A-4622-8FE9-6804A0EF84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к математики во 2 классе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. Прием умножения с            помощью сложения.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Коробкова А. 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Самостоятельная рабо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7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4149720"/>
            <a:ext cx="6764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Times New Roman"/>
              </a:rPr>
              <a:t>18+(18-2)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ставьте условие задач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о решени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429264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= 3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9-26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9+15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0-8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+37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00720" y="259920"/>
            <a:ext cx="4038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70028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314172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5813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Продолжите ряд чисе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0, 42, 44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5, 40, 45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2, 39, 36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177336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6, 48, 50, 52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85264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50, 55, 60, 65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393372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3, 30, 27, 24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У Миши 7 монет по 2 рубля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  Сколько денег у Миши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+2+2+2+2+2+2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789360"/>
            <a:ext cx="8229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х7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7+8+8+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7+13+4+4+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9+9+9+9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32+32+3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7+5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8+18+18+1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4+23+2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+0+0+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+4+3+5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+1+1+1+1+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x5=2+2+2+2+2=1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4x3=4+4+4=1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x4=1+1+1+1=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3=0+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2=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x4=5+5+5+5=2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93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+3+3+3+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3x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5+15+15+1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15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4+24+24=24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x4=100+100+       +100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+12+12-7=    x3-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9080" y="981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3080" y="1052640"/>
            <a:ext cx="9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8520" y="220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4160" y="2060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3080" y="32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3213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080" y="429264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47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3800" y="537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0160" y="5445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185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6520" y="4292640"/>
            <a:ext cx="15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8,9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29:21Z</dcterms:created>
  <dc:creator>Paige</dc:creator>
  <dc:description/>
  <dc:language>en-US</dc:language>
  <cp:lastModifiedBy>user</cp:lastModifiedBy>
  <dcterms:modified xsi:type="dcterms:W3CDTF">2012-01-19T10:06:27Z</dcterms:modified>
  <cp:revision>12</cp:revision>
  <dc:subject/>
  <dc:title>18+(18-2) </dc:title>
</cp:coreProperties>
</file>