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jpeg" ContentType="image/jpeg"/>
  <Override PartName="/ppt/media/image25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EF6-FB87-4E40-A181-C180DBF1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BD7-8C47-4ACA-8016-3A30B3E5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B37-E60E-4EBC-9538-895A3834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D8B-039E-4528-9716-AC475B4E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C9D1-31A0-49D8-9764-E0B038A9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5DB9-B3E6-4083-949C-F1E20990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A367-FB10-419F-A1AE-24E7378D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B48C-A279-40D7-8981-D629510C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F9B8-391E-4C29-A501-90C72C8E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57B2-556B-4328-B0EA-BC9C2A6E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D56B-5883-45BE-8FE4-C7AC366C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4B5-6BDC-4DBA-BD4B-08CCAF8C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09EE-2F0F-4FA3-93AE-430F337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E4CB-55CF-4A27-9B00-098E65F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89F-395B-49AD-8031-7E0C178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F0E4-0AE3-41E4-9D5B-DE5559C7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693C-011B-49E7-9C75-0354865A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09E-F3E1-437B-A483-B8E74395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CE2-7554-481D-9224-F0A44AD6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E2F-61D5-40E1-A037-A873CC93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247-8D69-4646-B45D-4E468EC0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A3C-21CD-4F5E-BA72-55C8A308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DD9-C5D6-402E-96F7-009DDAAA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113-652C-4D74-9929-D757476D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0CA5-A607-4A6B-9D9A-6B1B5BF47A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E89B-BB51-4B0F-89B2-CB4ED5204C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66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20085600">
            <a:off x="1908000" y="3284280"/>
            <a:ext cx="8595000" cy="381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"Правила баскетбола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59036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743280"/>
            <a:ext cx="5976720" cy="248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0360" y="4046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5545080" cy="3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3803760"/>
            <a:ext cx="5616360" cy="239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41128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5688000" cy="39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5759280" cy="2420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5400720" cy="395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3706920"/>
            <a:ext cx="5472000" cy="238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72436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5400720" cy="46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5400720" cy="25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72436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076720" cy="539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076720" cy="280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168720" cy="323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5113440" cy="23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219640" y="4370400"/>
            <a:ext cx="3240000" cy="2227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 flipH="1" rot="20968800">
            <a:off x="5724000" y="620640"/>
            <a:ext cx="2665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256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535640" cy="392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4535640" cy="262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6264360" cy="3058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256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4753080" cy="320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748400" cy="247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5545080" cy="2903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1200" y="2133720"/>
            <a:ext cx="30528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Изменения в официальных правилах баскетбола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Июнь 2005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8258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просьба о предоставлении тайм-аута или замены поступила прежде, чем мяч оказался в распоряжении игрока для вбрасывания после проведения штрафного(-ых) броска(-ов), то тайм-аут или замена могут быть предоставлены обеим командам только в том случае, если последний или единственный штрафной бросок будет удач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427640" y="620640"/>
            <a:ext cx="4032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Если за штрафным(-и) броском(-ами) следует вбрасывание на продолжении центральной линии, то тайм-аут или замена могут быть предоставлены обеим командам независимо от того, удачен или нет будет последний или единственный брос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429000"/>
            <a:ext cx="8317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Если во время последних двух (2-х) минут четвертого (4-го) периода или любого дополнительного периода тайм-аут предостав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команде, в корзину которой заброшен мяч с игр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команде, имеющей право на владение мячом в своей тыловой зоне, то вбрасывание после тайм-аута должно проводиться на продолжении центральной линии напротив секретарского стол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грок, выполняющий вбрасывание, может передавать мяч игроку, находящемуся в любом месте на игров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240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3960720" cy="388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есты суд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менения в официальных правилах баскетб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новные критерии, которыми должен обладать современный баскетбольный арби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43280" y="2768760"/>
          <a:ext cx="381168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68760"/>
                    <a:ext cx="38116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2606760" cy="352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27640" y="537372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жеймс Нейсм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обретатель баскетб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0360" y="476280"/>
            <a:ext cx="2664000" cy="274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Рекомендации судья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2640" y="2017440"/>
            <a:ext cx="8631360" cy="484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2133720"/>
            <a:ext cx="843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старайтесь быть в центре внима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3357720"/>
            <a:ext cx="80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оправдывай своё решени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д игроками и зрителям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5157720"/>
            <a:ext cx="859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реагируй на действия болельщ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екомендации судья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360" y="2997360"/>
            <a:ext cx="75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"заигрывайся"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ни, что ты судья, а не игро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9640" y="4365720"/>
            <a:ext cx="780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гда не угрожай игроку жесто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628640"/>
            <a:ext cx="8280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упай в разговоры с игрокам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райне редких случаях и веди их вежлив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сновные критерии, которыми должен обладать современный баскетбольный арбитр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19640" y="2492280"/>
            <a:ext cx="52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Психологическая устойчивость</a:t>
            </a:r>
            <a:endParaRPr b="0" i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32000" y="3429000"/>
            <a:ext cx="42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Тонкое понимание игр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43280" y="4437000"/>
            <a:ext cx="41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Мгновенная реак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68360" y="5373720"/>
            <a:ext cx="42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Физическая форм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0802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Судейская жестикуляц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669276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Жесты су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3274920"/>
            <a:ext cx="5616360" cy="2973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3241800"/>
            <a:ext cx="5976720" cy="296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8720" y="3406680"/>
            <a:ext cx="5975280" cy="2694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2880000" cy="35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1200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3330720"/>
            <a:ext cx="6119640" cy="283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2384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2376360" cy="358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1200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3479760"/>
            <a:ext cx="5977080" cy="304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2376720" cy="35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6120000" cy="453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6195960" cy="249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940360" y="4046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12:59Z</dcterms:created>
  <dc:creator>Жубайканова Александра Сергеевна</dc:creator>
  <dc:description/>
  <dc:language>en-US</dc:language>
  <cp:lastModifiedBy>MSH</cp:lastModifiedBy>
  <dcterms:modified xsi:type="dcterms:W3CDTF">2011-01-18T02:03:01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