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4.jpeg" ContentType="image/jpeg"/>
  <Override PartName="/ppt/media/image25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9DE-2829-4A88-A9EC-A4A2F80C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AAF-D3F8-4334-ABCB-C57E27E9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466D-225C-4C3A-957D-20DDEC49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A480-ABE7-40EE-8C22-DEA600DC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632B-D29F-4A82-AD05-6A42D50C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7F05-7B05-4DB2-9769-C5BFA536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82A7-18E4-4E31-82BA-676CC58C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303F-C0DC-435D-880F-10598DE2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F8D6-04A1-4FC9-AE78-BF238431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817B-E302-4925-B3CA-B9ABCD47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4F49-1D8F-44D4-ADDB-24AD0A17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764-9C8A-4452-85C8-9FB612B8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7F21-336A-4890-AF7D-CCB2FE2A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1701-1F62-4B58-ADA6-2CD6205D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2283-4382-4A82-BECC-031CF663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915C-13E8-4A6E-BD7D-FA0F8939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14FC-4219-4AED-B826-1EC718A0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153A-B3AF-4A35-9D96-951E0C69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927-E5F7-473E-B885-9CBD1261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E2D-14F6-41A3-A386-AA58DF8A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56F-A415-46A6-AD33-098F4063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120-D795-4521-AC46-0D0D9856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29EB-F55B-425E-8388-3C6BFF7C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7D4-5BD5-4CEA-97FF-1B646F93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20FC-E3B6-4BC4-8C09-4AD5BA0EC3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E3D7-572B-4876-AE6A-79014D7FEC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66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3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 rot="20085600">
            <a:off x="1908000" y="3284280"/>
            <a:ext cx="8595000" cy="381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"Правила баскетбола"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5903640" cy="406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3743280"/>
            <a:ext cx="5976720" cy="2484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40360" y="40464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5545080" cy="3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11280" y="3803760"/>
            <a:ext cx="5616360" cy="239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411280" y="260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5688000" cy="395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8360" y="3787920"/>
            <a:ext cx="5759280" cy="2420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042920" y="3213000"/>
            <a:ext cx="5400720" cy="395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71640" y="3706920"/>
            <a:ext cx="5472000" cy="2388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72436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2560" y="260028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5400720" cy="468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5400720" cy="2521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72436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5076720" cy="539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5076720" cy="280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3168720" cy="323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5113440" cy="2376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219640" y="4370400"/>
            <a:ext cx="3240000" cy="2227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 flipH="1" rot="20968800">
            <a:off x="5724000" y="620640"/>
            <a:ext cx="26654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2560" y="260028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535640" cy="3920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4535640" cy="262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39640" y="3141720"/>
            <a:ext cx="6264360" cy="3058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580000" y="260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2560" y="260028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4753080" cy="320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4748400" cy="247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5545080" cy="2903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940360" y="260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091200" y="2133720"/>
            <a:ext cx="3052800" cy="2743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Изменения в официальных правилах баскетбола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Arial"/>
              </a:rPr>
              <a:t>Июнь 2005 г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4825800" cy="453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сли просьба о предоставлении тайм-аута или замены поступила прежде, чем мяч оказался в распоряжении игрока для вбрасывания после проведения штрафного(-ых) броска(-ов), то тайм-аут или замена могут быть предоставлены обеим командам только в том случае, если последний или единственный штрафной бросок будет удачны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427640" y="620640"/>
            <a:ext cx="40320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Если за штрафным(-и) броском(-ами) следует вбрасывание на продолжении центральной линии, то тайм-аут или замена могут быть предоставлены обеим командам независимо от того, удачен или нет будет последний или единственный бросо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3429000"/>
            <a:ext cx="83170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Если во время последних двух (2-х) минут четвертого (4-го) периода или любого дополнительного периода тайм-аут предоставляе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команде, в корзину которой заброшен мяч с игр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команде, имеющей право на владение мячом в своей тыловой зоне, то вбрасывание после тайм-аута должно проводиться на продолжении центральной линии напротив секретарского стол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грок, выполняющий вбрасывание, может передавать мяч игроку, находящемуся в любом месте на игровой площад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2400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3960720" cy="388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Жесты суд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менения в официальных правилах баскетб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сновные критерии, которыми должен обладать современный баскетбольный арбит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43280" y="2768760"/>
          <a:ext cx="3811680" cy="25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768760"/>
                    <a:ext cx="381168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076720" y="1628640"/>
            <a:ext cx="2606760" cy="3527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27640" y="537372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жеймс Нейсми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обретатель баскетбо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940360" y="476280"/>
            <a:ext cx="2664000" cy="2743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Рекомендации судьям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12640" y="2017440"/>
            <a:ext cx="8631360" cy="4840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2133720"/>
            <a:ext cx="843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старайтесь быть в центре вниман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95280" y="3357720"/>
            <a:ext cx="806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оправдывай своё решени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д игроками и зрителям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4000" y="5157720"/>
            <a:ext cx="8591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реагируй на действия болельщи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Рекомендации судьям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8360" y="2997360"/>
            <a:ext cx="75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"заигрывайся"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мни, что ты судья, а не игрок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39640" y="4365720"/>
            <a:ext cx="780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икогда не угрожай игроку жесто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24000" y="1628640"/>
            <a:ext cx="828036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тупай в разговоры с игроками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райне редких случаях и веди их вежлив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Основные критерии, которыми должен обладать современный баскетбольный арбитр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419640" y="2492280"/>
            <a:ext cx="52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Психологическая устойчивость</a:t>
            </a:r>
            <a:endParaRPr b="0" i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132000" y="3429000"/>
            <a:ext cx="424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Тонкое понимание игр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843280" y="4437000"/>
            <a:ext cx="41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Мгновенная реакц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68360" y="5373720"/>
            <a:ext cx="424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.Физическая форм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765000"/>
            <a:ext cx="808020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Судейская жестикуляци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516720" y="404640"/>
            <a:ext cx="2411280" cy="1808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6692760" cy="300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Жесты суд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4360" y="3274920"/>
            <a:ext cx="5616360" cy="2973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1280" y="3241800"/>
            <a:ext cx="5976720" cy="2968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8720" y="3406680"/>
            <a:ext cx="5975280" cy="2694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00000" y="3068640"/>
            <a:ext cx="2880000" cy="358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01200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4360" y="3330720"/>
            <a:ext cx="6119640" cy="283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023840" y="179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2376360" cy="358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01200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3479760"/>
            <a:ext cx="5977080" cy="3046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2376720" cy="35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50872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6120000" cy="453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6195960" cy="2495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940360" y="40464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4:12:59Z</dcterms:created>
  <dc:creator>Жубайканова Александра Сергеевна</dc:creator>
  <dc:description/>
  <dc:language>en-US</dc:language>
  <cp:lastModifiedBy>MSH</cp:lastModifiedBy>
  <dcterms:modified xsi:type="dcterms:W3CDTF">2011-01-18T02:03:01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