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jpeg" ContentType="image/jpeg"/>
  <Override PartName="/ppt/media/image25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576-794E-438F-BD96-269254A8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C83-3176-407D-BF59-7F62D868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BFB-891F-4DD4-80FD-5A564101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1C7-8145-464F-BE29-CF77951D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E480-9422-4261-8752-A0E5ED99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AA0A-4906-432D-AAF0-5A0DDA9D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75EA-70AA-41AE-ACF6-B51277BE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2B64-10FC-493F-A237-253C3DD9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FCBE-7C17-451A-B552-26C3757D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0CA9-9097-48E6-A83A-0804F116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9D35-0F6D-40C3-A96B-0B26FD18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D21-288B-46F8-97C5-1DB0D9AC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6B2C-277C-4E11-B01B-A692E43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4ADB-EF0E-49F2-9925-37AEE959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4F4A-6E27-4465-9C2C-F9E5AE17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7480-49E8-4AA7-8826-AF3BCA09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6094-FFD7-41F9-99B3-A6BBC1E3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7B1-D67D-4DF5-9A73-85060AD3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EDF-BFF6-44A9-8A21-EF8D70AA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D51-70B1-455B-85BC-629E6D6F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AFF-4B53-4AC5-87D4-2C876F3B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54F-168E-4677-89EB-B4FC13BE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AA8-1A9C-4D0A-8E72-943EB22B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2B2-7CEC-40BE-94C3-06AC81F7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5B81-5960-4F4C-8E54-F30B536997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429-E8FB-4E69-99BB-D536DAD383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66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 rot="20085600">
            <a:off x="1908000" y="3284280"/>
            <a:ext cx="8595000" cy="381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"Правила баскетбола"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5903640" cy="406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743280"/>
            <a:ext cx="5976720" cy="248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0360" y="4046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5545080" cy="3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1280" y="3803760"/>
            <a:ext cx="5616360" cy="239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41128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5688000" cy="39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5759280" cy="2420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42920" y="3213000"/>
            <a:ext cx="5400720" cy="395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71640" y="3706920"/>
            <a:ext cx="5472000" cy="2388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72436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256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5400720" cy="46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5400720" cy="252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72436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076720" cy="539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5076720" cy="280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168720" cy="323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5113440" cy="2376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219640" y="4370400"/>
            <a:ext cx="3240000" cy="2227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 flipH="1" rot="20968800">
            <a:off x="5724000" y="620640"/>
            <a:ext cx="26654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256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535640" cy="392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4535640" cy="262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6264360" cy="3058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58000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2560" y="260028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4753080" cy="320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748400" cy="247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5545080" cy="2903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94036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091200" y="2133720"/>
            <a:ext cx="305280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Изменения в официальных правилах баскетбола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Arial"/>
              </a:rPr>
              <a:t>Июнь 2005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8258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просьба о предоставлении тайм-аута или замены поступила прежде, чем мяч оказался в распоряжении игрока для вбрасывания после проведения штрафного(-ых) броска(-ов), то тайм-аут или замена могут быть предоставлены обеим командам только в том случае, если последний или единственный штрафной бросок будет удач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427640" y="620640"/>
            <a:ext cx="4032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Если за штрафным(-и) броском(-ами) следует вбрасывание на продолжении центральной линии, то тайм-аут или замена могут быть предоставлены обеим командам независимо от того, удачен или нет будет последний или единственный бросо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3429000"/>
            <a:ext cx="83170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Если во время последних двух (2-х) минут четвертого (4-го) периода или любого дополнительного периода тайм-аут предоставляе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команде, в корзину которой заброшен мяч с игр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команде, имеющей право на владение мячом в своей тыловой зоне, то вбрасывание после тайм-аута должно проводиться на продолжении центральной линии напротив секретарского стол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грок, выполняющий вбрасывание, может передавать мяч игроку, находящемуся в любом месте на игровой площа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2400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3960720" cy="388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есты суд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менения в официальных правилах баскетб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новные критерии, которыми должен обладать современный баскетбольный арбит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43280" y="2768760"/>
          <a:ext cx="381168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68760"/>
                    <a:ext cx="38116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2606760" cy="352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27640" y="537372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жеймс Нейсм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обретатель баскетбо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0360" y="476280"/>
            <a:ext cx="2664000" cy="274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Рекомендации судьям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2640" y="2017440"/>
            <a:ext cx="8631360" cy="4840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2133720"/>
            <a:ext cx="843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старайтесь быть в центре внима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5280" y="3357720"/>
            <a:ext cx="806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оправдывай своё решени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д игроками и зрителям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5157720"/>
            <a:ext cx="859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реагируй на действия болельщ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екомендации судья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360" y="2997360"/>
            <a:ext cx="75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"заигрывайся"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мни, что ты судья, а не игро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9640" y="4365720"/>
            <a:ext cx="780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когда не угрожай игроку жестом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4000" y="1628640"/>
            <a:ext cx="828036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упай в разговоры с игрокам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райне редких случаях и веди их вежлив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сновные критерии, которыми должен обладать современный баскетбольный арбитр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19640" y="2492280"/>
            <a:ext cx="52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Психологическая устойчивость</a:t>
            </a:r>
            <a:endParaRPr b="0" i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32000" y="3429000"/>
            <a:ext cx="42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Тонкое понимание игр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43280" y="4437000"/>
            <a:ext cx="41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Мгновенная реак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68360" y="5373720"/>
            <a:ext cx="42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Физическая форм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80802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Судейская жестикуляц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16720" y="404640"/>
            <a:ext cx="2411280" cy="180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669276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Жесты су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4360" y="3274920"/>
            <a:ext cx="5616360" cy="2973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3241800"/>
            <a:ext cx="5976720" cy="2968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8720" y="3406680"/>
            <a:ext cx="5975280" cy="2694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2880000" cy="35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1200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3330720"/>
            <a:ext cx="6119640" cy="283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2384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2376360" cy="358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1200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3479760"/>
            <a:ext cx="5977080" cy="3046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2376720" cy="35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08720" y="333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703440"/>
            <a:ext cx="8080560" cy="50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Жесты суде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0820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79840" y="316080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6120000" cy="453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1948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6195960" cy="2495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940360" y="4046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4:12:59Z</dcterms:created>
  <dc:creator>Жубайканова Александра Сергеевна</dc:creator>
  <dc:description/>
  <dc:language>en-US</dc:language>
  <cp:lastModifiedBy>MSH</cp:lastModifiedBy>
  <dcterms:modified xsi:type="dcterms:W3CDTF">2011-01-18T02:03:01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