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1B3-A20D-46E0-B173-057A2677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972-E8D0-48D3-A1BC-2D99D2F0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365-218F-4813-83A1-61C6AD39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EBD-1D2B-42E7-9599-71FD7608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7A36-B00D-425F-98F5-4073223B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C0E1-847D-465D-8DE5-B434F95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16F-6A1F-436A-8457-7704933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31B-96DB-42FC-8CD2-92CA02C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07C2-68CA-46A6-A29F-E28805C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A7FD-F981-4243-B9F7-90EB6A9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667-8AB4-461E-A1BB-A415D0C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39D-DB58-4B64-80E6-6D7220BD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142-D44F-4C3B-B399-BA8A91C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07A-10E3-497A-8984-4A0BAC5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1E4-7F98-4B2E-8C0F-B8E82BB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1A9-F02A-44FB-8F2A-9D31C8F3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3FF-D234-4246-98AD-30273101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5FE-8A5E-4DB1-9646-7E688ED5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87A-6672-4F27-A202-3291765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87B-E603-4A95-A4F3-C5709C0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EA1-A702-4F31-A042-36CF76D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55C-0588-443B-B417-0A5F403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9B-D09A-432B-8F68-F84F394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B6D-003C-4D2B-84A3-3A6DE95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742A-7B93-4077-8E1B-F384F862BBE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50E4-FB66-4513-AA5B-FF8645EFB6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Муниципальное автономное дошкольное образовательное учреждение 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«Детский сад № 408 комбинированного вида»</a:t>
            </a:r>
            <a:br>
              <a:rPr sz="2400"/>
            </a:br>
            <a:r>
              <a:rPr b="1" lang="en-US" sz="2400" spc="-1" strike="noStrike">
                <a:solidFill>
                  <a:srgbClr val="f709e8"/>
                </a:solidFill>
                <a:latin typeface="Arial"/>
              </a:rPr>
              <a:t> Советского района города Казан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18288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бразование: среднее специальное, КПУ, дошкольное образование, воспитатель дошкольных учреждений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спитател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едагогический стаж 24 года, из них в должности воспитателя – 24 ле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аграды, з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 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етодическая тема «Духовно-нравственное воспитание детей через общение с природой»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Участник I районной педагогической конференции «Путь к мастерству» , 2007 год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Победитель (1 место) районного конкурса «Воспитатель года – 2008»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Лауреат городского конкурса «Воспитатель года - 2008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Награждена Почётной грамотой Отдела образования Советского района г. Казани  2008г.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бедитель районного этапа II городского конкурса инновационных программ и методических разработок – 2010 год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352680" cy="3429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943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Трудовые действия в природе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Труд доставляет много радости, воспитывает бережное отношение к природе, формирует у детей сознание причастности к миру природы. Труд в природе как созидательный процесс, побуждает детей к тем действиям, которые не причиняют вреда никому и ничему, и соответственно формирует нравственную позицию по отношению к мир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Отбор произведений художественной литературы о мире природы нравственно-ориентированной направленнос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роведение литературных композиций, праздников, конкурсов чтецов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оздание детьми иллюстраций к прочитанным книгам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Игровая мотивация детей с помощью литературных персонаже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422360" cy="1096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09e8"/>
                </a:solidFill>
                <a:latin typeface="Arial"/>
              </a:rPr>
              <a:t>Ознакомление с художественной литератур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5332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гровые обучающие ситуации с детьм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игрушек-аналогов. Сопоставление живого объекта с неживым аналогом помогает ребёнку осознать специфику живого, выработке возможности правильно действовать с живым объект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пользование сюжетных игрушек, с помощью которых, педагог может создать различные игровые ситуации, позволяющие уточнить и расширить представления детей, вызвать добрые чувства к живой прир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гры-путешеств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ритерии оценки эффективности работ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по духовно-нравственному воспитанию детей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через общение с природо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Эффективность использования работы по приобщению к миру природы для духовно-нравственного развития дете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. Поведение ребёнка по отношению к окружающим объектам и мотивация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2. Реализация элементарных навыков рационального природопользования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. Элементарные навыки экологически безопасного поведения в быту и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4. Желание участвовать в посильной практической деятельности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5. Эмоционально окрашенное отношение к объектам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. Эмоционально окрашенное отношение к поступкам людей по отношению к природ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. Сформированность чувства ответственности за свои поступки и понимания их последствий для окружающего мир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8. Умение и желание прогнозировать некоторые последствия своих поступ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9. Способность видеть красоту окружающего мира, образное восприятие природ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92680" y="1600200"/>
          <a:ext cx="1951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51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89320" y="1371600"/>
          <a:ext cx="4638600" cy="49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9320" y="1371600"/>
                    <a:ext cx="46386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809880" y="1695600"/>
          <a:ext cx="5334120" cy="451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1695600"/>
                    <a:ext cx="53341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7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7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7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7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7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7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7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7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7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Привлекая детей к тесному общению с природой, к познанию мира растений и животных, мы, взрослые, способствуем активному развитию у детей таких качеств, как доброта, терпение, трудолюбие, милосерди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6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Только так, воздействуя на чувства, используя разнообразные методы и формы, главный из которых – непосредственный контакт с природой, можно воспитать гармонически развитую личность, ориентированную на общечеловеческие цен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4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65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animClr clrSpc="rgb">
                                      <p:cBhvr>
                                        <p:cTn id="569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570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ОТДЕЛ ОБРАЗОВАНИЯ «УПРАВЛЕНИЯ ИСПОЛНИТЕЛЬНОГО КОМИТЕТА МУНИЦИПАЛЬНОГО ОБРАЗОВАНИЯ ГОРОДА КАЗАНИ» ПО СОВЕТСКОМУ РАЙОНУ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оспитатель муниципального автономного дошкольного образовательн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реждения «Детский сад № 408 комбинированного вида»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ветского района города Казан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ушанова Светлана Владимиро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.Казань, 2013год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5640" y="2590920"/>
            <a:ext cx="8172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О-НРАВСТВЕННОЕ ВОСПИТАНИЕ ДЕТЕЙ ДОШКОЛЬНОГО ВОЗРАСТА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РЕЗ ОБЩЕНИЕ С ПРИРОДОЙ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Человек стал человеком, когда услышал шёпот листьев и песню кузнечика, журчание весеннего ручья и звон серебряных колокольчиков в бездонном летнем небе, шорох снежинок и завывание вьюги за окном, ласковый плеск волны и торжественную тишину ночи, - услышал и, затаив дыхание, слушает сотни и тысячи лет чудесную музыку жизни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ЦЕЛЬ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воспитать способность видеть красоту родной природы, любовь, бережное и заботливое отношение к ней и , на основе этого сформировать духовно развитого, духовно богатого челове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ДАЧА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– развитие эмоциональной отзывчивости и, соответственно, духовное и нравственное воспитание детей дошкольного возраста через ознакомление их с миром природ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НЦИПЫ 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нтегративный подход к проведению работы по экологическому воспитанию, то есть проникновение экологического воспитания во все виды деятельност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нцип сотрудничества и единства требований, перерастание педагогики требований в педагогику отношений личностей, предполагающую мотивацию уважительного отношения к правам других люд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ализация системы сотрудничества с родителями по экологическому воспитанию, повышение уровня нравственно-экологической компетентности родителе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51460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14600"/>
            <a:ext cx="1752480" cy="25146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истема работы по развитию эмоционально-ценностного отношения детей к природе и основанного на ней нравственно-духовного воспитани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3880"/>
            <a:ext cx="4190760" cy="1447920"/>
          </a:xfrm>
          <a:prstGeom prst="flowChartAlternateProcess">
            <a:avLst/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развития духовно богат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манной, социально активной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рческой личности, способ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юбить окружающий мир, природу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еть его красоту и бережн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ся к нем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1523880"/>
            <a:ext cx="4038840" cy="1447920"/>
          </a:xfrm>
          <a:prstGeom prst="roundRect">
            <a:avLst>
              <a:gd name="adj" fmla="val 16667"/>
            </a:avLst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формирования широк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угозора, целостного взгляд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ироду и мест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в н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5486400" cy="3962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4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09e8"/>
                                      </p:to>
                                    </p:animClr>
                                    <p:set>
                                      <p:cBhvr>
                                        <p:cTn id="15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0"/>
            <a:ext cx="6553080" cy="4648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ы и сред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логического воспитани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е на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о-чувственно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ы, развит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шевных качест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уются чере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2362320" cy="1371600"/>
          </a:xfrm>
          <a:custGeom>
            <a:avLst/>
            <a:gdLst>
              <a:gd name="textAreaLeft" fmla="*/ 542880 w 2362320"/>
              <a:gd name="textAreaRight" fmla="*/ 1819440 w 2362320"/>
              <a:gd name="textAreaTop" fmla="*/ 315360 h 1371600"/>
              <a:gd name="textAreaBottom" fmla="*/ 10562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51" y="13891"/>
                </a:lnTo>
                <a:lnTo>
                  <a:pt x="3163" y="18437"/>
                </a:lnTo>
                <a:lnTo>
                  <a:pt x="7576" y="18394"/>
                </a:lnTo>
                <a:lnTo>
                  <a:pt x="10800" y="21600"/>
                </a:lnTo>
                <a:lnTo>
                  <a:pt x="13891" y="18449"/>
                </a:lnTo>
                <a:lnTo>
                  <a:pt x="18437" y="18437"/>
                </a:lnTo>
                <a:lnTo>
                  <a:pt x="18394" y="14024"/>
                </a:lnTo>
                <a:lnTo>
                  <a:pt x="21600" y="10800"/>
                </a:lnTo>
                <a:lnTo>
                  <a:pt x="18449" y="7709"/>
                </a:lnTo>
                <a:lnTo>
                  <a:pt x="18437" y="3163"/>
                </a:lnTo>
                <a:lnTo>
                  <a:pt x="14024" y="3206"/>
                </a:lnTo>
                <a:lnTo>
                  <a:pt x="10800" y="0"/>
                </a:lnTo>
                <a:lnTo>
                  <a:pt x="7709" y="3151"/>
                </a:lnTo>
                <a:lnTo>
                  <a:pt x="3163" y="3163"/>
                </a:lnTo>
                <a:lnTo>
                  <a:pt x="3206" y="75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ециально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ованное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724280"/>
            <a:ext cx="2438280" cy="13716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тел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724280"/>
            <a:ext cx="2361960" cy="14479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352680"/>
            <a:ext cx="2819520" cy="137160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а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одителя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еть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редства  и  методы экологического воспитания, направленные на развитие эмоционально-чувственной сферы и развитие душевных качеств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35" name=""/>
          <p:cNvGrpSpPr/>
          <p:nvPr/>
        </p:nvGrpSpPr>
        <p:grpSpPr>
          <a:xfrm>
            <a:off x="1064880" y="840240"/>
            <a:ext cx="7168680" cy="6007320"/>
            <a:chOff x="1064880" y="840240"/>
            <a:chExt cx="7168680" cy="6007320"/>
          </a:xfrm>
        </p:grpSpPr>
        <p:sp>
          <p:nvSpPr>
            <p:cNvPr id="136" name="_s47187"/>
            <p:cNvSpPr/>
            <p:nvPr/>
          </p:nvSpPr>
          <p:spPr>
            <a:xfrm flipH="1" flipV="1">
              <a:off x="3218400" y="2985120"/>
              <a:ext cx="713160" cy="4878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47186"/>
            <p:cNvSpPr/>
            <p:nvPr/>
          </p:nvSpPr>
          <p:spPr>
            <a:xfrm>
              <a:off x="1591200" y="172404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блюд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_s47185"/>
            <p:cNvSpPr/>
            <p:nvPr/>
          </p:nvSpPr>
          <p:spPr>
            <a:xfrm flipH="1">
              <a:off x="2865240" y="4136400"/>
              <a:ext cx="891360" cy="1688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_s47184"/>
            <p:cNvSpPr/>
            <p:nvPr/>
          </p:nvSpPr>
          <p:spPr>
            <a:xfrm>
              <a:off x="1064880" y="370188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руд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рирод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_s47182"/>
            <p:cNvSpPr/>
            <p:nvPr/>
          </p:nvSpPr>
          <p:spPr>
            <a:xfrm flipH="1">
              <a:off x="3854520" y="4664160"/>
              <a:ext cx="399600" cy="701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_s47181"/>
            <p:cNvSpPr/>
            <p:nvPr/>
          </p:nvSpPr>
          <p:spPr>
            <a:xfrm>
              <a:off x="2549160" y="5287320"/>
              <a:ext cx="182808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гровы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учающ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туаци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_s47191"/>
            <p:cNvSpPr/>
            <p:nvPr/>
          </p:nvSpPr>
          <p:spPr>
            <a:xfrm>
              <a:off x="5047560" y="4661280"/>
              <a:ext cx="393840" cy="704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_s47190"/>
            <p:cNvSpPr/>
            <p:nvPr/>
          </p:nvSpPr>
          <p:spPr>
            <a:xfrm>
              <a:off x="4923720" y="5284800"/>
              <a:ext cx="182880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аздники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влечения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атр.деят-ть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47189"/>
            <p:cNvSpPr/>
            <p:nvPr/>
          </p:nvSpPr>
          <p:spPr>
            <a:xfrm>
              <a:off x="5539320" y="4131360"/>
              <a:ext cx="891360" cy="1764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47188"/>
            <p:cNvSpPr/>
            <p:nvPr/>
          </p:nvSpPr>
          <p:spPr>
            <a:xfrm>
              <a:off x="6404760" y="36997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еседы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индивидуаль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ы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_s47180"/>
            <p:cNvSpPr/>
            <p:nvPr/>
          </p:nvSpPr>
          <p:spPr>
            <a:xfrm flipV="1">
              <a:off x="5361480" y="2987640"/>
              <a:ext cx="715680" cy="485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_s47179"/>
            <p:cNvSpPr/>
            <p:nvPr/>
          </p:nvSpPr>
          <p:spPr>
            <a:xfrm>
              <a:off x="5875920" y="1721520"/>
              <a:ext cx="1828800" cy="1560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знакомлени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 худ. литера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ур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47178"/>
            <p:cNvSpPr/>
            <p:nvPr/>
          </p:nvSpPr>
          <p:spPr>
            <a:xfrm flipV="1">
              <a:off x="4647960" y="2400840"/>
              <a:ext cx="0" cy="7801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47177"/>
            <p:cNvSpPr/>
            <p:nvPr/>
          </p:nvSpPr>
          <p:spPr>
            <a:xfrm>
              <a:off x="3733920" y="840240"/>
              <a:ext cx="1828080" cy="1560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сп.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родно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дагоги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47176"/>
            <p:cNvSpPr/>
            <p:nvPr/>
          </p:nvSpPr>
          <p:spPr>
            <a:xfrm>
              <a:off x="3733920" y="3181680"/>
              <a:ext cx="1828080" cy="156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редства и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етоды духовно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равственного воспи-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ания через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 природой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спользование воспитательных возможностей народной педагогик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общение к устному народному творчеству: ознакомление со сказками, былями, легендами, малыми фольклорными жанрами (загадки, пословицы, поговорки, заклички, потешки и т.д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знакомление с народным фенологическим календарё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ставление картотеки примет по итогам собственных наблюден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частие в фольклорных праздниках, посвящённых сезонным изменениям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991720" y="-6743880"/>
            <a:ext cx="3303720" cy="24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Наблюдения в природ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бор содержания,  форм и способов наблюдений нравственно-ориентиро-ванной и эмоциональной направлен-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обладание визуального источника наблюдени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пользование двигательной активности дет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81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09e8"/>
                </a:solidFill>
                <a:latin typeface="Arial"/>
              </a:rPr>
              <a:t>Беседы, групповые и индивидуальные</a:t>
            </a:r>
            <a:br>
              <a:rPr sz="24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Личностно-ориентированное взаимо-действие педагога с деть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е-ние тактичной коррекции в поиске  и выборе ребёнком нравственного пу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сокие требования к личности педагог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67004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35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35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35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3-05-30T16:42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