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705-7001-411D-8FD9-C3C6C8D9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E78-B6D7-4808-A004-A333178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35D-C4C0-4755-AB8A-212700B5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756-F45A-4395-9E3E-4B136749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E0A5-0DE6-43A7-A888-A018CAEE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B12-317A-47EF-B800-89E3CD51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AC2-57B9-4468-8A9B-9ECC256B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8AC3-EA98-4BFF-89AE-008259E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44B-44F7-4B79-8804-0D6A95D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FA6-0D65-4224-8F4A-10051DB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0AB1-8233-41C0-A153-D3EA5E1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7DB-9828-4A2F-837C-50DBD31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3B10-1D83-4B0D-B333-19AE833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950-9A5E-4CC4-82F9-98BD54A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168B-52C5-49FB-B0C9-C490F3E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E75-7F26-440B-B96F-C4198D1D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1313-0FBF-48B0-A96A-31696588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EB5-FEF6-4367-8351-98321BC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07A-7586-43E9-A308-49C406B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0EE-FDC7-4234-9654-64D1D10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8F5-EDC6-4667-9DF4-9ED1D9E0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278-037F-4908-86FB-400A475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82E-7A2A-487E-B836-985C7A26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5EA-C365-4AF1-A87F-C09D149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8DB-F695-41C9-9A8C-86F7776A35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041-0A80-4ED1-98BB-7A54B229CF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Муниципальное автономное дошкольное 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«Детский сад № 408 комбинированного вида»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 Советского района города Казан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18288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бразование: среднее специальное, КПУ, дошкольное образование, воспитатель дошкольных учреждений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спитател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едагогический стаж 24 года, из них в должности воспитателя – 24 ле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аграды, з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 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етодическая тема «Духовно-нравственное воспитание детей через общение с природой»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Участник I районной педагогической конференции «Путь к мастерству» , 2007 год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Победитель (1 место) районного конкурса «Воспитатель года – 2008»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Лауреат городского конкурса «Воспитатель года - 2008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Награждена Почётной грамотой Отдела образования Советского района г. Казани  2008г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бедитель районного этапа II городского конкурса инновационных программ и методических разработок – 2010 год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2680" cy="3429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943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Трудовые действия в природе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Труд доставляет много радости, воспитывает бережное отношение к природе, формирует у детей сознание причастности к миру природы. Труд в природе как созидательный процесс, побуждает детей к тем действиям, которые не причиняют вреда никому и ничему, и соответственно формирует нравственную позицию по отношению к мир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Отбор произведений художественной литературы о мире природы нравственно-ориентированной направленнос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роведение литературных композиций, праздников, конкурсов чтецов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оздание детьми иллюстраций к прочитанным книгам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Игровая мотивация детей с помощью литературных персонаже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422360" cy="1096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Ознакомление с художественной литератур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5332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гровые обучающие ситуации с детьм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игрушек-аналогов. Сопоставление живого объекта с неживым аналогом помогает ребёнку осознать специфику живого, выработке возможности правильно действовать с живым объект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сюжетных игрушек, с помощью которых, педагог может создать различные игровые ситуации, позволяющие уточнить и расширить представления детей, вызвать добрые чувства к живой прир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гры-путешеств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ритерии оценки эффективности работ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по духовно-нравственному воспитанию детей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через общение с природо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Эффективность использования работы по приобщению к миру природы для духовно-нравственного развития де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92680" y="1600200"/>
          <a:ext cx="1951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51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89320" y="1371600"/>
          <a:ext cx="4638600" cy="49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9320" y="1371600"/>
                    <a:ext cx="46386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809880" y="1695600"/>
          <a:ext cx="5334120" cy="451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695600"/>
                    <a:ext cx="53341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7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7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7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7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7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7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7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7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7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Привлекая детей к тесному общению с природой, к познанию мира растений и животных, мы, взрослые, способствуем активному развитию у детей таких качеств, как доброта, терпение, трудолюбие, милосерди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Только так, воздействуя на чувства, используя разнообразные методы и формы, главный из которых – непосредственный контакт с природой, можно воспитать гармонически развитую личность, ориентированную на общечеловеческие цен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4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65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9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70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ОТДЕЛ ОБРАЗОВАНИЯ «УПРАВЛЕНИЯ ИСПОЛНИТЕЛЬНОГО КОМИТЕТА МУНИЦИПАЛЬНОГО ОБРАЗОВАНИЯ ГОРОДА КАЗАНИ» ПО СОВЕТСКОМУ РАЙОНУ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оспитатель муниципального автономного дошкольного образовательн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реждения «Детский сад № 408 комбинированного вида»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ветского района города Казан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.Казань, 2013год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5640" y="2590920"/>
            <a:ext cx="8172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О-НРАВСТВЕННОЕ ВОСПИТАНИЕ ДЕТЕЙ ДОШКОЛЬНОГО ВОЗРАСТА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ЕЗ ОБЩЕНИЕ С ПРИРОДОЙ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Человек стал человеком, когда услышал шёпот листьев и песню кузнечика, журчание весеннего ручья и звон серебряных колокольчиков в бездонном летнем небе, шорох снежинок и завывание вьюги за окном, ласковый плеск волны и торжественную тишину ночи, - услышал и, затаив дыхание, слушает сотни и тысячи лет чудесную музыку жизни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ЦЕЛЬ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воспитать способность видеть красоту родной природы, любовь, бережное и заботливое отношение к ней и , на основе этого сформировать духовно развитого, духовно богатого челове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ДАЧА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развитие эмоциональной отзывчивости и, соответственно, духовное и нравственное воспитание детей дошкольного возраста через ознакомление их с миро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НЦИПЫ 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нтегративный подход к проведению работы по экологическому воспитанию, то есть проникновение экологического воспитания во все виды деятельност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нцип сотрудничества и единства требований, перерастание педагогики требований в педагогику отношений личностей, предполагающую мотивацию уважительного отношения к правам других люд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ализация системы сотрудничества с родителями по экологическому воспитанию, повышение уровня нравственно-экологической компетентности родител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51460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14600"/>
            <a:ext cx="1752480" cy="2514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истема работы по развитию эмоционально-ценностного отношения детей к природе и основанного на ней нравственно-духовного воспитани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4190760" cy="1447920"/>
          </a:xfrm>
          <a:prstGeom prst="flowChartAlternateProcess">
            <a:avLst/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развития духовно богат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манной, социально активн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рческой личности, способ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юбить окружающий мир, природу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еть его красоту и бережн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ся к нем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1523880"/>
            <a:ext cx="4038840" cy="1447920"/>
          </a:xfrm>
          <a:prstGeom prst="roundRect">
            <a:avLst>
              <a:gd name="adj" fmla="val 16667"/>
            </a:avLst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формирования широк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угозора, целостного взгляд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ироду и мест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в н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5486400" cy="3962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4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5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0"/>
            <a:ext cx="6553080" cy="4648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уются чере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2362320" cy="1371600"/>
          </a:xfrm>
          <a:custGeom>
            <a:avLst/>
            <a:gdLst>
              <a:gd name="textAreaLeft" fmla="*/ 542880 w 2362320"/>
              <a:gd name="textAreaRight" fmla="*/ 1819440 w 2362320"/>
              <a:gd name="textAreaTop" fmla="*/ 315360 h 1371600"/>
              <a:gd name="textAreaBottom" fmla="*/ 10562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51" y="13891"/>
                </a:lnTo>
                <a:lnTo>
                  <a:pt x="3163" y="18437"/>
                </a:lnTo>
                <a:lnTo>
                  <a:pt x="7576" y="18394"/>
                </a:lnTo>
                <a:lnTo>
                  <a:pt x="10800" y="21600"/>
                </a:lnTo>
                <a:lnTo>
                  <a:pt x="13891" y="18449"/>
                </a:lnTo>
                <a:lnTo>
                  <a:pt x="18437" y="18437"/>
                </a:lnTo>
                <a:lnTo>
                  <a:pt x="18394" y="14024"/>
                </a:lnTo>
                <a:lnTo>
                  <a:pt x="21600" y="10800"/>
                </a:lnTo>
                <a:lnTo>
                  <a:pt x="18449" y="7709"/>
                </a:lnTo>
                <a:lnTo>
                  <a:pt x="18437" y="3163"/>
                </a:lnTo>
                <a:lnTo>
                  <a:pt x="14024" y="3206"/>
                </a:lnTo>
                <a:lnTo>
                  <a:pt x="10800" y="0"/>
                </a:lnTo>
                <a:lnTo>
                  <a:pt x="7709" y="3151"/>
                </a:lnTo>
                <a:lnTo>
                  <a:pt x="3163" y="3163"/>
                </a:lnTo>
                <a:lnTo>
                  <a:pt x="3206" y="75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ециально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ованное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724280"/>
            <a:ext cx="2438280" cy="13716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тел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724280"/>
            <a:ext cx="2361960" cy="14479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352680"/>
            <a:ext cx="2819520" cy="137160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одителя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редства  и  методы экологического воспитания, направленные на развитие эмоционально-чувственной сферы и развитие душевных качеств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35" name=""/>
          <p:cNvGrpSpPr/>
          <p:nvPr/>
        </p:nvGrpSpPr>
        <p:grpSpPr>
          <a:xfrm>
            <a:off x="1064880" y="840240"/>
            <a:ext cx="7168680" cy="6007320"/>
            <a:chOff x="1064880" y="840240"/>
            <a:chExt cx="7168680" cy="6007320"/>
          </a:xfrm>
        </p:grpSpPr>
        <p:sp>
          <p:nvSpPr>
            <p:cNvPr id="136" name="_s47187"/>
            <p:cNvSpPr/>
            <p:nvPr/>
          </p:nvSpPr>
          <p:spPr>
            <a:xfrm flipH="1" flipV="1">
              <a:off x="3218400" y="2985120"/>
              <a:ext cx="713160" cy="4878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47186"/>
            <p:cNvSpPr/>
            <p:nvPr/>
          </p:nvSpPr>
          <p:spPr>
            <a:xfrm>
              <a:off x="1591200" y="172404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блюд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_s47185"/>
            <p:cNvSpPr/>
            <p:nvPr/>
          </p:nvSpPr>
          <p:spPr>
            <a:xfrm flipH="1">
              <a:off x="2865240" y="4136400"/>
              <a:ext cx="891360" cy="1688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_s47184"/>
            <p:cNvSpPr/>
            <p:nvPr/>
          </p:nvSpPr>
          <p:spPr>
            <a:xfrm>
              <a:off x="1064880" y="370188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руд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_s47182"/>
            <p:cNvSpPr/>
            <p:nvPr/>
          </p:nvSpPr>
          <p:spPr>
            <a:xfrm flipH="1">
              <a:off x="3854520" y="4664160"/>
              <a:ext cx="399600" cy="701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_s47181"/>
            <p:cNvSpPr/>
            <p:nvPr/>
          </p:nvSpPr>
          <p:spPr>
            <a:xfrm>
              <a:off x="2549160" y="5287320"/>
              <a:ext cx="182808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гр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учающ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туаци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_s47191"/>
            <p:cNvSpPr/>
            <p:nvPr/>
          </p:nvSpPr>
          <p:spPr>
            <a:xfrm>
              <a:off x="5047560" y="4661280"/>
              <a:ext cx="393840" cy="704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_s47190"/>
            <p:cNvSpPr/>
            <p:nvPr/>
          </p:nvSpPr>
          <p:spPr>
            <a:xfrm>
              <a:off x="4923720" y="528480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аздники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влечения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атр.деят-ть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47189"/>
            <p:cNvSpPr/>
            <p:nvPr/>
          </p:nvSpPr>
          <p:spPr>
            <a:xfrm>
              <a:off x="5539320" y="4131360"/>
              <a:ext cx="891360" cy="1764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47188"/>
            <p:cNvSpPr/>
            <p:nvPr/>
          </p:nvSpPr>
          <p:spPr>
            <a:xfrm>
              <a:off x="6404760" y="36997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еседы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индивидуаль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_s47180"/>
            <p:cNvSpPr/>
            <p:nvPr/>
          </p:nvSpPr>
          <p:spPr>
            <a:xfrm flipV="1">
              <a:off x="5361480" y="2987640"/>
              <a:ext cx="715680" cy="485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_s47179"/>
            <p:cNvSpPr/>
            <p:nvPr/>
          </p:nvSpPr>
          <p:spPr>
            <a:xfrm>
              <a:off x="5875920" y="17215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накомлени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худ. литера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ур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47178"/>
            <p:cNvSpPr/>
            <p:nvPr/>
          </p:nvSpPr>
          <p:spPr>
            <a:xfrm flipV="1">
              <a:off x="4647960" y="2400840"/>
              <a:ext cx="0" cy="7801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47177"/>
            <p:cNvSpPr/>
            <p:nvPr/>
          </p:nvSpPr>
          <p:spPr>
            <a:xfrm>
              <a:off x="3733920" y="840240"/>
              <a:ext cx="182808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сп.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родн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дагоги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47176"/>
            <p:cNvSpPr/>
            <p:nvPr/>
          </p:nvSpPr>
          <p:spPr>
            <a:xfrm>
              <a:off x="3733920" y="3181680"/>
              <a:ext cx="1828080" cy="156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редства и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етоды духовно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равственного воспи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ания через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 природой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спользование воспитательных возможностей народной педагогик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общение к устному народному творчеству: ознакомление со сказками, былями, легендами, малыми фольклорными жанрами (загадки, пословицы, поговорки, заклички, потешки и т.д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знакомление с народным фенологическим календарё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ставление картотеки примет по итогам собственных наблюден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астие в фольклорных праздниках, посвящённых сезонным изменениям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991720" y="-6743880"/>
            <a:ext cx="3303720" cy="24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Наблюдения в природ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бор содержания,  форм и способов наблюдений нравственно-ориентиро-ванной и эмоциональной направлен-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обладание визуального источника наблюден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пользование двигательной активности дет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81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Беседы, групповые и индивидуальные</a:t>
            </a:r>
            <a:br>
              <a:rPr sz="24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ичностно-ориентированное взаимо-действие педагога с деть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е-ние тактичной коррекции в поиске  и выборе ребёнком нравственного пу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сокие требования к личности педагог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67004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35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35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35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3-05-30T16:42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