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CA3-57DE-4C0E-BF43-14E52DAD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0E9-8F87-4624-93EB-18DD01CD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7E4-B218-46F7-BC2E-59C81F6E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606-16AF-4DC7-B0FA-0F7CE4C1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36EE-D709-4B66-A26F-709092FF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E402-CBC8-4EB1-8DAF-48DA61DB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4DF6-4D41-4748-B894-F1A2D8FD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BE7D-AB44-456E-9F11-C67624DA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C4B1-5452-4D35-88DA-ADC73E97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FA3D-C823-4F80-9F01-59B29EC9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4FF2-F0D9-4968-AE54-91D531F8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47B-A975-45F7-9AB3-40895F8C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C7CA-4662-48ED-81F6-94BBD1D7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460A-E36D-43EF-9E99-FEBB2039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8E84-6559-419C-B724-FE08F8B4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3C94-54E9-45CB-AFBF-702699C2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483E-14B8-4F9A-AD39-F4ABEC96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8C4-26C9-4465-870C-95F0CA7A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196-FE2B-426D-92BE-96A6E64A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AB1F-E01A-4985-B17F-F9E0D9C6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D42-30F1-4E7E-BBBB-4B7C6DCC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98C-3CAA-4867-9B6E-CEDF370C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5863-1394-4D64-9C95-2FF099B6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BC3-B976-45D0-8E8F-02819C89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AB12-5CF3-4214-9BF4-71EAC00244A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8F0E-AAA2-43DF-AC92-126EF42E7F3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09e8"/>
                </a:solidFill>
                <a:latin typeface="Arial"/>
              </a:rPr>
              <a:t>Муниципальное автономное дошкольное образовательное учреждение </a:t>
            </a:r>
            <a:br>
              <a:rPr sz="2400"/>
            </a:br>
            <a:r>
              <a:rPr b="1" lang="en-US" sz="2400" spc="-1" strike="noStrike">
                <a:solidFill>
                  <a:srgbClr val="f709e8"/>
                </a:solidFill>
                <a:latin typeface="Arial"/>
              </a:rPr>
              <a:t>«Детский сад № 408 комбинированного вида»</a:t>
            </a:r>
            <a:br>
              <a:rPr sz="2400"/>
            </a:br>
            <a:r>
              <a:rPr b="1" lang="en-US" sz="2400" spc="-1" strike="noStrike">
                <a:solidFill>
                  <a:srgbClr val="f709e8"/>
                </a:solidFill>
                <a:latin typeface="Arial"/>
              </a:rPr>
              <a:t> Советского района города Казан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62520" y="182880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Шушанова Светлана Владимиров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образование: среднее специальное, КПУ, дошкольное образование, воспитатель дошкольных учреждений.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оспитатель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едагогический стаж 24 года, из них в должности воспитателя – 24 лет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Награды, звания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 </a:t>
            </a: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Методическая тема «Духовно-нравственное воспитание детей через общение с природой».</a:t>
            </a: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Участник I районной педагогической конференции «Путь к мастерству» , 2007 год.</a:t>
            </a: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Победитель (1 место) районного конкурса «Воспитатель года – 2008»</a:t>
            </a: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Лауреат городского конкурса «Воспитатель года - 2008»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Награждена Почётной грамотой Отдела образования Советского района г. Казани  2008г.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бедитель районного этапа II городского конкурса инновационных программ и методических разработок – 2010 год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352680" cy="342900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5943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09e8"/>
                </a:solidFill>
                <a:latin typeface="Arial"/>
              </a:rPr>
              <a:t>Трудовые действия в природе</a:t>
            </a:r>
            <a:br>
              <a:rPr sz="2000"/>
            </a:b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Труд доставляет много радости, воспитывает бережное отношение к природе, формирует у детей сознание причастности к миру природы. Труд в природе как созидательный процесс, побуждает детей к тем действиям, которые не причиняют вреда никому и ничему, и соответственно формирует нравственную позицию по отношению к миру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Отбор произведений художественной литературы о мире природы нравственно-ориентированной направленности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Проведение литературных композиций, праздников, конкурсов чтецов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Создание детьми иллюстраций к прочитанным книгам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Игровая мотивация детей с помощью литературных персонаже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422360" cy="1096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" y="34290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09e8"/>
                </a:solidFill>
                <a:latin typeface="Arial"/>
              </a:rPr>
              <a:t>Ознакомление с художественной литературо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162920" y="4800600"/>
            <a:ext cx="1533240" cy="10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2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Игровые обучающие ситуации с детьм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спользование игрушек-аналогов. Сопоставление живого объекта с неживым аналогом помогает ребёнку осознать специфику живого, выработке возможности правильно действовать с живым объекто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спользование сюжетных игрушек, с помощью которых, педагог может создать различные игровые ситуации, позволяющие уточнить и расширить представления детей, вызвать добрые чувства к живой прир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гры-путешеств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Критерии оценки эффективности работы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по духовно-нравственному воспитанию детей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через общение с природо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1. Поведение ребёнка по отношению к окружающим объектам и мотивация поступк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. Реализация элементарных навыков рационального природопользован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3. Элементарные навыки экологически безопасного поведения в быту и природ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4. Желание участвовать в посильной практической деятельно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5. Эмоционально окрашенное отношение к объектам природ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6. Эмоционально окрашенное отношение к поступкам людей по отношению к природ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7. Сформированность чувства ответственности за свои поступки и понимания их последствий для окружающего мир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8. Умение и желание прогнозировать некоторые последствия своих поступк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9. Способность видеть красоту окружающего мира, образное восприятие природ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8000"/>
                            </p:stCondLst>
                            <p:childTnLst>
                              <p:par>
                                <p:cTn id="4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Эффективность использования работы по приобщению к миру природы для духовно-нравственного развития дете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809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1. Поведение ребёнка по отношению к окружающим объектам и мотивация поступков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2. Реализация элементарных навыков рационального природопользования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3. Элементарные навыки экологически безопасного поведения в быту и природе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4. Желание участвовать в посильной практической деятельности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5. Эмоционально окрашенное отношение к объектам природы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6. Эмоционально окрашенное отношение к поступкам людей по отношению к природе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7. Сформированность чувства ответственности за свои поступки и понимания их последствий для окружающего мира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8. Умение и желание прогнозировать некоторые последствия своих поступков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9. Способность видеть красоту окружающего мира, образное восприятие природы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692680" y="1600200"/>
          <a:ext cx="195120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2680" y="1600200"/>
                    <a:ext cx="195120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189320" y="1371600"/>
          <a:ext cx="4638600" cy="494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89320" y="1371600"/>
                    <a:ext cx="463860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809880" y="1695600"/>
          <a:ext cx="5334120" cy="451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1695600"/>
                    <a:ext cx="533412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3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7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5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3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7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8000"/>
                            </p:stCondLst>
                            <p:childTnLst>
                              <p:par>
                                <p:cTn id="5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3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7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3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3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7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3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3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7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3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3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7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3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3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7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3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7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6000"/>
                            </p:stCondLst>
                            <p:childTnLst>
                              <p:par>
                                <p:cTn id="5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3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7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Привлекая детей к тесному общению с природой, к познанию мира растений и животных, мы, взрослые, способствуем активному развитию у детей таких качеств, как доброта, терпение, трудолюбие, милосердие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6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Только так, воздействуя на чувства, используя разнообразные методы и формы, главный из которых – непосредственный контакт с природой, можно воспитать гармонически развитую личность, ориентированную на общечеловеческие ценност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animClr clrSpc="rgb">
                                      <p:cBhvr>
                                        <p:cTn id="564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set>
                                      <p:cBhvr>
                                        <p:cTn id="565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animClr clrSpc="rgb">
                                      <p:cBhvr>
                                        <p:cTn id="569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set>
                                      <p:cBhvr>
                                        <p:cTn id="570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ОТДЕЛ ОБРАЗОВАНИЯ «УПРАВЛЕНИЯ ИСПОЛНИТЕЛЬНОГО КОМИТЕТА МУНИЦИПАЛЬНОГО ОБРАЗОВАНИЯ ГОРОДА КАЗАНИ» ПО СОВЕТСКОМУ РАЙОНУ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оспитатель муниципального автономного дошкольного образовательного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чреждения «Детский сад № 408 комбинированного вида»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Советского района города Казани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Шушанова Светлана Владимировн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Г.Казань, 2013год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5640" y="2590920"/>
            <a:ext cx="8172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О-НРАВСТВЕННОЕ ВОСПИТАНИЕ ДЕТЕЙ ДОШКОЛЬНОГО ВОЗРАСТА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РЕЗ ОБЩЕНИЕ С ПРИРОДОЙ</a:t>
            </a:r>
            <a:endParaRPr b="0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Человек стал человеком, когда услышал шёпот листьев и песню кузнечика, журчание весеннего ручья и звон серебряных колокольчиков в бездонном летнем небе, шорох снежинок и завывание вьюги за окном, ласковый плеск волны и торжественную тишину ночи, - услышал и, затаив дыхание, слушает сотни и тысячи лет чудесную музыку жизни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ЦЕЛЬ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– воспитать способность видеть красоту родной природы, любовь, бережное и заботливое отношение к ней и , на основе этого сформировать духовно развитого, духовно богатого челове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ЗАДАЧА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– развитие эмоциональной отзывчивости и, соответственно, духовное и нравственное воспитание детей дошкольного возраста через ознакомление их с миром природ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ИНЦИПЫ 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нтегративный подход к проведению работы по экологическому воспитанию, то есть проникновение экологического воспитания во все виды деятельности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инцип сотрудничества и единства требований, перерастание педагогики требований в педагогику отношений личностей, предполагающую мотивацию уважительного отношения к правам других люде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еализация системы сотрудничества с родителями по экологическому воспитанию, повышение уровня нравственно-экологической компетентности родителе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2514600"/>
            <a:ext cx="1523880" cy="251460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e855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2514600"/>
            <a:ext cx="1752480" cy="251460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5e855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Система работы по развитию эмоционально-ценностного отношения детей к природе и основанного на ней нравственно-духовного воспитания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523880"/>
            <a:ext cx="4190760" cy="1447920"/>
          </a:xfrm>
          <a:prstGeom prst="flowChartAlternateProcess">
            <a:avLst/>
          </a:prstGeom>
          <a:solidFill>
            <a:srgbClr val="5e855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ча развития духовно богатой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уманной, социально активной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ворческой личности, способ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юбить окружающий мир, природу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еть его красоту и бережн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носится к нему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1523880"/>
            <a:ext cx="4038840" cy="1447920"/>
          </a:xfrm>
          <a:prstGeom prst="roundRect">
            <a:avLst>
              <a:gd name="adj" fmla="val 16667"/>
            </a:avLst>
          </a:prstGeom>
          <a:solidFill>
            <a:srgbClr val="5e855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ча формирования широк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угозора, целостного взгляд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природу и мест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а в не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895480"/>
            <a:ext cx="5486400" cy="3962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тоды и средств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кологического воспитания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правленные на развити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моционально-чувственной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феры, развити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ушевных качест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set>
                                      <p:cBhvr>
                                        <p:cTn id="149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set>
                                      <p:cBhvr>
                                        <p:cTn id="153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9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0"/>
            <a:ext cx="6553080" cy="4648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тоды и средств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кологического воспитания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правленные на развити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моционально-чувственной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феры, развити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ушевных качест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лизуются через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352680"/>
            <a:ext cx="2362320" cy="1371600"/>
          </a:xfrm>
          <a:custGeom>
            <a:avLst/>
            <a:gdLst>
              <a:gd name="textAreaLeft" fmla="*/ 542880 w 2362320"/>
              <a:gd name="textAreaRight" fmla="*/ 1819440 w 2362320"/>
              <a:gd name="textAreaTop" fmla="*/ 315360 h 1371600"/>
              <a:gd name="textAreaBottom" fmla="*/ 10562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51" y="13891"/>
                </a:lnTo>
                <a:lnTo>
                  <a:pt x="3163" y="18437"/>
                </a:lnTo>
                <a:lnTo>
                  <a:pt x="7576" y="18394"/>
                </a:lnTo>
                <a:lnTo>
                  <a:pt x="10800" y="21600"/>
                </a:lnTo>
                <a:lnTo>
                  <a:pt x="13891" y="18449"/>
                </a:lnTo>
                <a:lnTo>
                  <a:pt x="18437" y="18437"/>
                </a:lnTo>
                <a:lnTo>
                  <a:pt x="18394" y="14024"/>
                </a:lnTo>
                <a:lnTo>
                  <a:pt x="21600" y="10800"/>
                </a:lnTo>
                <a:lnTo>
                  <a:pt x="18449" y="7709"/>
                </a:lnTo>
                <a:lnTo>
                  <a:pt x="18437" y="3163"/>
                </a:lnTo>
                <a:lnTo>
                  <a:pt x="14024" y="3206"/>
                </a:lnTo>
                <a:lnTo>
                  <a:pt x="10800" y="0"/>
                </a:lnTo>
                <a:lnTo>
                  <a:pt x="7709" y="3151"/>
                </a:lnTo>
                <a:lnTo>
                  <a:pt x="3163" y="3163"/>
                </a:lnTo>
                <a:lnTo>
                  <a:pt x="3206" y="75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ециально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ганизованное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4724280"/>
            <a:ext cx="2438280" cy="137160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местна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ател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деть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4724280"/>
            <a:ext cx="2361960" cy="1447920"/>
          </a:xfrm>
          <a:custGeom>
            <a:avLst/>
            <a:gdLst>
              <a:gd name="textAreaLeft" fmla="*/ 539280 w 2361960"/>
              <a:gd name="textAreaRight" fmla="*/ 1822680 w 236196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мостоятельна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те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352680"/>
            <a:ext cx="2819520" cy="137160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местна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родителя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деть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8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Средства  и  методы экологического воспитания, направленные на развитие эмоционально-чувственной сферы и развитие душевных качеств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35" name=""/>
          <p:cNvGrpSpPr/>
          <p:nvPr/>
        </p:nvGrpSpPr>
        <p:grpSpPr>
          <a:xfrm>
            <a:off x="1064880" y="840240"/>
            <a:ext cx="7168680" cy="6007320"/>
            <a:chOff x="1064880" y="840240"/>
            <a:chExt cx="7168680" cy="6007320"/>
          </a:xfrm>
        </p:grpSpPr>
        <p:sp>
          <p:nvSpPr>
            <p:cNvPr id="136" name="_s47187"/>
            <p:cNvSpPr/>
            <p:nvPr/>
          </p:nvSpPr>
          <p:spPr>
            <a:xfrm flipH="1" flipV="1">
              <a:off x="3218400" y="2985120"/>
              <a:ext cx="713160" cy="4878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" name="_s47186"/>
            <p:cNvSpPr/>
            <p:nvPr/>
          </p:nvSpPr>
          <p:spPr>
            <a:xfrm>
              <a:off x="1591200" y="1724040"/>
              <a:ext cx="1828800" cy="1560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блюдения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рироде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_s47185"/>
            <p:cNvSpPr/>
            <p:nvPr/>
          </p:nvSpPr>
          <p:spPr>
            <a:xfrm flipH="1">
              <a:off x="2865240" y="4136400"/>
              <a:ext cx="891360" cy="1688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_s47184"/>
            <p:cNvSpPr/>
            <p:nvPr/>
          </p:nvSpPr>
          <p:spPr>
            <a:xfrm>
              <a:off x="1064880" y="3701880"/>
              <a:ext cx="1828800" cy="1560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рудовые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ействи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рироде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_s47182"/>
            <p:cNvSpPr/>
            <p:nvPr/>
          </p:nvSpPr>
          <p:spPr>
            <a:xfrm flipH="1">
              <a:off x="3854520" y="4664160"/>
              <a:ext cx="399600" cy="7016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_s47181"/>
            <p:cNvSpPr/>
            <p:nvPr/>
          </p:nvSpPr>
          <p:spPr>
            <a:xfrm>
              <a:off x="2549160" y="5287320"/>
              <a:ext cx="1828080" cy="15602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гровые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учающие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итуации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_s47191"/>
            <p:cNvSpPr/>
            <p:nvPr/>
          </p:nvSpPr>
          <p:spPr>
            <a:xfrm>
              <a:off x="5047560" y="4661280"/>
              <a:ext cx="393840" cy="7045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_s47190"/>
            <p:cNvSpPr/>
            <p:nvPr/>
          </p:nvSpPr>
          <p:spPr>
            <a:xfrm>
              <a:off x="4923720" y="5284800"/>
              <a:ext cx="1828800" cy="1560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аздники,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влечения,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атр.деят-ть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_s47189"/>
            <p:cNvSpPr/>
            <p:nvPr/>
          </p:nvSpPr>
          <p:spPr>
            <a:xfrm>
              <a:off x="5539320" y="4131360"/>
              <a:ext cx="891360" cy="1764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_s47188"/>
            <p:cNvSpPr/>
            <p:nvPr/>
          </p:nvSpPr>
          <p:spPr>
            <a:xfrm>
              <a:off x="6404760" y="3699720"/>
              <a:ext cx="1828800" cy="15602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еседы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рупповые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 индивидуаль-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ые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_s47180"/>
            <p:cNvSpPr/>
            <p:nvPr/>
          </p:nvSpPr>
          <p:spPr>
            <a:xfrm flipV="1">
              <a:off x="5361480" y="2987640"/>
              <a:ext cx="715680" cy="4856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_s47179"/>
            <p:cNvSpPr/>
            <p:nvPr/>
          </p:nvSpPr>
          <p:spPr>
            <a:xfrm>
              <a:off x="5875920" y="1721520"/>
              <a:ext cx="1828800" cy="15602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знакомление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 худ. литера-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урой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_s47178"/>
            <p:cNvSpPr/>
            <p:nvPr/>
          </p:nvSpPr>
          <p:spPr>
            <a:xfrm flipV="1">
              <a:off x="4647960" y="2400840"/>
              <a:ext cx="0" cy="7801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_s47177"/>
            <p:cNvSpPr/>
            <p:nvPr/>
          </p:nvSpPr>
          <p:spPr>
            <a:xfrm>
              <a:off x="3733920" y="840240"/>
              <a:ext cx="1828080" cy="1560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сп.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зможности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родной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дагогики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_s47176"/>
            <p:cNvSpPr/>
            <p:nvPr/>
          </p:nvSpPr>
          <p:spPr>
            <a:xfrm>
              <a:off x="3733920" y="3181680"/>
              <a:ext cx="1828080" cy="1560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редства и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методы духовно-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нравственного воспи-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тания через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общение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 природой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Использование воспитательных возможностей народной педагогик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общение к устному народному творчеству: ознакомление со сказками, былями, легендами, малыми фольклорными жанрами (загадки, пословицы, поговорки, заклички, потешки и т.д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знакомление с народным фенологическим календарё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оставление картотеки примет по итогам собственных наблюден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частие в фольклорных праздниках, посвящённых сезонным изменениям в природ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8991720" y="-6743880"/>
            <a:ext cx="3303720" cy="24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09e8"/>
                </a:solidFill>
                <a:latin typeface="Arial"/>
              </a:rPr>
              <a:t>Наблюдения в природе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943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тбор содержания,  форм и способов наблюдений нравственно-ориентиро-ванной и эмоциональной направлен-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еобладание визуального источника наблюдени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спользование двигательной активности дет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5812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09e8"/>
                </a:solidFill>
                <a:latin typeface="Arial"/>
              </a:rPr>
              <a:t>Беседы, групповые и индивидуальные</a:t>
            </a:r>
            <a:br>
              <a:rPr sz="2400"/>
            </a:b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19112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Личностно-ориентированное взаимо-действие педагога с детьм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существле-ние тактичной коррекции в поиске  и выборе ребёнком нравственного пу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ысокие требования к личности педагога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162920" y="1523880"/>
            <a:ext cx="1670040" cy="12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350"/>
                            </p:stCondLst>
                            <p:childTnLst>
                              <p:par>
                                <p:cTn id="2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350"/>
                            </p:stCondLst>
                            <p:childTnLst>
                              <p:par>
                                <p:cTn id="2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350"/>
                            </p:stCondLst>
                            <p:childTnLst>
                              <p:par>
                                <p:cTn id="3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35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13-05-30T16:42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