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1DC-3B62-4549-A906-6D94736E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9BB-69CA-4EE9-949E-0A97076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CE8-6BA1-4959-AFDB-B7D43040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27F-0A13-4357-B277-EEFB476D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8A31-6ADB-45DA-AFFE-95665734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99F-A6F2-4B64-91C8-F759C6C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6EAE-232B-4E99-9B42-6CE880E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FD88-041F-4DDF-B9A1-E8946E61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8755-9129-4E55-BDBF-FF8FED9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F15-0EF0-404A-88A2-7F043AAD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077F-4494-4EE1-99D9-996A23A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B5A-D13B-4DBB-B1BC-F694298F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0ED-4EAC-4FF8-9FB6-FDD21B2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D57-92A1-468E-889B-78A441B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2F95-8B6D-4230-9DF5-C7B86FE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9858-3C21-4E69-B113-1778177D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330-4175-420A-A678-62898A93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F54-566D-47AF-9912-BE52AB7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20D-6F4A-4773-8E87-98FB7E3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0FC-2C8A-41BB-88BF-B2A825C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101-B630-4BF9-884B-0082F8A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10C-306A-4172-BA21-17A673A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935-5FF3-46F1-8197-EE938AC2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806-6CBC-4572-A9C5-916FE43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4D88-FD9E-4C27-8FA6-40FCA99B7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A39D-5A44-457B-87EB-8A7338FE5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632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актико-ориентированный прое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спользование игровых технолог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питания и обучения детей с речевой патологией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одготовка дошкольников с нарушением речи к обучению грамоте.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ушателя Педагогической академии последипломного образования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КИДЯЕВОЙ ЕЛЕНЫ БОРИСОВНЫ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____» _________________ 2011 г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одержание программ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новной целью программы является развитие познавательно-речевой активности у детей младшего дошкольного возра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бота ведется по следующим направления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1. Расширение и уточнение словаря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ведение в активный словарь новых слов и поня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обиходного словаря через создание игровых ситуа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внимания к значению слова, установление связей между звуковой и смысловой сторонами сло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грамматического строя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я навыка согласования слов в словосочетан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формирование навыка образования имен существительных суффиксальным способом, форм числа имен существительны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потреблять предлоги в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конструировать предло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бота над звуковой культурой речи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артикуляционного аппара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знакомство со звуками русского язы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звитие умения узнавать звуки в звуковом ряду, в слове; слышать повторяющиеся согласные зв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Развитие связной ре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предме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о самом себе по вопросам педаго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рассказывание по сюжетной картинке, по серии картинок совместно с воспитателем и другими деть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Ди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дагогический анализ знаний, умений и навыков детей (диагностика) проводится 2 раза в год ( вводный – в начале года, итоговый – в конце обуч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 проводи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. Грамматический  строй реч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гласовывать слова в словосочетан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бразовывать имена существительные суффиксальным способом («Назови ласково»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зывать имена существительные во множественном числ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Звуковая культу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правильное произношение зву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умение узнавать и находить звук в звуковом ряду и в слов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 Связная реч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описательный рассказ о предмете из 3-4 предлож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рассказывать о себе по вопросам педагог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мение составлять рассказ по сюжетной картинке, серии картинок совместно с педаг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Список литературы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Н. Бунеев, Е.В. Бунеева, Т.Р. Кислова.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грамма дошкольного курса развитие речи и подготовки обучению грам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Р. Кислова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дороге к азбуке» («Лесные истории») методические рекомендации для воспитателей, логопедов, учителей и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. Сборник программ Москва «Баллас»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Артикуляционная гимнастик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ртикуляционная гимнаст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комплекс упражнений, одни из которых  помогают улучшить подвижность органов артикуляции, другие увеличить объем и силу движений, третьи вырабатывают точность артикуляционной позы, необходимой для произнесения того или иного зву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тикуляционную гимнастику полезно сочетать с дыхательными упражнениями и мимическим массаж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 Black"/>
              </a:rPr>
              <a:t>Артикуляционная гимнастика «Щука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48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предварительно выставляет по порядку артикуляционные карточки и в ходе выполнения задания указывает на определенную карти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ша щука решила навести порядок в жилище. Давайте поможем ей с помощью наших языч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Сначала щука широко открыла окно (упражнение «Ворота»), помыла его («Почисти зубы»), побелила потолок («Маляр»), вынесла из дома ковер («Блинчик») и хорошенько его поколотила (в положении «Блинчик» постучать зубами по языку). А потом прибила молотком гвоздь («Молоток») и повесила на стену свою улыбающуюся фотографию(«Заборчик»). Вот такая хозяйственная щу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Пальчиковые игр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вень развития речи детей находится в прямой зависимости о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и сформированности мелких движений ру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альчиковые игры помогают налаживать коммуникативные отношения на уровне соприкосновения, эмоционального переживания, контакта. Игры имеют развивающее значение, так как дают ребенку возможность «прочувствовать» свои пальцы, ладони, познать возможности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Пальчиковая игра «Рыбки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весело плеска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чистой тепленькой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ладошки ударяют по стол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сожмутся, разожму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жать и разжать кулач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 закружатся в в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интообразные движения кистям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 плавают в водиц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движения кистями влево – впра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ам весело игр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удары ладоней по стол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ыбки, рыбки, озорн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то сумеет вас поймать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похлопать в ладош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Звуковая культур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и приобретают представления о звуках, способе и месте их образования, учатся узнавать эти звуки в звуковом ряду, в отдельных слов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лово «щука» начинается со зву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]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роизнесите его несколько раз подряд и расскажите во что упирается язык. (В небо.) Когда можно услышать этот зву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Когда просят помолчать, когда шумит ветер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ите стихотвор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Щука доброю был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жбу с рыбками в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варила щука щ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щала двух лещ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Лексико - грамматическая рабо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и уточнение словар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грамматического стро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вязной р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картинки с изображением щуки. Ответы на вопросы воспита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зывается эта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зовите части ее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Чем питается щу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чему ее называют хищной рыб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ние сюжетной картинки. Рассказ воспитателя. Обращение к личному опыту детей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ак надо ухаживать за зубами, чтобы они не боле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Arial Black"/>
              </a:rPr>
              <a:t>Кидяева Елена Борисов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бразование:  среднее – специальн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1991г. – педагогическое училище №7 МГК по народному образованию, воспитатель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едагогический стаж – 11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МДОУ д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 №23 ЦРР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4год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должности воспитателя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2010 -2011году проводила кружок «Лесные истории» по подготовке к обучению грамоте детей 4 – 5 лет  по программе «Детский сад 2100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яснительная запис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ной целью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является развитие у детей познавательной речевой активности и формирование культуры речевого 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уществление этой цели обеспечивается в ходе реализаци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 курс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изация смысловой стороны речи, понимани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ирение словар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ершенствование грамматического строя реч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связной речи ( монологической и диалогическо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силение контроля над собственной речь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накомство со звуками и развитие умений простейшего звукового анализ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мышц артикуляционного аппарата, мимической мускулатуры, дыхательной систе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мелкой моторики рук и тактильной чувстви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творческих и интеллектуальных способнос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равственное воспит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м из важнейших средств познания мира для детей является возможность понимать речь и говорить, поэтому основной целью курса является развитие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знавательной речевой активност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Дети с удовольствием проявляют готовность к работе с предметными и сюжетными картинками (составляют рассказы, раскрашивают и дорисовывают отдельные фрагменты, устанавливают простейшие причинно-следственные связи, понимают жизненно близкий сюжет). Такой вид деятельности позволяет расширить словарь ребенка, его представления об окружающем, закрепить полученные знания и реализовать их в собственном речевом опыте, способствует развитию у детей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вязной ре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ое внимание на занятиях уделяется развит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рамматического строя реч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детей и формированию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онтроля за собственной речью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 побуждает детей к использованию в своей речи глаголов, наречий, имен прилагательных, числительных, служебных частей речи (предлоги, союзы, частиц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Принципы работы по программе «Лесные истории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предполагает создание образовательной среды, обеспечивающей снятие всех стрессообразующих факторов учебного процес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минимакс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озможность продвижения каждого ребенка своим темп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целостного представления о 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аскрывается взаимосвязь нового знания с предметами и явлениями окружающего ми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инцип неприрыв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й обеспечивает преемственные связи между всеми ступенями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тоге реализации дополнительной образовательной программы предполагает развитие познавательной речевой активности, расширение и уточнение словаря, развитие связной речи, знакомство со звуками русского языка, введение элементов звукового анализа и развитие речевого аппа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ТЕМАТИЧЕСКОЕ ПЛАНИРОВАНИЕ ПО      ПРОГРАММЕ «ЛЕСНЫЕ ИСТОРИИ»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620120" cy="4057560"/>
        </p:xfrm>
        <a:graphic>
          <a:graphicData uri="http://schemas.openxmlformats.org/drawingml/2006/table">
            <a:tbl>
              <a:tblPr/>
              <a:tblGrid>
                <a:gridCol w="997200"/>
                <a:gridCol w="5689440"/>
                <a:gridCol w="933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нтереса к занятиям по данному курсу, знакомство с органами артикуляции, тренировка умения поочередно шевелить пальцами и расслаблять кисть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 самостоятельному массажу рук и мимической мускулатуры, развитие представлений о различных эмоциях и умения их проявлять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изация тактильных ощущений и способности их передать словами, тренировка артикуляционной мускулатуры и умения удерживать и менять артикуляционные по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[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обучение способности узнавать этот звук в слов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95280" y="189000"/>
          <a:ext cx="8007480" cy="6654600"/>
        </p:xfrm>
        <a:graphic>
          <a:graphicData uri="http://schemas.openxmlformats.org/drawingml/2006/table">
            <a:tbl>
              <a:tblPr/>
              <a:tblGrid>
                <a:gridCol w="925560"/>
                <a:gridCol w="5976720"/>
                <a:gridCol w="110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Знакомство со звуками М] и [М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Н] и [Н‘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П] и [П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Б] и [Б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Ф] и [Ф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Т] и [Т’]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Д] и [Д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260280"/>
          <a:ext cx="8007120" cy="6242040"/>
        </p:xfrm>
        <a:graphic>
          <a:graphicData uri="http://schemas.openxmlformats.org/drawingml/2006/table">
            <a:tbl>
              <a:tblPr/>
              <a:tblGrid>
                <a:gridCol w="1069920"/>
                <a:gridCol w="6119640"/>
                <a:gridCol w="81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В] и [В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Л] и [Л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К] и [К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Г] и [Г’]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Х] и [Х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С] и С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З] и 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38080" y="1905120"/>
          <a:ext cx="8007480" cy="3143160"/>
        </p:xfrm>
        <a:graphic>
          <a:graphicData uri="http://schemas.openxmlformats.org/drawingml/2006/table">
            <a:tbl>
              <a:tblPr/>
              <a:tblGrid>
                <a:gridCol w="1141560"/>
                <a:gridCol w="5832360"/>
                <a:gridCol w="10335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[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мство со звуками [Р] и [Р’]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жетно-ролевая игра «Живая картинка» (с использованием звукоподражаний, артикуляционных упражнений и пальчиковых игр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1:54:56Z</dcterms:created>
  <dc:creator>Света</dc:creator>
  <dc:description/>
  <dc:language>en-US</dc:language>
  <cp:lastModifiedBy>светик</cp:lastModifiedBy>
  <dcterms:modified xsi:type="dcterms:W3CDTF">2013-01-28T12:50:09Z</dcterms:modified>
  <cp:revision>6</cp:revision>
  <dc:subject/>
  <dc:title>Практико-ориентированный проект Использование игровых технологий воспитания и обучения детей с речевой патологией   Подготовка дошкольников с нарушением речи к обучению грамоте.     слушателя Педагогической академии последипломного образования  КИДЯЕВОЙ ЕЛЕНЫ БОРИСОВНЫ       «____» _________________ 2011 г.</dc:title>
</cp:coreProperties>
</file>