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A1F-B08D-4698-AE7D-E494FBB1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952-D155-4513-9122-F0DBF096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A7D-BD55-4FA4-A801-D914CAAE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133-FD59-4086-84A8-EC724881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CD5-B53B-43EC-906F-9EB35180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F76A-7F49-4425-B9EC-7C8E2151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A41A-DED6-4BCA-A89B-03806231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E579-B1D3-48D3-A76F-E64BBB2A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C906-AC8C-4032-A37E-A91A703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3726-FFD1-4C6E-861C-F7D423F1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BE31-E4D7-457B-AEE5-0252F589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D95-8161-48D7-8DE3-B7EE95C2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F620-9D42-4B85-A627-E558DE1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9261-031C-42B1-A8EC-D53441F4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0CFE-054B-480C-B4E9-25A785E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BF27-45E8-40E5-B0B8-5AAAC3D2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372-55A2-49BF-B8DB-3F794784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AF6-7D03-441E-A842-46A3A46F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AD3-676C-4FE1-8E02-6265E58C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B5C-EE1E-4DA1-8DEB-4598121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AD8-3DE2-40F1-B4F0-B64A1E81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ADA-0B24-4F20-972F-5690E10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A4C-B29D-4402-94C0-3B8CCBBF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1D2-1686-4C66-9950-B6439A57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FB72-DFCA-4155-8C5A-BE5EAD911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BFB8-24BD-4A41-89B8-682D3E82B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632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актико-ориентированный проек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спользование игровых технолог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спитания и обучения детей с речевой патологией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одготовка дошкольников с нарушением речи к обучению грамоте.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лушателя Педагогической академии последипломного образования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КИДЯЕВОЙ ЕЛЕНЫ БОРИСОВНЫ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«____» _________________ 2011 г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Содержание программ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сновной целью программы является развитие познавательно-речевой активности у детей младшего дошкольного возрас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бота ведется по следующим направления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1. Расширение и уточнение словаря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введение в активный словарь новых слов и поня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обиходного словаря через создание игровых ситуац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внимания к значению слова, установление связей между звуковой и смысловой сторонами сло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Развитие грамматического строя речи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формирования навыка согласования слов в словосочетан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формирование навыка образования имен существительных суффиксальным способом, форм числа имен существительны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умения употреблять предлоги в реч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умения конструировать предлож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Работа над звуковой культурой речи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артикуляционного аппара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знакомство со звуками русского язы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умения узнавать звуки в звуковом ряду, в слове; слышать повторяющиеся согласные зв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Развитие связной реч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ссказывание о предме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ссказывание о самом себе по вопросам педагог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ссказывание по сюжетной картинке, по серии картинок совместно с воспитателем и другими деть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Диагно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дагогический анализ знаний, умений и навыков детей (диагностика) проводится 2 раза в год ( вводный – в начале года, итоговый – в конце обуч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гностика проводится по следующим направле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. Грамматический  строй реч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согласовывать слова в словосочетан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образовывать имена существительные суффиксальным способом («Назови ласково»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называть имена существительные во множественном числ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Звуковая культу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правильное произношение зву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 умение узнавать и находить звук в звуковом ряду и в слов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 Связная реч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составлять описательный рассказ о предмете из 3-4 предлож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рассказывать о себе по вопросам педагог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составлять рассказ по сюжетной картинке, серии картинок совместно с педаг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Список литературы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Н. Бунеев, Е.В. Бунеева, Т.Р. Кислова.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грамма дошкольного курса развитие речи и подготовки обучению грам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Р. Кислова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 дороге к азбуке» («Лесные истории») методические рекомендации для воспитателей, логопедов, учителей и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. Сборник программ Москва «Баллас»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Артикуляционная гимнасти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ртикуляционная гимнаст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комплекс упражнений, одни из которых  помогают улучшить подвижность органов артикуляции, другие увеличить объем и силу движений, третьи вырабатывают точность артикуляционной позы, необходимой для произнесения того или иного зву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тикуляционную гимнастику полезно сочетать с дыхательными упражнениями и мимическим массаж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 Black"/>
              </a:rPr>
              <a:t>Артикуляционная гимнастика «Щука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48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 предварительно выставляет по порядку артикуляционные карточки и в ходе выполнения задания указывает на определенную картин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ша щука решила навести порядок в жилище. Давайте поможем ей с помощью наших языч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Сначала щука широко открыла окно (упражнение «Ворота»), помыла его («Почисти зубы»), побелила потолок («Маляр»), вынесла из дома ковер («Блинчик») и хорошенько его поколотила (в положении «Блинчик» постучать зубами по языку). А потом прибила молотком гвоздь («Молоток») и повесила на стену свою улыбающуюся фотографию(«Заборчик»). Вот такая хозяйственная щу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Пальчиковые игры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вень развития речи детей находится в прямой зависимости от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тепени сформированности мелких движений рук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альчиковые игры помогают налаживать коммуникативные отношения на уровне соприкосновения, эмоционального переживания, контакта. Игры имеют развивающее значение, так как дают ребенку возможность «прочувствовать» свои пальцы, ладони, познать возможности свое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Пальчиковая игра «Рыбки»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и весело плескали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 чистой тепленькой в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ладошки ударяют по стол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 сожмутся, разожму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жать и разжать кулач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 закружатся в в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интообразные движения кистями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и плавают в водиц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движения кистями влево – вправ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ам весело игр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удары ладоней по стол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и, рыбки, озорниц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то сумеет вас поймать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похлопать в ладош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Звуковая культур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ти приобретают представления о звуках, способе и месте их образования, учатся узнавать эти звуки в звуковом ряду, в отдельных слова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Слово «щука» начинается со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Щ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’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Произнесите его несколько раз подряд и расскажите во что упирается язык. (В небо.) Когда можно услышать этот зву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Когда просят помолчать, когда шумит ветер и т.д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торите стихотвор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Щука доброю был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ружбу с рыбками ве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варила щука ще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щала двух лещ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Лексико - грамматическая работ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ширение и уточнение словар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грамматического стро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вязной ре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ние картинки с изображением щуки. Ответы на вопросы воспита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ак называется эта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зовите части ее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Чем питается щу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чему ее называют хищной рыб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ние сюжетной картинки. Рассказ воспитателя. Обращение к личному опыту детей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ак надо ухаживать за зубами, чтобы они не боле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9900"/>
                </a:solidFill>
                <a:latin typeface="Arial Black"/>
              </a:rPr>
              <a:t>Кидяева Елена Борисов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бразование:  среднее – специально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1991г. – педагогическое училище №7 МГК по народному образованию, воспитатель детского 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едагогический стаж – 11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 МДОУ д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 №23 ЦРР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4год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должности воспитателя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2010 -2011году проводила кружок «Лесные истории» по подготовке к обучению грамоте детей 4 – 5 лет  по программе «Детский сад 2100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яснительная запис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новной целью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граммы является развитие у детей познавательной речевой активности и формирование культуры речевого об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уществление этой цели обеспечивается в ходе реализации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задач курс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ивизация смысловой стороны речи, понимания реч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ширение словар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ершенствование грамматического строя реч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связной речи ( монологической и диалогической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силение контроля над собственной речь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накомство со звуками и развитие умений простейшего звукового анализ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мышц артикуляционного аппарата, мимической мускулатуры, дыхательной систем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мелкой моторики рук и тактильной чувстви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творческих и интеллектуальных способнос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равственное воспит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им из важнейших средств познания мира для детей является возможность понимать речь и говорить, поэтому основной целью курса является развитие у детей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знавательной речевой активност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Дети с удовольствием проявляют готовность к работе с предметными и сюжетными картинками (составляют рассказы, раскрашивают и дорисовывают отдельные фрагменты, устанавливают простейшие причинно-следственные связи, понимают жизненно близкий сюжет). Такой вид деятельности позволяет расширить словарь ребенка, его представления об окружающем, закрепить полученные знания и реализовать их в собственном речевом опыте, способствует развитию у детей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вязной реч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льшое внимание на занятиях уделяется развитию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грамматического строя реч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детей и формированию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онтроля за собственной речью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 побуждает детей к использованию в своей речи глаголов, наречий, имен прилагательных, числительных, служебных частей речи (предлоги, союзы, частицы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Принципы работы по программе «Лесные истории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й предполагает создание образовательной среды, обеспечивающей снятие всех стрессообразующих факторов учебного процес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минимакс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озможность продвижения каждого ребенка своим темп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целостного представления о ми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раскрывается взаимосвязь нового знания с предметами и явлениями окружающего мир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неприрыв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й обеспечивает преемственные связи между всеми ступенями об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тоге реализации дополнительной образовательной программы предполагает развитие познавательной речевой активности, расширение и уточнение словаря, развитие связной речи, знакомство со звуками русского языка, введение элементов звукового анализа и развитие речевого аппара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ТЕМАТИЧЕСКОЕ ПЛАНИРОВАНИЕ ПО      ПРОГРАММЕ «ЛЕСНЫЕ ИСТОРИИ»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7620120" cy="4057560"/>
        </p:xfrm>
        <a:graphic>
          <a:graphicData uri="http://schemas.openxmlformats.org/drawingml/2006/table">
            <a:tbl>
              <a:tblPr/>
              <a:tblGrid>
                <a:gridCol w="997200"/>
                <a:gridCol w="5689440"/>
                <a:gridCol w="933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нтереса к занятиям по данному курсу, знакомство с органами артикуляции, тренировка умения поочередно шевелить пальцами и расслаблять кисть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 самостоятельному массажу рук и мимической мускулатуры, развитие представлений о различных эмоциях и умения их проявлять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изация тактильных ощущений и способности их передать словами, тренировка артикуляционной мускулатуры и умения удерживать и менять артикуляционные полож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[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обучение способности узнавать этот звук в слова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95280" y="189000"/>
          <a:ext cx="8007480" cy="6654600"/>
        </p:xfrm>
        <a:graphic>
          <a:graphicData uri="http://schemas.openxmlformats.org/drawingml/2006/table">
            <a:tbl>
              <a:tblPr/>
              <a:tblGrid>
                <a:gridCol w="925560"/>
                <a:gridCol w="5976720"/>
                <a:gridCol w="1105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Знакомство со звуками М] и [М’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Н] и [Н‘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П] и [П’]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Б] и [Б’]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Ф] и [Ф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Т] и [Т’]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Д] и [Д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4360" y="260280"/>
          <a:ext cx="8007120" cy="6242040"/>
        </p:xfrm>
        <a:graphic>
          <a:graphicData uri="http://schemas.openxmlformats.org/drawingml/2006/table">
            <a:tbl>
              <a:tblPr/>
              <a:tblGrid>
                <a:gridCol w="1069920"/>
                <a:gridCol w="6119640"/>
                <a:gridCol w="817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В] и [В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Л] и [Л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К] и [К’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Г] и [Г’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Х] и [Х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С] и С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З] и 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838080" y="1905120"/>
          <a:ext cx="8007480" cy="3143160"/>
        </p:xfrm>
        <a:graphic>
          <a:graphicData uri="http://schemas.openxmlformats.org/drawingml/2006/table">
            <a:tbl>
              <a:tblPr/>
              <a:tblGrid>
                <a:gridCol w="1141560"/>
                <a:gridCol w="5832360"/>
                <a:gridCol w="103356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Р] и [Р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южетно-ролевая игра «Живая картинка» (с использованием звукоподражаний, артикуляционных упражнений и пальчиковых игр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1:54:56Z</dcterms:created>
  <dc:creator>Света</dc:creator>
  <dc:description/>
  <dc:language>en-US</dc:language>
  <cp:lastModifiedBy>светик</cp:lastModifiedBy>
  <dcterms:modified xsi:type="dcterms:W3CDTF">2013-01-28T12:50:09Z</dcterms:modified>
  <cp:revision>6</cp:revision>
  <dc:subject/>
  <dc:title>Практико-ориентированный проект Использование игровых технологий воспитания и обучения детей с речевой патологией   Подготовка дошкольников с нарушением речи к обучению грамоте.     слушателя Педагогической академии последипломного образования  КИДЯЕВОЙ ЕЛЕНЫ БОРИСОВНЫ       «____» _________________ 2011 г.</dc:title>
</cp:coreProperties>
</file>