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25A-C3FD-427C-B7E3-445DCA1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11E-E8AA-41A8-ADC5-7CDD737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C99-4533-40E8-A451-24D53244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BA2-7EA6-43E6-AD33-99595818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C57-2F6A-4551-B5FE-68A8664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748-DD19-4532-8D8B-46A6E1DB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36A-0552-4EDA-A4E8-345F942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6E9-F02F-478B-BD34-DAF27E2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75A-8915-4941-867F-820A4FA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9DC-C461-4F22-BC4A-AB45448C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A5C-4142-4294-81EB-FC113A0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631-556B-4E4A-9796-90D33B3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cc6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7A19-BEAF-4B41-991D-119DFC50159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20840" y="182520"/>
            <a:ext cx="8199360" cy="1627200"/>
            <a:chOff x="420840" y="182520"/>
            <a:chExt cx="8199360" cy="162720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182520"/>
              <a:ext cx="81993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42960" y="2858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Book Antiqua"/>
                </a:rPr>
                <a:t>Песня в солдатской шинел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pic>
        <p:nvPicPr>
          <p:cNvPr id="45" name="Picture 5" descr="Вечный огонь"/>
          <p:cNvPicPr/>
          <p:nvPr/>
        </p:nvPicPr>
        <p:blipFill>
          <a:blip r:embed="rId2"/>
          <a:stretch/>
        </p:blipFill>
        <p:spPr>
          <a:xfrm>
            <a:off x="0" y="1768320"/>
            <a:ext cx="914400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00840" y="356760"/>
            <a:ext cx="2828880" cy="551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то сказал, что надо бросить песню на войн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сле боя сердце просит музыки вдвойн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Picture 2" descr="C:\Documents and Settings\Admin\Мои документы\Война\IMG_0005.jpg"/>
          <p:cNvPicPr/>
          <p:nvPr/>
        </p:nvPicPr>
        <p:blipFill>
          <a:blip r:embed="rId1"/>
          <a:stretch/>
        </p:blipFill>
        <p:spPr>
          <a:xfrm>
            <a:off x="173160" y="1285920"/>
            <a:ext cx="5771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28960" y="27432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Булат Окуджав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4071960"/>
            <a:ext cx="425772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 свидания, мальчи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43360" cy="400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34000" y="1324080"/>
            <a:ext cx="44100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ладимир Высоцкий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н не вернулся из боя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беда! Победа! Победа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1" name="Picture 2" descr="096"/>
          <p:cNvPicPr/>
          <p:nvPr/>
        </p:nvPicPr>
        <p:blipFill>
          <a:blip r:embed="rId1"/>
          <a:stretch/>
        </p:blipFill>
        <p:spPr>
          <a:xfrm>
            <a:off x="500040" y="1130400"/>
            <a:ext cx="823104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s46.radikal.ru/i114/1105/ee/388c07fc5be1t.jpg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img1.liveinternet.ru/images/attach/c/0/43/555/43555287_0a2.jpg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art.gazeta.kz/getImage/?type=photosmall3&amp;w=350&amp;id=11450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512640" y="-6480"/>
            <a:ext cx="3389400" cy="2328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" name="Picture 3" descr="план6"/>
          <p:cNvPicPr/>
          <p:nvPr/>
        </p:nvPicPr>
        <p:blipFill>
          <a:blip r:embed="rId2"/>
          <a:stretch/>
        </p:blipFill>
        <p:spPr>
          <a:xfrm>
            <a:off x="357120" y="1357200"/>
            <a:ext cx="3630600" cy="453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наш город 17 мая 2007 089"/>
          <p:cNvPicPr/>
          <p:nvPr/>
        </p:nvPicPr>
        <p:blipFill>
          <a:blip r:embed="rId3"/>
          <a:stretch/>
        </p:blipFill>
        <p:spPr>
          <a:xfrm>
            <a:off x="4429080" y="3500280"/>
            <a:ext cx="4191120" cy="293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Рисунок1.jpg"/>
          <p:cNvPicPr/>
          <p:nvPr/>
        </p:nvPicPr>
        <p:blipFill>
          <a:blip r:embed="rId4"/>
          <a:stretch/>
        </p:blipFill>
        <p:spPr>
          <a:xfrm>
            <a:off x="4286160" y="214200"/>
            <a:ext cx="46450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3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2"/>
          <a:stretch/>
        </p:blipFill>
        <p:spPr>
          <a:xfrm>
            <a:off x="979560" y="884160"/>
            <a:ext cx="7307280" cy="52419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55" name="Прямоугольник 6" descr=""/>
          <p:cNvPicPr/>
          <p:nvPr/>
        </p:nvPicPr>
        <p:blipFill>
          <a:blip r:embed="rId3"/>
          <a:stretch/>
        </p:blipFill>
        <p:spPr>
          <a:xfrm>
            <a:off x="1749600" y="5705640"/>
            <a:ext cx="56210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Вставай, страна огромная...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Содержимое 3" descr="66865212.jpg"/>
          <p:cNvPicPr/>
          <p:nvPr/>
        </p:nvPicPr>
        <p:blipFill>
          <a:blip r:embed="rId1"/>
          <a:stretch/>
        </p:blipFill>
        <p:spPr>
          <a:xfrm>
            <a:off x="304920" y="1768320"/>
            <a:ext cx="73818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«В землянке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Picture 3" descr="Мемориал – партизанский край в Белоруссии"/>
          <p:cNvPicPr/>
          <p:nvPr/>
        </p:nvPicPr>
        <p:blipFill>
          <a:blip r:embed="rId2"/>
          <a:stretch/>
        </p:blipFill>
        <p:spPr>
          <a:xfrm>
            <a:off x="5064120" y="4214880"/>
            <a:ext cx="40798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Admin\Мои документы\Война\IMG_0005.jpg"/>
          <p:cNvPicPr/>
          <p:nvPr/>
        </p:nvPicPr>
        <p:blipFill>
          <a:blip r:embed="rId3"/>
          <a:stretch/>
        </p:blipFill>
        <p:spPr>
          <a:xfrm>
            <a:off x="0" y="1530360"/>
            <a:ext cx="49640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Жди меня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Picture 2" descr="C:\Documents and Settings\Admin\Мои документы\Война\IMG_0013.jpg"/>
          <p:cNvPicPr/>
          <p:nvPr/>
        </p:nvPicPr>
        <p:blipFill>
          <a:blip r:embed="rId1"/>
          <a:stretch/>
        </p:blipFill>
        <p:spPr>
          <a:xfrm>
            <a:off x="428760" y="1071720"/>
            <a:ext cx="3689280" cy="55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Admin\Мои документы\Война\IMG_0016.jpg"/>
          <p:cNvPicPr/>
          <p:nvPr/>
        </p:nvPicPr>
        <p:blipFill>
          <a:blip r:embed="rId2"/>
          <a:stretch/>
        </p:blipFill>
        <p:spPr>
          <a:xfrm>
            <a:off x="4500720" y="2500200"/>
            <a:ext cx="39240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4329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усть поверят сын и мать в то, что нет меня.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Picture 2" descr="C:\Documents and Settings\Admin\Мои документы\Война\IMG_0017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3360" cy="46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Мои документы\Война\IMG_0014.jpg"/>
          <p:cNvPicPr/>
          <p:nvPr/>
        </p:nvPicPr>
        <p:blipFill>
          <a:blip r:embed="rId2"/>
          <a:stretch/>
        </p:blipFill>
        <p:spPr>
          <a:xfrm>
            <a:off x="4786200" y="236520"/>
            <a:ext cx="414036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 я выжил, будем знать только мы с тобой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2" descr="C:\Documents and Settings\Admin\Мои документы\Война\IMG_0015.jpg"/>
          <p:cNvPicPr/>
          <p:nvPr/>
        </p:nvPicPr>
        <p:blipFill>
          <a:blip r:embed="rId1"/>
          <a:stretch/>
        </p:blipFill>
        <p:spPr>
          <a:xfrm>
            <a:off x="857160" y="1785960"/>
            <a:ext cx="76154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35:16Z</dcterms:created>
  <dc:creator>Admin</dc:creator>
  <dc:description/>
  <dc:language>en-US</dc:language>
  <cp:lastModifiedBy>Admin</cp:lastModifiedBy>
  <dcterms:modified xsi:type="dcterms:W3CDTF">2012-05-29T13:08:02Z</dcterms:modified>
  <cp:revision>78</cp:revision>
  <dc:subject/>
  <dc:title>Песня в солдатской шинели</dc:title>
</cp:coreProperties>
</file>