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3C92-6A84-488F-BAA1-BFD2E5B7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3335-120F-4833-942E-712E9660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8695-F739-46A1-B174-BD41E536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0769-5595-4408-9A79-63518AA2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18E-50D5-4A06-AD85-60289AAD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B848-A2D1-4D30-8E16-F08C4DB2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02BA-179E-43F1-8AE2-8E724842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EB3-259C-4EE8-8A3C-DD258766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412-AEFF-4C7C-8C94-AD8D9F73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716-29A7-4C1B-9E23-1BF2E13A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97B4-73EC-41D7-A6A9-29E88EF4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FA36-8BA2-4E3D-AA75-517FE8C8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7cc6"/>
            </a:gs>
            <a:gs pos="100000">
              <a:srgbClr val="00246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83D1-AA86-4651-AC3C-8E4D525CBFE6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420840" y="182520"/>
            <a:ext cx="8199360" cy="1627200"/>
            <a:chOff x="420840" y="182520"/>
            <a:chExt cx="8199360" cy="1627200"/>
          </a:xfrm>
        </p:grpSpPr>
        <p:pic>
          <p:nvPicPr>
            <p:cNvPr id="4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20840" y="182520"/>
              <a:ext cx="819936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42960" y="28584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0000"/>
                  </a:solidFill>
                  <a:latin typeface="Book Antiqua"/>
                </a:rPr>
                <a:t>Песня в солдатской шинели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onstantia"/>
            </a:endParaRPr>
          </a:p>
        </p:txBody>
      </p:sp>
      <p:pic>
        <p:nvPicPr>
          <p:cNvPr id="45" name="Picture 5" descr="Вечный огонь"/>
          <p:cNvPicPr/>
          <p:nvPr/>
        </p:nvPicPr>
        <p:blipFill>
          <a:blip r:embed="rId2"/>
          <a:stretch/>
        </p:blipFill>
        <p:spPr>
          <a:xfrm>
            <a:off x="0" y="1768320"/>
            <a:ext cx="9144000" cy="50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00840" y="356760"/>
            <a:ext cx="2828880" cy="551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то сказал, что надо бросить песню на войне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сле боя сердце просит музыки вдвойн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2" name="Picture 2" descr="C:\Documents and Settings\Admin\Мои документы\Война\IMG_0005.jpg"/>
          <p:cNvPicPr/>
          <p:nvPr/>
        </p:nvPicPr>
        <p:blipFill>
          <a:blip r:embed="rId1"/>
          <a:stretch/>
        </p:blipFill>
        <p:spPr>
          <a:xfrm>
            <a:off x="173160" y="1285920"/>
            <a:ext cx="57718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28960" y="274320"/>
            <a:ext cx="57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Булат Окуджава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4071960"/>
            <a:ext cx="425772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 свидания, мальчики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943360" cy="4000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4734000" y="1324080"/>
            <a:ext cx="44100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Владимир Высоцкий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78576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н не вернулся из боя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35719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Победа! Победа! Победа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1" name="Picture 2" descr="096"/>
          <p:cNvPicPr/>
          <p:nvPr/>
        </p:nvPicPr>
        <p:blipFill>
          <a:blip r:embed="rId1"/>
          <a:stretch/>
        </p:blipFill>
        <p:spPr>
          <a:xfrm>
            <a:off x="500040" y="1130400"/>
            <a:ext cx="8231040" cy="56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http://s46.radikal.ru/i114/1105/ee/388c07fc5be1t.jpg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http://img1.liveinternet.ru/images/attach/c/0/43/555/43555287_0a2.jpg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http://art.gazeta.kz/getImage/?type=photosmall3&amp;w=350&amp;id=11450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2" descr=""/>
          <p:cNvPicPr/>
          <p:nvPr/>
        </p:nvPicPr>
        <p:blipFill>
          <a:blip r:embed="rId1"/>
          <a:stretch/>
        </p:blipFill>
        <p:spPr>
          <a:xfrm>
            <a:off x="512640" y="-6480"/>
            <a:ext cx="3389400" cy="2328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" name="Picture 3" descr="план6"/>
          <p:cNvPicPr/>
          <p:nvPr/>
        </p:nvPicPr>
        <p:blipFill>
          <a:blip r:embed="rId2"/>
          <a:stretch/>
        </p:blipFill>
        <p:spPr>
          <a:xfrm>
            <a:off x="357120" y="1357200"/>
            <a:ext cx="3630600" cy="4530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наш город 17 мая 2007 089"/>
          <p:cNvPicPr/>
          <p:nvPr/>
        </p:nvPicPr>
        <p:blipFill>
          <a:blip r:embed="rId3"/>
          <a:stretch/>
        </p:blipFill>
        <p:spPr>
          <a:xfrm>
            <a:off x="4429080" y="3500280"/>
            <a:ext cx="4191120" cy="293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Admin\Мои документы\Мои рисунки\Рисунок1.jpg"/>
          <p:cNvPicPr/>
          <p:nvPr/>
        </p:nvPicPr>
        <p:blipFill>
          <a:blip r:embed="rId4"/>
          <a:stretch/>
        </p:blipFill>
        <p:spPr>
          <a:xfrm>
            <a:off x="4286160" y="214200"/>
            <a:ext cx="46450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picture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39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&amp;ZHcy;&amp;icy;&amp;tcy;&amp;iecy;&amp;lcy;&amp;icy; &amp;Vcy;&amp;lcy;&amp;acy;&amp;dcy;&amp;icy;&amp;vcy;&amp;ocy;&amp;scy;&amp;tcy;&amp;ocy;&amp;kcy;&amp;acy; &amp;scy;&amp;lcy;&amp;ucy;&amp;shcy;&amp;acy;&amp;yucy;&amp;tcy; &amp;pcy;&amp;ocy; &amp;rcy;&amp;acy;&amp;dcy;&amp;icy;&amp;ocy; &amp;scy;&amp;ocy;&amp;ocy;&amp;bcy;&amp;shchcy;&amp;iecy;&amp;ncy;&amp;icy;&amp;iecy; &amp;ocy; &amp;ncy;&amp;acy;&amp;pcy;&amp;acy;&amp;dcy;&amp;iecy;&amp;ncy;&amp;icy;&amp;icy; &amp;gcy;&amp;icy;&amp;tcy;&amp;lcy;&amp;iecy;&amp;rcy;&amp;ocy;&amp;vcy;&amp;scy;&amp;kcy;&amp;ocy;&amp;jcy; &amp;Gcy;&amp;iecy;&amp;rcy;&amp;mcy;&amp;acy;&amp;ncy;&amp;icy;&amp;icy; &amp;ncy;&amp;acy; &amp;Scy;&amp;Scy;&amp;Scy;&amp;Rcy; 22 &amp;icy;&amp;yucy;&amp;ncy;&amp;yacy; 1941 &amp;gcy;. &amp;Mcy;&amp;iecy;&amp;scy;&amp;tcy;&amp;ocy; &amp;scy;&amp;hardcy;&amp;iecy;&amp;mcy;&amp;kcy;&amp;icy;: &amp;Vcy;&amp;lcy;&amp;acy;&amp;dcy;&amp;icy;&amp;vcy;&amp;ocy;&amp;scy;&amp;tcy;&amp;ocy;&amp;kcy; &amp;Acy;&amp;vcy;&amp;tcy;&amp;ocy;&amp;rcy; &amp;scy;&amp;hardcy;&amp;iecy;&amp;mcy;&amp;kcy;&amp;icy;: &amp;Mcy;&amp;yacy;&amp;scy;&amp;ncy;&amp;icy;&amp;kcy;&amp;ocy;&amp;vcy; &amp;Vcy;. &amp;Fcy;. &amp;Gcy;&amp;Acy;&amp;Pcy;&amp;Kcy; &amp;iecy;&amp;dcy;.&amp;khcy;&amp;rcy;.&amp;Pcy;-3629"/>
          <p:cNvPicPr/>
          <p:nvPr/>
        </p:nvPicPr>
        <p:blipFill>
          <a:blip r:embed="rId2"/>
          <a:stretch/>
        </p:blipFill>
        <p:spPr>
          <a:xfrm>
            <a:off x="979560" y="884160"/>
            <a:ext cx="7307280" cy="524196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55" name="Прямоугольник 6" descr=""/>
          <p:cNvPicPr/>
          <p:nvPr/>
        </p:nvPicPr>
        <p:blipFill>
          <a:blip r:embed="rId3"/>
          <a:stretch/>
        </p:blipFill>
        <p:spPr>
          <a:xfrm>
            <a:off x="1749600" y="5705640"/>
            <a:ext cx="5621040" cy="92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«Вставай, страна огромная...»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7" name="Содержимое 3" descr="66865212.jpg"/>
          <p:cNvPicPr/>
          <p:nvPr/>
        </p:nvPicPr>
        <p:blipFill>
          <a:blip r:embed="rId1"/>
          <a:stretch/>
        </p:blipFill>
        <p:spPr>
          <a:xfrm>
            <a:off x="304920" y="1768320"/>
            <a:ext cx="7381800" cy="36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Заголовок 1"/>
          <p:cNvGrpSpPr/>
          <p:nvPr/>
        </p:nvGrpSpPr>
        <p:grpSpPr>
          <a:xfrm>
            <a:off x="450720" y="268200"/>
            <a:ext cx="8242560" cy="1158840"/>
            <a:chOff x="450720" y="268200"/>
            <a:chExt cx="8242560" cy="1158840"/>
          </a:xfrm>
        </p:grpSpPr>
        <p:pic>
          <p:nvPicPr>
            <p:cNvPr id="5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25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onstantia"/>
                </a:rPr>
                <a:t>«В землянке»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1" name="Picture 3" descr="Мемориал – партизанский край в Белоруссии"/>
          <p:cNvPicPr/>
          <p:nvPr/>
        </p:nvPicPr>
        <p:blipFill>
          <a:blip r:embed="rId2"/>
          <a:stretch/>
        </p:blipFill>
        <p:spPr>
          <a:xfrm>
            <a:off x="5064120" y="4214880"/>
            <a:ext cx="407988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Admin\Мои документы\Война\IMG_0005.jpg"/>
          <p:cNvPicPr/>
          <p:nvPr/>
        </p:nvPicPr>
        <p:blipFill>
          <a:blip r:embed="rId3"/>
          <a:stretch/>
        </p:blipFill>
        <p:spPr>
          <a:xfrm>
            <a:off x="0" y="1530360"/>
            <a:ext cx="496404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«Жди меня»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4" name="Picture 2" descr="C:\Documents and Settings\Admin\Мои документы\Война\IMG_0013.jpg"/>
          <p:cNvPicPr/>
          <p:nvPr/>
        </p:nvPicPr>
        <p:blipFill>
          <a:blip r:embed="rId1"/>
          <a:stretch/>
        </p:blipFill>
        <p:spPr>
          <a:xfrm>
            <a:off x="428760" y="1071720"/>
            <a:ext cx="3689280" cy="558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Admin\Мои документы\Война\IMG_0016.jpg"/>
          <p:cNvPicPr/>
          <p:nvPr/>
        </p:nvPicPr>
        <p:blipFill>
          <a:blip r:embed="rId2"/>
          <a:stretch/>
        </p:blipFill>
        <p:spPr>
          <a:xfrm>
            <a:off x="4500720" y="2500200"/>
            <a:ext cx="39240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56760"/>
            <a:ext cx="43290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усть поверят сын и мать в то, что нет меня..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7" name="Picture 2" descr="C:\Documents and Settings\Admin\Мои документы\Война\IMG_0017.jpg"/>
          <p:cNvPicPr/>
          <p:nvPr/>
        </p:nvPicPr>
        <p:blipFill>
          <a:blip r:embed="rId1"/>
          <a:stretch/>
        </p:blipFill>
        <p:spPr>
          <a:xfrm>
            <a:off x="285840" y="1785960"/>
            <a:ext cx="3573360" cy="468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Admin\Мои документы\Война\IMG_0014.jpg"/>
          <p:cNvPicPr/>
          <p:nvPr/>
        </p:nvPicPr>
        <p:blipFill>
          <a:blip r:embed="rId2"/>
          <a:stretch/>
        </p:blipFill>
        <p:spPr>
          <a:xfrm>
            <a:off x="4786200" y="236520"/>
            <a:ext cx="4140360" cy="644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ак я выжил, будем знать только мы с тобой..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0" name="Picture 2" descr="C:\Documents and Settings\Admin\Мои документы\Война\IMG_0015.jpg"/>
          <p:cNvPicPr/>
          <p:nvPr/>
        </p:nvPicPr>
        <p:blipFill>
          <a:blip r:embed="rId1"/>
          <a:stretch/>
        </p:blipFill>
        <p:spPr>
          <a:xfrm>
            <a:off x="857160" y="1785960"/>
            <a:ext cx="7615440" cy="478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1:35:16Z</dcterms:created>
  <dc:creator>Admin</dc:creator>
  <dc:description/>
  <dc:language>en-US</dc:language>
  <cp:lastModifiedBy>Admin</cp:lastModifiedBy>
  <dcterms:modified xsi:type="dcterms:W3CDTF">2012-05-29T13:08:02Z</dcterms:modified>
  <cp:revision>78</cp:revision>
  <dc:subject/>
  <dc:title>Песня в солдатской шинели</dc:title>
</cp:coreProperties>
</file>