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B18-CE73-4EC3-B83E-71C28CAA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103-4359-4D50-B8AF-634F3203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276-CCA5-4B08-9CEA-235DD3B9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F65-3D3A-4234-82E6-58BF1F0D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914-1075-41F9-B834-CB2694E7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82A-F747-494B-BFDB-30F30F76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213-0370-48A6-9E7C-52FA237B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FC4-C552-42A4-B8EF-A2C05016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2A1-8177-41A7-A794-F02EBD9F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ED2-4A90-42A4-9E18-1538FBBC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7B0-13E7-4E6C-8720-F674B9B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56A-8163-4804-A809-2239946E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8F02-8D7A-48B5-9098-91ACAB1AA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льчиковый игротренинг для детей дошкольного возра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ассаж языка зубной щетк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блок – совместной деятельности учителя – логопеда, педагога – психолог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лок свободной самостоятельной деятельно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Цель: развивать у детей, точность и координацию движений руки и глаза, гибкость рук, ритмичность.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блок – специально – организованнн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блок – совместная деятельность воспитателя и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асс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17:04:06Z</dcterms:created>
  <dc:creator>Admin</dc:creator>
  <dc:description/>
  <dc:language>en-US</dc:language>
  <cp:lastModifiedBy>User</cp:lastModifiedBy>
  <dcterms:modified xsi:type="dcterms:W3CDTF">2012-05-30T09:24:08Z</dcterms:modified>
  <cp:revision>3</cp:revision>
  <dc:subject/>
  <dc:title>Пальчиковый игротренинг для детей дошкольного возраста</dc:title>
</cp:coreProperties>
</file>