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23F-DBC5-41D8-893F-787B332F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D51-3176-4E10-B6AF-52C20872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5F5-2A74-4361-9D47-700EDCC5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A05-42FA-44B9-A3C3-0B4BCB9D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AEB-30E6-4A3C-8C2D-6B271D2A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346-6996-4299-98D5-92BBE9F6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BC0-DE66-4F19-9624-1B6EDE8D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8B9-5DC6-4A3F-BF3B-BAAF3D89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5AE-F0FF-49C0-A992-81565348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CCC-3D30-414D-927F-3CB79D30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D69-FEDA-414E-A16B-99A5452E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18F-5BDA-4943-8AA8-7E842CDE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2F08-6AC4-4540-83F1-83D8D00C9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льчиковый игротренинг для детей дошкольного возра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ассаж языка зубной щетк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блок – совместной деятельности учителя – логопеда, педагога – психолог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лок свободной самостоятельной деятельно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Цель: развивать у детей, точность и координацию движений руки и глаза, гибкость рук, ритмичность.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блок – специально – организованнн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блок – совместная деятельность воспитателя и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асс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17:04:06Z</dcterms:created>
  <dc:creator>Admin</dc:creator>
  <dc:description/>
  <dc:language>en-US</dc:language>
  <cp:lastModifiedBy>User</cp:lastModifiedBy>
  <dcterms:modified xsi:type="dcterms:W3CDTF">2012-05-30T09:24:08Z</dcterms:modified>
  <cp:revision>3</cp:revision>
  <dc:subject/>
  <dc:title>Пальчиковый игротренинг для детей дошкольного возраста</dc:title>
</cp:coreProperties>
</file>