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095-2C97-4C92-98C5-72376FD5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305-1376-43AD-999A-FD9CFAE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A64-D51A-4A20-AAB2-CE089429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3B3-6866-4133-A7B1-6D717E37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8BF-31C6-4725-A5CB-80FEE1A6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37A-DE4B-4A92-ABC8-3A5A03BE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F71-88ED-46EE-9166-20D08FB9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7B3-DF2E-4FD5-A7F2-6D418EA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329-7C45-436A-8BB6-F4B7CF7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E0B-8AF9-46AC-B2FD-DDDD1CF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72E-60FC-423C-91B6-41B96F3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3C1-D72E-4C4B-B622-86DD619D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16D1-6C19-487A-8E22-4505B098D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ый игротренинг для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ссаж языка зубной щет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блок – совместной деятельности учителя – логопеда, педагога – психоло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к свободной самостоятельной деятель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Цель: развивать у детей, точность и координацию движений руки и глаза, гибкость рук, ритмичность.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блок – специально – организованнн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блок – совместная деятельность воспитателя 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сс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7:04:06Z</dcterms:created>
  <dc:creator>Admin</dc:creator>
  <dc:description/>
  <dc:language>en-US</dc:language>
  <cp:lastModifiedBy>User</cp:lastModifiedBy>
  <dcterms:modified xsi:type="dcterms:W3CDTF">2012-05-30T09:24:08Z</dcterms:modified>
  <cp:revision>3</cp:revision>
  <dc:subject/>
  <dc:title>Пальчиковый игротренинг для детей дошкольного возраста</dc:title>
</cp:coreProperties>
</file>