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E6C7-AA37-4016-BE7C-507D177A7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9542-80EF-4B18-AC18-E8BC0A6E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4BFF-F078-45F8-AFDB-8BCF0B095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00A9-0EB3-4AA0-A4CF-9A42FD320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9BD6-B320-4F31-874C-9C9F7B3B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D7CC-D10C-47D0-ADFD-54853DD6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5AC3-CD4C-4A05-B4DE-C123D0DC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25CC-8248-4F4C-AD6B-DECB08E6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A106-DB1E-455A-862E-A8F1F1B4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5EA1-6400-4A06-96E2-0EF7DBAC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C321-69F0-4A63-BB93-C04324F9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2F39-5032-4C41-9F2C-B023D57F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5A49-DA20-4606-A3C6-85BB90FE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0850-84AC-49A0-BF9A-E541E6FE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ABD2-FD5B-4A96-87D0-D87F8996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B2E3-C1BC-4064-AA61-3D2EC3D7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9A33-DB71-4AD9-ACEE-6661097F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403B-CC2B-44C2-BBF9-1985E3C5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28AE-054A-483E-A54A-CE5AE458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4824-EE50-4E8F-9361-36D228FF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CA98-6219-469E-9244-6F0172BF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D951-BBEC-44BD-A7D1-C77879FB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0D73-D22E-4F9C-8BFB-5F2ED2B8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B7FA-A5E4-4E09-90F4-3A98103E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3C7B-2A54-4952-9CF8-E769769556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EE94-5EA8-469B-BD99-28186F84772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755640" y="1071720"/>
            <a:ext cx="7777080" cy="40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59"/>
                </a:solidFill>
                <a:latin typeface="Tahoma"/>
              </a:rPr>
              <a:t>Ознакомление дошкольников с профессиями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59"/>
                </a:solidFill>
                <a:latin typeface="Times New Roman"/>
                <a:ea typeface="Times New Roman"/>
              </a:rPr>
              <a:t>Выполнила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59"/>
                </a:solidFill>
                <a:latin typeface="Times New Roman"/>
                <a:ea typeface="Times New Roman"/>
              </a:rPr>
              <a:t>воспитатель МДОУ «Детский сад №15 «Лужок»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59"/>
                </a:solidFill>
                <a:latin typeface="Times New Roman"/>
                <a:ea typeface="Times New Roman"/>
              </a:rPr>
              <a:t>Паймолова И.П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5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8320" y="1600200"/>
            <a:ext cx="4209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Ходит в белом колпак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 поварешкою в ру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н готовит нам обед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шу, щи и винегр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4187520" cy="5185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00720" y="1600200"/>
            <a:ext cx="464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жет делать он буфет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улья, тумбы, табурет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стружках весь его верста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т работать надо как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76280" y="1557360"/>
            <a:ext cx="3789360" cy="4608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00720" y="1600200"/>
            <a:ext cx="464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 размеру в самый раз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н  костюм сошьет для ва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се исполнить по науке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 ходите руки в брю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95280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42920" y="714240"/>
            <a:ext cx="42865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 часах настенных стрел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али прыгать словно бел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стер тут на них взгляну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руглый винтик подтяну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сменил пружину срочно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б часы ходили точ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6560" y="1413000"/>
            <a:ext cx="398628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428720" y="1600200"/>
            <a:ext cx="4714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истит мастер башмак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бивает каблу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инит туфли и сандали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б как новенькие ста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017960" cy="5112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н приучает детишек к порядк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н проверяет ребячьи тетрадк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учит детей и читать, и писа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складывать цифры, и вычит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5920" y="1413000"/>
            <a:ext cx="410040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ТВОЁ   ПРИЗВАНИЕ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Строитель нам построит до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И мы в нем дружно зажив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Костюм нарядный выход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Искусно нам сошьет портн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Даст книги нам библиотекар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Хлеб испечет в пекарне пекар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Учитель выучит всему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Научит грамоте, письм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Письмо доставит почтальон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А повар сварит нам бульо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Я думаю, ты подрастеш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И дело по душе найдеш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5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ЦЕЛЬ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ширять и закреплять знания детей о разных профессиях. Воспитывать уважение к труду взрослых, желание выбрать профессию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5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00720" y="1600200"/>
            <a:ext cx="464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 меня не мало дел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сли кто-то заболе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сех я вылечу друзья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тгадайте кто же 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641760" cy="4608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143240" y="1600200"/>
            <a:ext cx="4786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правляюсь я в пол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бираюсь в самол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лечу я над зем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гадай, кто я тако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782880" cy="4681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29120" y="1600200"/>
            <a:ext cx="4214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ждый день сажусь в кабин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вожу мотор машин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ду в дальние кра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тгадали, кто же 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03704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 квартирам и дома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ного писем, телеграм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н приносит адресат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 зовут его, ребят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5760" y="1413000"/>
            <a:ext cx="3966840" cy="4968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исти, краски и мольбер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амин я пишу портр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ля картинной галере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гадай меня скорее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04496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вдруг пожар случитьс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то быстрее всех примчить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машине ярко-красно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 залить огонь опасный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14280" y="1341360"/>
            <a:ext cx="425772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00720" y="2174760"/>
            <a:ext cx="4643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ожницы, шампунь, расческа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ем я делаю прическ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ригу и взрослых и дет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гадай меня скорей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30200" y="1557360"/>
            <a:ext cx="399420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6:10:22Z</dcterms:created>
  <dc:creator>санек</dc:creator>
  <dc:description/>
  <dc:language>en-US</dc:language>
  <cp:lastModifiedBy>User</cp:lastModifiedBy>
  <dcterms:modified xsi:type="dcterms:W3CDTF">2011-11-26T15:13:56Z</dcterms:modified>
  <cp:revision>42</cp:revision>
  <dc:subject/>
  <dc:title>П Р Е З Е Н Т А Ц И Я Елисеевой Екатерины Александровны МДОУ «Детский сад № 15 «Лужок»</dc:title>
</cp:coreProperties>
</file>