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5EAE-7EA3-4D1C-A81D-74EA46EC3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65B7-540A-4948-92FB-AB9E8840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A2FF-422F-40AB-827E-15DC81D0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6091-FC3E-4865-9BF5-33713A3C5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DF63-FD7E-4B69-BBF9-BF87AF8AA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9506-3F69-4EA7-BB4E-FDBC39DF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7710-1501-460F-A7D4-B8C569B5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0D49-560B-44C6-B49C-2CA6FE1A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9CE4-F304-4C9F-B4EB-2DB3F514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C4F8-C804-4BBA-8B1D-24381857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E14E-1E44-4BA8-8B60-6D1C6226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5AE5-BC18-41EA-ABF8-C8B89625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85EA-1F29-4D35-B9F7-28027140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2C06-79CB-40C5-BB7C-88931A76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3127-169A-40E8-9E27-3F0CED27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6FA5-10E0-4039-AC50-C25EE96BB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2A59-CC16-4A51-9CC9-CB2226F12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42A2-2B27-46C7-A8F7-CAD5727A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E057-55E1-4DFC-9D61-D0F87879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AC14-E0E3-4808-A84F-5BF55DFA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D8B8-00E9-4D7E-BE6F-13DEE133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7DE3-02A5-4DD3-B18E-394E2B2D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2EC8-4683-4BAC-BE4D-B02EF156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419C-EB45-49EA-AA8D-74FB1BE3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8EA5-E89D-4CAE-9087-D772EA8B452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6374-6D61-4EFD-86A2-549E7B6029F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755640" y="1071720"/>
            <a:ext cx="7777080" cy="40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59"/>
                </a:solidFill>
                <a:latin typeface="Tahoma"/>
              </a:rPr>
              <a:t>Ознакомление дошкольников с профессиями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59"/>
                </a:solidFill>
                <a:latin typeface="Times New Roman"/>
                <a:ea typeface="Times New Roman"/>
              </a:rPr>
              <a:t>Выполнила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59"/>
                </a:solidFill>
                <a:latin typeface="Times New Roman"/>
                <a:ea typeface="Times New Roman"/>
              </a:rPr>
              <a:t>воспитатель МДОУ «Детский сад №15 «Лужок»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59"/>
                </a:solidFill>
                <a:latin typeface="Times New Roman"/>
                <a:ea typeface="Times New Roman"/>
              </a:rPr>
              <a:t>Паймолова И.П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5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8320" y="1600200"/>
            <a:ext cx="4209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Ходит в белом колпак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 поварешкою в ру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н готовит нам обед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шу, щи и винегр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4187520" cy="5185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00720" y="1600200"/>
            <a:ext cx="464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жет делать он буфет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улья, тумбы, табурет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стружках весь его верста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т работать надо как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76280" y="1557360"/>
            <a:ext cx="3789360" cy="4608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00720" y="1600200"/>
            <a:ext cx="464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 размеру в самый раз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н  костюм сошьет для ва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се исполнить по науке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 ходите руки в брю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95280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42920" y="714240"/>
            <a:ext cx="42865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 часах настенных стрел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али прыгать словно бел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стер тут на них взгляну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руглый винтик подтяну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сменил пружину срочно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б часы ходили точ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6560" y="1413000"/>
            <a:ext cx="398628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428720" y="1600200"/>
            <a:ext cx="4714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истит мастер башмак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бивает каблу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инит туфли и сандали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б как новенькие ста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017960" cy="5112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н приучает детишек к порядк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н проверяет ребячьи тетрадк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учит детей и читать, и писа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складывать цифры, и вычит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5920" y="1413000"/>
            <a:ext cx="410040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ТВОЁ   ПРИЗВАНИЕ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Строитель нам построит до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И мы в нем дружно зажив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Костюм нарядный выход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Искусно нам сошьет портн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Даст книги нам библиотекар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Хлеб испечет в пекарне пекар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Учитель выучит всему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Научит грамоте, письм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Письмо доставит почтальон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А повар сварит нам бульо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Я думаю, ты подрастеш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И дело по душе найдеш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5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ЦЕЛЬ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ширять и закреплять знания детей о разных профессиях. Воспитывать уважение к труду взрослых, желание выбрать профессию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5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00720" y="1600200"/>
            <a:ext cx="464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 меня не мало дел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сли кто-то заболе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сех я вылечу друзья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тгадайте кто же 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641760" cy="4608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143240" y="1600200"/>
            <a:ext cx="4786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правляюсь я в пол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бираюсь в самол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лечу я над зем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гадай, кто я тако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782880" cy="4681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29120" y="1600200"/>
            <a:ext cx="4214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ждый день сажусь в кабин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вожу мотор машин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ду в дальние кра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тгадали, кто же 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03704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 квартирам и дома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ного писем, телеграм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н приносит адресат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 зовут его, ребят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5760" y="1413000"/>
            <a:ext cx="3966840" cy="4968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исти, краски и мольбер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амин я пишу портр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ля картинной галере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гадай меня скорее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04496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вдруг пожар случитьс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то быстрее всех примчить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машине ярко-красно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 залить огонь опасный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14280" y="1341360"/>
            <a:ext cx="425772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00720" y="2174760"/>
            <a:ext cx="4643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ожницы, шампунь, расческа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ем я делаю прическ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ригу и взрослых и дет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гадай меня скорей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30200" y="1557360"/>
            <a:ext cx="399420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6:10:22Z</dcterms:created>
  <dc:creator>санек</dc:creator>
  <dc:description/>
  <dc:language>en-US</dc:language>
  <cp:lastModifiedBy>User</cp:lastModifiedBy>
  <dcterms:modified xsi:type="dcterms:W3CDTF">2011-11-26T15:13:56Z</dcterms:modified>
  <cp:revision>42</cp:revision>
  <dc:subject/>
  <dc:title>П Р Е З Е Н Т А Ц И Я Елисеевой Екатерины Александровны МДОУ «Детский сад № 15 «Лужок»</dc:title>
</cp:coreProperties>
</file>