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968-0900-48F0-AF56-F7CB34B9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EC2-CFA0-4798-8AC6-B9F91D84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269-DAAB-4F6C-A00D-A466A1B0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1EB-3F28-42FF-80F1-8786AFFB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35BD-29FB-498E-ABCB-A5249E37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1678-6895-4645-A19F-6D4F641D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B6D3-0428-498F-8D84-C3CD4438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1CA5-4075-42FC-AB04-C2C34D30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CCAD-6E55-43F5-94F9-EC80536B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9690-2A39-4B32-811F-CD6627CC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3762-CBDE-4959-8576-ECC0D0A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01C-9D0C-4A81-BD9E-033DD956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D557-308F-424D-A7C6-74B6DE1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FC49-EBF4-4D30-A27D-EE9E23A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8DB7-4D05-4E91-8400-89F13393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7098-4198-45B7-A1B1-D85DE67C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7200-871E-4466-890A-3B2AEBD8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E00-00FF-43E8-98D4-CBA3F4C7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7EA-4D93-4BCB-B8DD-24B47C48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A44-D43C-4FE7-8054-B62F0D19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A2D-932E-4135-99CB-DE46A45B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B83-C43E-4C53-85A7-92A022BD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6E4-09D3-4A66-B159-6F593431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660-9C15-41AB-880C-84C8161A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D37E-B78E-4B13-96AC-813C06A7B3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7EC5-0090-4DFA-AE36-3669674BE6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755640" y="1071720"/>
            <a:ext cx="77770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59"/>
                </a:solidFill>
                <a:latin typeface="Tahoma"/>
              </a:rPr>
              <a:t>Ознакомление дошкольников с профессиям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ыполнил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оспитатель МДОУ «Детский сад №15 «Лужок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Паймолова И.П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20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дит в белом колпа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поварешкою в ру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готовит нам о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шу, щи и винегр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187520" cy="5185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жет делать он буф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улья, тумбы, табур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стружках весь его верс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т работать надо ка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1557360"/>
            <a:ext cx="37893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размеру в самый раз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 костюм сошьет для в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исполнить по наук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 ходите руки в брю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528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2920" y="714240"/>
            <a:ext cx="428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часах настенных стрел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ли прыгать словно бе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тер тут на них взгля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углый винтик подтян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менил пружину сроч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часы ходили то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6560" y="1413000"/>
            <a:ext cx="39862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28720" y="1600200"/>
            <a:ext cx="47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стит мастер башма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бивает кабл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нит туфли и сандал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как новенькие ст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1796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учает детишек к по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оверяет ребячьи тетрад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 детей и читать, и пис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кладывать цифры, и вычи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920" y="1413000"/>
            <a:ext cx="410040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ТВОЁ   ПРИЗВАН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роитель нам построит д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мы в нем дружно зажив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остюм нарядный выход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скусно нам сошьет порт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Даст книги нам библиот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Хлеб испечет в пекарне п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Учитель выучит всему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учит грамоте, пись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исьмо доставит почталь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А повар сварит нам буль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Я думаю, ты подраст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дело по душе найдеш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ширять и закреплять знания детей о разных профессиях. Воспитывать уважение к труду взрослых, желание выбрать професс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меня не мало де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кто-то забол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х я вылечу друзь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йте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6417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7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ляюсь я в п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бираюсь в сам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лечу я над зем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гадай, кто я так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782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29120" y="1600200"/>
            <a:ext cx="421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ый день сажусь в каби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ожу мотор маши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у в дальние кр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ли,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3704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квартирам и дом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ного писем, телеграм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носит адреса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зовут его, ребя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5760" y="1413000"/>
            <a:ext cx="3966840" cy="49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исти, краски и мольбер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мин я пишу 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картинной галер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449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вдруг пожар случи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быстрее всех примч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ашине ярко-крас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залить огонь опасн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4280" y="1341360"/>
            <a:ext cx="42577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2174760"/>
            <a:ext cx="464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жницы, шампунь, расческ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м я делаю причес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игу и взрослых 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0200" y="1557360"/>
            <a:ext cx="39942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10:22Z</dcterms:created>
  <dc:creator>санек</dc:creator>
  <dc:description/>
  <dc:language>en-US</dc:language>
  <cp:lastModifiedBy>User</cp:lastModifiedBy>
  <dcterms:modified xsi:type="dcterms:W3CDTF">2011-11-26T15:13:56Z</dcterms:modified>
  <cp:revision>42</cp:revision>
  <dc:subject/>
  <dc:title>П Р Е З Е Н Т А Ц И Я Елисеевой Екатерины Александровны МДОУ «Детский сад № 15 «Лужок»</dc:title>
</cp:coreProperties>
</file>