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1F-1F84-462B-B33A-D331E121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C70-0B27-488F-B509-1077CBC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076-0CFB-4C42-9E82-44AFEFB9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5D6-B85B-4090-AD45-DE7BA8DC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1FF-9463-4FD4-B005-59F4F6F0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CF1-DCD9-454D-A412-EA69340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DD1-111A-4125-80E9-95AB435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AA0-24A2-4451-AF6F-77A1FD6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BF5-5468-4A17-A578-17B477E0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8CB-26DA-4CD2-8507-F8DE64F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8B0-A9DA-47F1-8F0A-5A91B39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CBB-F904-4CA4-9F4F-90BB477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e3db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9E64-BEA4-49E0-8AF9-6EC091AAA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uit.ru/department/itmngt/itmangt/1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Теория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4291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85840" y="2967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екция</a:t>
            </a:r>
            <a:r>
              <a:rPr b="0" lang="ru-RU" sz="3600" spc="-1" strike="noStrike" u="sng">
                <a:solidFill>
                  <a:srgbClr val="00b0f0"/>
                </a:solidFill>
                <a:uFillTx/>
                <a:latin typeface="Arial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ересечение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ечением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 событий A и B называется событие, состоящее в том, что произошли оба события A и B одновременно. На языке теории множеств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 есть множество, содержащее элементарные исходы, входящие в пересечение множеств A и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45160" y="1628640"/>
            <a:ext cx="487080" cy="51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71880" y="3573360"/>
            <a:ext cx="487440" cy="5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ерес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70440" cy="537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отивоположное со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р о т и в о п о л о ж н ы м (или дополнительным) к событию A называется событие                       состоящее в том, что событие A в результате эксперимента не произошло. Т. е. множество        состоит из элементарных исходов, не входящих в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103720" y="2546280"/>
            <a:ext cx="2019240" cy="64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6300720" y="4000680"/>
            <a:ext cx="60984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отивоположное со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05636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ением A\B события B до A называется событие, состоящее в том, что произошло событие A, но не произошло B. Т. е. множество A\B содержит элементарные исходы, входящие в множество A, но не входящие в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24720" cy="489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Несовмес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A и B называют несовместными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                         называются попарно несовместными, если для любых i = j, где                            событ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вмест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508720" y="2673360"/>
            <a:ext cx="247644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203640" y="3309840"/>
            <a:ext cx="24400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4065480" y="4257720"/>
            <a:ext cx="262908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1187280" y="4871880"/>
            <a:ext cx="1676520" cy="571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Несовмес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обытие A влечёт событие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т, что событие A влечёт событие B, и пишут                        если всегда, как только происходит событие A, происходит и событие B. На языке теории множеств это означает, что любой элементарный исход, входящий в множество A, одновременно входит и в множество B, т. е. A содержится в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435640" y="2106720"/>
            <a:ext cx="144792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вероятностей изучает закономерности, возникающие в случайных эксперимен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йным называют эксперимент, результат которого нельзя предсказать зара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редсказать результат отличает случайное явление от детерминирова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обытие A влечёт событие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3744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ероятность на дискретном пространстве элементарных и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элементарных исходов назовё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рет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оно конечно или счёт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чёт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ществует взаимно-однозначное соответствие между этим множеством и множеством всех натуральных чисел. Счётными множествами являются множество натуральных чисел, множество целых чисел, множество рациональных чисел, множество чётных чисел и т.д. Множество конечно, если оно состоит из конечного числа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450040" cy="571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ероятность на дискретном пространстве элементарных и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определить вероятность любого события на дискретном пространстве элементарных исходов, достаточно присвоить вероятность каждому элементарному исходу. Тогда вероятность любого события определяется как сумма вероятностей входящих в него элементарных и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Вероятность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640" y="1557360"/>
            <a:ext cx="9126360" cy="537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войства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, что мы имеем дело с пространством элементарных исходов, состоящим из конечного числа N элемен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, что из каких-либо соображений мы можем считать элементарные исходы равновозможными. Тогда вероятность любого из них принимается равной 1 /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518328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7. Говорят, что эксперимент удовлетворяет «классическому определению вероятности», если пространство элементарных исходов состоит из конечного числа       = N равновозможных исходов. В этом случае вероятность любого события A вычисляется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мой классически м  о п р е де л е н и е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е р о я т н о с т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43640" y="2940120"/>
            <a:ext cx="573120" cy="48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3047760" cy="1333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ют так: «вероятность события A равна от-ношению числа исходов, благоприятствующих событию A, к общему числу исход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 сравнить это определение с классической формулировкой Якоба Бернулли : «Вероятность есть степень достоверности и отличается от неё как часть от целог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419640" y="1666800"/>
            <a:ext cx="3163680" cy="60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 случайные явления (эксперименты) можно изучать методами теории вероятностей, а лишь те, которые могут быть воспроизведены в одних и тех же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мы в первый, но далеко не в последний раз встретились с термином «распределение» вероятностей. Это слово всегда обозначает некий способ разделить (распределить) общую единичную вероятность между какими-то точками или множествами на вещественн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ипергеометрическом распределении единичная вероятность распределена между подходящими целыми числами k неравномерно. Каждому целому числу k сопоставлена своя 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ещественной прямой можно единичную вероятность распределить по-разному. Этим одно распределение отличается от другого: тем, на каком множестве чисел «распределена» общая единичная вероятность, и тем, какие веса, или вероятности, присвоены отдельным точкам или частям это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308720" y="2870280"/>
            <a:ext cx="914400" cy="482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лучайных экспериментах наблюдаются некоторые закономерности, например свойство «статистической устойчивости»: если A — некоторое событие, могущее произойти или не произойти в результате эксперимента, то доля n(A) /n экспериментов, в которых данное событие произошло, имеет тенденцию стабилизироваться с ростом общего числа экспериментов n, приближаясь к некоторому числу P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1. Пространством элементарных исходов      («омега») называется множество,     содержащее все возможные результаты данного случайного эксперимента, из которых в эксперименте происходит ровно один. Элементы этого множества называют элементарными исходами и обозначают буквой     («омега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60840" y="2565360"/>
            <a:ext cx="484200" cy="51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95640" y="560880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2. Событиями мы будем называть подмножества множества Говорят, что в результате эксперимента произошло событие                   если в эксперименте произошел один из элементарных исходов, входящих в мно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905600" y="2075040"/>
            <a:ext cx="723960" cy="5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725400" cy="5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4932360" y="3130560"/>
            <a:ext cx="1333440" cy="649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остоверным называется событие, которое обязательно происходит в результате эксперимента, т. е. единственное событие, включающее все элементарные исходы — собы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 е в о з м о ж н ы м называется событие, которое не может произойти в результате эксперимента, т. е. событие, не содержащее ни одного элементарного исхода («пустое множество»   ). Заметим, что 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50920" y="3251160"/>
            <a:ext cx="486000" cy="51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536920" y="5516640"/>
            <a:ext cx="279360" cy="35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6804000" y="5440320"/>
            <a:ext cx="1041480" cy="507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ъединение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4. 1. Объединением A U B событий A и B называется событие, состоящее в том, что произошло либо A, либо B, либо оба события одновременно. На языке теории множеств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B есть множество, содержащее как элементарные исходы из множества A, так и элементарные исходы из множества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3:08:55Z</dcterms:created>
  <dc:creator>Ирина Изосимова</dc:creator>
  <dc:description/>
  <dc:language>en-US</dc:language>
  <cp:lastModifiedBy>Анатолий</cp:lastModifiedBy>
  <dcterms:modified xsi:type="dcterms:W3CDTF">2015-10-16T20:28:20Z</dcterms:modified>
  <cp:revision>124</cp:revision>
  <dc:subject/>
  <dc:title>БАНКЕТ-ЧАЙ</dc:title>
</cp:coreProperties>
</file>