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D57-B279-4ABB-B452-8A59DBCB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E61-11F8-45CD-B61C-3B71455D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98E-0315-4032-BBCC-53E1172C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01B-BC43-4F6F-8071-0BD70351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7492-4883-4CDF-BB3C-3AB8928F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F748-203A-4B22-B403-C6E78BA2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2A1D-F4AF-436E-9FBF-E7ECC3E4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0DED-84EF-4931-882F-7F4C6A55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875D-9469-408E-A715-C44BDE2F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B9B1-D21C-47FB-AB59-511E3B05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F119-B909-4F5D-87C6-DF7B682C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782-D796-41D1-B00A-DF5C7B8A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B791-B9E6-423D-B7EA-870DDBF5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3EC9-47D2-4CD9-A717-47FAB45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CA7D-0B29-4205-8E2A-1A80DE43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B606-C191-4013-96B4-9FC94CE8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CB3-A58B-4A6C-9818-40E9C16D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43F-0DDA-45BA-A2F5-0E9B5B6B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C0D-BB6D-47F8-B57A-B44B7530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F63-6A1D-4A45-867B-50EB458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2C8-4B79-4919-9F18-EB0B9083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E97-455B-4D69-8A94-14187063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33C-BC27-41DD-8E52-9042FD0C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EDB-A9A4-40FB-AAC3-062E49D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04DD-B9A7-48FF-B78A-89B75C876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763-52EF-4CBF-B237-C3E9292D2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425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Муниципальное общеобразовательное учреждение                                                       «Средняя общеобразовательная школа № 7   </a:t>
            </a:r>
            <a:br>
              <a:rPr sz="14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                   с углубленным изучением технологии»                                                               </a:t>
            </a:r>
            <a:br>
              <a:rPr sz="1400"/>
            </a:b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        села Калиновского Александровского района Ставропольского края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опыта работы по т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рганизация социально значимой деятельности с детьми «группы рис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орисенко В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Формы совместной работы социального педагога и классного руководител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мен информацией о подростке, его проблемах, здоровье, интересах, условиях семейного воспит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ая работа по планированию воспитательной работы с детьми и роди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ые консультации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казание помощи семье, использование её воспитательного потенци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местное проведение родительских собр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лечение подростка в дела класса, шко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ещения на д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едагогические консультации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в работе с неблагополучными семья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ощрения и наказания в сем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ьский авторит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семьи в предупреждении неуспеваем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аганда ЗО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итие навыков гигиены де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в комнате уголка для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контроля за учёбой и внешкольного пребывания подро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ессиональная ориент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Алгоритм работы социального педагога с неблагополучной семьёй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семьи, их проблем, изучение жалоб сосед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ичное обследование жилищных условий неблагополучной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комство с членами семьи,  её окружением, беседа с детьми, оценка их условий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причин неблагополучия семьи, её особенностей, её ц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личностных особенностей членов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е карты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ординационная деятельность со всеми заинтересованными организациями (школа, КДН, ОДН ОВД,  сельская администрация, УТиСЗН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е программы работы с неблагополучной семьё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ущие и контрольные посещения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ы о результатах работы с неблагополучной семьё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Методика контактного взаимодействия с родителя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конта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общей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 общих требований к воспитанию ребё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очение сотрудничества в дост ижении общей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я индивидуального подх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педагогического сотрудни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Результативность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9280" y="1700280"/>
          <a:ext cx="8425080" cy="4676760"/>
        </p:xfrm>
        <a:graphic>
          <a:graphicData uri="http://schemas.openxmlformats.org/drawingml/2006/table">
            <a:tbl>
              <a:tblPr/>
              <a:tblGrid>
                <a:gridCol w="647640"/>
                <a:gridCol w="649440"/>
                <a:gridCol w="647640"/>
                <a:gridCol w="647640"/>
                <a:gridCol w="648000"/>
                <a:gridCol w="647640"/>
                <a:gridCol w="649080"/>
                <a:gridCol w="647640"/>
                <a:gridCol w="648000"/>
                <a:gridCol w="647640"/>
                <a:gridCol w="720720"/>
                <a:gridCol w="576360"/>
                <a:gridCol w="64764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ингент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жден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уск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 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ят на учё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ято с учё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Д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Д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ц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75112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01080" y="341784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должать работу по организации социально значимой деятельности среди детей, родител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щищать интересы детей, способствовать предупреждению и преодолению негативных явлений в их сред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пагандировать ЗОЖ. Выявлять интересы и потребности учащихся, родителей, членов их семей в различных видах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должать работу по профилактике правонаруш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существлять непрерывную социальную деятельность по семейной терапии в неблагополучных, многодетных, опекаемых семья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ализацию задач личностного развития и зашиты детей осуществлять в содружестве с педагогами, внешкольными и социальными учреждени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казывать методическую помощь классным руководителям по работе с семьёй, с трудновоспитуем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480" y="476280"/>
            <a:ext cx="77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Цели: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1. Формирование личностных нравственных качеств подростков.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2. Защита ребёнка в его жизненном пространств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хема взаимодействия социальног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едагога по организации учебно – воспитательной работы с подростк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820908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645000"/>
            <a:ext cx="216072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4000" y="2349360"/>
            <a:ext cx="1655640" cy="5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276640"/>
            <a:ext cx="194472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349360"/>
            <a:ext cx="1584360" cy="5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3716280"/>
            <a:ext cx="156204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за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3789360"/>
            <a:ext cx="149040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Д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5516640"/>
            <a:ext cx="1584360" cy="620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ль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блиот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5516640"/>
            <a:ext cx="172872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ЮС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5516640"/>
            <a:ext cx="14904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Н ОВ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19" idx="2"/>
          </p:cNvCxnSpPr>
          <p:nvPr/>
        </p:nvCxnSpPr>
        <p:spPr>
          <a:xfrm flipV="1">
            <a:off x="4356000" y="2923920"/>
            <a:ext cx="37440" cy="79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8" idx="7"/>
            <a:endCxn id="218" idx="7"/>
          </p:cNvCxnSpPr>
          <p:nvPr/>
        </p:nvCxnSpPr>
        <p:spPr>
          <a:xfrm>
            <a:off x="5192280" y="38127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/>
          <p:nvPr/>
        </p:nvCxnSpPr>
        <p:spPr>
          <a:xfrm flipH="1">
            <a:off x="1618920" y="4581000"/>
            <a:ext cx="2153520" cy="926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8" idx="7"/>
            <a:endCxn id="220" idx="1"/>
          </p:cNvCxnSpPr>
          <p:nvPr/>
        </p:nvCxnSpPr>
        <p:spPr>
          <a:xfrm flipV="1">
            <a:off x="5192280" y="2673000"/>
            <a:ext cx="1467720" cy="1140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8" idx="2"/>
            <a:endCxn id="222" idx="3"/>
          </p:cNvCxnSpPr>
          <p:nvPr/>
        </p:nvCxnSpPr>
        <p:spPr>
          <a:xfrm flipH="1" flipV="1">
            <a:off x="2461320" y="4041360"/>
            <a:ext cx="886680" cy="18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6732720" y="2482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льская админист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18" idx="1"/>
            <a:endCxn id="221" idx="3"/>
          </p:cNvCxnSpPr>
          <p:nvPr/>
        </p:nvCxnSpPr>
        <p:spPr>
          <a:xfrm flipH="1" flipV="1">
            <a:off x="2555640" y="2636280"/>
            <a:ext cx="1108800" cy="117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8" idx="4"/>
            <a:endCxn id="225" idx="0"/>
          </p:cNvCxnSpPr>
          <p:nvPr/>
        </p:nvCxnSpPr>
        <p:spPr>
          <a:xfrm>
            <a:off x="4428720" y="4797360"/>
            <a:ext cx="10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18" idx="5"/>
            <a:endCxn id="226" idx="0"/>
          </p:cNvCxnSpPr>
          <p:nvPr/>
        </p:nvCxnSpPr>
        <p:spPr>
          <a:xfrm>
            <a:off x="5192640" y="4628880"/>
            <a:ext cx="2286720" cy="888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благополучие подрос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заимоотношениях с взросл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заимоотношениях со сверстник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дении свобод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отношении к труду и профессиональной ори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Формы работы социального педагога по выявлению учащихся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«группы риска»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 классным руководителем, психологом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кетирование (социометрические исследования, психодиагностика: самооценка, тревож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ения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 родителям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классных журна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ализ посещаемости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семей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еды со школьникам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Факторы «риска»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в 2005 – 2006 учебном году)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благополучие в семье – 87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и социальная обделённость                   -  50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лияние дурной компании, окру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25 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нтролируемые пункты приёма металла и продажа алкоголя частными лицами                               -  38 %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Личное дело трудновоспитуемого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(в нём отражены те личностные особенности, которые требуют индивидуальной работы с целью профилактики отклоняющегося поведения) 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выписка из педсо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характеристика классного руковод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акт обследования материально – бытовых условий семь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журнал успеваем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журнал посещаем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карточка учё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диагностический материал: «Карта – характеристика личности подростка», «Уровень социальной адаптации подрост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«Программа социально – педагогической реабилитаци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ики диагно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ометрия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ля определения положения ребёнка в коллекти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арта интересов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целях профориен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ест Филлипса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определения уровня тревож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просник Басса – Дарки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выявления агрессивности и враждеб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осник для определения типа мыш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ограмма социально  -  педагогической реабилитации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торая отвечает на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нужно устранить (отрицательные факторы семейного , школьного воспитания, негативные особенности лич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это устранить (проанализировать  учёбу, оказать необходимую помощь в ликвидации пробелов. Вовлечь во внеурочную деятельность. Помочь изменить характер отношений со взрослыми, сверстника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у и что нужно сделать (распределение обязанностей, установление сроков, меры контроля)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905120"/>
            <a:ext cx="8450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6:24:21Z</dcterms:created>
  <dc:creator>Boris</dc:creator>
  <dc:description/>
  <dc:language>en-US</dc:language>
  <cp:lastModifiedBy>Boris</cp:lastModifiedBy>
  <dcterms:modified xsi:type="dcterms:W3CDTF">2008-02-15T09:42:50Z</dcterms:modified>
  <cp:revision>41</cp:revision>
  <dc:subject/>
  <dc:title>Муниципальное общеобразовательное учреждение  «Средняя общеобразовательная школа № 7  с углубленным изучением технологии»  села Калиновского Александровского района Ставропольского края   </dc:title>
</cp:coreProperties>
</file>