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6E8-905F-4F8E-95E2-821DA8FB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7FE-39B1-47BE-A928-764892C4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FD1-7839-48E6-936B-ABA0EE57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119-720D-411C-AADB-D3366574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070B-44C6-4607-A302-F68A07D2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B2C6-8DFF-44C4-B841-044D7C77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D30-84F4-4CCF-A9F0-036D540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604A-E8E6-428D-BF11-5BE74C5B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FD3B-C721-49F0-BC2A-C750BE2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564A-4837-41D2-8ADE-CCA1374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E87B-5C78-47BA-9F45-8052345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4D9-EACC-4337-A45A-5BA2998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AADB-E976-40A0-965A-4534F228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03FE-FA53-4E4E-87F2-5CC4607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0256-48EA-473A-B034-647416B1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CE28-AD9F-4E19-83B3-079884CB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69C-6807-432D-B346-FEBB64A5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999-F79A-4439-B4D1-684B952A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571-058C-4F28-9F8D-B70230B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B15-AD37-41CA-8463-5F66F136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432-D7F2-4E1D-BAFE-A1732512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AA3-E3AF-45DC-9E2A-794A41D9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83E-EDF9-473E-9F0A-676EBB2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D09-DB03-4433-8867-D50A1581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C3FF-C060-467C-A93E-1ABD405F8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601-7FE7-4802-B68F-2BB7B9D55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425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Муниципальное общеобразовательное учреждение                                                       «Средняя общеобразовательная школа № 7   </a:t>
            </a:r>
            <a:br>
              <a:rPr sz="14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                   с углубленным изучением технологии»                                                               </a:t>
            </a:r>
            <a:br>
              <a:rPr sz="14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        села Калиновского Александровского района Ставропольского края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опыта работы по т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рганизация социально значимой деятельности с детьми «группы рис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орисенко В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Формы совместной работы социального педагога и классного руководител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мен информацией о подростке, его проблемах, здоровье, интересах, условиях семейного воспит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ая работа по планированию воспитательной работы с детьми и роди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ые консультации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казание помощи семье, использование её воспитательного потенци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ое проведение родительских собр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лечение подростка в дела класса, шко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ещения на д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едагогические консультации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в работе с неблагополучными семья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ощрения и наказания в сем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ьский авторит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семьи в предупреждении неуспеваем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аганда ЗО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итие навыков гигиены де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в комнате уголка для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контроля за учёбой и внешкольного пребывания подро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ессиональная ориент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Алгоритм работы социального педагога с неблагополучной семьёй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семьи, их проблем, изучение жалоб сосед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ичное обследование жилищных условий неблагополучной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комство с членами семьи,  её окружением, беседа с детьми, оценка их условий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причин неблагополучия семьи, её особенностей, её ц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личностных особенностей членов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е карты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ординационная деятельность со всеми заинтересованными организациями (школа, КДН, ОДН ОВД,  сельская администрация, УТиСЗН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е программы работы с неблагополучной семьё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ущие и контрольные посещения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ы о результатах работы с неблагополучной семьё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Методика контактного взаимодействия с родителя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конта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общей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 общих требований к воспитанию ребё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очение сотрудничества в дост ижении общей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я индивидуального подх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педагогического сотрудни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Результативность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9280" y="1700280"/>
          <a:ext cx="8425080" cy="4676760"/>
        </p:xfrm>
        <a:graphic>
          <a:graphicData uri="http://schemas.openxmlformats.org/drawingml/2006/table">
            <a:tbl>
              <a:tblPr/>
              <a:tblGrid>
                <a:gridCol w="647640"/>
                <a:gridCol w="649440"/>
                <a:gridCol w="647640"/>
                <a:gridCol w="647640"/>
                <a:gridCol w="648000"/>
                <a:gridCol w="647640"/>
                <a:gridCol w="649080"/>
                <a:gridCol w="647640"/>
                <a:gridCol w="648000"/>
                <a:gridCol w="647640"/>
                <a:gridCol w="720720"/>
                <a:gridCol w="576360"/>
                <a:gridCol w="64764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ингент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жден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уск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 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ят на учё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ято с учё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Д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ц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75112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01080" y="341784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должать работу по организации социально значимой деятельности среди детей, родител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щищать интересы детей, способствовать предупреждению и преодолению негативных явлений в их сред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пагандировать ЗОЖ. Выявлять интересы и потребности учащихся, родителей, членов их семей в различных видах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должать работу по профилактике правонаруш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существлять непрерывную социальную деятельность по семейной терапии в неблагополучных, многодетных, опекаемых семья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ализацию задач личностного развития и зашиты детей осуществлять в содружестве с педагогами, внешкольными и социальными учреждени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казывать методическую помощь классным руководителям по работе с семьёй, с трудновоспитуем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480" y="476280"/>
            <a:ext cx="77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Цели: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1. Формирование личностных нравственных качеств подростков.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2. Защита ребёнка в его жизненном пространств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хема взаимодействия социальног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едагога по организации учебно – воспитательной работы с подростк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820908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645000"/>
            <a:ext cx="216072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4000" y="2349360"/>
            <a:ext cx="1655640" cy="5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276640"/>
            <a:ext cx="194472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349360"/>
            <a:ext cx="1584360" cy="5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3716280"/>
            <a:ext cx="156204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за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3789360"/>
            <a:ext cx="149040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Д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5516640"/>
            <a:ext cx="1584360" cy="620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ль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блиот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5516640"/>
            <a:ext cx="172872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ЮС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5516640"/>
            <a:ext cx="14904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Н ОВ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19" idx="2"/>
          </p:cNvCxnSpPr>
          <p:nvPr/>
        </p:nvCxnSpPr>
        <p:spPr>
          <a:xfrm flipV="1">
            <a:off x="4356000" y="2923920"/>
            <a:ext cx="37440" cy="79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8" idx="7"/>
            <a:endCxn id="218" idx="7"/>
          </p:cNvCxnSpPr>
          <p:nvPr/>
        </p:nvCxnSpPr>
        <p:spPr>
          <a:xfrm>
            <a:off x="5192280" y="38127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/>
          <p:nvPr/>
        </p:nvCxnSpPr>
        <p:spPr>
          <a:xfrm flipH="1">
            <a:off x="1618920" y="4581000"/>
            <a:ext cx="2153520" cy="926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8" idx="7"/>
            <a:endCxn id="220" idx="1"/>
          </p:cNvCxnSpPr>
          <p:nvPr/>
        </p:nvCxnSpPr>
        <p:spPr>
          <a:xfrm flipV="1">
            <a:off x="5192280" y="2673000"/>
            <a:ext cx="1467720" cy="1140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8" idx="2"/>
            <a:endCxn id="222" idx="3"/>
          </p:cNvCxnSpPr>
          <p:nvPr/>
        </p:nvCxnSpPr>
        <p:spPr>
          <a:xfrm flipH="1" flipV="1">
            <a:off x="2461320" y="4041360"/>
            <a:ext cx="886680" cy="18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6732720" y="2482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льская админист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18" idx="1"/>
            <a:endCxn id="221" idx="3"/>
          </p:cNvCxnSpPr>
          <p:nvPr/>
        </p:nvCxnSpPr>
        <p:spPr>
          <a:xfrm flipH="1" flipV="1">
            <a:off x="2555640" y="2636280"/>
            <a:ext cx="1108800" cy="117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8" idx="4"/>
            <a:endCxn id="225" idx="0"/>
          </p:cNvCxnSpPr>
          <p:nvPr/>
        </p:nvCxnSpPr>
        <p:spPr>
          <a:xfrm>
            <a:off x="4428720" y="4797360"/>
            <a:ext cx="10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18" idx="5"/>
            <a:endCxn id="226" idx="0"/>
          </p:cNvCxnSpPr>
          <p:nvPr/>
        </p:nvCxnSpPr>
        <p:spPr>
          <a:xfrm>
            <a:off x="5192640" y="4628880"/>
            <a:ext cx="2286720" cy="888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благополучие подрос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заимоотношениях с взросл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заимоотношениях со сверстник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дении свобод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отношении к труду и профессиональной ори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Формы работы социального педагога по выявлению учащихся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«группы риска»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 классным руководителем, психологом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кетирование (социометрические исследования, психодиагностика: самооценка, тревож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ения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 родителям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классных журна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посещаемости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семей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о школьникам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Факторы «риска»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в 2005 – 2006 учебном году)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благополучие в семье – 87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и социальная обделённость                   -  50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лияние дурной компании, окру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25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нтролируемые пункты приёма металла и продажа алкоголя частными лицами                               -  38 %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Личное дело трудновоспитуемого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(в нём отражены те личностные особенности, которые требуют индивидуальной работы с целью профилактики отклоняющегося поведения) 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выписка из педсо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характеристика классного руковод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акт обследования материально – бытовых условий семь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журнал успеваем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журнал посещаем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карточка учё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диагностический материал: «Карта – характеристика личности подростка», «Уровень социальной адаптации подрост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«Программа социально – педагогической реабилитаци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ики диагно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ометрия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ля определения положения ребёнка в коллекти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рта интересов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целях профориен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ест Филлипса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определения уровня тревож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просник Басса – Дарки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выявления агрессивности и враждеб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осник для определения типа мыш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ограмма социально  -  педагогической реабилитации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торая отвечает на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нужно устранить (отрицательные факторы семейного , школьного воспитания, негативные особенности лич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это устранить (проанализировать  учёбу, оказать необходимую помощь в ликвидации пробелов. Вовлечь во внеурочную деятельность. Помочь изменить характер отношений со взрослыми, сверстника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у и что нужно сделать (распределение обязанностей, установление сроков, меры контроля)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905120"/>
            <a:ext cx="8450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6:24:21Z</dcterms:created>
  <dc:creator>Boris</dc:creator>
  <dc:description/>
  <dc:language>en-US</dc:language>
  <cp:lastModifiedBy>Boris</cp:lastModifiedBy>
  <dcterms:modified xsi:type="dcterms:W3CDTF">2008-02-15T09:42:50Z</dcterms:modified>
  <cp:revision>41</cp:revision>
  <dc:subject/>
  <dc:title>Муниципальное общеобразовательное учреждение  «Средняя общеобразовательная школа № 7  с углубленным изучением технологии»  села Калиновского Александровского района Ставропольского края   </dc:title>
</cp:coreProperties>
</file>