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F78-3D43-4888-8025-3A6C7F71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0A3-1AEF-43C3-B6D3-71D6F7E2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926-749E-43F8-B3AE-34A0F6F8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71F-4ED1-4561-86FA-BCFF4DEB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7F90-C87C-43D2-830D-8870A248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B395-89C8-4612-AD9A-7BC3A29B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A0BB-8542-44F0-950E-7CC101DC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88C5-2B69-4E0C-BEF6-F0F0082D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6649-2ABF-4379-8916-D3A5A02D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12D4-47A1-4265-AB10-017C70DA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FC4E-DA83-4F49-AD27-C7AD122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22E-9053-4C9B-96C5-CF161B13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D9E3-9FFE-4FD0-8164-46B05EF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6C7C-9745-4320-AD03-2481E645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1405-A36F-4F8E-87F8-B1D4F6AC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B144-B09A-420C-A9CC-A7F67ECB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2F04-4C41-4652-B684-2B1577D5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9D0-8899-43D0-BC6B-1C0E6F88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541-26BA-4EF1-B055-EB6960A5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CB6-4B2D-4BD2-8714-FBBB26FE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C74-F434-46DE-916A-70A0BF02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1A8-AD08-48F0-A2D4-CE5A02F4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DC8-273C-4FDE-95E9-999CAC3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DE2-B79B-4B1A-8EA7-4B4ACCB6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4387-06FD-40EE-8B2A-2411A43E7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AE2E-1722-4D82-8C36-F86395AB4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425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Муниципальное общеобразовательное учреждение                                                       «Средняя общеобразовательная школа № 7   </a:t>
            </a:r>
            <a:br>
              <a:rPr sz="1400"/>
            </a:b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                    с углубленным изучением технологии»                                                               </a:t>
            </a:r>
            <a:br>
              <a:rPr sz="1400"/>
            </a:b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         села Калиновского Александровского района Ставропольского края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 опыта работы по тем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Организация социально значимой деятельности с детьми «группы рис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орисенко В.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Формы совместной работы социального педагога и классного руководител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мен информацией о подростке, его проблемах, здоровье, интересах, условиях семейного воспит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местная работа по планированию воспитательной работы с детьми и родител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местные консультации уча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казание помощи семье, использование её воспитательного потенци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местное проведение родительских собр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влечение подростка в дела класса, шко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ещения на д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едагогические консультации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в работе с неблагополучными семья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ощрения и наказания в семь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дительский авторит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семьи в предупреждении неуспеваем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паганда ЗО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итие навыков гигиены де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изация в комнате уголка для зан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изация контроля за учёбой и внешкольного пребывания подро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ессиональная ориент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Алгоритм работы социального педагога с неблагополучной семьёй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семьи, их проблем, изучение жалоб сосед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ичное обследование жилищных условий неблагополучной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комство с членами семьи,  её окружением, беседа с детьми, оценка их условий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причин неблагополучия семьи, её особенностей, её ц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личностных особенностей членов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е карты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ординационная деятельность со всеми заинтересованными организациями (школа, КДН, ОДН ОВД,  сельская администрация, УТиСЗН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е программы работы с неблагополучной семьё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ущие и контрольные посещения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ы о результатах работы с неблагополучной семьё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Методика контактного взаимодействия с родителя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конта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общей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ление общих требований к воспитанию ребё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очение сотрудничества в дост ижении общей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я индивидуального подхо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ершенствование педагогического сотрудни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Результативность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79280" y="1700280"/>
          <a:ext cx="8425080" cy="4676760"/>
        </p:xfrm>
        <a:graphic>
          <a:graphicData uri="http://schemas.openxmlformats.org/drawingml/2006/table">
            <a:tbl>
              <a:tblPr/>
              <a:tblGrid>
                <a:gridCol w="647640"/>
                <a:gridCol w="649440"/>
                <a:gridCol w="647640"/>
                <a:gridCol w="647640"/>
                <a:gridCol w="648000"/>
                <a:gridCol w="647640"/>
                <a:gridCol w="649080"/>
                <a:gridCol w="647640"/>
                <a:gridCol w="648000"/>
                <a:gridCol w="647640"/>
                <a:gridCol w="720720"/>
                <a:gridCol w="576360"/>
                <a:gridCol w="64764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ингент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жден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уск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 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олжи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оят на учё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ято с учё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В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Д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Д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В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Д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ц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лед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275112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101080" y="341784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должать работу по организации социально значимой деятельности среди детей, родител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щищать интересы детей, способствовать предупреждению и преодолению негативных явлений в их сред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пагандировать ЗОЖ. Выявлять интересы и потребности учащихся, родителей, членов их семей в различных видах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должать работу по профилактике правонарушен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существлять непрерывную социальную деятельность по семейной терапии в неблагополучных, многодетных, опекаемых семьях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ализацию задач личностного развития и зашиты детей осуществлять в содружестве с педагогами, внешкольными и социальными учреждения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казывать методическую помощь классным руководителям по работе с семьёй, с трудновоспитуемы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480" y="476280"/>
            <a:ext cx="77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Цели: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1. Формирование личностных нравственных качеств подростков.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2. Защита ребёнка в его жизненном пространств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хема взаимодействия социального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едагога по организации учебно – воспитательной работы с подросткам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820908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3645000"/>
            <a:ext cx="2160720" cy="115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ци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4000" y="2349360"/>
            <a:ext cx="1655640" cy="5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276640"/>
            <a:ext cx="194472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2349360"/>
            <a:ext cx="1584360" cy="5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3716280"/>
            <a:ext cx="156204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за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3789360"/>
            <a:ext cx="149040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Д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5516640"/>
            <a:ext cx="1584360" cy="620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ль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иблиот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5516640"/>
            <a:ext cx="172872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ЮС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32720" y="5516640"/>
            <a:ext cx="149040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Н ОВ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19" idx="2"/>
          </p:cNvCxnSpPr>
          <p:nvPr/>
        </p:nvCxnSpPr>
        <p:spPr>
          <a:xfrm flipV="1">
            <a:off x="4356000" y="2923920"/>
            <a:ext cx="37440" cy="79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8" idx="7"/>
            <a:endCxn id="218" idx="7"/>
          </p:cNvCxnSpPr>
          <p:nvPr/>
        </p:nvCxnSpPr>
        <p:spPr>
          <a:xfrm>
            <a:off x="5192280" y="38127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9" name=""/>
          <p:cNvCxnSpPr/>
          <p:nvPr/>
        </p:nvCxnSpPr>
        <p:spPr>
          <a:xfrm flipH="1">
            <a:off x="1618920" y="4581000"/>
            <a:ext cx="2153520" cy="926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8" idx="7"/>
            <a:endCxn id="220" idx="1"/>
          </p:cNvCxnSpPr>
          <p:nvPr/>
        </p:nvCxnSpPr>
        <p:spPr>
          <a:xfrm flipV="1">
            <a:off x="5192280" y="2673000"/>
            <a:ext cx="1467720" cy="1140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8" idx="2"/>
            <a:endCxn id="222" idx="3"/>
          </p:cNvCxnSpPr>
          <p:nvPr/>
        </p:nvCxnSpPr>
        <p:spPr>
          <a:xfrm flipH="1" flipV="1">
            <a:off x="2461320" y="4041360"/>
            <a:ext cx="886680" cy="18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6732720" y="24829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льская админист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18" idx="1"/>
            <a:endCxn id="221" idx="3"/>
          </p:cNvCxnSpPr>
          <p:nvPr/>
        </p:nvCxnSpPr>
        <p:spPr>
          <a:xfrm flipH="1" flipV="1">
            <a:off x="2555640" y="2636280"/>
            <a:ext cx="1108800" cy="117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18" idx="4"/>
            <a:endCxn id="225" idx="0"/>
          </p:cNvCxnSpPr>
          <p:nvPr/>
        </p:nvCxnSpPr>
        <p:spPr>
          <a:xfrm>
            <a:off x="4428720" y="4797360"/>
            <a:ext cx="10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18" idx="5"/>
            <a:endCxn id="226" idx="0"/>
          </p:cNvCxnSpPr>
          <p:nvPr/>
        </p:nvCxnSpPr>
        <p:spPr>
          <a:xfrm>
            <a:off x="5192640" y="4628880"/>
            <a:ext cx="2286720" cy="888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благополучие подрос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учебной деят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 взаимоотношениях с взросл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 взаимоотношениях со сверстник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дении свободного време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отношении к труду и профессиональной ориен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Формы работы социального педагога по выявлению учащихся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«группы риска»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седы с классным руководителем, психологом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кетирование (социометрические исследования, психодиагностика: самооценка, тревожнос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блюдения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седы с родителям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 классных журна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 посещаемости зан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ференциация семей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седы со школьникам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Факторы «риска»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в 2005 – 2006 учебном году)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благополучие в семье – 87 %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номическая и социальная обделённость                   -  50 %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лияние дурной компании, окру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25 %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контролируемые пункты приёма металла и продажа алкоголя частными лицами                               -  38 %.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Личное дело трудновоспитуемого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(в нём отражены те личностные особенности, которые требуют индивидуальной работы с целью профилактики отклоняющегося поведения) :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выписка из педсов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характеристика классного руковод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акт обследования материально – бытовых условий семь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журнал успеваем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журнал посещаем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карточка учё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диагностический материал: «Карта – характеристика личности подростка», «Уровень социальной адаптации подростк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«Программа социально – педагогической реабилитаци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ики диагност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ометрия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ля определения положения ребёнка в коллекти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арта интересов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целях профориент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ест Филлипса»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ля определения уровня тревож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просник Басса – Дарки»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ля выявления агрессивности и враждеб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осник для определения типа мыш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рограмма социально  -  педагогической реабилитации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торая отвечает на вопро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нужно устранить (отрицательные факторы семейного , школьного воспитания, негативные особенности лич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 это устранить (проанализировать  учёбу, оказать необходимую помощь в ликвидации пробелов. Вовлечь во внеурочную деятельность. Помочь изменить характер отношений со взрослыми, сверстника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у и что нужно сделать (распределение обязанностей, установление сроков, меры контроля)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905120"/>
            <a:ext cx="8450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6:24:21Z</dcterms:created>
  <dc:creator>Boris</dc:creator>
  <dc:description/>
  <dc:language>en-US</dc:language>
  <cp:lastModifiedBy>Boris</cp:lastModifiedBy>
  <dcterms:modified xsi:type="dcterms:W3CDTF">2008-02-15T09:42:50Z</dcterms:modified>
  <cp:revision>41</cp:revision>
  <dc:subject/>
  <dc:title>Муниципальное общеобразовательное учреждение  «Средняя общеобразовательная школа № 7  с углубленным изучением технологии»  села Калиновского Александровского района Ставропольского края   </dc:title>
</cp:coreProperties>
</file>