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78F-4125-4226-AFFD-E1D7AB5B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04D-4A57-4C27-BE61-618E983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F68-9F63-4DF3-974F-9B94FFB9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5FB-D7B3-47EF-9ADB-1FAD58E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23B-8EBB-4D11-8923-6383BCE7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6F2-3FD6-451B-ADB3-044B06E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175-E941-4F4B-A62B-839DB51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A968-BA33-4C69-B255-9A4FB70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B94A-454C-41C1-8156-81DE054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AEA-4316-41C0-AAE2-03B609F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49A-F792-49FA-8A20-8764D81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A4A-37A1-4EB3-9978-D92B7964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BA5-FD52-45B2-9E98-0008FEA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2A08-8EAA-473F-99AA-BC4E5B7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CCB-F721-4040-A2FF-F35894F0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B9E7-5A86-462C-9B4D-746AD659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676F-84D1-44E0-BBE6-AB3D3C50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CF6-7175-446A-9C7F-55DC918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95A-DDE2-4732-986D-987CB95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93C-0AD5-47FB-ABCC-387AA86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20E-7132-4FCD-9173-ECAD997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9B0-F472-4A2E-860D-770A03E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859-6CAE-45B8-A4D6-16F708E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890-EE94-4F14-B635-60BDECC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466C-6B62-4BEF-8997-CD4CBA524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8FD2-9CC2-4380-AA7F-575FDD43F4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 ур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«Обыкновенные дроб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евиз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матика, друзь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о всем нуж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е работай старатель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успех тебя ждёт обязатель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т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торические с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Установите, истинны или ложны следующие утвержд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итель правильной дроби больше её знамена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юбое натуральное число, то дроб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+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неправиль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ая дробь расположена на координатном луче левее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6/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ень уравнения 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=1 равен 2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/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является смешанным чис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7=35/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 отве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ВАБА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ББВАБ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Графический диктан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да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«нет»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^ 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 _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актическая рабо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числите (8-4 3/11)+2 8/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Решите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2 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13)-4 7/13=1 6/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Решите задач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сник прошёл 3 км и 4 часа ехал на лошади. С какой скоростью он ехал на лошади, если весь путь равен 34 к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дведение итогов уро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идеть дробную 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 чертой- ……… , знайте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 чертою- …………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обь такую непремен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до звать ………….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4:40:57Z</dcterms:created>
  <dc:creator>User</dc:creator>
  <dc:description/>
  <dc:language>en-US</dc:language>
  <cp:lastModifiedBy>User</cp:lastModifiedBy>
  <dcterms:modified xsi:type="dcterms:W3CDTF">2012-12-09T17:02:45Z</dcterms:modified>
  <cp:revision>9</cp:revision>
  <dc:subject/>
  <dc:title>Тема урока «Обыкновенные дроби»</dc:title>
</cp:coreProperties>
</file>