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D3E-BFEE-46E8-AF89-E136BC10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FC1-A96D-4831-BED0-3644390C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C411-F180-4E89-AD44-16756415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8CE-A180-4D48-ABE3-95CB2CCA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4970-C159-412D-8425-87196535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5FED-DC36-4301-B787-BA7CCC38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513A-261D-443E-9978-4A27218B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B239-6212-4C70-BAA0-6CFAEE91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466A-2CC1-4DD3-9F21-7C0A9DB0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E618-EF2E-47C8-AABD-60C854E0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FCCB-82FC-4675-9BF7-387E516E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5F0-02E8-4A4A-A8E9-96060B84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1700-B529-4065-902B-32F0AB22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1467-43BC-475A-99A1-F4329DD7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7ABE-F346-4607-90CC-4AC52B7B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9A02-67CC-4A72-A798-07BD2081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61D4-B9BE-4BC8-912A-92C412EA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1BD-438C-4053-85A0-8A944671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E42-FCA5-463B-AB7C-263E0983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D752-D3A5-44B1-AD80-472835A6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12D-8DFF-4FC7-9D4E-A9A2657E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FB0-C5DB-4A9E-BFA1-61BFCFE9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DD2-A8D2-4E1B-88BE-41A69D1F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127-2B1D-4F38-9356-4D2F6F94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1004-6E29-43D7-81D7-C55F987FE1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62A6-9D58-49FF-83E9-C31AC13309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 уро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«Обыкновенные дроби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евиз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матика, друзь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бсолютно всем нуж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уроке работай старательн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успех тебя ждёт обязатель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рганизационный моме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стная раб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рафический дикта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сторические све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актическая раб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амостоятельная раб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тог уро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Установите, истинны или ложны следующие утверждения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литель правильной дроби больше её знаменател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любое натуральное число, то дроб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+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неправильн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ьная дробь расположена на координатном луче левее 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6/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рень уравнения 3 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8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=1 равен 2 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8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4/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является смешанным числ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7=35/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Тес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юч отве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риант 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ВВАБА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риант 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ББВАБ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Графический диктан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да»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«нет»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юч: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 ^ ^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_ _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рактическая работ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Вычислите (8-4 3/11)+2 8/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Решите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+2 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13)-4 7/13=1 6/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 Решите задач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сник прошёл 3 км и 4 часа ехал на лошади. С какой скоростью он ехал на лошади, если весь путь равен 34 к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одведение итогов урок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аждый может за верс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идеть дробную ………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д чертой- ……… , знайте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д чертою- …………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робь такую непремен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до звать …………..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14:40:57Z</dcterms:created>
  <dc:creator>User</dc:creator>
  <dc:description/>
  <dc:language>en-US</dc:language>
  <cp:lastModifiedBy>User</cp:lastModifiedBy>
  <dcterms:modified xsi:type="dcterms:W3CDTF">2012-12-09T17:02:45Z</dcterms:modified>
  <cp:revision>9</cp:revision>
  <dc:subject/>
  <dc:title>Тема урока «Обыкновенные дроби»</dc:title>
</cp:coreProperties>
</file>