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E80-1B2A-4229-9C9E-DB3E3B07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415-4976-4525-9E16-4A6ADF15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41C-844E-48BF-A964-B2A07F48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416-0DCE-41B4-A6ED-9342C333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E90E-B5C1-46D9-A3DC-588DB8F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A37E-30D6-4241-A9BC-BE0597EE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AF55-002E-4022-9F89-A1C7551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0C2-9B68-4F46-9B42-996A3F8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170-7407-4EFF-9616-7633B1D7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3DEA-0500-410E-B0B9-6BCF3E83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A2E7-40D3-47C6-9CA4-09329B0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B79-E133-4C3F-8CF7-184D9F8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B35A-FC9F-42BC-8ACA-0D24D0E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E802-5D56-4A66-9B5A-AE208ED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F6E0-220B-443A-8A64-D2BEB46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D4CE-B41C-4022-A37E-D4D5CA83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EE11-75AC-459F-948C-DA194792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7B4-5B33-4939-8925-583676E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3CE-0D5C-4AEA-B309-1496583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2F1-3682-4AA8-A86A-1AAA27D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7E1-6211-4D60-86F5-5289388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AE4-FDF1-4FC2-B703-5A286B0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3B8-0387-42C8-A601-39126BA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C27-E889-4643-9219-6B1F67CA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24F-8ECD-4BCB-82DF-F3680B3E9A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631-67B6-4D56-9031-F35A511A6B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 ур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«Обыкновенные дроб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евиз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матика, друзь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о всем нуж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е работай старатель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успех тебя ждёт обязатель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стн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афический дикта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торические с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Установите, истинны или ложны следующие утверждения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итель правильной дроби больше её знамена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любое натуральное число, то дроб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+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неправильн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ая дробь расположена на координатном луче левее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6/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ень уравнения 3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8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=1 равен 2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/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является смешанным чис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7=35/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 отве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ВВАБА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ББВАБ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Графический диктан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да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«нет»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: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^ ^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 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актическая рабо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числите (8-4 3/11)+2 8/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Решите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2 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13)-4 7/13=1 6/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Решите задач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сник прошёл 3 км и 4 часа ехал на лошади. С какой скоростью он ехал на лошади, если весь путь равен 34 к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дведение итогов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ждый может за вер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идеть дробную ………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д чертой- ……… , знайте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 чертою- …………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робь такую непремен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до звать ………….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4:40:57Z</dcterms:created>
  <dc:creator>User</dc:creator>
  <dc:description/>
  <dc:language>en-US</dc:language>
  <cp:lastModifiedBy>User</cp:lastModifiedBy>
  <dcterms:modified xsi:type="dcterms:W3CDTF">2012-12-09T17:02:45Z</dcterms:modified>
  <cp:revision>9</cp:revision>
  <dc:subject/>
  <dc:title>Тема урока «Обыкновенные дроби»</dc:title>
</cp:coreProperties>
</file>