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FF8-E8F7-426F-A126-B2EBD6F0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164-876A-4AAC-A9BB-62890927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CDB-395D-4843-A99F-04931B9E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210-F59F-4E44-8719-12B32964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8A1A-839B-4973-ADAC-F96113F7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72C-2918-41E9-923F-F93C9357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379-254A-4454-BA4E-87E2CD43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CA7-FA8B-4B5F-9332-E8DC6986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064-AEE0-4E6E-8C25-A940F955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158F-0C64-4754-BCA3-8FB9F906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D82-FBC7-48BC-80FE-84AC0963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737-96F2-4C03-B928-B7585588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9F37-5776-42D5-89A7-27DF45A06F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cc"/>
                </a:solidFill>
                <a:latin typeface="Tahoma"/>
              </a:rPr>
              <a:t>Нестандартные олимпиадные задания  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560" y="5214960"/>
            <a:ext cx="52578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Учитель русского языка и литерату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МАОУ «СОШ №56 УИМ» г.Магнитогорс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Галина Г.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1 Задания, предполагающие воспроизведение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знаний и демонстрацию навыков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480" y="1500120"/>
            <a:ext cx="864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ния тестового характера могут проверять знание трудных случаев орфографии и пунктуации, владение орфоэпическими и грамматическими нормами, навыки морфемного и синтаксического разбо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бери проверочные слова к каждой пропущенной безударной глас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 р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ильно расставь уда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йди корень в слов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читай предложение, найди оши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йди лишнее сло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2 Задания, требующие письменного развернутого ответа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1214280"/>
            <a:ext cx="84009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ный ответ на вопрос такого задания предполагает знание правил, их комментарий и умение соединить их в рамках законченного письменного высказы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те значения слов: очи, ланиты, брег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ое слово является лишним в следующем ряду. Аргументируйте свою точку з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должите ряд слов. Объясните свое реш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асота – уродство,  любовь, страх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йди синонимы или антони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ределите слова на две группы: вода, водитель, водичка, жидкость, шофёр, таксист, кипят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какому признаку производили делени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3 Творческие задания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480" y="1071720"/>
            <a:ext cx="871524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ния, требующие знаний в разных областях русского языка, умения  сопоставлять и  систематизировать, создавать тексты различных сти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кройте смысл выражений. Составьте небольшой текст, используя эти выра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ишите текст-рассуждение художественного стиля на заданную тем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ьте и запишите рассказ по его нача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кажите, какими языковыми средствами пользуется автор, назовите их и приведите примеры из текс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ясните смысл пословицы. Составьте небольшой рассказ, который можно было бы закончить данной пословиц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4 «Перевод текста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480" y="928800"/>
            <a:ext cx="83725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т вид нестандартных заданий предполагает работу по опознанию и объяснению языковых явлений. Выполняя эти задания, школьники должны заменить указанные учителем языковые единицы синонимичн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нестандартным заданиям этого типа относятс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еревод» иноязычных, профессиональных, устаревших, жаргонных сл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еревод» текстов, написанных на несуществующем языке по типу «глокой куздры»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еревод» текстов, составленных в одном стиле, на «язык» другого стил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еревод» языковых единиц, употребленных заведомо неправильно для создания юмористического эффек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5 «Лингвистические угадайки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840" y="999720"/>
            <a:ext cx="84009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над нестандартными заданиями этого типа также связана с деятельностью учащихся по опознанию языковых явлений, ребята должны либо восстановить "первоисточник" по его признакам, либо "угадать" слово по его описани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нестандартных заданий этой группы можно отметить следующие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гадывание слов по толкованию (в том числе и образному) или по общему признаку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шифровка пословиц, поговорок, фразеологических оборотов по отдельным признакам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гадывание загадок (в том числе и линвистических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гры-задачи «Я задумала слово», «Вопрос – ответ» и друг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6 Терминологические диктанты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840" y="1000080"/>
            <a:ext cx="857232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акой нестандартный эффективный вид лексической работы как терминологический диктант (литературоведческий, исторический, профессиональный) помогает расширить терминологический ресурс уча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ингвистический диктант.  Запишите одним словом словосочетания: Наука о языке. Графическое обозначение звука на письме. Часть слова перед корнем. Определение, выраженное существительны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итературоведческий диктант Запишите одним словом словосочетания: Художественное преувеличение. Строение художественного произведения. Краткое изречение. Литературные воспомин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7 Микроисследова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840" y="999720"/>
            <a:ext cx="8472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ния этого типа предполагают формирование у учащихся исследовательских умений: работать с научно-популярной литературой и справочниками; анализировать языковые единицы; формулировать выводы; составлять текс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иболее типичны следующ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ернутый ответ на вопрос проблемного характера или необычно сформулированный вопро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чинение на лингвистическую тему (в серьезной или занимательной форме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следование вопроса в форме деловой или ролевой игры (инсценировка, сказка, путешествие, детективная история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06:45:33Z</dcterms:created>
  <dc:creator>user</dc:creator>
  <dc:description/>
  <dc:language>en-US</dc:language>
  <cp:lastModifiedBy>Admin</cp:lastModifiedBy>
  <dcterms:modified xsi:type="dcterms:W3CDTF">2012-10-28T21:51:22Z</dcterms:modified>
  <cp:revision>76</cp:revision>
  <dc:subject/>
  <dc:title>ВИДЫ ЗАНИМАТЕЛЬНЫХ УПРАЖНЕНИЙ НА УРОКАХ РУССКОГО ЯЗЫКА</dc:title>
</cp:coreProperties>
</file>