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100-5025-4BAD-8EEF-108D29AA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A60-B171-43F2-AA6A-FB9FED49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50C-B1FE-4C0B-AAF5-7EABB4CB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9BA-3BB2-4DAB-9A0B-F172726E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860-E8E3-45BE-AE58-60FB0FB6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820-DA8C-4820-8E1C-17E6704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E5A6-FE2B-44AC-9767-EA1C7749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22C-DC97-44A8-97D3-3C3BD00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5F7-30EC-48B2-B9CA-395E396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C82-EEC6-41B0-B291-F2020979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7315-0B8F-4FFE-B35E-CBAAF0B3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8E2-A741-48A4-BED7-74261C3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08D1-EA86-4FB3-B3E8-D792B2F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6ADA-E066-4D3D-A2CF-4890AD3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3CE-2B9E-45AA-B333-ACACDB08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6E0E-1145-43DC-9E1D-978547E1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E106-127E-465B-9ECB-4FDECFA8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A3EC-3F14-40AC-81C5-D1079DAE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068B-89C3-4987-82BB-98E4F25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2D1E-E8FF-42A0-B06F-3614709F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867B-7CBC-47DF-B753-645424D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7B57-0A4F-42C5-BFBA-FBF22DF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BFE-C36A-46AD-B76B-CA5CAB0B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F460-14C7-4126-8E9F-1F2ECD4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0827-8008-4071-9154-E2AB072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0B8E-D9B9-4837-9E78-43CA58E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63A3-9B1F-486C-81BA-BFC7989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3DE3-E5C6-43AF-81CA-0468439A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64B2-ADC6-455C-807B-1694BE34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C9A8-CC65-4965-8BA8-2125762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A00A-DB85-4D61-A670-B2640684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C648-2051-40AA-812B-18F05843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F32D-C02F-453E-BD20-83AFC25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C42-F556-4E4E-8441-7DE521D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2971-1B16-45CF-B7DD-BDDEB45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FAE5-37DA-4AC5-B517-F7D1B5D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2C6C-1E9D-479E-8630-38AEC89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F797-29C9-4A27-9615-5AB3D92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98DC-8A73-4ADD-9375-16D18C51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5BE1-3322-4044-8339-049F0B0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DD5E-80FC-453A-BF65-06A1E4F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8FE4-E79A-49C8-9569-3270660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C3C6-51C9-4B72-92AD-C849055E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DA33-2794-461D-A91C-15987F46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7F0-E006-4D99-8E6C-10C187D3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157F-BC8D-40D1-BB13-42A9726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DDCA-8A17-42A8-84F2-A2B5082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3F84-6BCA-40FE-8896-DA97B49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7E2D-24C5-4CE1-87D2-731B106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99C0-9520-4381-9B15-3E79CA1D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8E82-4408-46A0-B3ED-4BA2BA7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5F47-6362-407E-9783-B122EE7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70C5-5378-4293-B95C-6D29AC7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A66A7-4670-4AC3-BB33-24C02E3F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80FE-3F8D-42BD-B268-2479D432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9CF-74DA-4958-BE4D-A46778CD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150C-BA3F-4018-B60C-D315F397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9A6-B524-4D66-80C5-21828AE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4B5-A6BE-4582-A0D0-D69B0A5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6C3-AF96-41E8-9550-A5F7949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34E-937D-45A9-887A-A58B29311F9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6860-96C7-4B9A-B8AB-B151733260C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1A6-47D3-48BD-B167-A72025AE51D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096-EBF6-46A8-9BCA-B9BC27D99C9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5590-3024-4B68-BFD5-317EB9CC21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рамка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468440" y="208080"/>
            <a:ext cx="7078680" cy="3589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1600" y="51436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2010-2011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Vtlktxjr.mp3" descr=""/>
          <p:cNvPicPr/>
          <p:nvPr/>
        </p:nvPicPr>
        <p:blipFill>
          <a:blip r:embed="rId3"/>
          <a:stretch/>
        </p:blipFill>
        <p:spPr>
          <a:xfrm>
            <a:off x="285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356760"/>
            <a:ext cx="7472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Цель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условий  для  реализации  творческого  потенциала  учащихся  в  различных  сферах  общественной  деятель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Через различные формы деятельности воспитывать в детях чувство любви и гордости  за свою Родину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Формирование активной гражданской позиции, интереса у детей и подростков в реализации проекта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омочь подростку проявить и реализовать себя в интересных, полезных обществу делах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Активное взаимодействие школьного объединения  с объединениями других школ и районным объединением  «Импульс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213920" y="5214960"/>
            <a:ext cx="6643800" cy="13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 65- летию Победы ребята объединения встречались с интересными людьми поселка: участниками войны, тружениками тыла. Постоянным гостем в объединении стал председатель Совета Ветеранов Ландышев А.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6" descr="школа 012.jpg"/>
          <p:cNvPicPr/>
          <p:nvPr/>
        </p:nvPicPr>
        <p:blipFill>
          <a:blip r:embed="rId1"/>
          <a:stretch/>
        </p:blipFill>
        <p:spPr>
          <a:xfrm>
            <a:off x="214200" y="92880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7" descr="школа 008.jpg"/>
          <p:cNvPicPr/>
          <p:nvPr/>
        </p:nvPicPr>
        <p:blipFill>
          <a:blip r:embed="rId2"/>
          <a:stretch/>
        </p:blipFill>
        <p:spPr>
          <a:xfrm>
            <a:off x="4143240" y="1643040"/>
            <a:ext cx="426096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00120" y="5867280"/>
            <a:ext cx="6199200" cy="7048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ак выбрать лидера? Только через выборы. Выбираем президента объединения «Дружба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Содержимое 6" descr="сканирование0004.jpg"/>
          <p:cNvPicPr/>
          <p:nvPr/>
        </p:nvPicPr>
        <p:blipFill>
          <a:blip r:embed="rId1"/>
          <a:stretch/>
        </p:blipFill>
        <p:spPr>
          <a:xfrm>
            <a:off x="571680" y="285840"/>
            <a:ext cx="3106440" cy="458136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сканирование0003.jpg"/>
          <p:cNvPicPr/>
          <p:nvPr/>
        </p:nvPicPr>
        <p:blipFill>
          <a:blip r:embed="rId2"/>
          <a:stretch/>
        </p:blipFill>
        <p:spPr>
          <a:xfrm>
            <a:off x="4286160" y="642960"/>
            <a:ext cx="3178440" cy="491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28440" y="5428800"/>
            <a:ext cx="6429240" cy="107172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rebuchet MS"/>
              </a:rPr>
              <a:t>Дети объединения написали письма и собрали посылки солдатам в армию. На праздник строевой патриотической песни были приглашены родители этих солдат. Родителям были переданы и письмо и посылк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6" descr="DSC02330.JPG"/>
          <p:cNvPicPr/>
          <p:nvPr/>
        </p:nvPicPr>
        <p:blipFill>
          <a:blip r:embed="rId2"/>
          <a:stretch/>
        </p:blipFill>
        <p:spPr>
          <a:xfrm>
            <a:off x="214200" y="142884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7" descr="DSC02333.JPG"/>
          <p:cNvPicPr/>
          <p:nvPr/>
        </p:nvPicPr>
        <p:blipFill>
          <a:blip r:embed="rId3"/>
          <a:stretch/>
        </p:blipFill>
        <p:spPr>
          <a:xfrm>
            <a:off x="4071960" y="200016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3:07Z</dcterms:created>
  <dc:creator>Елена</dc:creator>
  <dc:description/>
  <dc:language>en-US</dc:language>
  <cp:lastModifiedBy>Елена</cp:lastModifiedBy>
  <dcterms:modified xsi:type="dcterms:W3CDTF">2013-10-23T07:23:59Z</dcterms:modified>
  <cp:revision>55</cp:revision>
  <dc:subject/>
  <dc:title>Детское общественное объединение школьников «Дружба» и «Ровесник» Гусь-Хрустального района МОУ Красноэховская  средняя общеобразовательная школа программа «Мы- надежда российской земли» 4 этап 2009-2010  уч. год.</dc:title>
</cp:coreProperties>
</file>