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502-35C4-45B9-B830-9B517E13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32-D890-4552-8947-6AF36FC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C0D-0540-4346-ABAB-D79423C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7E3-DCD1-4C15-A382-D018C111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34F6-2340-41FC-BA04-5EFDF902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D3B8-AAC4-47FE-84E4-80C98E7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1490-35CE-46A9-A1A3-B819E4A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9C41-AFE8-468D-B912-39689EA1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90C-3E12-4CD3-A21B-3D4563B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A090-6ABB-4FEC-9A2D-111F627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6F74-49D2-4247-BEED-C5F93C3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792-B85F-42D8-BFF4-6F9998EE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0098-1CE9-478A-8C58-D6CFD40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58EB-6827-441C-B8AD-50C584C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B7D6-3AA1-4DA3-BDF7-2C310511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1B1B-1AEB-4235-A88A-14BC3E77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D11-8731-4161-AF46-CC02D6D7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A438-9296-495F-94BD-C9CEE079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8827-BECF-45D7-B389-B623157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6291-A96A-4185-BC87-5EB2052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4B6E-C1AF-4F4E-B1FA-27B353E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DF3B-13BC-4019-B836-4EF18EB5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232-43C0-4265-86E1-20F399BD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95CB-1290-43FE-8548-4ADBCC30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8551-89D7-48F9-A747-75C36EF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EFD9-9AAD-4980-90DC-E0B2915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3A47-A460-4366-93D4-F83FAB2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3836-B41A-42FD-A8BD-33C0E9C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9A28-F1B1-4A63-8F9B-A80D56C5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7716-B1C4-475B-B674-7F612220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9B80-4A7C-4D01-ADB1-80C0C3B4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F14D-AD7E-4908-BCDE-CBFA0D3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65B1-56E7-49EF-8310-28E631D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AAF-7E4F-437C-9BFC-9BFB008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5320-B287-45EE-9C64-2EE50FC1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9F97-0B2C-413E-90B7-D96BA428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670A-13E1-43AF-8793-867E834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6B10-D44C-48B9-B6C0-316AF16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92F4-0AF3-4BD8-8E94-BF7CF64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6A09-8118-48F5-B06A-C785761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26D2-124C-4D02-B0B3-030A4D98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5E15-FA7D-4A68-86E0-68F406F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992E-6AC3-449C-9384-DF0F8C07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FC51-2454-43E5-92F0-F8010D08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32A-0BDB-4EAE-ABF5-D16414C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0A90-20EF-4746-91C0-EBFD5D4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1042-1A54-45CD-A01D-4C2D324E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6CFB-8FEB-4A00-B91F-31410BE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875D-82FF-449A-A173-D2BD0A02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C619-0999-4DA1-8B78-32E39008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9926-984C-4B96-BC89-57ACE8E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A2BF-7986-4093-AEB4-7FF6606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2676-2E86-428E-ADDA-43ED01F2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03CE0-A325-470C-BD04-105988B0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CC24-F856-462D-9DC8-4FFC4B71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F7A-B662-44CC-896F-84B7F08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BA52-809D-4293-8A4C-659DAA61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6ED-AEF9-4770-9136-6BF0AF86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FF5-001A-41F9-A0E5-E2A2B3E3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B40-C60F-4B30-88F0-3F8F69A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454C-5055-47AB-A22F-FE147B1D77E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A3D-60C4-4EFD-AC0D-29AD3F57A10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050-96F7-40EC-8DEA-1BD5E2CFA97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6C6-32B9-42F3-8F82-8EB085FF22D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033A-E7F2-4698-BE75-E9D77DEE557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рамка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468440" y="208080"/>
            <a:ext cx="7078680" cy="3589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1600" y="51436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2010-2011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Vtlktxjr.mp3" descr=""/>
          <p:cNvPicPr/>
          <p:nvPr/>
        </p:nvPicPr>
        <p:blipFill>
          <a:blip r:embed="rId3"/>
          <a:stretch/>
        </p:blipFill>
        <p:spPr>
          <a:xfrm>
            <a:off x="285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356760"/>
            <a:ext cx="7472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Цель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условий  для  реализации  творческого  потенциала  учащихся  в  различных  сферах  общественной  деятель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Через различные формы деятельности воспитывать в детях чувство любви и гордости  за свою Родину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Формирование активной гражданской позиции, интереса у детей и подростков в реализации проекта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омочь подростку проявить и реализовать себя в интересных, полезных обществу делах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Активное взаимодействие школьного объединения  с объединениями других школ и районным объединением  «Импульс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213920" y="5214960"/>
            <a:ext cx="6643800" cy="13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 65- летию Победы ребята объединения встречались с интересными людьми поселка: участниками войны, тружениками тыла. Постоянным гостем в объединении стал председатель Совета Ветеранов Ландышев А.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6" descr="школа 012.jpg"/>
          <p:cNvPicPr/>
          <p:nvPr/>
        </p:nvPicPr>
        <p:blipFill>
          <a:blip r:embed="rId1"/>
          <a:stretch/>
        </p:blipFill>
        <p:spPr>
          <a:xfrm>
            <a:off x="214200" y="92880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7" descr="школа 008.jpg"/>
          <p:cNvPicPr/>
          <p:nvPr/>
        </p:nvPicPr>
        <p:blipFill>
          <a:blip r:embed="rId2"/>
          <a:stretch/>
        </p:blipFill>
        <p:spPr>
          <a:xfrm>
            <a:off x="4143240" y="1643040"/>
            <a:ext cx="426096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00120" y="5867280"/>
            <a:ext cx="6199200" cy="7048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ак выбрать лидера? Только через выборы. Выбираем президента объединения «Дружба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Содержимое 6" descr="сканирование0004.jpg"/>
          <p:cNvPicPr/>
          <p:nvPr/>
        </p:nvPicPr>
        <p:blipFill>
          <a:blip r:embed="rId1"/>
          <a:stretch/>
        </p:blipFill>
        <p:spPr>
          <a:xfrm>
            <a:off x="571680" y="285840"/>
            <a:ext cx="3106440" cy="458136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сканирование0003.jpg"/>
          <p:cNvPicPr/>
          <p:nvPr/>
        </p:nvPicPr>
        <p:blipFill>
          <a:blip r:embed="rId2"/>
          <a:stretch/>
        </p:blipFill>
        <p:spPr>
          <a:xfrm>
            <a:off x="4286160" y="642960"/>
            <a:ext cx="3178440" cy="491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28440" y="5428800"/>
            <a:ext cx="6429240" cy="107172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rebuchet MS"/>
              </a:rPr>
              <a:t>Дети объединения написали письма и собрали посылки солдатам в армию. На праздник строевой патриотической песни были приглашены родители этих солдат. Родителям были переданы и письмо и посылк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6" descr="DSC02330.JPG"/>
          <p:cNvPicPr/>
          <p:nvPr/>
        </p:nvPicPr>
        <p:blipFill>
          <a:blip r:embed="rId2"/>
          <a:stretch/>
        </p:blipFill>
        <p:spPr>
          <a:xfrm>
            <a:off x="214200" y="142884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7" descr="DSC02333.JPG"/>
          <p:cNvPicPr/>
          <p:nvPr/>
        </p:nvPicPr>
        <p:blipFill>
          <a:blip r:embed="rId3"/>
          <a:stretch/>
        </p:blipFill>
        <p:spPr>
          <a:xfrm>
            <a:off x="4071960" y="200016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3:07Z</dcterms:created>
  <dc:creator>Елена</dc:creator>
  <dc:description/>
  <dc:language>en-US</dc:language>
  <cp:lastModifiedBy>Елена</cp:lastModifiedBy>
  <dcterms:modified xsi:type="dcterms:W3CDTF">2013-10-23T07:23:59Z</dcterms:modified>
  <cp:revision>55</cp:revision>
  <dc:subject/>
  <dc:title>Детское общественное объединение школьников «Дружба» и «Ровесник» Гусь-Хрустального района МОУ Красноэховская  средняя общеобразовательная школа программа «Мы- надежда российской земли» 4 этап 2009-2010  уч. год.</dc:title>
</cp:coreProperties>
</file>