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305-7A13-480F-A2C5-FAE31106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D7C-2284-42C4-87A4-BFE8CAC5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7A5-A34A-4FC6-8463-BB7F5ABE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9D4-1EF8-4259-ACD4-81CCF6E9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C950-EAC2-4596-8EAC-BABD9BCF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BFBD-01CF-4F83-BF88-89D8410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BB3-60DC-43E6-AD91-E82265C7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675-7CF4-49F4-97BA-4641343A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CDD-BA04-4310-B128-13531E18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8241-8D10-42B0-AB4A-C9E32F5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BE7D-33D9-4DB3-BBC0-0A9F79C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B08-4DD6-4636-ABC3-715A18B0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50D-984A-4CEF-9999-5724C71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731-5028-473C-B3F2-A04F968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FD06-5E50-4A44-89D4-7677BA3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8E64-64AD-471B-941B-7D01CAEE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C090-4DA5-4B82-8771-10EEB9FD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0A27-4D7B-481C-B4DB-9D7F1C78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FC4F-DC74-48D2-BA74-7D5E1AF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B539-A7DF-4728-A668-E182B565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FE98-6B3F-44D9-A4B4-C5831D65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6C47-2A3D-4445-96C7-D876CF0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F17-2A17-419E-AB84-E68EDFE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737E-DE01-462B-93E7-4A4F0DE0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84C5-5BCF-443D-90B5-DFE3668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166D-98F7-4E59-B531-718F665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5B36-7687-4FF3-8D78-5B7D060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8252-CECE-4EAE-A228-63E3E96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AE0D-9A6D-4EEE-B5EF-4C496867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3A7A-B172-4D4E-9CB2-A89752F9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525B-9163-4C30-BA89-E976A988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F46D-9704-4C36-BAF4-8B31AE9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9A27-41B9-434E-BAB1-92891EF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87D-B9E1-4207-BD96-FAFBF4E3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DDA2-E0F1-4C6F-BDB1-A9B5ABA7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06CE-A2C2-406B-9098-5A03C76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B337-89BF-4953-B15B-37A9FDB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5783-9EED-40CC-8F64-1172A6C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201D-B453-403A-A362-276960B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6B49-D2C8-46E2-A9FB-DE8EDDA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0C98-5EB8-4F53-BC31-3DC7387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06C3-7FBA-4500-90EF-F5EAEF74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2024-F6D4-4096-990D-BDE80504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3653-7BC4-4A8E-9276-BC43143C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725-9CBF-4679-80AD-070166A5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5E41-0AFB-4583-B504-F72D905F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8DBE7-0829-4669-BE39-FF30121D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E30B-894A-440A-BCCF-8BA90A0C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57DF-B305-451D-97A3-A3AC2A0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C960-C5BF-4B67-B9F8-B023595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EB87-8E5D-4475-A4B3-55FFC62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1DC1-5C8B-477E-A7BB-5139F71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A31B-6949-482E-8ED6-306A720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E35F-CD7E-4441-8A3B-7AC2D6F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7FC7-4721-4C1D-8DB9-7B9C2CE8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B44-F301-4375-96A2-61348653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0F23-275F-4AA9-8AB0-8993C259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EDC-8134-4267-A609-EC00517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649-F4FE-41AD-9D8C-3736DF1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3FA-209D-4B26-A22B-12E884E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465-AA76-4616-8505-551FD5F9995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28F-548D-410D-AB03-0B22D78862B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35D-80FF-441A-B2DE-E34A5644EE0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08F6-E5A1-44B6-99BB-34AED597223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4F7-720B-46B0-8BE4-24DACB634B0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4" descr="рамка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468440" y="208080"/>
            <a:ext cx="7078680" cy="3589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1600" y="51436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2010-2011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Vtlktxjr.mp3" descr=""/>
          <p:cNvPicPr/>
          <p:nvPr/>
        </p:nvPicPr>
        <p:blipFill>
          <a:blip r:embed="rId3"/>
          <a:stretch/>
        </p:blipFill>
        <p:spPr>
          <a:xfrm>
            <a:off x="285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356760"/>
            <a:ext cx="7472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Цель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условий  для  реализации  творческого  потенциала  учащихся  в  различных  сферах  общественной  деятель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52f74"/>
                </a:solidFill>
                <a:latin typeface="Trebuchet MS"/>
              </a:rPr>
              <a:t>Задачи проект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Через различные формы деятельности воспитывать в детях чувство любви и гордости  за свою Родину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Формирование активной гражданской позиции, интереса у детей и подростков в реализации проекта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омочь подростку проявить и реализовать себя в интересных, полезных обществу делах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Активное взаимодействие школьного объединения  с объединениями других школ и районным объединением  «Импульс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213920" y="5214960"/>
            <a:ext cx="6643800" cy="13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 65- летию Победы ребята объединения встречались с интересными людьми поселка: участниками войны, тружениками тыла. Постоянным гостем в объединении стал председатель Совета Ветеранов Ландышев А.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6" descr="школа 012.jpg"/>
          <p:cNvPicPr/>
          <p:nvPr/>
        </p:nvPicPr>
        <p:blipFill>
          <a:blip r:embed="rId1"/>
          <a:stretch/>
        </p:blipFill>
        <p:spPr>
          <a:xfrm>
            <a:off x="214200" y="92880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7" descr="школа 008.jpg"/>
          <p:cNvPicPr/>
          <p:nvPr/>
        </p:nvPicPr>
        <p:blipFill>
          <a:blip r:embed="rId2"/>
          <a:stretch/>
        </p:blipFill>
        <p:spPr>
          <a:xfrm>
            <a:off x="4143240" y="1643040"/>
            <a:ext cx="4260960" cy="3195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00120" y="5867280"/>
            <a:ext cx="6199200" cy="7048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Как выбрать лидера? Только через выборы. Выбираем президента объединения «Дружба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Содержимое 6" descr="сканирование0004.jpg"/>
          <p:cNvPicPr/>
          <p:nvPr/>
        </p:nvPicPr>
        <p:blipFill>
          <a:blip r:embed="rId1"/>
          <a:stretch/>
        </p:blipFill>
        <p:spPr>
          <a:xfrm>
            <a:off x="571680" y="285840"/>
            <a:ext cx="3106440" cy="458136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сканирование0003.jpg"/>
          <p:cNvPicPr/>
          <p:nvPr/>
        </p:nvPicPr>
        <p:blipFill>
          <a:blip r:embed="rId2"/>
          <a:stretch/>
        </p:blipFill>
        <p:spPr>
          <a:xfrm>
            <a:off x="4286160" y="642960"/>
            <a:ext cx="3178440" cy="491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28440" y="5428800"/>
            <a:ext cx="6429240" cy="107172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rebuchet MS"/>
              </a:rPr>
              <a:t>Дети объединения написали письма и собрали посылки солдатам в армию. На праздник строевой патриотической песни были приглашены родители этих солдат. Родителям были переданы и письмо и посылка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6" descr="DSC02330.JPG"/>
          <p:cNvPicPr/>
          <p:nvPr/>
        </p:nvPicPr>
        <p:blipFill>
          <a:blip r:embed="rId2"/>
          <a:stretch/>
        </p:blipFill>
        <p:spPr>
          <a:xfrm>
            <a:off x="214200" y="142884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7" descr="DSC02333.JPG"/>
          <p:cNvPicPr/>
          <p:nvPr/>
        </p:nvPicPr>
        <p:blipFill>
          <a:blip r:embed="rId3"/>
          <a:stretch/>
        </p:blipFill>
        <p:spPr>
          <a:xfrm>
            <a:off x="4071960" y="200016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3:07Z</dcterms:created>
  <dc:creator>Елена</dc:creator>
  <dc:description/>
  <dc:language>en-US</dc:language>
  <cp:lastModifiedBy>Елена</cp:lastModifiedBy>
  <dcterms:modified xsi:type="dcterms:W3CDTF">2013-10-23T07:23:59Z</dcterms:modified>
  <cp:revision>55</cp:revision>
  <dc:subject/>
  <dc:title>Детское общественное объединение школьников «Дружба» и «Ровесник» Гусь-Хрустального района МОУ Красноэховская  средняя общеобразовательная школа программа «Мы- надежда российской земли» 4 этап 2009-2010  уч. год.</dc:title>
</cp:coreProperties>
</file>