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B8A-C344-40D5-9C5B-7706D3A2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949-E3D7-48BB-8473-0E150BEF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E38-DD11-49BA-BACC-F1AC4583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D36-EC7D-4A32-84F2-1B342816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E75-958B-46ED-B38A-18774CB0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118-49CD-4765-99A8-B9423B3A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E5F-79BB-47E2-9AD5-DB4B7DED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98E-FC78-42CB-BF0C-0D6BAE6E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1AF-7A75-4CD2-BA75-B3A19BC7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635-71D8-422E-9C57-333E121B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B35-6AAD-4125-B499-8300764B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0B7-7109-4E1E-AD07-B5ACFBF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3085-0582-4726-9DB5-969BAFEC7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такое мирилк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илки – это небольшие забавные рифмованные стишки, которые дети обычно произносят после ссоры или обиды для того, чтобы помир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81960" y="228600"/>
            <a:ext cx="35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ДОУ «Детский с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развивающего вида № 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2057400"/>
            <a:ext cx="3809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ИЛ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3352680"/>
            <a:ext cx="27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0" y="4038480"/>
            <a:ext cx="129384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43600" y="4343400"/>
            <a:ext cx="1825560" cy="205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26640" y="4605480"/>
            <a:ext cx="15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втор-состав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льницына О.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солнце улыбало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 с тобой согреть старало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но просто стать добрей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мириться нам скорей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ругаться и драчви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чше нам с тобой мириться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ем вместе улыба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и петь и танцева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 в море куп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лубнику собир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ьках зимой ката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 лепить, в снежки игра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воих делить конфет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роблемы и секре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скучно в ссоре жи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му давай дружить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2971800" cy="251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15000" y="5181480"/>
            <a:ext cx="251460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ориться не буд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ем мы дружи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ятву не забуд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но будем жить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, мир навсегда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 ссориться нельз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то бабушка прид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о попе надает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ись, мирись, мири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больше не дери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если будешь дра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буду куса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кусаться не прич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ударю кирпич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 кирпич не ну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й с тобой подружим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17528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атить нам уже серди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елятся все вокруг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корей давай миритьс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мне друг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ы мне друг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обиды все забуде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ружить как прежде будем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 за паль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возьмё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ьше дралис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теперь мы поем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2374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й с тобой мири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всем дел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кто не будет дели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тем не будем водиться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 – миро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еники с сыро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рожки с масло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мы друзья навсегд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5906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8T17:26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