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F2E-DE21-4121-AE14-4DC4E60B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417-F273-4CD7-B00C-4D16BDA6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F09-33CC-41F1-86B5-3A61EB16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5C3-5AFA-480A-810D-785AEEEE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49F-1FC5-4021-9825-844E676E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6E5-87BE-4129-BD08-81028A07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B0A-DC8E-4B32-B25C-63D9F329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A4B-1451-42D8-81AC-414D1FF0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C0A-2431-4D62-AA59-C9C7542C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D1F-13B7-49E8-9403-ED4E021F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6A8-F4A8-454A-BA3C-69F9AA49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CF9-24DB-4F18-B885-D9E8144C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3BAF-FAA0-45A2-81CF-EAAF0DDE5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такое мирилк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илки – это небольшие забавные рифмованные стишки, которые дети обычно произносят после ссоры или обиды для того, чтобы помири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381960" y="228600"/>
            <a:ext cx="35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ДОУ «Детский с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развивающего вида № 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2057400"/>
            <a:ext cx="3809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ИЛ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3352680"/>
            <a:ext cx="27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0" y="4038480"/>
            <a:ext cx="129384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43600" y="4343400"/>
            <a:ext cx="1825560" cy="205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26640" y="4605480"/>
            <a:ext cx="15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втор-состав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льницына О.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 солнце улыбало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 с тобой согреть старало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но просто стать добрей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мириться нам скорей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ругаться и драчви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чше нам с тобой мириться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ем вместе улыба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ни петь и танцева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м в море куп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лубнику собир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ньках зимой ката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 лепить, в снежки игра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воих делить конфет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роблемы и секре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скучно в ссоре жи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ому давай дружить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2971800" cy="251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15000" y="5181480"/>
            <a:ext cx="251460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ориться не буде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ем мы дружи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ятву не забуде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но будем жить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, мир навсегда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 ссориться нельз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то бабушка прид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о попе надает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ись, мирись, мири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больше не дери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если будешь дра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буду куса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кусаться не приче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ударю кирпич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 кирпич не нуж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й с тобой подружим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17528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атить нам уже серди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елятся все вокруг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корей давай миритьс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мне друг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ы мне друг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обиды все забуде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дружить как прежде будем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чик за паль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возьмё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ьше драли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теперь мы поем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2374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й с тобой мири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всем дели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кто не будет дели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тем не будем водиться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 – миро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еники с сыро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рожки с масло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мы друзья навсегд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5906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8T17:26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