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2715-BD9E-49A1-841A-2A2E9A5A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543-A70A-4CCB-A456-79C75CA5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E93-D334-4270-90C9-43DE2DD1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C89-6178-42C6-B06E-710D02B6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1FC-7119-4E81-9C21-DE19954C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96A-D70A-4AF2-A6E0-D48A1AC4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BEA-C0A8-4C62-BFDC-9A55F56E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0EC-7E46-427A-96CA-B6D2D406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AFD-38C7-4186-9326-8810904F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1C5D-C46E-4E74-B7A2-EBE8F2F9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B14-4301-479E-A8E3-D95FF216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9E7-772E-4CBB-A179-97A5D964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F814-3875-4497-B632-58EDB9E81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такое мирилк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илки – это небольшие забавные рифмованные стишки, которые дети обычно произносят после ссоры или обиды для того, чтобы помиритьс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381960" y="228600"/>
            <a:ext cx="35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ДОУ «Детский с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развивающего вида № 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2057400"/>
            <a:ext cx="3809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РИЛ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1068840" y="3352680"/>
            <a:ext cx="27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4800" y="4038480"/>
            <a:ext cx="129384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43600" y="4343400"/>
            <a:ext cx="1825560" cy="2057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26640" y="4605480"/>
            <a:ext cx="157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втор-составите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льницына О.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ы солнце улыбалос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 с тобой согреть старалос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жно просто стать добрей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мириться нам скорей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 ругаться и драчвитьс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чше нам с тобой мириться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ем вместе улыбатьс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ни петь и танцева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м в море куп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клубнику собира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оньках зимой кататьс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б лепить, в снежки игра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двоих делить конфеты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роблемы и секре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скучно в ссоре жи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ому давай дружить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3581280"/>
            <a:ext cx="2971800" cy="251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15000" y="5181480"/>
            <a:ext cx="251460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ориться не буде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ем мы дружит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ятву не забуде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но будем жить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, мир навсегда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е ссориться нельз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то бабушка прид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по попе надает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ись, мирись, мирис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больше не дерис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если будешь дратьс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буду кусатьс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кусаться не приче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ударю кирпич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м кирпич не нуж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ай с тобой подружим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67280" y="4952880"/>
            <a:ext cx="17528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атить нам уже сердитьс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елятся все вокруг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корей давай миритьс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 мне друг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ты мне друг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обиды все забуде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дружить как прежде будем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ьчик за пальч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о возьмё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ьше дралис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теперь мы поем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38680" y="3200400"/>
            <a:ext cx="2374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ай с тобой миритьс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всем делитьс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кто не будет делитьс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тем не будем водиться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 – миро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еники с сыро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рожки с масло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мы друзья навсегда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5906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08T17:26:2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