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9BA-2DD9-4A35-962F-96DEC36E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420-8B5F-492F-B18D-33609CF8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15A7F-695F-4E8D-B6E0-A5D82486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B160D-1DA6-4A83-802F-166F4D6A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19123-80F6-4EC4-927E-535E1FDA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77A8F-4E63-4392-977B-717851E0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287A9-6E56-4934-A800-872CF5D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BE2B6-F69C-4552-A240-0D1E1D03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86DF5-CE59-4EE5-A333-59666DA7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87177-10A7-4E4D-8BA3-60446C90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AD63B-91E5-41AA-815B-3D4A68F3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3C3-AB22-48CD-B712-79D0A54F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555-F0AF-4C4E-8BEA-BD8DB689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FA4-F957-4910-9ED7-9830878E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D7D0-D66F-44BA-9B74-4A95DB0D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7576-6AF6-46D9-9B7C-99EBD504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8576-7D1D-4644-AAE1-5C7786CB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588C-DF98-46A4-82B0-6D25C40B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EBBD-DB80-4016-875F-91E68CF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2B6A-B5C7-4144-B076-4F2E9FE0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305-E3C3-4B58-86AA-25683B4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705E-EBBB-4375-9418-899F17FC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DD87-404B-4587-BE40-4B3EC10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7821-9200-49A6-AEEE-F956201A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9948-D997-4A7A-BEC1-B416EDD6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3FAF-D279-449E-974D-C001088F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D028-9E03-46D8-8A9A-8A5AE57D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33DB-610C-43BB-AB83-94F8C06F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7475-0FC2-4043-8630-1742EB34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A151-C560-4FA2-B835-47D41834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036B-7BF0-4721-8BFD-7D9A7A98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0D5-CCCC-402A-A38D-A57A219A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7B3B-CF68-47D6-8615-BCFE995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C6A0-95FD-48E6-8BC4-C6A8066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EBBA-C386-49BC-AF5F-DD0FEF91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58E9-0A58-4AAA-9A59-992D4AC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18B1-3989-47DB-8CAA-60FF68D8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DE86-40FE-472A-8D55-E4E08BA5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62E15-6AB6-4BD7-9D8E-205BB7AE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4C8D-2C69-450C-A67D-6E000212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0BD5-EE65-403D-9BCD-AA35314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95FF3-83BC-4310-9DBF-41D8D4CC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953-06D5-4092-AF2F-CC1A7AE3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4EC54-36D7-495B-9184-6B77C042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862F-CCAE-4675-8B51-31FBC56D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6101-A8BE-42EC-A221-8E25BFAF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AB6F-8FF2-4C66-8035-21CC436A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46B2-2C66-49F9-B400-CFD14D78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7257B-1435-4DAA-AF26-2B7BDA2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53E5-221A-41C2-A8ED-11C96111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9B0A-0CAF-4D47-829B-50F3557D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25B82-EAA8-4F6A-A454-0A39A092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10630-C08A-4D45-A330-A01F1BE9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A4D-AE3F-4340-BB5B-5974483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F119F-800E-44B0-83D4-7D5882FA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A38CE-5DA6-4681-9A08-C55F2CC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72CBE-880E-4CEF-B4A5-444BCDB6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7B426-DF0F-43E8-8CFC-CC429D7B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426BB-CF6A-40A2-A9B3-2A765332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2EFE6-3B5D-48CD-AE81-3D5C8473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44BAD-0B43-4772-A4C3-70A781A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CBA67-9868-4000-A245-501BE7BA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EA712-4632-4999-802D-8A5F5FE3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9E007-F0DB-4BA2-BBFA-5E97AA70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24F-81AC-4438-AB4E-6104BD4A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1146-8EFF-4853-A2E8-F832C329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2731E-4D9F-4A31-8352-4DAF7C1C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883F-49EF-4FBF-9E8A-167DF93C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D063-4BBA-4E7E-AC6C-31A7D31D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A4399-C20E-458D-AD55-17A7C3EB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C7F43-8ACE-4851-8E3F-F594D75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76320-231E-4052-99ED-CD6E64C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0EB38-D69F-4768-B805-FC9C2421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C52F-A4DC-478E-90AE-42493EC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1EE94-4C6E-4AC3-95EE-B87822B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D91-E2CC-483A-92C3-8588F7B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74C0-B75E-4EAA-8B3C-F2A2EE32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926C8-7612-49F3-899F-958D7A2D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4A4C4-E037-40B4-802F-39BE4FE2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9E2DA-BD7A-40DE-AB4F-0AE6C993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71449-E818-4704-8A22-5ED6EE61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18686-48A8-434C-A6A6-53B437D0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EB85-FEBB-4766-84B4-E61EE948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0BF45-95E1-44A5-BA3C-E5CA1366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9CE2-3869-4D72-B10A-3E8CC7B0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112FC-C3D4-4D1D-94CD-F99E735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C53-8498-4F04-8B80-6558037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931B8-B397-455A-9929-E215D139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FEF5A-5B2B-4C00-A197-E200537F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3D1D-2CC6-4A76-8268-6FC9E730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64128-D3F0-4704-A688-F16CE1BF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A59E-61F6-4F2A-8F58-F5D67925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DA091-22D8-4EF8-90F4-52376C62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77721-25C8-4040-9B45-D100C84F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FEAF9-DD90-42BE-AFEF-FECA77CE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63536-FABC-4113-898E-D034330F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0E5EF-B666-42F1-A0F4-66520A4B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4D1-3F3D-4CD2-AF33-41BD81BC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1895F-02E3-4FF1-B6F6-4BF3B9C1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57D44-6356-4369-B6F8-F59AD945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0539-3767-44E2-9E10-9EE4DB62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1BDAC-E7D8-4619-8E1E-B0E39EC9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7EA20-4617-448C-BF42-A86B0750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E4AB3-C8D8-4023-8018-AFC1636C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2FE49-F814-4206-A31A-214A1CAD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E5019-2B44-4861-99DF-D465A37A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C8D2E-B0C4-420E-8FEC-37411289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1FDD3-073A-4637-AB98-DE3423D0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99B3-130F-40BD-A890-B6232E8738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019-3711-4786-9F29-BCECF3988C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4138-C0A0-48E3-ABA3-15824DEC9F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A979-E04F-4C54-9DDA-B18CCA9C59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FE5-2762-48AD-A447-541D130868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4E9F-B182-47D3-AE47-6DC4FC4E8E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925D-0C08-4EC1-8B4B-0EA28961C9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36F6-01F7-4CF6-8F29-41301EE827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11FD-297F-40E7-85CA-1E9FF42FEF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-476280" y="-298440"/>
            <a:ext cx="9626760" cy="321768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5" descr="789px-Gregor_Reisch,_Margarita_Philosophica,_Typus_Logice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148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9. Найти «спрятанное» слово (соединяя слоги)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а) обруч, кара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б) пастух, плотина, лагерь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в) сапоги, парашют, фантазия;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г) косари, заморозки, лётчик;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д) мука, рагу, диван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е) карта, путина, налёт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ж) молоко, олово, раскол.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10. Россыпи. По анаграммам найти исходные слова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а) лбко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б) упкс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) вцтеко;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г) умызак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д) окамднри;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е) лкбуинак.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Он был задумчив и спокоен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Загадкой круга увлечён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ад ним невежественный воин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змахнул разбойничьим мечом.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рошла столетий вереница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аучный подвиг не забыт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икто не знает, кто убийца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И знают все, кто был убит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тематик, оказавшись случайно в небольшом городке, и желая как то убить время, решил постричься. В городе имелось два мастера, у каждого из них своя мастерская. Заглянув к одному из них, математик увидел, что в салоне грязно, сам мастер одет неряшливо, и небрежно пострижен.  В салоне другого мастера было идеально чисто, а владелец его был укоризненно одет и аккуратно пострижен. Подумав, математик пошел стричься к первому парикмахеру. Уважаемые знатоки! Не можете ли вы объяснить столь странное решение математика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240760" cy="1139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2.Король сказал королеве: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«Сейчас мне вдвое больше лет,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чем было Вам тогда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Когда мне было столько лет,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колько Вам теперь.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Когда же Вам будет столько лет, Сколько мне теперь,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Нам вместе будет 63 года».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колько лет каждому из них теперь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365 - 62 = 303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303- 100 = 203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203 - 183 = 20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20-15=5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Эти люди появились сравнительно недавно. В одной из книг, изданной в 1996 году,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им дается такое определение: это те, кто «пытаются исправить существующую ситуацию на желаемую путем минимального изменения, по возможности - незаметного». Кто они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первые ОН был использован в качестве разделителя ещё в 1972 году. Как его с тех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ор только не называли! И «улитка», и «хвостик», и даже «лягушка». Я уверен, что почти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каждый из вас ежедневно, по крайней мере, видит ЕГО. Напишите ЕГО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итя окончил семь классов. На воспитание Вити в год  отец  тратит по 5 ремней. Сколько ремней потратит папа за эти семь лет, если Витя 3 раза оставался  на второй год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536400" y="2556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а столе стояли 3 стакана с вишней. Оксана съела один стакан вишни. Сколько стаканов осталось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Зажгли 7 свечей, 2 из них погасли. Сколько свечей осталось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а) Чем кончается день и ночь? 6) Чем кончается лето и начинается осень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В каждом из четырех углов комнаты сидит кошка. На­против каждой из этих кошек сидит кошка. Сколько всего в этой комнате кошек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редставь себе, что ты машинист,ведущий пассажирский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оезд из Москвы в Санкт-Петербург. Всего в составе поезда 13 вагонов. Поезд обслуживается бригадой в 30 человек. Начальнику поезда 46 лет. Кочегар на 3 года старше машиниста. Сколько лет машинисту поезда?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32:42Z</dcterms:created>
  <dc:creator>XTreme</dc:creator>
  <dc:description/>
  <dc:language>en-US</dc:language>
  <cp:lastModifiedBy>Елена</cp:lastModifiedBy>
  <dcterms:modified xsi:type="dcterms:W3CDTF">2012-12-03T05:18:13Z</dcterms:modified>
  <cp:revision>9</cp:revision>
  <dc:subject/>
  <dc:title>Разминка</dc:title>
</cp:coreProperties>
</file>