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6EF6-B936-424B-A24F-F8C871713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4B6B-B63C-44A4-BF89-AEA6EB612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4E9004-5913-4FE1-9B21-D46226FDE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E67C04-56DC-4D62-A072-9695440C2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874A2B-DF57-43CA-B4FE-98A179202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5CC543-2E99-4447-8C4C-386F43CD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25BD5F-5786-4EA0-A9C2-F0ED3BDD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313663-4131-4E19-8DD0-F2A62768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BA1729-F748-4209-A80C-24BAE735E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2BCD51-6FFC-4A3D-9914-14E06A3A9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AFEEC2-BB2D-485A-9D32-D6E29E0FF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B7D6-52FC-47B7-958F-AB0A54108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5A23-259C-44A0-AF01-FAC677D83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C02B5-6230-4BD7-807F-527F341DB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3F830-0BC1-4FD7-8BF2-36CEF2438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4462F-F8D5-40E3-8C78-B2B52EC5A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6E2EF-E055-4AF1-B34D-1FB757F57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05EC0-2970-47C2-ACA4-C7DB7882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99B1C-C84C-456B-A803-A7675AC14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C1634-F382-4498-91FF-123CCFA1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5777-0B24-4E77-848B-58F448BE7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A073D-528D-4289-860C-4035CB29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87B6E-DDAE-4E14-8180-C2310188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1499A-0F76-4A46-A14E-9D82B2662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48996-472F-477B-9465-1AFFF5707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A558E-3BE5-43BB-8E90-FD32B9566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542E6-6027-476F-A854-40AE25642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2DBDC-E75F-4401-82BF-3869D31A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56603-952F-4E2E-8E03-079B71779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DE250-014A-4E97-912C-04AEDB158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6B380-46C4-4894-AAC0-B7A14247C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DE2E-65DF-43C1-A740-134D5402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A9088-0CDC-4AD0-8E96-2B964D559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C7F96-E0AA-4AF1-B76B-0C969222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79271-5E3C-4795-A337-790AB3628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35B35-E99F-4043-B3B7-C28FA80E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5386B-B450-4B0F-B405-0A24D6DD4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D2AA4-6FC6-4C64-BCE6-C61915395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91372-BFF9-4955-97B7-286A0142B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A557E-26FC-45E8-AEBD-402C5D555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9452C-10DF-4A58-949C-77A20D5DB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2E9C7-AE8A-495E-B643-9A293DDD0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815D-F44A-4D1B-A3FA-0733598FB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BCC84-BBD5-48E2-9FF9-AF9C9ED51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F7C5D-C49D-480A-9C66-9E9C140BB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0A2B0-6585-494D-9BE3-ABE7DCDD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33126-A280-44D3-A981-99CA67ED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72EDE-31EC-4A77-BDA2-8E432894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B8D95-F15A-4B55-ABDF-BE6BF33A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A894E-DB55-49AF-AEED-4DD6BF36F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DF80E-48A2-42A1-981D-75834078A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BFD88-3DA7-4605-8364-038147C9C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ABFD5-8136-4ECC-BB5D-4E992B221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EFA3-4662-446C-9761-DC5B710D1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10578-A525-47BB-946D-6F3684096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9D817-018F-42BB-89A7-244D9A12F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E4924-B251-4C19-A8AE-7DB2EB301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F0EF9-3E77-4479-9883-C198FE979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13DB7-87F1-4821-AA37-B62F116C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DA028-490B-442D-AC53-57F61A71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685E3-7EBB-4E90-8EDE-89ECC68D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CCD19-522E-4FB2-8AD9-CF9F2816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8BA6A-6332-49C7-8A93-DD367F2A3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1A4CF-0EF7-4AEA-8CC1-F29C7DB6F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2510-5CBE-415A-8EE7-96015B4A0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851B3-16D7-471B-87A9-EB2B2D3B7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B09FF-97AB-4848-AC76-F05E60D11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CDCA5-6AF5-40EC-BC92-BDDD84CE8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7B9F2-50EE-4420-815A-1D5C62637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CD6EA-77B4-4061-9BEE-833F918CE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DC41E-6F21-4DA6-8DDC-2D2897898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59774-8C0D-4862-B261-8BF8BF1CF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1489C-6B50-45BD-92F6-8BBD87D57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9DCAA6-0747-473E-BD58-6B313CC7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8B89A-E194-46BC-A9C8-2B31CD05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ECBE-8E84-4722-A7B4-2A186091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6196D-8512-4DC9-A920-C814C1987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E74E6-E572-48CA-9532-91364525C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DAA51-DABB-4C72-936B-EE1D32AEE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9DE33-08DF-437F-BA1A-97AECA4C3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07FBCB-7C96-405D-9C0F-6A7D92375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0AA4E-028C-4CA7-8E54-86506C365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A6E6E-44A7-4675-9E5E-6CEC621BA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CC424-CDCD-4307-8658-1251F220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244AE-EE8A-4A5E-BA5E-89BB3232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A4C15-739E-4A32-8D75-C4553098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C48A-93DE-40CF-AB14-FC608426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0346E5-45F9-468D-9FBA-2EEF413D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1449A-5CAB-408A-B9E7-50587F85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EED2D-2265-425E-A03B-12070BBF4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98C6E3-D8B1-44DC-9E43-955756910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EEDF0-743A-4C36-A37C-99B4A5508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8FB902-DE21-4EFE-9C9C-066B574C4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28AD71-8CB3-4135-855C-6474A1035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246A94-EAA3-4830-8B60-FAB5C2772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718C07-F46A-4538-A106-B2414E62B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521B9-3195-447F-AFCF-00398FF00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267A-91E2-4767-8A3C-841124FD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B9F721-91BD-43C7-AE3B-8098DE19E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174049-28D3-471E-A770-43924960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8B32A3-C73F-42DC-938B-B3FCBB0B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714D94-B72F-484D-84BF-C58958FB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199D86-B7C1-4F60-A359-43CD1B9C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0A6012-A634-422E-8C44-881CAB7D8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064D6E-0763-420F-A2CB-8F334A5C1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CE51DD-EED3-45AC-BC2E-87F7FEA78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92434E-D723-4C8E-81A4-77D36E446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E9EE6D-2919-4BD3-AF80-7AB044267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D64C6-6CBE-469F-AF2F-B38CF89C774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9F9E9-AED7-41A2-89D5-4392990F5E0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1E22A-BCFF-4A5A-A920-8D2FEB12F36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47C12-E182-4953-A7A3-BE718F1EB94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E12D5-1050-4CF4-B2ED-58E0756ABE5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E6909-659B-4E00-A75C-10508DB7BF0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08313-9B67-48F4-B52A-A433F34A4F4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7732B-3DA7-4979-A8E4-4E68EDABBF9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3FC36-139A-4B2B-884B-4363532F6F6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3" descr=""/>
          <p:cNvPicPr/>
          <p:nvPr/>
        </p:nvPicPr>
        <p:blipFill>
          <a:blip r:embed="rId1"/>
          <a:stretch/>
        </p:blipFill>
        <p:spPr>
          <a:xfrm>
            <a:off x="-476280" y="-298440"/>
            <a:ext cx="9626760" cy="3217680"/>
          </a:xfrm>
          <a:prstGeom prst="rect">
            <a:avLst/>
          </a:prstGeom>
          <a:ln w="0">
            <a:noFill/>
          </a:ln>
        </p:spPr>
      </p:pic>
      <p:pic>
        <p:nvPicPr>
          <p:cNvPr id="400" name="Содержимое 5" descr="789px-Gregor_Reisch,_Margarita_Philosophica,_Typus_Logice.jpg"/>
          <p:cNvPicPr/>
          <p:nvPr/>
        </p:nvPicPr>
        <p:blipFill>
          <a:blip r:embed="rId2"/>
          <a:stretch/>
        </p:blipFill>
        <p:spPr>
          <a:xfrm>
            <a:off x="2643120" y="1857240"/>
            <a:ext cx="371484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8908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457200" y="907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9. Найти «спрятанное» слово (соединяя слоги):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а) обруч, кара;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б) пастух, плотина, лагерь;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в) сапоги, парашют, фантазия;  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г) косари, заморозки, лётчик;   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д) мука, рагу, диван;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е) карта, путина, налёт;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ж) молоко, олово, раскол.   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-30240"/>
            <a:ext cx="8242560" cy="113976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836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e3b30"/>
                </a:solidFill>
                <a:latin typeface="Franklin Gothic Book"/>
              </a:rPr>
              <a:t>10. Россыпи. По анаграммам найти исходные слова: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а) лбко;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б) упкс;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в) вцтеко;   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г) умызак;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д) окамднри; 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е) лкбуинак.    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8908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457200" y="907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Он был задумчив и спокоен,</a:t>
            </a:r>
            <a:br>
              <a:rPr sz="4000"/>
            </a:b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Загадкой круга увлечён</a:t>
            </a:r>
            <a:br>
              <a:rPr sz="4000"/>
            </a:b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Над ним невежественный воин</a:t>
            </a:r>
            <a:br>
              <a:rPr sz="4000"/>
            </a:b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Взмахнул разбойничьим мечом.</a:t>
            </a:r>
            <a:br>
              <a:rPr sz="4000"/>
            </a:b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Прошла столетий вереница,</a:t>
            </a:r>
            <a:br>
              <a:rPr sz="4000"/>
            </a:b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Научный подвиг не забыт,</a:t>
            </a:r>
            <a:br>
              <a:rPr sz="4000"/>
            </a:b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Никто не знает, кто убийца,</a:t>
            </a:r>
            <a:br>
              <a:rPr sz="4000"/>
            </a:b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И знают все, кто был убит. 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Rectangle 2" descr=""/>
          <p:cNvPicPr/>
          <p:nvPr/>
        </p:nvPicPr>
        <p:blipFill>
          <a:blip r:embed="rId1"/>
          <a:stretch/>
        </p:blipFill>
        <p:spPr>
          <a:xfrm>
            <a:off x="450720" y="-42840"/>
            <a:ext cx="8242560" cy="87156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457200" y="62028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Математик, оказавшись случайно в небольшом городке, и желая как то убить время, решил постричься. В городе имелось два мастера, у каждого из них своя мастерская. Заглянув к одному из них, математик увидел, что в салоне грязно, сам мастер одет неряшливо, и небрежно пострижен.  В салоне другого мастера было идеально чисто, а владелец его был укоризненно одет и аккуратно пострижен. Подумав, математик пошел стричься к первому парикмахеру. Уважаемые знатоки! Не можете ли вы объяснить столь странное решение математика 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Rectangle 2" descr=""/>
          <p:cNvPicPr/>
          <p:nvPr/>
        </p:nvPicPr>
        <p:blipFill>
          <a:blip r:embed="rId1"/>
          <a:stretch/>
        </p:blipFill>
        <p:spPr>
          <a:xfrm>
            <a:off x="390600" y="189000"/>
            <a:ext cx="8240760" cy="113976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0" y="1125000"/>
            <a:ext cx="914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2.Король сказал королеве:</a:t>
            </a:r>
            <a:br>
              <a:rPr sz="3600"/>
            </a:b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«Сейчас мне вдвое больше лет,</a:t>
            </a:r>
            <a:br>
              <a:rPr sz="3600"/>
            </a:b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чем было Вам тогда,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Когда мне было столько лет,</a:t>
            </a:r>
            <a:br>
              <a:rPr sz="3600"/>
            </a:b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Сколько Вам теперь.</a:t>
            </a:r>
            <a:br>
              <a:rPr sz="3600"/>
            </a:b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Когда же Вам будет столько лет, Сколько мне теперь,</a:t>
            </a:r>
            <a:br>
              <a:rPr sz="3600"/>
            </a:b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Нам вместе будет 63 года».</a:t>
            </a:r>
            <a:br>
              <a:rPr sz="3600"/>
            </a:b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Сколько лет каждому из них теперь?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ru-RU" sz="6000" spc="-1" strike="noStrike">
                <a:solidFill>
                  <a:srgbClr val="4e3b30"/>
                </a:solidFill>
                <a:latin typeface="Franklin Gothic Book"/>
              </a:rPr>
              <a:t>365 - 62 = 303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5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ru-RU" sz="6000" spc="-1" strike="noStrike">
                <a:solidFill>
                  <a:srgbClr val="4e3b30"/>
                </a:solidFill>
                <a:latin typeface="Franklin Gothic Book"/>
              </a:rPr>
              <a:t>303- 100 = 203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5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ru-RU" sz="6000" spc="-1" strike="noStrike">
                <a:solidFill>
                  <a:srgbClr val="4e3b30"/>
                </a:solidFill>
                <a:latin typeface="Franklin Gothic Book"/>
              </a:rPr>
              <a:t>203 - 183 = 20 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5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ru-RU" sz="6000" spc="-1" strike="noStrike">
                <a:solidFill>
                  <a:srgbClr val="4e3b30"/>
                </a:solidFill>
                <a:latin typeface="Franklin Gothic Book"/>
              </a:rPr>
              <a:t>20-15=5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2" descr=""/>
          <p:cNvPicPr/>
          <p:nvPr/>
        </p:nvPicPr>
        <p:blipFill>
          <a:blip r:embed="rId1"/>
          <a:stretch/>
        </p:blipFill>
        <p:spPr>
          <a:xfrm>
            <a:off x="450720" y="-30240"/>
            <a:ext cx="8242560" cy="113976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Эти люди появились сравнительно недавно. В одной из книг, изданной в 1996 году,</a:t>
            </a:r>
            <a:br>
              <a:rPr sz="4000"/>
            </a:b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 им дается такое определение: это те, кто «пытаются исправить существующую ситуацию на желаемую путем минимального изменения, по возможности - незаметного». Кто они? 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25568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Впервые ОН был использован в качестве разделителя ещё в 1972 году. Как его с тех</a:t>
            </a:r>
            <a:br>
              <a:rPr sz="4000"/>
            </a:b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пор только не называли! И «улитка», и «хвостик», и даже «лягушка». Я уверен, что почти</a:t>
            </a:r>
            <a:br>
              <a:rPr sz="4000"/>
            </a:b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каждый из вас ежедневно, по крайней мере, видит ЕГО. Напишите ЕГО. 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Витя окончил семь классов. На воспитание Вити в год  отец  тратит по 5 ремней. Сколько ремней потратит папа за эти семь лет, если Витя 3 раза оставался  на второй год.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536400" y="255600"/>
            <a:ext cx="8242560" cy="14209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На столе стояли 3 стакана с вишней. Оксана съела один стакан вишни. Сколько стаканов осталось? 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Rectangle 2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Зажгли 7 свечей, 2 из них погасли. Сколько свечей осталось? 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Rectangle 2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а) Чем кончается день и ночь? 6) Чем кончается лето и начинается осень? 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Rectangle 2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7</a:t>
            </a:r>
            <a:r>
              <a:rPr b="1" lang="ru-RU" sz="40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 В каждом из четырех углов комнаты сидит кошка. На­против каждой из этих кошек сидит кошка. Сколько всего в этой комнате кошек? 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63680" y="-6480"/>
            <a:ext cx="8242200" cy="11527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Представь себе, что ты машинист,ведущий пассажирский 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поезд из Москвы в Санкт-Петербург. Всего в составе поезда 13 вагонов. Поезд обслуживается бригадой в 30 человек. Начальнику поезда 46 лет. Кочегар на 3 года старше машиниста. Сколько лет машинисту поезда? 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6T16:32:42Z</dcterms:created>
  <dc:creator>XTreme</dc:creator>
  <dc:description/>
  <dc:language>en-US</dc:language>
  <cp:lastModifiedBy>Елена</cp:lastModifiedBy>
  <dcterms:modified xsi:type="dcterms:W3CDTF">2012-12-03T05:18:13Z</dcterms:modified>
  <cp:revision>9</cp:revision>
  <dc:subject/>
  <dc:title>Разминка</dc:title>
</cp:coreProperties>
</file>