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190-1ACB-4C52-9A6E-4CD27D5F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EBA-FD1E-4321-926F-50990AC5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233A9-E024-4018-B5E7-9B789037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1FE8D-C752-4C6B-8D5A-9B5D747F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9473C-88BD-4DCB-92B2-E3A84F90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8F490-95EF-451B-8F48-C911333E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5872F-EAA7-40AD-8852-6244BF75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C11F6-7BA8-41D9-91A0-BE35DD0A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FECF3-D667-4167-A34D-1CFD4F2A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E6ED4-B2DB-4B2D-AB19-89D597CC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4F597-16A2-43FC-B3FA-2C7AEADF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1B7-A488-4731-8C01-3D53D0F7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004-F225-4FF1-A7BC-2F905067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3FE0-3328-4744-9808-BD757EFA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E1C8-158E-40C3-BB6B-3F092E2E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7ECC-4518-494C-81C0-DD622490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EB3A-D20E-4C01-AB07-76E12490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D2B1-0C72-4A38-9183-6BA5FF95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C383-E02E-4894-A1E2-5EDB3640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FFBA-F4BE-4933-8952-C96114AC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D41-88A1-458B-9C70-5F88E2CE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4A53-22E0-4616-B84F-17C618C0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F956-4500-435C-9290-33751A04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713A-6E5E-404E-8297-3CDA56DD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33F3-D82F-4315-8647-FFE8279B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B79F-7E65-4123-8188-90D77878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4D7CC-EB15-4B91-8266-F469E3A3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B3D2A-B2B5-4982-A6A3-DF741A34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319B3-32FF-4F21-B1F6-4524AC5A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6A60D-FA56-48F3-8A30-05FD0382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A2414-AA9A-4412-BC33-880594C8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60B-8394-497A-9DB0-FFBE0F2D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0CE46-40D2-41DD-BF80-CA1F4243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F165-CD27-4CC6-9D47-CF4E3A59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F1130-902A-433B-95DF-2AE77567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12A38-1D8A-421B-B092-758D02DA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0F3D3-E66E-41CB-9CE8-CAF5394B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E901D-08BF-40DE-9188-781F8A13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E65CA-F0BF-4841-B07C-DD8CCA9A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3C70F-3F01-4B9D-8A40-F7CC5ABD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661FC-A10A-4529-BBAD-0370F433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F002F-50AC-4281-B702-1891AA4D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A3F-CF1A-4B66-B1C1-4C7DC384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A64B4-04FB-4FF5-B315-6A798837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CA5FC-60D5-42CF-83C8-419B44ED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27949-0E94-4472-978E-9F47CBE2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1043A-AC9D-4753-96D6-743C5CBF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6055D-96E0-408A-941B-D99F4828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47699-853F-48D6-958D-66E9EFDA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7FB6D-BD67-4CE3-A606-08728698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BF4C9-FC4F-40AE-9F52-4A5DBC82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B2F27-9D4D-46A4-8E49-E2AA86D2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7F3E4-9E6F-43FB-9341-6C43AE92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93A-5A15-4F93-B6B3-CAB7ABE3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CE985-5502-4712-B7DD-24D2AB3A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C5D0E-9563-4492-9780-31FE5DA8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1FFB9-4A58-46AD-8B0A-47CB39D4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B873F-67F4-4688-86BC-EC9B00D3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FB848-949F-43D8-8CCA-BB66EC1F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7C6EC-D877-45B5-95A8-50B85490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3B352-CDA7-4680-A7AC-C9D9D5E9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BF68A-C11B-4D61-BD40-BFA3FFB9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221B0-0C34-4486-9B3C-E4333C9F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B4F69-3D6C-4561-9BB9-0A59E427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E15-C4A5-4592-981B-F130671E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ADC85-4666-4B90-90CF-52AC8B5A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7D7AF-7D3C-4067-8680-CC155D7B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10E22-1985-418C-96C6-23D2E4A5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2CF56-6CA6-4246-920A-DF81A640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6F59C-3B25-4C5A-A62F-35C73897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C5534-F580-4C49-8641-DB3B78A6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55306-AC36-4CCE-B364-3984B20B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7714B-8E72-43B4-96EC-75B8D913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E3002-5471-4932-A0E1-9E55011B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30934-7834-45C5-9E5A-C7C2E04B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39F-6859-4314-AD56-18DEAB05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CB40F-3447-4E42-B3C8-842134CD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0EAC5-9DF9-4AB6-9A58-0A759895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CF178-E575-401C-B770-C58E7457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7EA77-4776-413E-9F60-BFE8D2A1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99ED4-2A62-4842-9875-673C530C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4C34D-EDFC-4958-9C88-B79350AC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1D671-AD27-47C1-8037-459FB614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50543-2255-46DF-9CB9-A5829306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CAA0B-FAA5-4AE8-9C54-D963B2C4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0FBF3-A8B3-4FC6-901B-565AC114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E0B-4D0B-4050-B6D6-2F62266A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75BA7-7E81-41EC-B1D7-2197F592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21CBC-489F-4025-8B1B-48E21569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6A279-65B2-4ACC-A1D7-D924C6C7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B2BC7-3F79-46F2-AA78-7446DB6C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F3D8D-0DF9-49AE-972A-6A351DAE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3ADA5-425D-41AB-8682-B43BB3BA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80493-7C9B-4171-A943-B4F2699C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46A9C-FB6E-4FD5-B4DA-29021EC5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4B7EF-2B48-473C-A9A2-D4D96ED3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D88C5-46DF-4F4E-9E83-2692F29E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A5D-36AE-4727-85BC-E2AA2A03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9CD9A-11EF-44F5-AFBE-0762EACF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F2CD2-3420-4275-B45E-0A028C16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1BD54-CB8E-4AE8-AEDD-004BDF5E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2B0DB-B495-4E26-BDB6-92DA4A79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24B83-27C3-4391-8AAE-719D0DD7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13CF1-2EEA-4CFA-81B4-CF7684F1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0CD04-065C-4EB2-A0DE-356C5E81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6B163-EE67-4532-91D8-23768EEB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23B02-82E0-4423-B188-23CAB746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F3C2B-80C3-47EC-B4C6-1F41CD17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AA48-7B4D-404D-A9E1-020CE339E43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2BD6-C384-49A8-96A2-69334D4460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3681-79B6-43E5-80A4-7202B3851E5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1F56-BA6C-4652-964C-7BFD119F7B2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813B-CAB0-425C-8897-5015E0D9617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A761-3991-46E5-A182-47490E5D990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A17A-EC57-4EAA-A93F-4BC6FD1C641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53A1-539A-4A69-8F4C-99972385EA5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3828-C082-448C-8A46-10155B4CCAB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-476280" y="-298440"/>
            <a:ext cx="9626760" cy="3217680"/>
          </a:xfrm>
          <a:prstGeom prst="rect">
            <a:avLst/>
          </a:prstGeom>
          <a:ln w="0">
            <a:noFill/>
          </a:ln>
        </p:spPr>
      </p:pic>
      <p:pic>
        <p:nvPicPr>
          <p:cNvPr id="400" name="Содержимое 5" descr="789px-Gregor_Reisch,_Margarita_Philosophica,_Typus_Logice.jpg"/>
          <p:cNvPicPr/>
          <p:nvPr/>
        </p:nvPicPr>
        <p:blipFill>
          <a:blip r:embed="rId2"/>
          <a:stretch/>
        </p:blipFill>
        <p:spPr>
          <a:xfrm>
            <a:off x="2643120" y="1857240"/>
            <a:ext cx="37148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89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9. Найти «спрятанное» слово (соединяя слоги)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а) обруч, кара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б) пастух, плотина, лагерь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в) сапоги, парашют, фантазия;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г) косари, заморозки, лётчик;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д) мука, рагу, диван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е) карта, путина, налёт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ж) молоко, олово, раскол.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11397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10. Россыпи. По анаграммам найти исходные слова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а) лбко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б) упкс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в) вцтеко;  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г) умызак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д) окамднри;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е) лкбуинак.   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89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Он был задумчив и спокоен,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Загадкой круга увлечён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ад ним невежественный воин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Взмахнул разбойничьим мечом.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Прошла столетий вереница,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аучный подвиг не забыт,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икто не знает, кто убийца,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И знают все, кто был убит.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8715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атематик, оказавшись случайно в небольшом городке, и желая как то убить время, решил постричься. В городе имелось два мастера, у каждого из них своя мастерская. Заглянув к одному из них, математик увидел, что в салоне грязно, сам мастер одет неряшливо, и небрежно пострижен.  В салоне другого мастера было идеально чисто, а владелец его был укоризненно одет и аккуратно пострижен. Подумав, математик пошел стричься к первому парикмахеру. Уважаемые знатоки! Не можете ли вы объяснить столь странное решение математика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390600" y="189000"/>
            <a:ext cx="8240760" cy="11397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1125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2.Король сказал королеве: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«Сейчас мне вдвое больше лет,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чем было Вам тогда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Когда мне было столько лет,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колько Вам теперь.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Когда же Вам будет столько лет, Сколько мне теперь,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Нам вместе будет 63 года».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колько лет каждому из них теперь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365 - 62 = 303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303- 100 = 203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203 - 183 = 20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20-15=5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1139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Эти люди появились сравнительно недавно. В одной из книг, изданной в 1996 году,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им дается такое определение: это те, кто «пытаются исправить существующую ситуацию на желаемую путем минимального изменения, по возможности - незаметного». Кто они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Впервые ОН был использован в качестве разделителя ещё в 1972 году. Как его с тех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пор только не называли! И «улитка», и «хвостик», и даже «лягушка». Я уверен, что почти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каждый из вас ежедневно, по крайней мере, видит ЕГО. Напишите ЕГО.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Витя окончил семь классов. На воспитание Вити в год  отец  тратит по 5 ремней. Сколько ремней потратит папа за эти семь лет, если Витя 3 раза оставался  на второй год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536400" y="25560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а столе стояли 3 стакана с вишней. Оксана съела один стакан вишни. Сколько стаканов осталось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Зажгли 7 свечей, 2 из них погасли. Сколько свечей осталось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а) Чем кончается день и ночь? 6) Чем кончается лето и начинается осень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7</a:t>
            </a: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В каждом из четырех углов комнаты сидит кошка. На­против каждой из этих кошек сидит кошка. Сколько всего в этой комнате кошек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Представь себе, что ты машинист,ведущий пассажирский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поезд из Москвы в Санкт-Петербург. Всего в составе поезда 13 вагонов. Поезд обслуживается бригадой в 30 человек. Начальнику поезда 46 лет. Кочегар на 3 года старше машиниста. Сколько лет машинисту поезда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32:42Z</dcterms:created>
  <dc:creator>XTreme</dc:creator>
  <dc:description/>
  <dc:language>en-US</dc:language>
  <cp:lastModifiedBy>Елена</cp:lastModifiedBy>
  <dcterms:modified xsi:type="dcterms:W3CDTF">2012-12-03T05:18:13Z</dcterms:modified>
  <cp:revision>9</cp:revision>
  <dc:subject/>
  <dc:title>Разминка</dc:title>
</cp:coreProperties>
</file>