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8.png" ContentType="image/png"/>
  <Override PartName="/ppt/media/image21.jpeg" ContentType="image/jpeg"/>
  <Override PartName="/ppt/media/image16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155-B9F9-4C9E-A6FF-FF225F3A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C2D-EDBD-4D4C-8F3B-88F5BF0C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62768-D46D-47DF-87C1-46CD0DA4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CFEE1-57B8-4696-BE14-9BEE63EF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F9A9C-EBEC-48B4-B04A-D714CBBC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E9CAB-7C41-4542-9CD6-333DE561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74F57-0938-450D-9603-8FD21BE3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14CAC-F337-4824-9762-6797C2F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2904A-465B-4E13-A414-4C081426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6FDCB-A80B-4F57-B594-75C0A5B0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1EA9F-D184-440A-BEDD-449FD702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E7A8D-575A-4B86-85B9-225A8536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682-877E-4B47-81FC-BEB05FD6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83E9E-E9C8-484A-B68C-A8AF3340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1E1F5-6D2D-4017-BFF9-2E0BA437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D4DAF-1ED2-4FCE-BB8F-9FCFC5F2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58942-C6DB-4A9F-8710-2CF85DF3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FA54E-45A4-4DC2-8B8B-B8B20FA1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78434-274C-4DC6-8F76-A7F7EFF1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F5D41-5534-43C0-BBC6-E5AF24EC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0E124-B061-4F82-B704-0AC19DA0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6560E-B5C6-4DC1-9D1F-B1021DA7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C69BF-ECD4-46C9-8415-1F134408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3DD-701E-4603-9D3D-C0B4F412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5CDD8-6968-4A4A-A066-E180D2D5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2C565-E0DD-40BB-A1FF-2885A8F1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CCEDE-3CE5-4732-8F27-211C7054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91947-DF78-4133-8F1A-5204E8ED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07BE6-ADAF-495E-ACEA-47F756DA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12CD3-2401-4B02-A327-33DBE732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3C60B-9360-456D-9FE4-2049038D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F8994-6328-46E3-B513-A5887D60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33EA8-604A-4AF6-828E-E2A903CA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CE03A-DF16-4122-8360-199BBB83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68A3-B4CE-450D-B7F4-17A2EB91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4710B-0EFF-4AF0-8AD8-AAFAC3C8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6B8CC-C490-45BC-8462-5FC5B91A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8CF3E-4A97-43CD-AC6A-90F1D4BF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E2951-EBB8-447F-9553-0FA26660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D2A16-1505-4D53-99ED-F107AF9B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273B5-43FB-4B2A-9845-E0D1CE66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2ADDD-8CF5-4A63-8B44-0B682673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72653-257E-4217-B0A9-F9A85D3F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78636-14DE-4655-8C2B-A5479768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E77D6-C0A3-4E58-AA14-FDF229F8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39FE-D144-4029-99ED-8F4B9C02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730CD-94EB-4CE8-AD0A-7B49A65D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3DBE4-317E-4AAE-AACC-79D52609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FE035-9A01-4C6B-8215-93BDB308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A94CA-CB46-4064-A810-E1066C46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DE89D-6EEB-4AC3-830E-2AA9F033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4F1F-F9D2-4AE9-AFDF-8A4062F1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F2A2-4859-4AB2-A409-06DA1A1C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9E39-CBD7-4440-920B-FF4D75BC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858D-8C8D-4F54-8A07-FC9D3AD5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36FC-7C41-4A71-BC76-07BC1E92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5A3-4A8C-462D-B5D1-65862792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7276-555C-4D5D-BD78-17097182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07A1-DBAC-4CEA-8CF0-3646974A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412F-C4D2-4275-B706-571F6FE1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18E9-1622-40A6-9605-151B5E1E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A3A3-E26F-4366-BE12-42465195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2151-AC5D-4044-8C94-E7F4177B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B30B-8919-4DB1-B227-99FAD285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8456-29F3-4FEB-AC67-D09390B1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F201-C8DC-4569-8594-7AC3A674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FDBB-1CF5-4549-9C1F-8569816F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901-3333-431C-B592-EDFDED1C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75E5-2110-40F7-802B-73EEAADA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1057-C271-413E-B0BF-E12EE5F0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A8A90-CBDE-4273-83CF-1931132B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BFDE-296E-43FD-B517-1277A399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D890-4288-4594-A4D0-C07DC6F2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B3E7A-B031-45E6-9458-641017EB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5C62-E28B-4878-93B6-30CE8F2B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51FEF-D56B-48CE-A7D9-86D9C4B5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51836-940E-44A1-81FE-27E0C518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1656F-463C-46E9-B224-1347F87B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BBB-9F11-4B4B-91B7-93467B0A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16FD-0DC8-405F-8CF9-89784400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9510-4C67-43BD-A9C9-F44ADC5D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57F8B-F3CA-4D2F-932D-D276DE1B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CA42-6A44-4A68-B69B-80C678FE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E0F56-48FA-44E0-B99E-966B0CA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1EE81-B53F-4429-9FA7-963870B7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2D120-99C8-48A0-9028-40312DDF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7C475-4DC8-4A2B-89DB-EA9ECDDA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2AA8-77A0-4145-AD79-E0A8C9E5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0BAC4-0143-41A3-AD01-EDA6FAC8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A91-4DE1-440E-96F6-BB9E19E3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04E16-A159-4B33-BF89-75B480E6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660D3-AE8A-403F-9E23-8559726D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4F747-326C-4911-A5DE-882A8CF0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FC01E-A4EB-4C95-8294-70B0829C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8498A-BD2C-4F3B-80C0-1E6D8A10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18AA6-6357-4FAA-9D3C-85D80ABE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BB89A-F94A-4BFA-AD41-459464D8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96594-D6F7-4761-97BA-9DD1704E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70A8A-2ACE-4FD3-9271-22F62CA7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932FE-963F-43A4-AAF4-0D815B56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769-5E14-4427-B592-92873CBD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C7A61-9B13-483C-970D-ADDC7B1C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26143-8031-4E57-B575-1ED58A58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3675B-8747-4CBB-A13D-3CFD1C4F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0C439-1819-4177-BA5D-B6CAED99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DB9F6-0EA0-444D-9C3F-FBAE8C1A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42E38-29FC-4F90-B10B-C21F4FCC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5A102-B86E-4BAF-BF75-CC1147D3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3C0D0-5225-475D-9D0D-BC14EC9C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C29B4-5735-4E64-9928-9FF041F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AAF48-D200-47A2-9C30-EC4F128D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749-35BA-48D2-89BA-7A1BFDD1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FFA39-7388-4CF1-B021-59B0F980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95377-C38F-4D17-B563-E69FA1EC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F509B-BA78-4964-B611-B10738BB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B1C16-6C92-4FE9-8C8A-9D9271A1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AA3C6-E8D5-44BC-BDCA-CFE918F6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7845A-E47D-45E1-94F1-A6CE0785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F5E9C-AF97-405D-AE27-66B3815B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1C87E-8AC2-4360-B45C-A7C6CEF8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5B1A9-BACB-4CE4-987B-0F976862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DB537-882C-43B5-BC72-DB7A9CF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BFC-E8FF-4FA0-8C0B-A7CCA33C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2598C-AAA0-405C-8FB6-FE1B675C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D7100-ABC4-491E-9C70-EE407761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32DFC-C26E-4898-B93A-527E7D3B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8123C-911F-4E98-9C45-528F3E97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F37FA-E3E0-4992-9119-145F15E0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5D3F3-6DAF-46CC-9BDE-EBA4DAEE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4EDDA-AA6D-4A81-9548-71624909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496C1-767A-47B7-BACE-3BCCD143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D80A9-6915-4582-AFB7-BB6D6DB6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050EA-7975-4F82-BB22-EE3E4DDF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1F7-AD87-4773-B1E4-0AEB3123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5F500-1EB8-4728-9563-323F190B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F3813-4A59-4EF1-91C6-27482846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76E97-A222-4C5B-AE6F-7FC1A2F5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CCFD0-1B7B-432A-816A-CDB264F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16983-080E-4F88-B092-2A784E07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64E3F-F917-46A1-AA2D-11A72845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F45FE-AE70-40EF-85A4-5AA16E9F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1D218-5637-4920-AB78-22DBCAD7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F2A4A-A3E3-4060-8D4C-450136FE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7F6B0-1225-4966-B090-AE5DD760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A097-797C-4CA6-8B7C-D183E24F91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ABF1-3344-49D9-81DE-446908D1D5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A33F-5D48-4AE1-A3AB-C7E512A53D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0C39-08E2-4A2E-A85C-B27D37459C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8EC1-C5E5-41DB-8204-9A08F9E9CB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ABCC-7A2D-4968-A1D9-838AC0F3AC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8C7E-0119-4306-9C98-F20EC07C88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B48A-026F-4FB3-A0F4-075E798F7E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14E9-C5E8-4DE1-B4B2-72ADA9EC61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77C5-D325-4323-85C7-317B837369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1487-9DA0-4EC6-8661-F445EC0129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39FB-DA2F-43DF-B0F3-0694BBF1AB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"/>
          <p:cNvSpPr/>
          <p:nvPr/>
        </p:nvSpPr>
        <p:spPr>
          <a:xfrm>
            <a:off x="5072040" y="42958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Жить среди людей и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частливым - это значит, прежде все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ть выполнять свой долг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.А.Сухомлин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Прямоугольник 4" descr=""/>
          <p:cNvPicPr/>
          <p:nvPr/>
        </p:nvPicPr>
        <p:blipFill>
          <a:blip r:embed="rId2"/>
          <a:stretch/>
        </p:blipFill>
        <p:spPr>
          <a:xfrm>
            <a:off x="487440" y="1200240"/>
            <a:ext cx="8454960" cy="23652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/>
          <p:cNvSpPr/>
          <p:nvPr/>
        </p:nvSpPr>
        <p:spPr>
          <a:xfrm>
            <a:off x="571680" y="214200"/>
            <a:ext cx="835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ниципальное бюджетное учреждение «Комплексный центр социально-досугового обслуживания детей и молодёж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ростковый клуб «Шан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Прямоугольник 14" descr=""/>
          <p:cNvPicPr/>
          <p:nvPr/>
        </p:nvPicPr>
        <p:blipFill>
          <a:blip r:embed="rId1"/>
          <a:stretch/>
        </p:blipFill>
        <p:spPr>
          <a:xfrm>
            <a:off x="341280" y="334800"/>
            <a:ext cx="8321760" cy="1281240"/>
          </a:xfrm>
          <a:prstGeom prst="rect">
            <a:avLst/>
          </a:prstGeom>
          <a:ln w="0">
            <a:noFill/>
          </a:ln>
        </p:spPr>
      </p:pic>
      <p:grpSp>
        <p:nvGrpSpPr>
          <p:cNvPr id="562" name="Прямоугольник 16"/>
          <p:cNvGrpSpPr/>
          <p:nvPr/>
        </p:nvGrpSpPr>
        <p:grpSpPr>
          <a:xfrm>
            <a:off x="3481560" y="1407960"/>
            <a:ext cx="5387760" cy="957240"/>
            <a:chOff x="3481560" y="1407960"/>
            <a:chExt cx="5387760" cy="957240"/>
          </a:xfrm>
        </p:grpSpPr>
        <p:pic>
          <p:nvPicPr>
            <p:cNvPr id="563" name="Прямоугольник 16" descr=""/>
            <p:cNvPicPr/>
            <p:nvPr/>
          </p:nvPicPr>
          <p:blipFill>
            <a:blip r:embed="rId2"/>
            <a:stretch/>
          </p:blipFill>
          <p:spPr>
            <a:xfrm>
              <a:off x="3481560" y="1407960"/>
              <a:ext cx="53877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3500280" y="1428840"/>
              <a:ext cx="535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Цель: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действие в успешной адаптации и интеграции в общество семей переселенцев с деть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5" name="Picture 7" descr="H:\DCIM\100CANON\IMG_2567.JPG"/>
          <p:cNvPicPr/>
          <p:nvPr/>
        </p:nvPicPr>
        <p:blipFill>
          <a:blip r:embed="rId3"/>
          <a:stretch/>
        </p:blipFill>
        <p:spPr>
          <a:xfrm>
            <a:off x="142920" y="1714680"/>
            <a:ext cx="3214800" cy="250020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19"/>
          <p:cNvSpPr/>
          <p:nvPr/>
        </p:nvSpPr>
        <p:spPr>
          <a:xfrm>
            <a:off x="285840" y="5214960"/>
            <a:ext cx="47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участник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семей переселенцев, имеющих де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детей переселенцев, посещающие к/ш «Шанс» в возрасте от 8 до12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"/>
          <p:cNvPicPr/>
          <p:nvPr/>
        </p:nvPicPr>
        <p:blipFill>
          <a:blip r:embed="rId4"/>
          <a:stretch/>
        </p:blipFill>
        <p:spPr>
          <a:xfrm>
            <a:off x="5143680" y="4143240"/>
            <a:ext cx="3500280" cy="257184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21"/>
          <p:cNvSpPr/>
          <p:nvPr/>
        </p:nvSpPr>
        <p:spPr>
          <a:xfrm>
            <a:off x="357120" y="4643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оки реализаци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января 2012г. по декабрь 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Прямоугольник 22"/>
          <p:cNvGrpSpPr/>
          <p:nvPr/>
        </p:nvGrpSpPr>
        <p:grpSpPr>
          <a:xfrm>
            <a:off x="3481560" y="2341440"/>
            <a:ext cx="5675040" cy="2889360"/>
            <a:chOff x="3481560" y="2341440"/>
            <a:chExt cx="5675040" cy="2889360"/>
          </a:xfrm>
        </p:grpSpPr>
        <p:pic>
          <p:nvPicPr>
            <p:cNvPr id="570" name="Прямоугольник 22" descr=""/>
            <p:cNvPicPr/>
            <p:nvPr/>
          </p:nvPicPr>
          <p:blipFill>
            <a:blip r:embed="rId5"/>
            <a:stretch/>
          </p:blipFill>
          <p:spPr>
            <a:xfrm>
              <a:off x="3481560" y="2341440"/>
              <a:ext cx="5675040" cy="28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3500280" y="2357280"/>
              <a:ext cx="56437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Задачи: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пособствовать эффективной адаптации к новым жизненным условиям семей переселенцев,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действовать укреплению межнациональных отношений, развивать у представителей различных народностей толерантное отношения друг к другу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92160"/>
            <a:ext cx="8083800" cy="135864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1"/>
          <p:cNvSpPr/>
          <p:nvPr/>
        </p:nvSpPr>
        <p:spPr>
          <a:xfrm>
            <a:off x="357120" y="2792520"/>
            <a:ext cx="3714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ения уровня социальной адаптированности, автономности и нравственной воспитанности детей и их родителей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их национальной толерант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42960" y="4866120"/>
            <a:ext cx="77868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ное направ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лизации проекта состоит из комплекса занятий для детей из семей переселенцев, которые расположены в определенной последовательности, и с учетом психолого-возрастных особенностей.  В игровой форме ребята знакомятся с особенностями русского менталит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виды работы с родителями переселенцев – это консультации, информирования и беседы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Прямоугольник 6" descr=""/>
          <p:cNvPicPr/>
          <p:nvPr/>
        </p:nvPicPr>
        <p:blipFill>
          <a:blip r:embed="rId2"/>
          <a:stretch/>
        </p:blipFill>
        <p:spPr>
          <a:xfrm>
            <a:off x="103320" y="1994040"/>
            <a:ext cx="4267080" cy="938160"/>
          </a:xfrm>
          <a:prstGeom prst="rect">
            <a:avLst/>
          </a:prstGeom>
          <a:ln w="0">
            <a:noFill/>
          </a:ln>
        </p:spPr>
      </p:pic>
      <p:pic>
        <p:nvPicPr>
          <p:cNvPr id="576" name="Прямоугольник 8" descr=""/>
          <p:cNvPicPr/>
          <p:nvPr/>
        </p:nvPicPr>
        <p:blipFill>
          <a:blip r:embed="rId3"/>
          <a:stretch/>
        </p:blipFill>
        <p:spPr>
          <a:xfrm>
            <a:off x="4595760" y="1994040"/>
            <a:ext cx="4133880" cy="938160"/>
          </a:xfrm>
          <a:prstGeom prst="rect">
            <a:avLst/>
          </a:prstGeom>
          <a:ln w="0">
            <a:noFill/>
          </a:ln>
        </p:spPr>
      </p:pic>
      <p:pic>
        <p:nvPicPr>
          <p:cNvPr id="577" name="Прямоугольник 9" descr=""/>
          <p:cNvPicPr/>
          <p:nvPr/>
        </p:nvPicPr>
        <p:blipFill>
          <a:blip r:embed="rId4"/>
          <a:stretch/>
        </p:blipFill>
        <p:spPr>
          <a:xfrm>
            <a:off x="2548080" y="4065480"/>
            <a:ext cx="3949560" cy="93996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10"/>
          <p:cNvSpPr/>
          <p:nvPr/>
        </p:nvSpPr>
        <p:spPr>
          <a:xfrm>
            <a:off x="4643280" y="2857680"/>
            <a:ext cx="39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 способствует воспитанию в детях и  родителях терпимости и снижению агресс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Стрелка вправо 15"/>
          <p:cNvSpPr/>
          <p:nvPr/>
        </p:nvSpPr>
        <p:spPr>
          <a:xfrm rot="5400000">
            <a:off x="2964600" y="2607480"/>
            <a:ext cx="2928960" cy="4284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Стрелка вправо 16"/>
          <p:cNvSpPr/>
          <p:nvPr/>
        </p:nvSpPr>
        <p:spPr>
          <a:xfrm rot="5400000">
            <a:off x="5840280" y="1660320"/>
            <a:ext cx="857160" cy="3938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Стрелка вправо 17"/>
          <p:cNvSpPr/>
          <p:nvPr/>
        </p:nvSpPr>
        <p:spPr>
          <a:xfrm rot="5400000">
            <a:off x="2124720" y="1661040"/>
            <a:ext cx="857160" cy="3924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Содержимое 3" descr=""/>
          <p:cNvPicPr/>
          <p:nvPr/>
        </p:nvPicPr>
        <p:blipFill>
          <a:blip r:embed="rId1"/>
          <a:stretch/>
        </p:blipFill>
        <p:spPr>
          <a:xfrm>
            <a:off x="609480" y="1127160"/>
            <a:ext cx="7882200" cy="4097160"/>
          </a:xfrm>
          <a:prstGeom prst="rect">
            <a:avLst/>
          </a:prstGeom>
          <a:ln w="0">
            <a:noFill/>
          </a:ln>
        </p:spPr>
      </p:pic>
      <p:pic>
        <p:nvPicPr>
          <p:cNvPr id="583" name="Заголовок 5" descr=""/>
          <p:cNvPicPr/>
          <p:nvPr/>
        </p:nvPicPr>
        <p:blipFill>
          <a:blip r:embed="rId2"/>
          <a:stretch/>
        </p:blipFill>
        <p:spPr>
          <a:xfrm>
            <a:off x="353880" y="328680"/>
            <a:ext cx="8545680" cy="866880"/>
          </a:xfrm>
          <a:prstGeom prst="rect">
            <a:avLst/>
          </a:prstGeom>
          <a:ln w="0">
            <a:noFill/>
          </a:ln>
        </p:spPr>
      </p:pic>
      <p:sp>
        <p:nvSpPr>
          <p:cNvPr id="584" name="Прямая соединительная линия 7"/>
          <p:cNvSpPr/>
          <p:nvPr/>
        </p:nvSpPr>
        <p:spPr>
          <a:xfrm>
            <a:off x="2643120" y="3214800"/>
            <a:ext cx="5786640" cy="1440"/>
          </a:xfrm>
          <a:prstGeom prst="line">
            <a:avLst/>
          </a:prstGeom>
          <a:ln w="381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8" descr="G:\презентация шанс\фото соц.педагогв\IMG_2522.jpg"/>
          <p:cNvPicPr/>
          <p:nvPr/>
        </p:nvPicPr>
        <p:blipFill>
          <a:blip r:embed="rId1"/>
          <a:stretch/>
        </p:blipFill>
        <p:spPr>
          <a:xfrm>
            <a:off x="4929120" y="14292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G:\презентация шанс\фото соц.педагогв\IMG_2510.jpg"/>
          <p:cNvPicPr/>
          <p:nvPr/>
        </p:nvPicPr>
        <p:blipFill>
          <a:blip r:embed="rId2"/>
          <a:stretch/>
        </p:blipFill>
        <p:spPr>
          <a:xfrm>
            <a:off x="4786200" y="3571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C:\Users\Ильсияр\Desktop\презентация клуба\фото соц.педагогв\профессия\IMG_2519.jpg"/>
          <p:cNvPicPr/>
          <p:nvPr/>
        </p:nvPicPr>
        <p:blipFill>
          <a:blip r:embed="rId3"/>
          <a:stretch/>
        </p:blipFill>
        <p:spPr>
          <a:xfrm>
            <a:off x="285840" y="3643200"/>
            <a:ext cx="4205160" cy="2928960"/>
          </a:xfrm>
          <a:prstGeom prst="rect">
            <a:avLst/>
          </a:prstGeom>
          <a:ln w="0">
            <a:noFill/>
          </a:ln>
        </p:spPr>
      </p:pic>
      <p:grpSp>
        <p:nvGrpSpPr>
          <p:cNvPr id="588" name="Группа 5"/>
          <p:cNvGrpSpPr/>
          <p:nvPr/>
        </p:nvGrpSpPr>
        <p:grpSpPr>
          <a:xfrm>
            <a:off x="142920" y="357120"/>
            <a:ext cx="4857840" cy="2786040"/>
            <a:chOff x="142920" y="357120"/>
            <a:chExt cx="4857840" cy="2786040"/>
          </a:xfrm>
        </p:grpSpPr>
        <p:sp>
          <p:nvSpPr>
            <p:cNvPr id="589" name="Нашивка 6"/>
            <p:cNvSpPr/>
            <p:nvPr/>
          </p:nvSpPr>
          <p:spPr>
            <a:xfrm>
              <a:off x="142920" y="357120"/>
              <a:ext cx="4857840" cy="27860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2786040"/>
                <a:gd name="textAreaBottom" fmla="*/ 2786400 h 278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6" y="0"/>
                  </a:lnTo>
                  <a:lnTo>
                    <a:pt x="21600" y="10800"/>
                  </a:lnTo>
                  <a:lnTo>
                    <a:pt x="17306" y="21600"/>
                  </a:lnTo>
                  <a:lnTo>
                    <a:pt x="0" y="21600"/>
                  </a:lnTo>
                  <a:lnTo>
                    <a:pt x="4294" y="10800"/>
                  </a:lnTo>
                  <a:close/>
                </a:path>
              </a:pathLst>
            </a:cu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Нашивка 4"/>
            <p:cNvSpPr/>
            <p:nvPr/>
          </p:nvSpPr>
          <p:spPr>
            <a:xfrm>
              <a:off x="571320" y="357120"/>
              <a:ext cx="400068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40" rIns="0" tIns="13320" bIns="13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С детьми проводятся игры, беседы, формирующие представление о городе Ноябрьск и его жителях, о понятии дружбы, так как очень важно научить детей разных национальностей дружить и жить в одном коллектив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Группа 10"/>
          <p:cNvGrpSpPr/>
          <p:nvPr/>
        </p:nvGrpSpPr>
        <p:grpSpPr>
          <a:xfrm>
            <a:off x="214200" y="357120"/>
            <a:ext cx="4786560" cy="2428920"/>
            <a:chOff x="214200" y="357120"/>
            <a:chExt cx="4786560" cy="2428920"/>
          </a:xfrm>
        </p:grpSpPr>
        <p:sp>
          <p:nvSpPr>
            <p:cNvPr id="592" name="Нашивка 11"/>
            <p:cNvSpPr/>
            <p:nvPr/>
          </p:nvSpPr>
          <p:spPr>
            <a:xfrm>
              <a:off x="214200" y="357120"/>
              <a:ext cx="4786560" cy="2357640"/>
            </a:xfrm>
            <a:custGeom>
              <a:avLst/>
              <a:gdLst>
                <a:gd name="textAreaLeft" fmla="*/ 0 w 4786560"/>
                <a:gd name="textAreaRight" fmla="*/ 4786920 w 4786560"/>
                <a:gd name="textAreaTop" fmla="*/ 0 h 2357640"/>
                <a:gd name="textAreaBottom" fmla="*/ 2358000 h 235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56" y="0"/>
                  </a:lnTo>
                  <a:lnTo>
                    <a:pt x="21600" y="10800"/>
                  </a:lnTo>
                  <a:lnTo>
                    <a:pt x="17656" y="21600"/>
                  </a:lnTo>
                  <a:lnTo>
                    <a:pt x="0" y="21600"/>
                  </a:lnTo>
                  <a:lnTo>
                    <a:pt x="3944" y="10800"/>
                  </a:lnTo>
                  <a:close/>
                </a:path>
              </a:pathLst>
            </a:cu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Нашивка 4"/>
            <p:cNvSpPr/>
            <p:nvPr/>
          </p:nvSpPr>
          <p:spPr>
            <a:xfrm>
              <a:off x="642600" y="428400"/>
              <a:ext cx="355464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160" rIns="0" tIns="14760" bIns="1476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nstantia"/>
                </a:rPr>
                <a:t>для семей по актуальным проблемам проводятся консультации и беседы, и по необходимости предоставляется материальная помощь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5214960" y="428760"/>
            <a:ext cx="3357720" cy="2428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"/>
          <p:cNvPicPr/>
          <p:nvPr/>
        </p:nvPicPr>
        <p:blipFill>
          <a:blip r:embed="rId2"/>
          <a:stretch/>
        </p:blipFill>
        <p:spPr>
          <a:xfrm>
            <a:off x="357120" y="3286080"/>
            <a:ext cx="4143600" cy="30718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7" descr=""/>
          <p:cNvPicPr/>
          <p:nvPr/>
        </p:nvPicPr>
        <p:blipFill>
          <a:blip r:embed="rId3"/>
          <a:stretch/>
        </p:blipFill>
        <p:spPr>
          <a:xfrm>
            <a:off x="4786200" y="328608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3000240" y="3441960"/>
            <a:ext cx="571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познавательной активности, любознательности, расширение общего кругозора и знаний, познавательных интересов и твор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знание детей ценности и важности профессии;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явление интереса и склонности к определённым профессиям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ажение к людям труд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3"/>
          <p:cNvSpPr/>
          <p:nvPr/>
        </p:nvSpPr>
        <p:spPr>
          <a:xfrm>
            <a:off x="357120" y="285840"/>
            <a:ext cx="8358120" cy="11912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ая деятельность позволяет семьям переселенцев, их детям скорее достичь адаптации и интеграции в общество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8501040" cy="40482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5"/>
          <p:cNvSpPr/>
          <p:nvPr/>
        </p:nvSpPr>
        <p:spPr>
          <a:xfrm>
            <a:off x="500040" y="2214720"/>
            <a:ext cx="8143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оциально-педагогическое и информационное  сопровождение семьей переселенцев с детьми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спешная социализация и интеграция семей переселенцев и их детей в изменившихся социальных услов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воение культурного и исторического наследия города Ноябрьс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ознание детьми переселенцев стойкого уважительного отношения друг к другу представителей различных народ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крепление детско-родительских 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7"/>
          <p:cNvSpPr/>
          <p:nvPr/>
        </p:nvSpPr>
        <p:spPr>
          <a:xfrm>
            <a:off x="428760" y="164304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идаемые результаты по проекту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Таблица 3" descr=""/>
          <p:cNvPicPr/>
          <p:nvPr/>
        </p:nvPicPr>
        <p:blipFill>
          <a:blip r:embed="rId1"/>
          <a:stretch/>
        </p:blipFill>
        <p:spPr>
          <a:xfrm>
            <a:off x="212760" y="927000"/>
            <a:ext cx="8577360" cy="566280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1"/>
          <p:cNvSpPr/>
          <p:nvPr/>
        </p:nvSpPr>
        <p:spPr>
          <a:xfrm>
            <a:off x="0" y="2332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Отчёт по проекту «Мы вмест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социальных педагогов п/к «Шанс» за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квартал 2012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3"/>
          <p:cNvSpPr/>
          <p:nvPr/>
        </p:nvSpPr>
        <p:spPr>
          <a:xfrm>
            <a:off x="785880" y="1071720"/>
            <a:ext cx="77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Если ваша семья нуждается в поддерж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описывается краткое содержание проекта «Мы вместе», что существует в городе подростковый клуб «Шанс» и специалисты, которые помогут детям и  семьям переселенцев  адаптироваться в город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TextBox 4" descr=""/>
          <p:cNvPicPr/>
          <p:nvPr/>
        </p:nvPicPr>
        <p:blipFill>
          <a:blip r:embed="rId1"/>
          <a:stretch/>
        </p:blipFill>
        <p:spPr>
          <a:xfrm>
            <a:off x="2730600" y="212760"/>
            <a:ext cx="3554280" cy="950760"/>
          </a:xfrm>
          <a:prstGeom prst="rect">
            <a:avLst/>
          </a:prstGeom>
          <a:ln w="0">
            <a:noFill/>
          </a:ln>
        </p:spPr>
      </p:pic>
      <p:sp>
        <p:nvSpPr>
          <p:cNvPr id="606" name="TextBox 8"/>
          <p:cNvSpPr/>
          <p:nvPr/>
        </p:nvSpPr>
        <p:spPr>
          <a:xfrm>
            <a:off x="785880" y="278604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85a"/>
                </a:solidFill>
                <a:latin typeface="Arial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35385a"/>
                </a:solidFill>
                <a:latin typeface="Arial"/>
                <a:ea typeface="Times New Roman"/>
              </a:rPr>
              <a:t>«Путеводитель для переселенцев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доставлена информация о нашем городе, и здесь же указаны адреса, и телефоны служб города, которые смогли бы помочь с ориентироваться человеку, недавно приехавшего в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857160" y="440280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63c"/>
                </a:solidFill>
                <a:latin typeface="Arial"/>
                <a:ea typeface="Times New Roman"/>
              </a:rPr>
              <a:t>«Памятка для переселенцев с детьми из стран ближнего и дальнего зарубежья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здесь предоставлена информация о том, что должен знать иностранный гражданин при въезде в РФ, что такое разрешение на временное проживание, как получить вид на жительство и гражданство РФ и как приобретают гражданство РФ де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9:26:19Z</dcterms:created>
  <dc:creator>Luda</dc:creator>
  <dc:description/>
  <dc:language>en-US</dc:language>
  <cp:lastModifiedBy>Ильсияр</cp:lastModifiedBy>
  <dcterms:modified xsi:type="dcterms:W3CDTF">2012-05-02T10:18:42Z</dcterms:modified>
  <cp:revision>276</cp:revision>
  <dc:subject/>
  <dc:title>Презентация PowerPoint</dc:title>
</cp:coreProperties>
</file>