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8.png" ContentType="image/png"/>
  <Override PartName="/ppt/media/image21.jpeg" ContentType="image/jpeg"/>
  <Override PartName="/ppt/media/image16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98C-56C6-43C8-9BF4-0601ACD0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3BA-DB9F-4BF8-91AA-BB21AC03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1E630-9878-47D6-A9D0-0451A955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38818-0CEE-4A1E-811F-9F8E876D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EBDC8-C538-47D3-9E96-CD219422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03508-5E80-43FC-9EC1-86B3D45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924F5-2F2C-4647-BF64-206EF2AA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88F0D-5EAC-46DB-AA2F-D4BBBC45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38545-33DC-41F3-9FC0-D9E71C8E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DE48B-B11A-4A74-AAAF-C79DF6C4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2FCDD-D49D-4AA5-8844-AB8C1D80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5CF02-55FE-4799-AF30-AAC321D7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F03-CEE2-49E8-81AB-352FB0CE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AADF6-DD8F-4C42-8DC4-C8F41CF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62717-C050-4BDF-A684-C1A8EF19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60A8B-3459-4080-894C-D79735A3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7AE9C-A892-4CEF-9167-D33A9C09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50D38-09F4-43DF-BF72-881AADEA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CBA4E-3B3E-436A-8D47-151F6EE7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597F1-AD22-46BA-9069-764337B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ADC6E-D980-4F06-858C-2945542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4EB68-851B-4AB4-8D55-1CAED10B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B9329-967B-40D6-9992-719A1ABC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551-25A7-4087-97EA-D4FEC8DE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53178-4ABD-4E8B-AAF6-A72EF78E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71B0A-CABB-4401-8ECC-396624AC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99DBF-02D7-4921-AF33-5463A80E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2C971-F6B6-402B-846A-C1E3CC3F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7456C-4D81-4C4F-BAFE-80CECC00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BCABC-6617-44A0-B192-F1253C00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389BF-CC67-4073-9970-456AD37D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26FAA-5450-4466-8E54-5C9E910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B8F7B-DCD6-4A6F-AA42-7E0B735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984F7-168A-4745-A75A-82B23BAB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D85B-789E-4AB5-ADFE-3D4B31D3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4CE19-C8FD-4DBC-875B-72B262F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92EC-CD32-4A62-8F1B-B707C00C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30104-D3F3-4385-8C80-D7E5CC0B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6E0BA-B33F-4CEE-844B-3B932E1D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DB303-D305-49DC-9273-A81749F0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4B479-5BFE-4EF4-9D7D-2347D293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5664E-CFD6-400F-A4D5-A9FF66BD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6B715-7BCA-48E8-9FED-533D851D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B211D-F80F-491F-B6B0-552C7515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D9C29-4A26-416D-9648-0FC1C60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7562-46A0-4200-BFE8-1395C97D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7DD9A-BF68-4A12-9A3C-2779F426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72C2A-A258-4E58-BE8D-71E01FF3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FEA67-B2F0-4D3A-9672-1F99EB33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C62CC-0856-4EA8-8503-0A3FCADF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E642A-6728-4898-9DEA-68E3A6D8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7F7B-0307-432E-9618-5E4C6EB3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2226-DBCB-49F4-8610-09230C66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9F49-AA1A-4349-8F54-96964850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CD02-3D8C-48F0-980D-B0318231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C09F-479F-4AC3-9CB5-FA9B45E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4A1-AD20-40C7-A2F5-489C7567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C457-BFB7-4456-982F-25D1205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AFEF-D213-4C03-B7B7-32DBBB82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FD63-D96E-4E3D-A40D-3C285622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848C-D808-4FD2-BD5B-BA88B327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66EE-E3F9-4ACC-AE09-98A9718E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CFF7-947D-4371-9BDC-4281CAE7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F0E2-4F8D-4DD1-8856-E01363F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B034B-A8E5-411A-AC9B-2FBC6542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F2E9-E45A-479E-B85A-9E5BD442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CD336-D6E3-4E0C-9D7D-27DFBE1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561-4291-48DE-830A-633644CE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4F7E-0820-434E-A0BE-7C60516C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8C42-DEC1-4FA9-92DC-1405E5E0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C036-7E82-4A6C-9949-EA8CB498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B66F-C33D-4F03-80D6-5828E55B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77A8-0A74-4725-BEB8-A1634AF4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4357-3527-4F58-8C80-416D8A6F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D661B-2F93-4D43-B50C-D7C38E03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6C76B-BBDA-4BF8-83BA-82736FBC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9EDA-C65A-4B62-B051-BEC5B8FA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7903-EB73-4462-95C5-629406EE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204-4FC8-4F46-BD07-D84785F1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7073-3972-49B2-8465-3CE5EA13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1227-8A16-4D83-9C5F-55C6FDD2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EA24-4C10-4A51-A16A-038E6995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CA77-58B9-4A93-99D2-79EF54BB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4C7F6-AAB2-4B9E-BB36-4EB178AE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D9A6-1642-4298-85C8-5A48A00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A544E-10B9-4D0F-92DC-95F3B7C6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65B5-13A0-41F8-AA01-B65CE937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BBA2-FA1F-4964-8AA8-A0CB8FAE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5EE5A-A41D-4A33-A9A2-DF46878E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33F-7C04-4A76-8A1A-B57DA175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3E21-FF6C-4D74-8EE3-751A889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5EA0-A096-4D15-9ECE-E4A6126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DDF7D-94C9-4F2C-A7A2-0B483423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ECDE-7BDC-4AAA-8E73-A95024AF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C5F9-A044-440B-B6C4-45B22EE0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EEF50-F6F7-41D0-A6EC-1E7545F0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A85D-99FA-4818-9A94-9ED4D6B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1F523-F286-4345-8F7D-42D85323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D02F-D705-432C-A33A-5D9DFB51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57CE-5734-433B-9E82-13D3D292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2A4-F1DF-43BE-929E-3FDF3495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04CA-0201-4C70-8AF5-ABD2104E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0901E-4B97-48EA-8F09-9B450671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BE516-2CBA-4E82-A572-CFDCF7B5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0ED69-E3E4-48D0-B7B4-4C16FEA5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EA46D-D139-4A9A-A17E-C9A528E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7A915-F7E0-44F0-AF80-D169F834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629D2-F30C-4E30-828E-AB69DEB5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FD535-BB84-4098-8029-0055BDF9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52DEA-7679-4C07-AA0B-64BE062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EB30-6CCD-4C37-A5A9-2E4982A3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578-DB98-4CB5-A89D-564099F8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8A24-9250-4588-81C7-6A3660A0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17C78-2AAA-4EBA-8FD0-3ED6C435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B1C17-8AC7-4487-933B-6763D60C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80C6D-9D79-48BC-B5A2-61DC2A93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07A4E-704C-4FBC-9E31-CCBB6365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1BB27-5C20-4C96-87D9-3F897C68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269D-9F3A-4A99-8A59-FBAACF87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5B82F-CE21-41EE-92D4-F13D6642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68B9F-D4B5-42A1-8D14-009F869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C69C1-22F8-4C74-9EE6-217B4127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4D3-52FC-46D8-A4A6-68A764D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851E7-B2BD-4296-AFCD-C4AC97CA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9B93-18C6-4788-B681-2C35DD85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150BE-1465-4328-B553-D7BDE957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7878-BB8A-4732-9C1C-96B59DB6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C047F-B856-42C1-A46B-42A36976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3547D-0C8E-4A29-BDE6-B1F2793E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CA2D5-740F-4603-A7C2-C83EE178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11B6A-1538-4D5D-A02D-20F0D36E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49AB1-9E66-4717-8668-A48D88A3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15FFA-469D-48A8-ACDA-9F146E93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DC2-E2B3-4EE9-AE86-960C7C1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9051E-D1F6-4A26-AAB1-346BD431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031EC-36E5-4DB3-8226-4DD25B78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4C28E-F4FE-429E-8042-D61C1774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9C96B-1278-409D-961E-4A155F80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0E2F8-6FC4-4A6E-B639-74347F21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6BFA7-1F55-4B78-B19D-33C9A7C9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FA4C2-313B-4C37-BD54-28D3510A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2BE4F-64B0-4347-BF05-AA9EA6DA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F340D-E395-4736-B7AA-8927512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6FD47-1AF5-4F71-8EA2-B69B44D0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F187-27CA-4B3C-90B5-1C2498478F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DDFE-9EA6-457B-991C-67E8CAB72A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B5A9-8DCC-45B8-9DD8-1DFA83CEA7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0867-A4C7-41C8-94A4-794506D025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D580-338A-412C-AC11-7AB67C53E4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7E52-6E97-4503-93A3-B9A431F99B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8F1A-1DF1-4734-A697-93BB2CB73C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ACA3-3A7E-49ED-93A0-3BBD976DD8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987C-00DE-4DF4-AB37-2ED18D5FEE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7CCC-7EBD-41D8-B414-E40E8C32B29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FAE5-B20F-4747-80F4-2D2C760378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76D0-E959-425E-A9F9-CF2AE0CA45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5072040" y="42958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Жить среди людей и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частливым - это значит, прежде вс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ть выполнять свой долг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.А.Сухомлин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Прямоугольник 4" descr=""/>
          <p:cNvPicPr/>
          <p:nvPr/>
        </p:nvPicPr>
        <p:blipFill>
          <a:blip r:embed="rId2"/>
          <a:stretch/>
        </p:blipFill>
        <p:spPr>
          <a:xfrm>
            <a:off x="487440" y="1200240"/>
            <a:ext cx="8454960" cy="23652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571680" y="214200"/>
            <a:ext cx="835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учреждение «Комплексный центр социально-досугового обслуживания детей и молодёж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ростковый клуб «Шан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Прямоугольник 14" descr=""/>
          <p:cNvPicPr/>
          <p:nvPr/>
        </p:nvPicPr>
        <p:blipFill>
          <a:blip r:embed="rId1"/>
          <a:stretch/>
        </p:blipFill>
        <p:spPr>
          <a:xfrm>
            <a:off x="341280" y="334800"/>
            <a:ext cx="8321760" cy="1281240"/>
          </a:xfrm>
          <a:prstGeom prst="rect">
            <a:avLst/>
          </a:prstGeom>
          <a:ln w="0">
            <a:noFill/>
          </a:ln>
        </p:spPr>
      </p:pic>
      <p:grpSp>
        <p:nvGrpSpPr>
          <p:cNvPr id="562" name="Прямоугольник 16"/>
          <p:cNvGrpSpPr/>
          <p:nvPr/>
        </p:nvGrpSpPr>
        <p:grpSpPr>
          <a:xfrm>
            <a:off x="3481560" y="1407960"/>
            <a:ext cx="5387760" cy="957240"/>
            <a:chOff x="3481560" y="1407960"/>
            <a:chExt cx="5387760" cy="957240"/>
          </a:xfrm>
        </p:grpSpPr>
        <p:pic>
          <p:nvPicPr>
            <p:cNvPr id="563" name="Прямоугольник 16" descr=""/>
            <p:cNvPicPr/>
            <p:nvPr/>
          </p:nvPicPr>
          <p:blipFill>
            <a:blip r:embed="rId2"/>
            <a:stretch/>
          </p:blipFill>
          <p:spPr>
            <a:xfrm>
              <a:off x="3481560" y="1407960"/>
              <a:ext cx="53877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3500280" y="1428840"/>
              <a:ext cx="535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Цель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действие в успешной адаптации и интеграции в общество семей переселенцев с деть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Picture 7" descr="H:\DCIM\100CANON\IMG_2567.JPG"/>
          <p:cNvPicPr/>
          <p:nvPr/>
        </p:nvPicPr>
        <p:blipFill>
          <a:blip r:embed="rId3"/>
          <a:stretch/>
        </p:blipFill>
        <p:spPr>
          <a:xfrm>
            <a:off x="142920" y="1714680"/>
            <a:ext cx="3214800" cy="250020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19"/>
          <p:cNvSpPr/>
          <p:nvPr/>
        </p:nvSpPr>
        <p:spPr>
          <a:xfrm>
            <a:off x="285840" y="5214960"/>
            <a:ext cx="47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участник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семей переселенцев, имеющих де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детей переселенцев, посещающие к/ш «Шанс» в возрасте от 8 до12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"/>
          <p:cNvPicPr/>
          <p:nvPr/>
        </p:nvPicPr>
        <p:blipFill>
          <a:blip r:embed="rId4"/>
          <a:stretch/>
        </p:blipFill>
        <p:spPr>
          <a:xfrm>
            <a:off x="5143680" y="4143240"/>
            <a:ext cx="3500280" cy="257184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21"/>
          <p:cNvSpPr/>
          <p:nvPr/>
        </p:nvSpPr>
        <p:spPr>
          <a:xfrm>
            <a:off x="357120" y="4643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оки реализаци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января 2012г. по декабрь 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Прямоугольник 22"/>
          <p:cNvGrpSpPr/>
          <p:nvPr/>
        </p:nvGrpSpPr>
        <p:grpSpPr>
          <a:xfrm>
            <a:off x="3481560" y="2341440"/>
            <a:ext cx="5675040" cy="2889360"/>
            <a:chOff x="3481560" y="2341440"/>
            <a:chExt cx="5675040" cy="2889360"/>
          </a:xfrm>
        </p:grpSpPr>
        <p:pic>
          <p:nvPicPr>
            <p:cNvPr id="570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3481560" y="2341440"/>
              <a:ext cx="5675040" cy="28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3500280" y="2357280"/>
              <a:ext cx="56437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Задачи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пособствовать эффективной адаптации к новым жизненным условиям семей переселенцев,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действовать укреплению межнациональных отношений, развивать у представителей различных народностей толерантное отношения друг к другу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92160"/>
            <a:ext cx="8083800" cy="13586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"/>
          <p:cNvSpPr/>
          <p:nvPr/>
        </p:nvSpPr>
        <p:spPr>
          <a:xfrm>
            <a:off x="357120" y="2792520"/>
            <a:ext cx="3714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я уровня социальной адаптированности, автономности и нравственной воспитанности детей и их родителей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их национальной толерант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42960" y="4866120"/>
            <a:ext cx="77868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ое направ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лизации проекта состоит из комплекса занятий для детей из семей переселенцев, которые расположены в определенной последовательности, и с учетом психолого-возрастных особенностей.  В игровой форме ребята знакомятся с особенностями русского менталит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виды работы с родителями переселенцев – это консультации, информирования и беседы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1994040"/>
            <a:ext cx="4267080" cy="938160"/>
          </a:xfrm>
          <a:prstGeom prst="rect">
            <a:avLst/>
          </a:prstGeom>
          <a:ln w="0">
            <a:noFill/>
          </a:ln>
        </p:spPr>
      </p:pic>
      <p:pic>
        <p:nvPicPr>
          <p:cNvPr id="576" name="Прямоугольник 8" descr=""/>
          <p:cNvPicPr/>
          <p:nvPr/>
        </p:nvPicPr>
        <p:blipFill>
          <a:blip r:embed="rId3"/>
          <a:stretch/>
        </p:blipFill>
        <p:spPr>
          <a:xfrm>
            <a:off x="4595760" y="1994040"/>
            <a:ext cx="4133880" cy="938160"/>
          </a:xfrm>
          <a:prstGeom prst="rect">
            <a:avLst/>
          </a:prstGeom>
          <a:ln w="0">
            <a:noFill/>
          </a:ln>
        </p:spPr>
      </p:pic>
      <p:pic>
        <p:nvPicPr>
          <p:cNvPr id="577" name="Прямоугольник 9" descr=""/>
          <p:cNvPicPr/>
          <p:nvPr/>
        </p:nvPicPr>
        <p:blipFill>
          <a:blip r:embed="rId4"/>
          <a:stretch/>
        </p:blipFill>
        <p:spPr>
          <a:xfrm>
            <a:off x="2548080" y="4065480"/>
            <a:ext cx="3949560" cy="93996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0"/>
          <p:cNvSpPr/>
          <p:nvPr/>
        </p:nvSpPr>
        <p:spPr>
          <a:xfrm>
            <a:off x="4643280" y="2857680"/>
            <a:ext cx="39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 способствует воспитанию в детях и  родителях терпимости и снижению агресс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Стрелка вправо 15"/>
          <p:cNvSpPr/>
          <p:nvPr/>
        </p:nvSpPr>
        <p:spPr>
          <a:xfrm rot="5400000">
            <a:off x="2964600" y="2607480"/>
            <a:ext cx="2928960" cy="4284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трелка вправо 16"/>
          <p:cNvSpPr/>
          <p:nvPr/>
        </p:nvSpPr>
        <p:spPr>
          <a:xfrm rot="5400000">
            <a:off x="5840280" y="1660320"/>
            <a:ext cx="857160" cy="393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трелка вправо 17"/>
          <p:cNvSpPr/>
          <p:nvPr/>
        </p:nvSpPr>
        <p:spPr>
          <a:xfrm rot="5400000">
            <a:off x="2124720" y="1661040"/>
            <a:ext cx="857160" cy="3924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Содержимое 3" descr=""/>
          <p:cNvPicPr/>
          <p:nvPr/>
        </p:nvPicPr>
        <p:blipFill>
          <a:blip r:embed="rId1"/>
          <a:stretch/>
        </p:blipFill>
        <p:spPr>
          <a:xfrm>
            <a:off x="609480" y="1127160"/>
            <a:ext cx="7882200" cy="4097160"/>
          </a:xfrm>
          <a:prstGeom prst="rect">
            <a:avLst/>
          </a:prstGeom>
          <a:ln w="0">
            <a:noFill/>
          </a:ln>
        </p:spPr>
      </p:pic>
      <p:pic>
        <p:nvPicPr>
          <p:cNvPr id="583" name="Заголовок 5" descr=""/>
          <p:cNvPicPr/>
          <p:nvPr/>
        </p:nvPicPr>
        <p:blipFill>
          <a:blip r:embed="rId2"/>
          <a:stretch/>
        </p:blipFill>
        <p:spPr>
          <a:xfrm>
            <a:off x="353880" y="328680"/>
            <a:ext cx="8545680" cy="866880"/>
          </a:xfrm>
          <a:prstGeom prst="rect">
            <a:avLst/>
          </a:prstGeom>
          <a:ln w="0">
            <a:noFill/>
          </a:ln>
        </p:spPr>
      </p:pic>
      <p:sp>
        <p:nvSpPr>
          <p:cNvPr id="584" name="Прямая соединительная линия 7"/>
          <p:cNvSpPr/>
          <p:nvPr/>
        </p:nvSpPr>
        <p:spPr>
          <a:xfrm>
            <a:off x="2643120" y="3214800"/>
            <a:ext cx="5786640" cy="1440"/>
          </a:xfrm>
          <a:prstGeom prst="line">
            <a:avLst/>
          </a:prstGeom>
          <a:ln w="381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8" descr="G:\презентация шанс\фото соц.педагогв\IMG_2522.jpg"/>
          <p:cNvPicPr/>
          <p:nvPr/>
        </p:nvPicPr>
        <p:blipFill>
          <a:blip r:embed="rId1"/>
          <a:stretch/>
        </p:blipFill>
        <p:spPr>
          <a:xfrm>
            <a:off x="4929120" y="14292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G:\презентация шанс\фото соц.педагогв\IMG_2510.jpg"/>
          <p:cNvPicPr/>
          <p:nvPr/>
        </p:nvPicPr>
        <p:blipFill>
          <a:blip r:embed="rId2"/>
          <a:stretch/>
        </p:blipFill>
        <p:spPr>
          <a:xfrm>
            <a:off x="4786200" y="3571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C:\Users\Ильсияр\Desktop\презентация клуба\фото соц.педагогв\профессия\IMG_2519.jpg"/>
          <p:cNvPicPr/>
          <p:nvPr/>
        </p:nvPicPr>
        <p:blipFill>
          <a:blip r:embed="rId3"/>
          <a:stretch/>
        </p:blipFill>
        <p:spPr>
          <a:xfrm>
            <a:off x="285840" y="3643200"/>
            <a:ext cx="4205160" cy="2928960"/>
          </a:xfrm>
          <a:prstGeom prst="rect">
            <a:avLst/>
          </a:prstGeom>
          <a:ln w="0">
            <a:noFill/>
          </a:ln>
        </p:spPr>
      </p:pic>
      <p:grpSp>
        <p:nvGrpSpPr>
          <p:cNvPr id="588" name="Группа 5"/>
          <p:cNvGrpSpPr/>
          <p:nvPr/>
        </p:nvGrpSpPr>
        <p:grpSpPr>
          <a:xfrm>
            <a:off x="142920" y="357120"/>
            <a:ext cx="4857840" cy="2786040"/>
            <a:chOff x="142920" y="357120"/>
            <a:chExt cx="4857840" cy="2786040"/>
          </a:xfrm>
        </p:grpSpPr>
        <p:sp>
          <p:nvSpPr>
            <p:cNvPr id="589" name="Нашивка 6"/>
            <p:cNvSpPr/>
            <p:nvPr/>
          </p:nvSpPr>
          <p:spPr>
            <a:xfrm>
              <a:off x="142920" y="357120"/>
              <a:ext cx="4857840" cy="27860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2786040"/>
                <a:gd name="textAreaBottom" fmla="*/ 2786400 h 27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6" y="0"/>
                  </a:lnTo>
                  <a:lnTo>
                    <a:pt x="21600" y="10800"/>
                  </a:lnTo>
                  <a:lnTo>
                    <a:pt x="17306" y="21600"/>
                  </a:lnTo>
                  <a:lnTo>
                    <a:pt x="0" y="21600"/>
                  </a:lnTo>
                  <a:lnTo>
                    <a:pt x="4294" y="10800"/>
                  </a:lnTo>
                  <a:close/>
                </a:path>
              </a:pathLst>
            </a:cu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Нашивка 4"/>
            <p:cNvSpPr/>
            <p:nvPr/>
          </p:nvSpPr>
          <p:spPr>
            <a:xfrm>
              <a:off x="571320" y="357120"/>
              <a:ext cx="400068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40" rIns="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С детьми проводятся игры, беседы, формирующие представление о городе Ноябрьск и его жителях, о понятии дружбы, так как очень важно научить детей разных национальностей дружить и жить в одном коллектив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Группа 10"/>
          <p:cNvGrpSpPr/>
          <p:nvPr/>
        </p:nvGrpSpPr>
        <p:grpSpPr>
          <a:xfrm>
            <a:off x="214200" y="357120"/>
            <a:ext cx="4786560" cy="2428920"/>
            <a:chOff x="214200" y="357120"/>
            <a:chExt cx="4786560" cy="2428920"/>
          </a:xfrm>
        </p:grpSpPr>
        <p:sp>
          <p:nvSpPr>
            <p:cNvPr id="592" name="Нашивка 11"/>
            <p:cNvSpPr/>
            <p:nvPr/>
          </p:nvSpPr>
          <p:spPr>
            <a:xfrm>
              <a:off x="214200" y="357120"/>
              <a:ext cx="4786560" cy="2357640"/>
            </a:xfrm>
            <a:custGeom>
              <a:avLst/>
              <a:gdLst>
                <a:gd name="textAreaLeft" fmla="*/ 0 w 4786560"/>
                <a:gd name="textAreaRight" fmla="*/ 4786920 w 4786560"/>
                <a:gd name="textAreaTop" fmla="*/ 0 h 2357640"/>
                <a:gd name="textAreaBottom" fmla="*/ 2358000 h 235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56" y="0"/>
                  </a:lnTo>
                  <a:lnTo>
                    <a:pt x="21600" y="10800"/>
                  </a:lnTo>
                  <a:lnTo>
                    <a:pt x="17656" y="21600"/>
                  </a:lnTo>
                  <a:lnTo>
                    <a:pt x="0" y="21600"/>
                  </a:lnTo>
                  <a:lnTo>
                    <a:pt x="3944" y="10800"/>
                  </a:lnTo>
                  <a:close/>
                </a:path>
              </a:pathLst>
            </a:cu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Нашивка 4"/>
            <p:cNvSpPr/>
            <p:nvPr/>
          </p:nvSpPr>
          <p:spPr>
            <a:xfrm>
              <a:off x="642600" y="428400"/>
              <a:ext cx="355464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160" rIns="0" tIns="14760" bIns="1476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nstantia"/>
                </a:rPr>
                <a:t>для семей по актуальным проблемам проводятся консультации и беседы, и по необходимости предоставляется материальная помощь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5214960" y="428760"/>
            <a:ext cx="3357720" cy="2428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4143600" cy="3071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"/>
          <p:cNvPicPr/>
          <p:nvPr/>
        </p:nvPicPr>
        <p:blipFill>
          <a:blip r:embed="rId3"/>
          <a:stretch/>
        </p:blipFill>
        <p:spPr>
          <a:xfrm>
            <a:off x="4786200" y="328608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3000240" y="3441960"/>
            <a:ext cx="571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ознавательной активности, любознательности, расширение общего кругозора и знаний, познавательных интересов и твор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знание детей ценности и важности профессии;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явление интереса и склонности к определённым профессия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ение к людям труд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3"/>
          <p:cNvSpPr/>
          <p:nvPr/>
        </p:nvSpPr>
        <p:spPr>
          <a:xfrm>
            <a:off x="357120" y="285840"/>
            <a:ext cx="8358120" cy="11912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ая деятельность позволяет семьям переселенцев, их детям скорее достичь адаптации и интеграции в общество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8501040" cy="40482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5"/>
          <p:cNvSpPr/>
          <p:nvPr/>
        </p:nvSpPr>
        <p:spPr>
          <a:xfrm>
            <a:off x="500040" y="2214720"/>
            <a:ext cx="814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оциально-педагогическое и информационное  сопровождение семьей переселенцев с детьми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спешная социализация и интеграция семей переселенцев и их детей в изменившихся социальных услов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воение культурного и исторического наследия города Ноябрьс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ознание детьми переселенцев стойкого уважительного отношения друг к другу представителей различных народ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крепление детско-родительских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7"/>
          <p:cNvSpPr/>
          <p:nvPr/>
        </p:nvSpPr>
        <p:spPr>
          <a:xfrm>
            <a:off x="428760" y="164304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идаемые результаты по проекту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Таблица 3" descr=""/>
          <p:cNvPicPr/>
          <p:nvPr/>
        </p:nvPicPr>
        <p:blipFill>
          <a:blip r:embed="rId1"/>
          <a:stretch/>
        </p:blipFill>
        <p:spPr>
          <a:xfrm>
            <a:off x="212760" y="927000"/>
            <a:ext cx="8577360" cy="566280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1"/>
          <p:cNvSpPr/>
          <p:nvPr/>
        </p:nvSpPr>
        <p:spPr>
          <a:xfrm>
            <a:off x="0" y="233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Отчёт по проекту «Мы вмест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социальных педагогов п/к «Шанс» за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квартал 2012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3"/>
          <p:cNvSpPr/>
          <p:nvPr/>
        </p:nvSpPr>
        <p:spPr>
          <a:xfrm>
            <a:off x="785880" y="1071720"/>
            <a:ext cx="77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Если ваша семья нуждается в поддерж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описывается краткое содержание проекта «Мы вместе», что существует в городе подростковый клуб «Шанс» и специалисты, которые помогут детям и  семьям переселенцев  адаптироваться в город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TextBox 4" descr=""/>
          <p:cNvPicPr/>
          <p:nvPr/>
        </p:nvPicPr>
        <p:blipFill>
          <a:blip r:embed="rId1"/>
          <a:stretch/>
        </p:blipFill>
        <p:spPr>
          <a:xfrm>
            <a:off x="2730600" y="212760"/>
            <a:ext cx="3554280" cy="950760"/>
          </a:xfrm>
          <a:prstGeom prst="rect">
            <a:avLst/>
          </a:prstGeom>
          <a:ln w="0">
            <a:noFill/>
          </a:ln>
        </p:spPr>
      </p:pic>
      <p:sp>
        <p:nvSpPr>
          <p:cNvPr id="606" name="TextBox 8"/>
          <p:cNvSpPr/>
          <p:nvPr/>
        </p:nvSpPr>
        <p:spPr>
          <a:xfrm>
            <a:off x="785880" y="278604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  <a:ea typeface="Times New Roman"/>
              </a:rPr>
              <a:t>«Путеводитель для переселенцев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оставлена информация о нашем городе, и здесь же указаны адреса, и телефоны служб города, которые смогли бы помочь с ориентироваться человеку, недавно приехавшего в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857160" y="440280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63c"/>
                </a:solidFill>
                <a:latin typeface="Arial"/>
                <a:ea typeface="Times New Roman"/>
              </a:rPr>
              <a:t>«Памятка для переселенцев с детьми из стран ближнего и дальнего зарубежья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здесь предоставлена информация о том, что должен знать иностранный гражданин при въезде в РФ, что такое разрешение на временное проживание, как получить вид на жительство и гражданство РФ и как приобретают гражданство РФ де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9:26:19Z</dcterms:created>
  <dc:creator>Luda</dc:creator>
  <dc:description/>
  <dc:language>en-US</dc:language>
  <cp:lastModifiedBy>Ильсияр</cp:lastModifiedBy>
  <dcterms:modified xsi:type="dcterms:W3CDTF">2012-05-02T10:18:42Z</dcterms:modified>
  <cp:revision>276</cp:revision>
  <dc:subject/>
  <dc:title>Презентация PowerPoint</dc:title>
</cp:coreProperties>
</file>