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8.png" ContentType="image/png"/>
  <Override PartName="/ppt/media/image21.jpeg" ContentType="image/jpeg"/>
  <Override PartName="/ppt/media/image16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61C-4B92-4A7F-BBFB-853CE1A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C51-FBB4-4D49-A6A4-95E6EE4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BBFC-2F7E-459F-AFC0-A43F50DA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02DAF-3326-4BFB-8785-65D9EE20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2B627-9597-42EB-9F01-6D4C1496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62BBF-7B7B-4061-A17D-FFAD497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DF603-E7E7-4808-9A6E-6FD84F1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9F924-DC7E-4490-B05F-06C8D1F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0ABB4-4546-42DB-BF44-ECD6D4B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D420A-A655-4319-AAF3-2C4D6C8F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F45B8-58B3-4799-B619-DA6C2345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FB785-53F5-4BE6-B3AE-5FC6847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1F3-9049-42E1-945B-AD2AC6FE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B33AA-F15C-45F4-B944-0534487F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A26CA-ABF4-45E6-A828-C822D658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815E-22F4-4DEC-8655-33267BE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78EBA-7D3C-4419-85CA-6C1077E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6C53F-C56A-4126-894A-B35D2F2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6498D-B397-40E3-8ED0-16D1A265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7437E-C1E3-414F-8100-1DA8B74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15D84-0F15-408D-AA9B-6AE5FFF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7AFA4-E4F9-4B81-908C-9168CC5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3AB48-EFAE-4F30-AB44-A109E2D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C52-F4CE-4584-81A0-1431B3A6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2F611-B425-40E0-873C-14155A67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DD6C7-B2A3-4DE1-B8E4-A38DA46B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07D8-E8E9-42AB-B223-C1849E54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3357-A1A6-46AB-8E50-6E0DE3F7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504D2-A76F-4E62-A4A7-14C643B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29EC-C648-4F97-B409-E0EA6A9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E241-9CA7-430E-8169-2CCDE2D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BEA2A-8960-42AE-B969-C29978E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46DB7-032F-4E9E-AC0D-D32DF70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60F93-BB38-46E9-95B7-83FB357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E5A-C6CB-4AD4-A86B-8A7983B6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9E30-5F02-403E-9CD6-AAF4A269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D64A-1EA8-476B-9A37-29757FED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729D-48C1-4243-A29E-BF99AEB5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583C7-14AB-4FA7-AE1C-F5D56847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4BF9B-409D-44CF-96E8-9086687C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AE55-E361-4E7A-960D-B9B8496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97944-F821-44B1-B1BE-00AB613C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C1CBC-6AA0-45C4-8308-AC10A089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47CCF-1770-4DF0-BA7F-246EE40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C1378-DA6C-426C-B822-A397EF8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D6C9-DFF0-4F87-95D9-499275D0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EFEF4-D020-4D08-A77D-0A755B2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C2E86-685B-41BD-A229-40CFB02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6230F-3C00-450F-99F7-B7FD913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9936F-D5CA-429F-99AA-6F98CE32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5A817-8788-4AD5-9B72-81058EE2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6468-0D6F-4C25-9623-DBB6247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727E-F9A8-4065-AEC2-BF0C72A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4A8-6509-4E78-B150-5EFACB4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42BD-7C64-4ABF-8FA9-C851225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DEA6-6DAC-422E-85BD-7D44B8E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BC3-A4F5-4F1C-95DE-609B6BA7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A66-2F4A-4080-8494-DDC18CD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B1B7-4A2F-4675-9F18-E7275BD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A16D-882D-4045-8D91-AAD43E3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4A21-10DF-459A-A760-86C6A3DB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1AE3-B889-4313-A851-F3DC5545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005E-BF66-4327-A645-B3CDC64E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A86D-E557-47A9-97A6-9F2171B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07CB-056B-4D12-851A-BD58546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8F85-807B-4E77-A0B8-297D2CE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BB72-1208-4322-BA01-433B6EBE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DC4-0F8E-452C-B7B0-8824CDA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8B77-6B6C-4681-BCBA-62752BE9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E281-57E1-4AC6-8330-6139E85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8FE2-B275-4FB9-9ECE-24FDC29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A5DE-DFC7-4C23-936E-5DB6032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9CD5-8BD8-465F-A596-84EC90D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BF03-3049-478E-B125-0ED54468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E8DA-E97D-4824-A899-4AF7C084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F6CF-7F5F-4319-986B-7641F2E9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8D3F-E748-4F87-B6F6-0CA691E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65B4-1AD1-4B41-9B4B-18A43BC8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B1B-71C9-4008-9F03-CA92A4F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11BD-E534-4DC8-89AD-91623F7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011B-E007-4CD5-8DBA-7C08EB1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B5F7-8BB8-432C-B531-FDACFE7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9906-80F8-4CA2-A015-F1DA119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C0DE-F9AF-4B37-B15D-C9F7760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EEC8-1986-4C15-95F8-9743192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82F4-8CDA-4B2F-8BF8-53084979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DA47-BA81-4625-974D-A7BBBB4B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168D-9262-43F7-8DF1-FF1F40B7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E965-5C8D-42B0-800B-AD9742CE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C14-F9AB-40B4-A8DC-02428B2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B03F-3303-4702-9837-02BC5FC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FB20-8F2C-41E7-8BD0-A4A3AAB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7D4F-A174-49D9-9CAC-12A34537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35FA1-64EA-4119-82BE-6ADF9E7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120A-E982-4D20-A30D-26C1B2E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ED47-58E2-4BA1-8132-E529607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FA9E-03B3-4394-B76F-55D8AAA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DB39-7A5F-4A65-A965-77FA5E4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9730-3CC4-4C13-8347-755737B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9CB5-F9DB-428E-A9B7-B0C9B1A0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385-7259-471D-AFC5-2BC91B7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34AD-11BE-4E36-B62E-FBA2357F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CA8D-428A-4C61-8E54-B3C613B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34D74-8AAA-40D0-96C8-8283A9B8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79DA4-FEF4-4635-8E89-A9B2EFA8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2CDD-47A8-4E62-9616-2B006A65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7EB2F-9C97-4E98-A7CE-44F1C630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D68C-6B72-4FAE-A361-518BAD9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4DD3-456C-4A02-8100-F1EE53A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C47B-6CD7-4EFB-A707-55002BA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11C1-9E9E-41A4-A9E2-4B175CE8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779-9C60-4B1E-A7A4-69E4B0B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A6D5-7DCE-4BF4-96FF-D2E9045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F5C3-934C-4BB5-9087-2CB525AC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83E3-C4D0-4099-8B8B-0AB53221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9A5D-6E37-45C6-BD1A-3B587D26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1303C-8CB9-4798-B3FA-FD8A31CF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8BA1-1ED9-44BD-9F70-F5A75B3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E8585-9194-4BD5-AA1F-01AA4C3F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1B07-AF23-4880-B37D-36A3D54D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6319E-DAEE-4D0F-A989-C4D6B99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8B01-48F0-44BA-BF30-AFBD55C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F67-90FC-4423-845E-EA45B66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AC13-6B1C-44BE-8533-368C79C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36BBD-03A2-4202-B30B-CF3599D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09A2-D18B-4D7D-BF75-BA5E00C4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CB99-1915-4D6D-9680-95F53C01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BB95-039F-4B34-9FC1-2018F5F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5A51-E1AB-4AE1-BA9B-D9CBA5EC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8B8C-7B69-461B-907C-2794D8EF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DF4B8-35E8-46C9-999A-9B142F13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A058A-C402-4405-97CC-25A28E9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85C7-20B8-442B-BC35-B90977D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5FC-A6B4-42CB-B390-35876F9C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E011-6253-4C9D-A65D-893C8A6D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72E7-C90A-4E0A-918A-265858C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0563-AB09-4824-B376-F76BDA4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7975-B670-4A4C-AB2A-FCCFC15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9D71-677B-431E-A1D6-9074D25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74559-98BD-4C2D-A12D-B918D13A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0373-15EB-4B6C-BBFB-6A653367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2E447-2CF1-4C13-BB28-CB43F80E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8B9C-EBB7-4BCC-8EE4-DB1253B7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DFC9C-9D4B-4F90-8A59-562C689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BFF-DE28-4C17-9CD3-C08A267113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45C-7948-4826-B4A9-48A5C53AEA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016-56B8-4537-82E8-D13DF7E472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BD3-D404-4D05-AC57-1AD19DCA9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3C6B-5DA6-419A-9218-91A306FEA0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5CB4-86A5-4D96-8800-E48005BEFB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77DD-EFF6-407A-BEFA-D60932EC01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B93-1852-44A7-BB83-2633645A53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5295-12B1-4886-A2EE-B94D4B2CA5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C7CA-67A7-4189-A2E6-7D816F3B49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A41E-2681-47A7-81DC-5A7083AE08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D0F-8631-430D-B8AC-7F8EE24C41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5072040" y="42958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ть среди людей и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частливым - это значит, прежде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 выполнять свой дол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А.Сухомли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оугольник 4" descr=""/>
          <p:cNvPicPr/>
          <p:nvPr/>
        </p:nvPicPr>
        <p:blipFill>
          <a:blip r:embed="rId2"/>
          <a:stretch/>
        </p:blipFill>
        <p:spPr>
          <a:xfrm>
            <a:off x="487440" y="1200240"/>
            <a:ext cx="8454960" cy="23652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571680" y="214200"/>
            <a:ext cx="835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учреждение «Комплексный центр социально-досугового обслуживания детей и молодёж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остковый клуб «Шан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Прямоугольник 14" descr=""/>
          <p:cNvPicPr/>
          <p:nvPr/>
        </p:nvPicPr>
        <p:blipFill>
          <a:blip r:embed="rId1"/>
          <a:stretch/>
        </p:blipFill>
        <p:spPr>
          <a:xfrm>
            <a:off x="341280" y="334800"/>
            <a:ext cx="8321760" cy="1281240"/>
          </a:xfrm>
          <a:prstGeom prst="rect">
            <a:avLst/>
          </a:prstGeom>
          <a:ln w="0">
            <a:noFill/>
          </a:ln>
        </p:spPr>
      </p:pic>
      <p:grpSp>
        <p:nvGrpSpPr>
          <p:cNvPr id="562" name="Прямоугольник 16"/>
          <p:cNvGrpSpPr/>
          <p:nvPr/>
        </p:nvGrpSpPr>
        <p:grpSpPr>
          <a:xfrm>
            <a:off x="3481560" y="1407960"/>
            <a:ext cx="5387760" cy="957240"/>
            <a:chOff x="3481560" y="1407960"/>
            <a:chExt cx="5387760" cy="957240"/>
          </a:xfrm>
        </p:grpSpPr>
        <p:pic>
          <p:nvPicPr>
            <p:cNvPr id="563" name="Прямоугольник 16" descr=""/>
            <p:cNvPicPr/>
            <p:nvPr/>
          </p:nvPicPr>
          <p:blipFill>
            <a:blip r:embed="rId2"/>
            <a:stretch/>
          </p:blipFill>
          <p:spPr>
            <a:xfrm>
              <a:off x="3481560" y="1407960"/>
              <a:ext cx="53877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500280" y="1428840"/>
              <a:ext cx="53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Цель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йствие в успешной адаптации и интеграции в общество семей переселенцев с деть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7" descr="H:\DCIM\100CANON\IMG_2567.JPG"/>
          <p:cNvPicPr/>
          <p:nvPr/>
        </p:nvPicPr>
        <p:blipFill>
          <a:blip r:embed="rId3"/>
          <a:stretch/>
        </p:blipFill>
        <p:spPr>
          <a:xfrm>
            <a:off x="142920" y="1714680"/>
            <a:ext cx="3214800" cy="25002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19"/>
          <p:cNvSpPr/>
          <p:nvPr/>
        </p:nvSpPr>
        <p:spPr>
          <a:xfrm>
            <a:off x="285840" y="5214960"/>
            <a:ext cx="47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участни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семей переселенцев, имеющих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детей переселенцев, посещающие к/ш «Шанс» в возрасте от 8 до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"/>
          <p:cNvPicPr/>
          <p:nvPr/>
        </p:nvPicPr>
        <p:blipFill>
          <a:blip r:embed="rId4"/>
          <a:stretch/>
        </p:blipFill>
        <p:spPr>
          <a:xfrm>
            <a:off x="5143680" y="41432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1"/>
          <p:cNvSpPr/>
          <p:nvPr/>
        </p:nvSpPr>
        <p:spPr>
          <a:xfrm>
            <a:off x="35712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оки реализаци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января 2012г. по декабрь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Прямоугольник 22"/>
          <p:cNvGrpSpPr/>
          <p:nvPr/>
        </p:nvGrpSpPr>
        <p:grpSpPr>
          <a:xfrm>
            <a:off x="3481560" y="2341440"/>
            <a:ext cx="5675040" cy="2889360"/>
            <a:chOff x="3481560" y="2341440"/>
            <a:chExt cx="5675040" cy="2889360"/>
          </a:xfrm>
        </p:grpSpPr>
        <p:pic>
          <p:nvPicPr>
            <p:cNvPr id="570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3481560" y="2341440"/>
              <a:ext cx="567504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00280" y="2357280"/>
              <a:ext cx="5643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адачи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особствовать эффективной адаптации к новым жизненным условиям семей переселенцев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действовать укреплению межнациональных отношений, развивать у представителей различных народностей толерантное отношения друг к другу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92160"/>
            <a:ext cx="8083800" cy="1358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"/>
          <p:cNvSpPr/>
          <p:nvPr/>
        </p:nvSpPr>
        <p:spPr>
          <a:xfrm>
            <a:off x="357120" y="2792520"/>
            <a:ext cx="371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я уровня социальной адаптированности, автономности и нравственной воспитанности детей и их родителей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их национальной толерант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42960" y="4866120"/>
            <a:ext cx="77868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ое 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и проекта состоит из комплекса занятий для детей из семей переселенцев, которые расположены в определенной последовательности, и с учетом психолого-возрастных особенностей.  В игровой форме ребята знакомятся с особенностями русского ментал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виды работы с родителями переселенцев – это консультации, информирования и бесед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1994040"/>
            <a:ext cx="4267080" cy="93816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8" descr=""/>
          <p:cNvPicPr/>
          <p:nvPr/>
        </p:nvPicPr>
        <p:blipFill>
          <a:blip r:embed="rId3"/>
          <a:stretch/>
        </p:blipFill>
        <p:spPr>
          <a:xfrm>
            <a:off x="4595760" y="1994040"/>
            <a:ext cx="4133880" cy="938160"/>
          </a:xfrm>
          <a:prstGeom prst="rect">
            <a:avLst/>
          </a:prstGeom>
          <a:ln w="0">
            <a:noFill/>
          </a:ln>
        </p:spPr>
      </p:pic>
      <p:pic>
        <p:nvPicPr>
          <p:cNvPr id="577" name="Прямоугольник 9" descr=""/>
          <p:cNvPicPr/>
          <p:nvPr/>
        </p:nvPicPr>
        <p:blipFill>
          <a:blip r:embed="rId4"/>
          <a:stretch/>
        </p:blipFill>
        <p:spPr>
          <a:xfrm>
            <a:off x="2548080" y="4065480"/>
            <a:ext cx="3949560" cy="93996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0"/>
          <p:cNvSpPr/>
          <p:nvPr/>
        </p:nvSpPr>
        <p:spPr>
          <a:xfrm>
            <a:off x="4643280" y="2857680"/>
            <a:ext cx="39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способствует воспитанию в детях и  родителях терпимости и снижению агресс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право 15"/>
          <p:cNvSpPr/>
          <p:nvPr/>
        </p:nvSpPr>
        <p:spPr>
          <a:xfrm rot="5400000">
            <a:off x="2964600" y="2607480"/>
            <a:ext cx="2928960" cy="4284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право 16"/>
          <p:cNvSpPr/>
          <p:nvPr/>
        </p:nvSpPr>
        <p:spPr>
          <a:xfrm rot="5400000">
            <a:off x="5840280" y="1660320"/>
            <a:ext cx="857160" cy="393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право 17"/>
          <p:cNvSpPr/>
          <p:nvPr/>
        </p:nvSpPr>
        <p:spPr>
          <a:xfrm rot="5400000">
            <a:off x="2124720" y="1661040"/>
            <a:ext cx="857160" cy="3924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Содержимое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882200" cy="4097160"/>
          </a:xfrm>
          <a:prstGeom prst="rect">
            <a:avLst/>
          </a:prstGeom>
          <a:ln w="0">
            <a:noFill/>
          </a:ln>
        </p:spPr>
      </p:pic>
      <p:pic>
        <p:nvPicPr>
          <p:cNvPr id="583" name="Заголовок 5" descr=""/>
          <p:cNvPicPr/>
          <p:nvPr/>
        </p:nvPicPr>
        <p:blipFill>
          <a:blip r:embed="rId2"/>
          <a:stretch/>
        </p:blipFill>
        <p:spPr>
          <a:xfrm>
            <a:off x="353880" y="328680"/>
            <a:ext cx="8545680" cy="86688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ая соединительная линия 7"/>
          <p:cNvSpPr/>
          <p:nvPr/>
        </p:nvSpPr>
        <p:spPr>
          <a:xfrm>
            <a:off x="2643120" y="3214800"/>
            <a:ext cx="5786640" cy="1440"/>
          </a:xfrm>
          <a:prstGeom prst="line">
            <a:avLst/>
          </a:prstGeom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8" descr="G:\презентация шанс\фото соц.педагогв\IMG_2522.jpg"/>
          <p:cNvPicPr/>
          <p:nvPr/>
        </p:nvPicPr>
        <p:blipFill>
          <a:blip r:embed="rId1"/>
          <a:stretch/>
        </p:blipFill>
        <p:spPr>
          <a:xfrm>
            <a:off x="4929120" y="1429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G:\презентация шанс\фото соц.педагогв\IMG_2510.jpg"/>
          <p:cNvPicPr/>
          <p:nvPr/>
        </p:nvPicPr>
        <p:blipFill>
          <a:blip r:embed="rId2"/>
          <a:stretch/>
        </p:blipFill>
        <p:spPr>
          <a:xfrm>
            <a:off x="478620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Users\Ильсияр\Desktop\презентация клуба\фото соц.педагогв\профессия\IMG_2519.jpg"/>
          <p:cNvPicPr/>
          <p:nvPr/>
        </p:nvPicPr>
        <p:blipFill>
          <a:blip r:embed="rId3"/>
          <a:stretch/>
        </p:blipFill>
        <p:spPr>
          <a:xfrm>
            <a:off x="285840" y="3643200"/>
            <a:ext cx="42051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5"/>
          <p:cNvGrpSpPr/>
          <p:nvPr/>
        </p:nvGrpSpPr>
        <p:grpSpPr>
          <a:xfrm>
            <a:off x="142920" y="357120"/>
            <a:ext cx="4857840" cy="2786040"/>
            <a:chOff x="142920" y="357120"/>
            <a:chExt cx="4857840" cy="2786040"/>
          </a:xfrm>
        </p:grpSpPr>
        <p:sp>
          <p:nvSpPr>
            <p:cNvPr id="589" name="Нашивка 6"/>
            <p:cNvSpPr/>
            <p:nvPr/>
          </p:nvSpPr>
          <p:spPr>
            <a:xfrm>
              <a:off x="142920" y="357120"/>
              <a:ext cx="4857840" cy="27860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2786040"/>
                <a:gd name="textAreaBottom" fmla="*/ 2786400 h 27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6" y="0"/>
                  </a:lnTo>
                  <a:lnTo>
                    <a:pt x="21600" y="10800"/>
                  </a:lnTo>
                  <a:lnTo>
                    <a:pt x="17306" y="21600"/>
                  </a:lnTo>
                  <a:lnTo>
                    <a:pt x="0" y="21600"/>
                  </a:lnTo>
                  <a:lnTo>
                    <a:pt x="429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Нашивка 4"/>
            <p:cNvSpPr/>
            <p:nvPr/>
          </p:nvSpPr>
          <p:spPr>
            <a:xfrm>
              <a:off x="571320" y="357120"/>
              <a:ext cx="400068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40" rIns="0" tIns="13320" bIns="13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 детьми проводятся игры, беседы, формирующие представление о городе Ноябрьск и его жителях, о понятии дружбы, так как очень важно научить детей разных национальностей дружить и жить в одном коллектив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Группа 10"/>
          <p:cNvGrpSpPr/>
          <p:nvPr/>
        </p:nvGrpSpPr>
        <p:grpSpPr>
          <a:xfrm>
            <a:off x="214200" y="357120"/>
            <a:ext cx="4786560" cy="2428920"/>
            <a:chOff x="214200" y="357120"/>
            <a:chExt cx="4786560" cy="2428920"/>
          </a:xfrm>
        </p:grpSpPr>
        <p:sp>
          <p:nvSpPr>
            <p:cNvPr id="592" name="Нашивка 11"/>
            <p:cNvSpPr/>
            <p:nvPr/>
          </p:nvSpPr>
          <p:spPr>
            <a:xfrm>
              <a:off x="214200" y="357120"/>
              <a:ext cx="4786560" cy="2357640"/>
            </a:xfrm>
            <a:custGeom>
              <a:avLst/>
              <a:gdLst>
                <a:gd name="textAreaLeft" fmla="*/ 0 w 4786560"/>
                <a:gd name="textAreaRight" fmla="*/ 4786920 w 4786560"/>
                <a:gd name="textAreaTop" fmla="*/ 0 h 2357640"/>
                <a:gd name="textAreaBottom" fmla="*/ 2358000 h 235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56" y="0"/>
                  </a:lnTo>
                  <a:lnTo>
                    <a:pt x="21600" y="10800"/>
                  </a:lnTo>
                  <a:lnTo>
                    <a:pt x="17656" y="21600"/>
                  </a:lnTo>
                  <a:lnTo>
                    <a:pt x="0" y="21600"/>
                  </a:lnTo>
                  <a:lnTo>
                    <a:pt x="3944" y="10800"/>
                  </a:lnTo>
                  <a:close/>
                </a:path>
              </a:pathLst>
            </a:cu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Нашивка 4"/>
            <p:cNvSpPr/>
            <p:nvPr/>
          </p:nvSpPr>
          <p:spPr>
            <a:xfrm>
              <a:off x="642600" y="428400"/>
              <a:ext cx="355464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160" rIns="0" tIns="14760" bIns="1476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nstantia"/>
                </a:rPr>
                <a:t>для семей по актуальным проблемам проводятся консультации и беседы, и по необходимости предоставляется материальная помощ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5214960" y="428760"/>
            <a:ext cx="3357720" cy="2428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4143600" cy="3071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"/>
          <p:cNvPicPr/>
          <p:nvPr/>
        </p:nvPicPr>
        <p:blipFill>
          <a:blip r:embed="rId3"/>
          <a:stretch/>
        </p:blipFill>
        <p:spPr>
          <a:xfrm>
            <a:off x="4786200" y="32860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3000240" y="344196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ой активности, любознательности, расширение общего кругозора и знаний, познавательных интересов и твор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детей ценности и важности профессии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явление интереса и склонности к определённым профессия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ение к людям труд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3"/>
          <p:cNvSpPr/>
          <p:nvPr/>
        </p:nvSpPr>
        <p:spPr>
          <a:xfrm>
            <a:off x="357120" y="285840"/>
            <a:ext cx="8358120" cy="11912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ая деятельность позволяет семьям переселенцев, их детям скорее достичь адаптации и интеграции в общество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501040" cy="40482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5"/>
          <p:cNvSpPr/>
          <p:nvPr/>
        </p:nvSpPr>
        <p:spPr>
          <a:xfrm>
            <a:off x="500040" y="22147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циально-педагогическое и информационное  сопровождение семьей переселенцев с детьми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спешная социализация и интеграция семей переселенцев и их детей в изменившихся социальны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воение культурного и исторического наследия города Ноябрь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ознание детьми переселенцев стойкого уважительного отношения друг к другу представителей различных народ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крепление детско-родительски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428760" y="16430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идаемые результаты по проект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Таблица 3" descr=""/>
          <p:cNvPicPr/>
          <p:nvPr/>
        </p:nvPicPr>
        <p:blipFill>
          <a:blip r:embed="rId1"/>
          <a:stretch/>
        </p:blipFill>
        <p:spPr>
          <a:xfrm>
            <a:off x="212760" y="927000"/>
            <a:ext cx="8577360" cy="5662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"/>
          <p:cNvSpPr/>
          <p:nvPr/>
        </p:nvSpPr>
        <p:spPr>
          <a:xfrm>
            <a:off x="0" y="233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тчёт по проекту «Мы вмест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оциальных педагогов п/к «Шанс» з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квартал 2012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"/>
          <p:cNvSpPr/>
          <p:nvPr/>
        </p:nvSpPr>
        <p:spPr>
          <a:xfrm>
            <a:off x="785880" y="107172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</a:rPr>
              <a:t>Если ваша семья нуждается в поддерж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описывается краткое содержание проекта «Мы вместе», что существует в городе подростковый клуб «Шанс» и специалисты, которые помогут детям и  семьям переселенцев  адаптироваться в город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extBox 4" descr=""/>
          <p:cNvPicPr/>
          <p:nvPr/>
        </p:nvPicPr>
        <p:blipFill>
          <a:blip r:embed="rId1"/>
          <a:stretch/>
        </p:blipFill>
        <p:spPr>
          <a:xfrm>
            <a:off x="2730600" y="212760"/>
            <a:ext cx="3554280" cy="950760"/>
          </a:xfrm>
          <a:prstGeom prst="rect">
            <a:avLst/>
          </a:prstGeom>
          <a:ln w="0">
            <a:noFill/>
          </a:ln>
        </p:spPr>
      </p:pic>
      <p:sp>
        <p:nvSpPr>
          <p:cNvPr id="606" name="TextBox 8"/>
          <p:cNvSpPr/>
          <p:nvPr/>
        </p:nvSpPr>
        <p:spPr>
          <a:xfrm>
            <a:off x="785880" y="27860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35385a"/>
                </a:solidFill>
                <a:latin typeface="Arial"/>
                <a:ea typeface="Times New Roman"/>
              </a:rPr>
              <a:t>«Путеводитель для переселенце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ена информация о нашем городе, и здесь же указаны адреса, и телефоны служб города, которые смогли бы помочь с ориентироваться человеку, недавно приехавшего в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57160" y="44028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63c"/>
                </a:solidFill>
                <a:latin typeface="Arial"/>
                <a:ea typeface="Times New Roman"/>
              </a:rPr>
              <a:t>«Памятка для переселенцев с детьми из стран ближнего и дальнего зарубежья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десь предоставлена информация о том, что должен знать иностранный гражданин при въезде в РФ, что такое разрешение на временное проживание, как получить вид на жительство и гражданство РФ и как приобретают гражданство РФ д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26:19Z</dcterms:created>
  <dc:creator>Luda</dc:creator>
  <dc:description/>
  <dc:language>en-US</dc:language>
  <cp:lastModifiedBy>Ильсияр</cp:lastModifiedBy>
  <dcterms:modified xsi:type="dcterms:W3CDTF">2012-05-02T10:18:42Z</dcterms:modified>
  <cp:revision>276</cp:revision>
  <dc:subject/>
  <dc:title>Презентация PowerPoint</dc:title>
</cp:coreProperties>
</file>