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DDA-0844-434B-AA61-195C06D7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01E-0FA8-48F1-A904-E61DEC16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330-81B6-4BDD-A271-998B4D34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F7F-9A29-40AF-B0BE-49E2417E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06CA-9A9E-4783-B5A9-4B332A31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7D34-569E-471C-9F4D-4859BC3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60D4-7175-4549-946B-E88AF792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4C0D-5725-4CD3-AE2F-C7CC0A7E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82CD-D615-4088-9CAD-3C6482C5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B4E6-CAFA-4403-BAE1-286292A4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3CB3-0504-4AC3-A91F-2BFE071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FAB-EE3D-4F52-9D4A-C94E50B4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9FAD-258B-4BE2-A2FD-22CBE723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8113-119F-4675-8DFA-48D62D7F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8638-1362-4F41-8C92-68534034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226A-036E-4423-A8B7-64788695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BBF2-5E2C-427A-AAC0-61DFFA97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B75F-D0BC-427F-ABED-D799DED7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7A9D-AC1B-4071-B99B-DCD4E231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4F7B0-6800-4C0B-BA60-400F10EC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287D-0B78-40D0-A279-B5C5DD29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6457-9E77-4A04-AAE3-4A0F52C8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33C-A666-4E1B-8FEE-2B023328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DCB1-7299-4A0C-82D0-D243D6DA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E51A9-C221-4832-B907-62C0752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AD7A-2434-445D-A725-7158404B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5C3D-66CD-4450-B0B1-0B6460FE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8C05-91EF-41A7-AEE8-C324EC4D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22958-2206-429A-8D45-DE2E2AC9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769E-826F-49A9-9AD8-E6CA831D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BB9D7-6C1B-4152-AE31-6805F2DF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11FE-4E48-40E2-B054-9FABEEB3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55CD4-292C-46DA-9E76-85708A2F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E52-9FB4-4022-96AA-8B3D25FA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E1485-85EB-4A0F-B938-1A246F3E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9EEAC-FA91-497C-A231-DD3C3658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61E2-27DA-424D-A706-D2625511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D7716-2EA6-4581-820A-77A0747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5BB88-18C5-4751-B948-88C9FF9C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B8108-CD47-49E3-8D55-FF42237B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7CEF-6494-4F43-8A41-4A847BF6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284D-672A-401E-BA88-A6505EFE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E418-6A2F-46F5-9653-2A87A6FF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8C5-4579-4463-9E03-B98C4C4B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8EC-9D26-42DD-A276-55D76845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E36-58D7-4D9E-BD21-A17803A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9BE-F764-403E-8C28-E8963597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FBA-6C2E-44FA-A8ED-71781A5C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D1DB-57F0-4720-B36A-E3C41E7465D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01A4-8690-4D57-993D-E7B2A0C77A4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23C6-09F5-4EB7-9052-DB1C4553860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B26A-A9D8-4524-BBF4-D84F747C50A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9e1f"/>
                </a:solidFill>
                <a:latin typeface="Arial Narrow"/>
              </a:rPr>
              <a:t>Заместитель директора по социальной защите и охране детства ГБОУ Кадетской школы № 1780 Попова Гэлия Галимзяновн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7785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Прямоугольник 5" descr=""/>
          <p:cNvPicPr/>
          <p:nvPr/>
        </p:nvPicPr>
        <p:blipFill>
          <a:blip r:embed="rId1"/>
          <a:stretch/>
        </p:blipFill>
        <p:spPr>
          <a:xfrm>
            <a:off x="-274680" y="176040"/>
            <a:ext cx="9601200" cy="19702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611280" y="233208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емейное благополучие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дители трудоустроены , имеем желание и способность     обеспечивать права ребёнка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семье существует привязанность между родителями и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етьми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-    В семье выстроена система взаимодействия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емья осознаёт возникающие проблемы , находит кардинальные пути решения 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семье не существует негативной зависимости ( алкоголь , наркотики , социальная распущенность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324000" y="538200"/>
            <a:ext cx="87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емейное неблагополучие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тсутствие привязанности  между родителями и детьми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тсутствие восприятия семьи как базы , где дети могут уверенно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обретать новый опыт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тсутствие или сильное нарушение взаимодействие между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дителями 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2700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3600" spc="-1" strike="noStrike">
                <a:solidFill>
                  <a:srgbClr val="7e97ad"/>
                </a:solidFill>
                <a:latin typeface="Arial Narrow"/>
              </a:rPr>
              <a:t>Организация работы с семьёй оказавшейся в социально опасном   положении 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692360" y="2462040"/>
            <a:ext cx="55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Медицинский     аспект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оциально-административный      аспект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сихолого-педагогический      аспект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Прямоугольник 3" descr=""/>
          <p:cNvPicPr/>
          <p:nvPr/>
        </p:nvPicPr>
        <p:blipFill>
          <a:blip r:embed="rId1"/>
          <a:stretch/>
        </p:blipFill>
        <p:spPr>
          <a:xfrm>
            <a:off x="2114640" y="-103320"/>
            <a:ext cx="4730760" cy="19749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495360" y="2205000"/>
            <a:ext cx="828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аблюдается медико-биологические отклонения у членов семьи , или ярко выраженные заболевания, препятствующие полноценному функционированию семьи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3" descr=""/>
          <p:cNvPicPr/>
          <p:nvPr/>
        </p:nvPicPr>
        <p:blipFill>
          <a:blip r:embed="rId1"/>
          <a:stretch/>
        </p:blipFill>
        <p:spPr>
          <a:xfrm>
            <a:off x="-353880" y="-208080"/>
            <a:ext cx="9779040" cy="19764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324000" y="2060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словия и уровень жизни семей расцениваются как малопригодные или непригодные для проживания и развития детей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4" descr=""/>
          <p:cNvPicPr/>
          <p:nvPr/>
        </p:nvPicPr>
        <p:blipFill>
          <a:blip r:embed="rId1"/>
          <a:stretch/>
        </p:blipFill>
        <p:spPr>
          <a:xfrm>
            <a:off x="225360" y="-212760"/>
            <a:ext cx="8656560" cy="1974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568440" y="21337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арушение внутрисемейных и внешних социальных связей ведет к личностной деформации членов семьи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3" descr=""/>
          <p:cNvPicPr/>
          <p:nvPr/>
        </p:nvPicPr>
        <p:blipFill>
          <a:blip r:embed="rId1"/>
          <a:stretch/>
        </p:blipFill>
        <p:spPr>
          <a:xfrm>
            <a:off x="622440" y="-208080"/>
            <a:ext cx="8088120" cy="4335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355680" y="3573360"/>
            <a:ext cx="84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бота социально педагога с семьями зависимых от алкоголя должна вестись в тесном контакте с правоохранительными органами , а также органами опеки и попечительства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08000" y="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режде всего социальный педагог должен начинать свою работу с изучения семьи 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324000" y="170028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оставляет карту семьи ( даты рождения всех членов семьи , знаменательные даты 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95280" y="292428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 зависимости от характера проблем в семье социальный педагог оказывает образовательную , психологическую, посредническую помощь в рамках долговременных форм работы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4"/>
          <p:cNvSpPr/>
          <p:nvPr/>
        </p:nvSpPr>
        <p:spPr>
          <a:xfrm>
            <a:off x="231840" y="189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Цель-раскрыть родителям и учащимся отрицательные влияние алкоголя на взаимоотношения между людьми , в том числе на семейные отношения , показать ущерб , который пьянство наносит семье 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79280" y="139392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сновная задача социального педагога в работе с семьёй зависимых от алкоголя – укрепление взаимодействия с ними , использование всего комплекса педагогических средств для изменения стиля общения между родителями и детьми , развитие ответственности  за воспитание за воспитание, воздействия на состояние подростка, корректировка его поведения 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31840" y="350028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Задачей  социального педагога также является совмещение воспитательной работы с решением острых жизненных проблем семьи, испытывающей на себе драматизм сложных социальных коллизий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1054080" y="-189000"/>
            <a:ext cx="7047000" cy="2803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20520" y="31417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ыявление семей , наблюдение  , изучение их потребностей , внутрисемейные отношения 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казание юридической помощи : Помощь в предоставление возможных услуг в предоставлении возможных услуг , защита прав 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правление в службу психологической помощи в случае необходимости 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Трудоустройство несовершеннолетних 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Прямоугольник 4" descr=""/>
          <p:cNvPicPr/>
          <p:nvPr/>
        </p:nvPicPr>
        <p:blipFill>
          <a:blip r:embed="rId1"/>
          <a:stretch/>
        </p:blipFill>
        <p:spPr>
          <a:xfrm>
            <a:off x="1762200" y="-219240"/>
            <a:ext cx="5344920" cy="1157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0"/>
          <p:cNvSpPr/>
          <p:nvPr/>
        </p:nvSpPr>
        <p:spPr>
          <a:xfrm>
            <a:off x="684360" y="1557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оциально опасное положение семь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1" name="Прямая со стрелкой 12"/>
          <p:cNvCxnSpPr/>
          <p:nvPr/>
        </p:nvCxnSpPr>
        <p:spPr>
          <a:xfrm flipH="1">
            <a:off x="2483640" y="925560"/>
            <a:ext cx="575640" cy="257544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2" name="TextBox 13"/>
          <p:cNvSpPr/>
          <p:nvPr/>
        </p:nvSpPr>
        <p:spPr>
          <a:xfrm>
            <a:off x="1547640" y="3573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емейное консультировани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(детско-родительские отношения 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3" name="Прямая со стрелкой 15"/>
          <p:cNvCxnSpPr/>
          <p:nvPr/>
        </p:nvCxnSpPr>
        <p:spPr>
          <a:xfrm>
            <a:off x="4430520" y="1052280"/>
            <a:ext cx="1080" cy="93708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4" name="TextBox 16"/>
          <p:cNvSpPr/>
          <p:nvPr/>
        </p:nvSpPr>
        <p:spPr>
          <a:xfrm>
            <a:off x="3492360" y="22273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емьи зависимые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т алкоголя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5" name="Прямая со стрелкой 20"/>
          <p:cNvCxnSpPr/>
          <p:nvPr/>
        </p:nvCxnSpPr>
        <p:spPr>
          <a:xfrm>
            <a:off x="5866920" y="925560"/>
            <a:ext cx="505800" cy="95472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6" name="TextBox 21"/>
          <p:cNvSpPr/>
          <p:nvPr/>
        </p:nvSpPr>
        <p:spPr>
          <a:xfrm>
            <a:off x="5730840" y="1989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Малообеспеченны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емь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7" name="Прямая со стрелкой 23"/>
          <p:cNvCxnSpPr/>
          <p:nvPr/>
        </p:nvCxnSpPr>
        <p:spPr>
          <a:xfrm>
            <a:off x="5148000" y="1052640"/>
            <a:ext cx="719640" cy="324072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8" name="TextBox 24"/>
          <p:cNvSpPr/>
          <p:nvPr/>
        </p:nvSpPr>
        <p:spPr>
          <a:xfrm>
            <a:off x="4788000" y="44038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 детьми находящимися под опекой  и попечительством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9" name="Прямая со стрелкой 28"/>
          <p:cNvCxnSpPr/>
          <p:nvPr/>
        </p:nvCxnSpPr>
        <p:spPr>
          <a:xfrm>
            <a:off x="6738840" y="836640"/>
            <a:ext cx="1362960" cy="171504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80" name="TextBox 29"/>
          <p:cNvSpPr/>
          <p:nvPr/>
        </p:nvSpPr>
        <p:spPr>
          <a:xfrm>
            <a:off x="7458120" y="2673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Многодетные семь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81" name="Прямая со стрелкой 33"/>
          <p:cNvCxnSpPr/>
          <p:nvPr/>
        </p:nvCxnSpPr>
        <p:spPr>
          <a:xfrm flipH="1">
            <a:off x="1547280" y="836640"/>
            <a:ext cx="721440" cy="56736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3" descr=""/>
          <p:cNvPicPr/>
          <p:nvPr/>
        </p:nvPicPr>
        <p:blipFill>
          <a:blip r:embed="rId1"/>
          <a:stretch/>
        </p:blipFill>
        <p:spPr>
          <a:xfrm>
            <a:off x="1542960" y="-212760"/>
            <a:ext cx="5851440" cy="28036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0" y="2873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Знать Указ «О мерах по социальной поддержке многодетных семей» (1992 г. ) – льготы для этой категории семей 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ыявление и учёт многодетных семей 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Предоставление информации о пособиях и социальных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Консультирование членов семьи, социально- педагогическая поддержка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оциальный патронаж детей, контроль успеваемости и межличностных отношений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СЕМЕЙНОЕ КОНСУЛЬТИРОВАНИЕ В РАБОТЕ СОЦИАЛЬНОГО ПЕДАГОГ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 Narrow"/>
              </a:rPr>
              <a:t>Примерная тематика социально-педагогического семейного консультирования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1. Воспитание детей в семье (решение проблем школьной дезадаптации , диагностика и коррекция отклоняющегося поведения, педагогический ликбез, помощь в правовых вопросах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2. Проблемы внутреннего и внешнего общения семьи (содействие в решении внутрисемейных конфликтов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3. Пропаганда здорового образа жизни (профилактика алкоголя, наркомании и табакокурения 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4. Духовно-ценностные ориентации (семейные устои и традиции, расхождения в ценностных ориентациях членов семьи, и т. п.)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5. Организация жизнедеятельности ( привитие навыков гигиены детям, организация в квартире уголка для подготовки  уроков и отдыха ребенка, организация внешкольного пребывания ребенка, его досуга, профессиональной ориентации, трудоустройства и т. п.)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РЕКОМЕНДАЦИИ СОЦИАЛЬНОГО ПЕДАГОГА РОДИТЕЛЯМ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ffffff"/>
                </a:solidFill>
                <a:uFillTx/>
                <a:latin typeface="Arial Narrow"/>
              </a:rPr>
              <a:t>                             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Arial Narrow"/>
              </a:rPr>
              <a:t>Принципы отношений взрослых и детей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равенства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 Мир детей и мир взрослых совершенно равноправные части мира человек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сосуществования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 Мир детства и мир взрослых должны поддерживать обоюдный суверенитет, исходить из идеи невмешательства, не навязывания друг другу своих ценностей и законов. Любая акция взрослых или детей не должна наносить ущерб ни одной стороне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свободы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 Предоставление миру детства полной свободы в выборе собственного пути. Взрослые обязаны сохранять жизнь и здоровье детей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4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единства.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Мир детства и мир взрослых не образуют двух разграниченных миров, но составляют единый мир людей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СОВЕТЫ СОЦИАЛЬНОГО ПЕДАГОГА РОДИТЕЛЯМ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Проанализируйте вашу собственную систему ценностей в отношении воспитания детей. Способствует ли она одаренности и реализации  личности в обществе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Будьте честными. Все дети весьма чувствительны ко лжи, а к одаренным детям это относиться в большей степен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 Оценивайте уровень развития ребенк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4. Избегайте длинных объяснений или бесед с ребенком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5. Старайтесь вовремя уловить изменения в ребенке. Они могут выражаться в неординарных вопросах или в поведении и являться признаком одаренност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457200" y="-255600"/>
            <a:ext cx="10034640" cy="115740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6" descr=""/>
          <p:cNvPicPr/>
          <p:nvPr/>
        </p:nvPicPr>
        <p:blipFill>
          <a:blip r:embed="rId2"/>
          <a:stretch/>
        </p:blipFill>
        <p:spPr>
          <a:xfrm>
            <a:off x="-255600" y="907920"/>
            <a:ext cx="7931160" cy="1244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7"/>
          <p:cNvSpPr/>
          <p:nvPr/>
        </p:nvSpPr>
        <p:spPr>
          <a:xfrm>
            <a:off x="684360" y="2205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. Успешная социализация детей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792000" y="303516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. Обеспечение психологического комфорта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92000" y="4232160"/>
            <a:ext cx="21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3. Обеспечение эмоционального  комфорта ребёнка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Picture 2" descr="C:\Users\Артур\Pictures\happy family on the grass.jpg"/>
          <p:cNvPicPr/>
          <p:nvPr/>
        </p:nvPicPr>
        <p:blipFill>
          <a:blip r:embed="rId3"/>
          <a:stretch/>
        </p:blipFill>
        <p:spPr>
          <a:xfrm>
            <a:off x="5292720" y="2776680"/>
            <a:ext cx="259416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-212760"/>
            <a:ext cx="7076880" cy="28036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601560" y="2585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. Обеспечение эффективной помощи семьи в вопросах успешной социальной адаптации детей и подростков 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755640" y="3573360"/>
            <a:ext cx="72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. В случае необходимости проводит социальную диагностику семьи, определяя тип семьи по различным основаниям классификации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0"/>
          <p:cNvSpPr/>
          <p:nvPr/>
        </p:nvSpPr>
        <p:spPr>
          <a:xfrm>
            <a:off x="324000" y="4525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. По структуре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26920" y="1052640"/>
          <a:ext cx="7417080" cy="3944880"/>
        </p:xfrm>
        <a:graphic>
          <a:graphicData uri="http://schemas.openxmlformats.org/drawingml/2006/table">
            <a:tbl>
              <a:tblPr/>
              <a:tblGrid>
                <a:gridCol w="4175280"/>
                <a:gridCol w="3241800"/>
              </a:tblGrid>
              <a:tr h="3236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лные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еполные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) с одним ребенком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) одинокая мам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) с 2 (однополыми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) родители разведены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) с 2 (разнополыми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) одинокий отец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) с 3 детьм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)опеку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) многодетная (с 4 детьми и более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) дети сводны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) дети неродны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) в том числе с бабушкой, дедушко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3"/>
          <p:cNvSpPr/>
          <p:nvPr/>
        </p:nvSpPr>
        <p:spPr>
          <a:xfrm>
            <a:off x="169920" y="528480"/>
            <a:ext cx="897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о материальной обеспеченности семьи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 очень высок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 высок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о средн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 низк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нуждающиеся (за чертой бедности)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26208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 социально-правовой устойчивости и воспитательном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тенциалу семьи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85840" y="947880"/>
          <a:ext cx="8604000" cy="4494240"/>
        </p:xfrm>
        <a:graphic>
          <a:graphicData uri="http://schemas.openxmlformats.org/drawingml/2006/table">
            <a:tbl>
              <a:tblPr/>
              <a:tblGrid>
                <a:gridCol w="4297320"/>
                <a:gridCol w="4306680"/>
              </a:tblGrid>
              <a:tr h="811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indent="12600">
                        <a:lnSpc>
                          <a:spcPts val="1111"/>
                        </a:lnSpc>
                        <a:buClr>
                          <a:srgbClr val="ffffff"/>
                        </a:buClr>
                        <a:buFont typeface="Arial Narrow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оциально-устойчивая, благо­получная в воспитательном отно­ш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воспитательно си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) социально-устойчивая, но не­благополучная в воспитательном отнош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неустойчива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слабая с утратой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нтакта с детьми и контрол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д ни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) социально-неустойчивая, небла­гополучная в воспитательном от­нош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-88920"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8920" indent="-88920"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слабая с постоян­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 конфликтной атмосферо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8920" indent="-88920"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слабая с агрессив­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 негативной атмосфер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7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) социально-неустойчивая, нега­тивная в воспитательном отноше­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аргинальная (с алкогольной,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ексуальной деморализацией,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ркотической зависимостью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тупающая в конфликт с закон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еступна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сихически отягоще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1258920" y="404640"/>
            <a:ext cx="662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4. По взаимоотношениям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гармоничн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компромиссн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неустойчив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мним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конфликтн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резко конфликтная;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потребительск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0" y="3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5. По семейной ориентации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-на деятельность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-общение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-самоудовлетворение (эгоистические)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4427640" y="609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пределить воспитательную позицию семьи можно, используя данную таблицу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11280" y="1255680"/>
          <a:ext cx="7273800" cy="5722920"/>
        </p:xfrm>
        <a:graphic>
          <a:graphicData uri="http://schemas.openxmlformats.org/drawingml/2006/table">
            <a:tbl>
              <a:tblPr/>
              <a:tblGrid>
                <a:gridCol w="1550880"/>
                <a:gridCol w="2374920"/>
                <a:gridCol w="3348000"/>
              </a:tblGrid>
              <a:tr h="419040">
                <a:tc>
                  <a:txBody>
                    <a:bodyPr lIns="23400" rIns="23400" tIns="0" bIns="0" anchor="t">
                      <a:noAutofit/>
                    </a:bodyPr>
                    <a:p>
                      <a:pPr marL="10944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10944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зиция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ношение род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marL="792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792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следствия в формировани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 Педагоги­чески оправ­данная пози­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аботливость, лю­бовь в сочетании с ра­зумной требователь­ностью, дружеские, доверительные отно­шения, поощрение са­мосто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рмальное развитие лично­сти, адекватная 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 «Залюблен-ное детство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лепое обожание, ме­лочная опека, потака­ние всем желаниям, ребенок - центр се­мьи, неоправданная идеализация его роди­тел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Торможение социализации, не­самостоятельность, инфантиль­ность, эгоизм, своеволие, уп­рямство, капризность, ложь^ завышенная 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 «Равно­душное дет­ство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енебрежение инте­ресами ребенка, отчу­жденность, равноду­шие, попустительство, бесконтро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амедление эмоционального развития, обостренное самолю­бие, агрессивность, отчаяние, недоверие к взрослым, озлоб­ленность, разочарование, уход, в собственный мир (девушки -секс, юноши - наркотик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 «Задавлен­ное детство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Чрезмерная опека, за­преты как система воспитания, чрезмер­ная требовательность, жестокость в обраще­нии, излишняя стро­гость, постоянные нотации,грубость в проявлениях роди­тельской в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блемы в социализации, -по­давленные желания, неуверен­ность в себе, страх, коварство, мстительность, обидчивость, озлобленность, попадание в за­висимость к более сильным сверстникам, приспособленче­ство, угодничество, заниженная 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9:28:52Z</dcterms:created>
  <dc:creator>Артур</dc:creator>
  <dc:description/>
  <dc:language>en-US</dc:language>
  <cp:lastModifiedBy>работа</cp:lastModifiedBy>
  <dcterms:modified xsi:type="dcterms:W3CDTF">2012-04-11T04:59:39Z</dcterms:modified>
  <cp:revision>42</cp:revision>
  <dc:subject/>
  <dc:title>МЕТОДИКА РАБОТЫ СОЦИАЛЬНОГО ПЕДАГОГА</dc:title>
</cp:coreProperties>
</file>