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67D1-B8B6-4BAC-AD66-6152B98EB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666C-5B57-4433-892C-DCE1053C1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FE1F-0141-40CA-9F35-630720FAC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D1EF-2D97-4C5E-8D35-99DAA3382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71A66-F7F5-478C-ABD9-49D2B45EA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F3DA4-D7C6-471C-B7C8-9D1930072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5D920-69B0-49AF-826D-BB2F9C950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C94B7-F5ED-4E68-97E7-D15B2EE0C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85ABB-56F6-4158-BE42-826F1BCA5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8E5F2-7D16-4AEC-8956-9306A0D2B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F7C55-9DDD-46BB-9F3F-C542DF37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61C2-9F09-4EFB-9375-CCEA2CA67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66A23-7096-4931-BB80-A81B0358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5C028-B330-4449-BC00-E62FE2C8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F8875-4355-48C1-9649-8AE3CF9FD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B2037-8CAA-49C3-914F-0C4953822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EE583-2505-4963-9A4F-52C015CDE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31414-710B-45A1-B1D1-9B389DC1F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6AF32-F378-4F63-9A4F-9029DEA37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01031-7E94-42CE-AD8D-608BFBD49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EDFE8-7F92-4F94-A63A-4E90A669E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55ED1-6FE8-4697-AD1F-36A3F543E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C329-9874-4BFA-8C85-9126D3D7D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DDAD2-FCCD-4FD1-A8CD-36FF3FA7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0A66F-F3C8-4222-8370-3B28E74E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D32F0-0BB2-4B92-9AE0-C775F84E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36EB3-561C-49B4-8917-03C0B6A0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54397-7622-41AC-AD61-8E3AF88E0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5A055-7492-4048-BDE6-696BBF878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C374C-CABF-4797-AF5A-C2E2A553D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38E01-E12F-438F-AD19-C5CF595DB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E45BF-B415-4DD2-8455-883FE2437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C9F32-2A0D-4B74-B440-F0301CAF6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1F47-D71D-436E-8B4B-69AF3CA66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9E442-8A94-41D8-A75A-99E46EC75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680D7-2D36-4071-8BE9-0D97A4AAC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17289-4601-4255-8D30-F3668080B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81A97-054A-47E1-813F-EED9AB89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64F62-3ACB-41BA-9829-93BA923C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B38C0-3A84-475C-BE27-0595B807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96D1E-F96E-4AC9-A2DB-7B757F8D9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1AA0A-7C47-41FB-8D4E-AE64D4B12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DA89B-A4BA-4864-B95C-A7BD6C4DB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36BA-8864-4443-9286-FD5DB74BE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9AAB-B99B-4CDB-BCEE-BEC8D52FE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4180-C602-433F-A737-5CD65C0A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E0F5-7586-4F2A-870A-BE36727F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2A6B-6319-4A1A-A09C-BA8EAF61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2DC67-1963-4A25-805A-B32502E357CC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horizon.png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F20D0-D383-4C84-A20A-21EC0EAB107C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1CCE6-7958-4C08-8C07-2B699429622B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0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F5AA5-C77D-4777-952A-00BB6D2B1374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c9e1f"/>
                </a:solidFill>
                <a:latin typeface="Arial Narrow"/>
              </a:rPr>
              <a:t>Заместитель директора по социальной защите и охране детства ГБОУ Кадетской школы № 1780 Попова Гэлия Галимзяновна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68" name="Заголовок 1" descr=""/>
          <p:cNvPicPr/>
          <p:nvPr/>
        </p:nvPicPr>
        <p:blipFill>
          <a:blip r:embed="rId1"/>
          <a:stretch/>
        </p:blipFill>
        <p:spPr>
          <a:xfrm>
            <a:off x="603360" y="255600"/>
            <a:ext cx="77850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Прямоугольник 5" descr=""/>
          <p:cNvPicPr/>
          <p:nvPr/>
        </p:nvPicPr>
        <p:blipFill>
          <a:blip r:embed="rId1"/>
          <a:stretch/>
        </p:blipFill>
        <p:spPr>
          <a:xfrm>
            <a:off x="-274680" y="176040"/>
            <a:ext cx="9601200" cy="1970280"/>
          </a:xfrm>
          <a:prstGeom prst="rect">
            <a:avLst/>
          </a:prstGeom>
          <a:ln w="0">
            <a:noFill/>
          </a:ln>
        </p:spPr>
      </p:pic>
      <p:sp>
        <p:nvSpPr>
          <p:cNvPr id="201" name="TextBox 6"/>
          <p:cNvSpPr/>
          <p:nvPr/>
        </p:nvSpPr>
        <p:spPr>
          <a:xfrm>
            <a:off x="611280" y="2332080"/>
            <a:ext cx="8064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Семейное благополучие :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buClr>
                <a:srgbClr val="ffffff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Родители трудоустроены , имеем желание и способность     обеспечивать права ребёнка ;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buClr>
                <a:srgbClr val="ffffff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В семье существует привязанность между родителями и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детьми ;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-    В семье выстроена система взаимодействия ;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buClr>
                <a:srgbClr val="ffffff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Семья осознаёт возникающие проблемы , находит кардинальные пути решения ;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buClr>
                <a:srgbClr val="ffffff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В семье не существует негативной зависимости ( алкоголь , наркотики , социальная распущенность 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4"/>
          <p:cNvSpPr/>
          <p:nvPr/>
        </p:nvSpPr>
        <p:spPr>
          <a:xfrm>
            <a:off x="324000" y="538200"/>
            <a:ext cx="871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Семейное неблагополучие :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buClr>
                <a:srgbClr val="ffffff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Отсутствие привязанности  между родителями и детьми ;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buClr>
                <a:srgbClr val="ffffff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Отсутствие восприятия семьи как базы , где дети могут уверенно 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приобретать новый опыт;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buClr>
                <a:srgbClr val="ffffff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Отсутствие или сильное нарушение взаимодействие между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родителями ;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Box 3"/>
          <p:cNvSpPr/>
          <p:nvPr/>
        </p:nvSpPr>
        <p:spPr>
          <a:xfrm>
            <a:off x="27000" y="115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      </a:t>
            </a:r>
            <a:r>
              <a:rPr b="0" lang="ru-RU" sz="3600" spc="-1" strike="noStrike">
                <a:solidFill>
                  <a:srgbClr val="7e97ad"/>
                </a:solidFill>
                <a:latin typeface="Arial Narrow"/>
              </a:rPr>
              <a:t>Организация работы с семьёй оказавшейся в социально опасном   положении .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4" name="TextBox 4"/>
          <p:cNvSpPr/>
          <p:nvPr/>
        </p:nvSpPr>
        <p:spPr>
          <a:xfrm>
            <a:off x="1692360" y="2462040"/>
            <a:ext cx="5543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Медицинский     аспект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Социально-административный      аспект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Психолого-педагогический      аспект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Прямоугольник 3" descr=""/>
          <p:cNvPicPr/>
          <p:nvPr/>
        </p:nvPicPr>
        <p:blipFill>
          <a:blip r:embed="rId1"/>
          <a:stretch/>
        </p:blipFill>
        <p:spPr>
          <a:xfrm>
            <a:off x="2114640" y="-103320"/>
            <a:ext cx="4730760" cy="1974960"/>
          </a:xfrm>
          <a:prstGeom prst="rect">
            <a:avLst/>
          </a:prstGeom>
          <a:ln w="0">
            <a:noFill/>
          </a:ln>
        </p:spPr>
      </p:pic>
      <p:sp>
        <p:nvSpPr>
          <p:cNvPr id="206" name="TextBox 4"/>
          <p:cNvSpPr/>
          <p:nvPr/>
        </p:nvSpPr>
        <p:spPr>
          <a:xfrm>
            <a:off x="495360" y="2205000"/>
            <a:ext cx="8281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Наблюдается медико-биологические отклонения у членов семьи , или ярко выраженные заболевания, препятствующие полноценному функционированию семьи 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Прямоугольник 3" descr=""/>
          <p:cNvPicPr/>
          <p:nvPr/>
        </p:nvPicPr>
        <p:blipFill>
          <a:blip r:embed="rId1"/>
          <a:stretch/>
        </p:blipFill>
        <p:spPr>
          <a:xfrm>
            <a:off x="-353880" y="-208080"/>
            <a:ext cx="9779040" cy="1976400"/>
          </a:xfrm>
          <a:prstGeom prst="rect">
            <a:avLst/>
          </a:prstGeom>
          <a:ln w="0">
            <a:noFill/>
          </a:ln>
        </p:spPr>
      </p:pic>
      <p:sp>
        <p:nvSpPr>
          <p:cNvPr id="208" name="TextBox 4"/>
          <p:cNvSpPr/>
          <p:nvPr/>
        </p:nvSpPr>
        <p:spPr>
          <a:xfrm>
            <a:off x="324000" y="206064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Условия и уровень жизни семей расцениваются как малопригодные или непригодные для проживания и развития детей 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Прямоугольник 4" descr=""/>
          <p:cNvPicPr/>
          <p:nvPr/>
        </p:nvPicPr>
        <p:blipFill>
          <a:blip r:embed="rId1"/>
          <a:stretch/>
        </p:blipFill>
        <p:spPr>
          <a:xfrm>
            <a:off x="225360" y="-212760"/>
            <a:ext cx="8656560" cy="1974960"/>
          </a:xfrm>
          <a:prstGeom prst="rect">
            <a:avLst/>
          </a:prstGeom>
          <a:ln w="0">
            <a:noFill/>
          </a:ln>
        </p:spPr>
      </p:pic>
      <p:sp>
        <p:nvSpPr>
          <p:cNvPr id="210" name="TextBox 5"/>
          <p:cNvSpPr/>
          <p:nvPr/>
        </p:nvSpPr>
        <p:spPr>
          <a:xfrm>
            <a:off x="568440" y="213372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Нарушение внутрисемейных и внешних социальных связей ведет к личностной деформации членов семьи 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Прямоугольник 3" descr=""/>
          <p:cNvPicPr/>
          <p:nvPr/>
        </p:nvPicPr>
        <p:blipFill>
          <a:blip r:embed="rId1"/>
          <a:stretch/>
        </p:blipFill>
        <p:spPr>
          <a:xfrm>
            <a:off x="622440" y="-208080"/>
            <a:ext cx="8088120" cy="4335480"/>
          </a:xfrm>
          <a:prstGeom prst="rect">
            <a:avLst/>
          </a:prstGeom>
          <a:ln w="0">
            <a:noFill/>
          </a:ln>
        </p:spPr>
      </p:pic>
      <p:sp>
        <p:nvSpPr>
          <p:cNvPr id="212" name="TextBox 4"/>
          <p:cNvSpPr/>
          <p:nvPr/>
        </p:nvSpPr>
        <p:spPr>
          <a:xfrm>
            <a:off x="355680" y="3573360"/>
            <a:ext cx="849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Работа социально педагога с семьями зависимых от алкоголя должна вестись в тесном контакте с правоохранительными органами , а также органами опеки и попечительства </a:t>
            </a: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3"/>
          <p:cNvSpPr/>
          <p:nvPr/>
        </p:nvSpPr>
        <p:spPr>
          <a:xfrm>
            <a:off x="108000" y="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Прежде всего социальный педагог должен начинать свою работу с изучения семьи .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4" name="TextBox 4"/>
          <p:cNvSpPr/>
          <p:nvPr/>
        </p:nvSpPr>
        <p:spPr>
          <a:xfrm>
            <a:off x="324000" y="1700280"/>
            <a:ext cx="69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Составляет карту семьи ( даты рождения всех членов семьи , знаменательные даты )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5" name="TextBox 6"/>
          <p:cNvSpPr/>
          <p:nvPr/>
        </p:nvSpPr>
        <p:spPr>
          <a:xfrm>
            <a:off x="395280" y="2924280"/>
            <a:ext cx="835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В зависимости от характера проблем в семье социальный педагог оказывает образовательную , психологическую, посредническую помощь в рамках долговременных форм работы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Box 4"/>
          <p:cNvSpPr/>
          <p:nvPr/>
        </p:nvSpPr>
        <p:spPr>
          <a:xfrm>
            <a:off x="231840" y="18900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Цель-раскрыть родителям и учащимся отрицательные влияние алкоголя на взаимоотношения между людьми , в том числе на семейные отношения , показать ущерб , который пьянство наносит семье .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7" name="TextBox 5"/>
          <p:cNvSpPr/>
          <p:nvPr/>
        </p:nvSpPr>
        <p:spPr>
          <a:xfrm>
            <a:off x="179280" y="1393920"/>
            <a:ext cx="820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Основная задача социального педагога в работе с семьёй зависимых от алкоголя – укрепление взаимодействия с ними , использование всего комплекса педагогических средств для изменения стиля общения между родителями и детьми , развитие ответственности  за воспитание за воспитание, воздействия на состояние подростка, корректировка его поведения 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8" name="TextBox 6"/>
          <p:cNvSpPr/>
          <p:nvPr/>
        </p:nvSpPr>
        <p:spPr>
          <a:xfrm>
            <a:off x="231840" y="350028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Задачей  социального педагога также является совмещение воспитательной работы с решением острых жизненных проблем семьи, испытывающей на себе драматизм сложных социальных коллизий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Прямоугольник 4" descr=""/>
          <p:cNvPicPr/>
          <p:nvPr/>
        </p:nvPicPr>
        <p:blipFill>
          <a:blip r:embed="rId1"/>
          <a:stretch/>
        </p:blipFill>
        <p:spPr>
          <a:xfrm>
            <a:off x="1054080" y="-189000"/>
            <a:ext cx="7047000" cy="2803680"/>
          </a:xfrm>
          <a:prstGeom prst="rect">
            <a:avLst/>
          </a:prstGeom>
          <a:ln w="0">
            <a:noFill/>
          </a:ln>
        </p:spPr>
      </p:pic>
      <p:sp>
        <p:nvSpPr>
          <p:cNvPr id="220" name="TextBox 5"/>
          <p:cNvSpPr/>
          <p:nvPr/>
        </p:nvSpPr>
        <p:spPr>
          <a:xfrm>
            <a:off x="20520" y="314172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Выявление семей , наблюдение  , изучение их потребностей , внутрисемейные отношения 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Оказание юридической помощи : Помощь в предоставление возможных услуг в предоставлении возможных услуг , защита прав .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Направление в службу психологической помощи в случае необходимости 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Трудоустройство несовершеннолетних 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Прямоугольник 4" descr=""/>
          <p:cNvPicPr/>
          <p:nvPr/>
        </p:nvPicPr>
        <p:blipFill>
          <a:blip r:embed="rId1"/>
          <a:stretch/>
        </p:blipFill>
        <p:spPr>
          <a:xfrm>
            <a:off x="1762200" y="-219240"/>
            <a:ext cx="5344920" cy="1157400"/>
          </a:xfrm>
          <a:prstGeom prst="rect">
            <a:avLst/>
          </a:prstGeom>
          <a:ln w="0">
            <a:noFill/>
          </a:ln>
        </p:spPr>
      </p:pic>
      <p:sp>
        <p:nvSpPr>
          <p:cNvPr id="170" name="TextBox 10"/>
          <p:cNvSpPr/>
          <p:nvPr/>
        </p:nvSpPr>
        <p:spPr>
          <a:xfrm>
            <a:off x="684360" y="1557360"/>
            <a:ext cx="23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Социально опасное положение семьи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cxnSp>
        <p:nvCxnSpPr>
          <p:cNvPr id="171" name="Прямая со стрелкой 12"/>
          <p:cNvCxnSpPr/>
          <p:nvPr/>
        </p:nvCxnSpPr>
        <p:spPr>
          <a:xfrm flipH="1">
            <a:off x="2483640" y="925560"/>
            <a:ext cx="575640" cy="2575440"/>
          </a:xfrm>
          <a:prstGeom prst="straightConnector1">
            <a:avLst/>
          </a:prstGeom>
          <a:ln w="9360">
            <a:solidFill>
              <a:srgbClr val="7e97ad"/>
            </a:solidFill>
            <a:miter/>
            <a:tailEnd len="med" type="arrow" w="med"/>
          </a:ln>
        </p:spPr>
      </p:cxnSp>
      <p:sp>
        <p:nvSpPr>
          <p:cNvPr id="172" name="TextBox 13"/>
          <p:cNvSpPr/>
          <p:nvPr/>
        </p:nvSpPr>
        <p:spPr>
          <a:xfrm>
            <a:off x="1547640" y="3573360"/>
            <a:ext cx="23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Семейное консультирование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(детско-родительские отношения )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cxnSp>
        <p:nvCxnSpPr>
          <p:cNvPr id="173" name="Прямая со стрелкой 15"/>
          <p:cNvCxnSpPr/>
          <p:nvPr/>
        </p:nvCxnSpPr>
        <p:spPr>
          <a:xfrm>
            <a:off x="4430520" y="1052280"/>
            <a:ext cx="1080" cy="937080"/>
          </a:xfrm>
          <a:prstGeom prst="straightConnector1">
            <a:avLst/>
          </a:prstGeom>
          <a:ln w="9360">
            <a:solidFill>
              <a:srgbClr val="7e97ad"/>
            </a:solidFill>
            <a:miter/>
            <a:tailEnd len="med" type="arrow" w="med"/>
          </a:ln>
        </p:spPr>
      </p:cxnSp>
      <p:sp>
        <p:nvSpPr>
          <p:cNvPr id="174" name="TextBox 16"/>
          <p:cNvSpPr/>
          <p:nvPr/>
        </p:nvSpPr>
        <p:spPr>
          <a:xfrm>
            <a:off x="3492360" y="222732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Семьи зависимые 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от алкоголя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cxnSp>
        <p:nvCxnSpPr>
          <p:cNvPr id="175" name="Прямая со стрелкой 20"/>
          <p:cNvCxnSpPr/>
          <p:nvPr/>
        </p:nvCxnSpPr>
        <p:spPr>
          <a:xfrm>
            <a:off x="5866920" y="925560"/>
            <a:ext cx="505800" cy="954720"/>
          </a:xfrm>
          <a:prstGeom prst="straightConnector1">
            <a:avLst/>
          </a:prstGeom>
          <a:ln w="9360">
            <a:solidFill>
              <a:srgbClr val="7e97ad"/>
            </a:solidFill>
            <a:miter/>
            <a:tailEnd len="med" type="arrow" w="med"/>
          </a:ln>
        </p:spPr>
      </p:cxnSp>
      <p:sp>
        <p:nvSpPr>
          <p:cNvPr id="176" name="TextBox 21"/>
          <p:cNvSpPr/>
          <p:nvPr/>
        </p:nvSpPr>
        <p:spPr>
          <a:xfrm>
            <a:off x="5730840" y="198900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Малообеспеченные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семьи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cxnSp>
        <p:nvCxnSpPr>
          <p:cNvPr id="177" name="Прямая со стрелкой 23"/>
          <p:cNvCxnSpPr/>
          <p:nvPr/>
        </p:nvCxnSpPr>
        <p:spPr>
          <a:xfrm>
            <a:off x="5148000" y="1052640"/>
            <a:ext cx="719640" cy="3240720"/>
          </a:xfrm>
          <a:prstGeom prst="straightConnector1">
            <a:avLst/>
          </a:prstGeom>
          <a:ln w="9360">
            <a:solidFill>
              <a:srgbClr val="7e97ad"/>
            </a:solidFill>
            <a:miter/>
            <a:tailEnd len="med" type="arrow" w="med"/>
          </a:ln>
        </p:spPr>
      </p:cxnSp>
      <p:sp>
        <p:nvSpPr>
          <p:cNvPr id="178" name="TextBox 24"/>
          <p:cNvSpPr/>
          <p:nvPr/>
        </p:nvSpPr>
        <p:spPr>
          <a:xfrm>
            <a:off x="4788000" y="440388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С детьми находящимися под опекой  и попечительством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cxnSp>
        <p:nvCxnSpPr>
          <p:cNvPr id="179" name="Прямая со стрелкой 28"/>
          <p:cNvCxnSpPr/>
          <p:nvPr/>
        </p:nvCxnSpPr>
        <p:spPr>
          <a:xfrm>
            <a:off x="6738840" y="836640"/>
            <a:ext cx="1362960" cy="1715040"/>
          </a:xfrm>
          <a:prstGeom prst="straightConnector1">
            <a:avLst/>
          </a:prstGeom>
          <a:ln w="9360">
            <a:solidFill>
              <a:srgbClr val="7e97ad"/>
            </a:solidFill>
            <a:miter/>
            <a:tailEnd len="med" type="arrow" w="med"/>
          </a:ln>
        </p:spPr>
      </p:cxnSp>
      <p:sp>
        <p:nvSpPr>
          <p:cNvPr id="180" name="TextBox 29"/>
          <p:cNvSpPr/>
          <p:nvPr/>
        </p:nvSpPr>
        <p:spPr>
          <a:xfrm>
            <a:off x="7458120" y="267336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Многодетные семьи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cxnSp>
        <p:nvCxnSpPr>
          <p:cNvPr id="181" name="Прямая со стрелкой 33"/>
          <p:cNvCxnSpPr/>
          <p:nvPr/>
        </p:nvCxnSpPr>
        <p:spPr>
          <a:xfrm flipH="1">
            <a:off x="1547280" y="836640"/>
            <a:ext cx="721440" cy="567360"/>
          </a:xfrm>
          <a:prstGeom prst="straightConnector1">
            <a:avLst/>
          </a:prstGeom>
          <a:ln w="9360">
            <a:solidFill>
              <a:srgbClr val="7e97a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Прямоугольник 3" descr=""/>
          <p:cNvPicPr/>
          <p:nvPr/>
        </p:nvPicPr>
        <p:blipFill>
          <a:blip r:embed="rId1"/>
          <a:stretch/>
        </p:blipFill>
        <p:spPr>
          <a:xfrm>
            <a:off x="1542960" y="-212760"/>
            <a:ext cx="5851440" cy="2803680"/>
          </a:xfrm>
          <a:prstGeom prst="rect">
            <a:avLst/>
          </a:prstGeom>
          <a:ln w="0">
            <a:noFill/>
          </a:ln>
        </p:spPr>
      </p:pic>
      <p:sp>
        <p:nvSpPr>
          <p:cNvPr id="222" name="TextBox 4"/>
          <p:cNvSpPr/>
          <p:nvPr/>
        </p:nvSpPr>
        <p:spPr>
          <a:xfrm>
            <a:off x="0" y="28735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Знать Указ «О мерах по социальной поддержке многодетных семей» (1992 г. ) – льготы для этой категории семей 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Выявление и учёт многодетных семей 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Предоставление информации о пособиях и социальных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Консультирование членов семьи, социально- педагогическая поддержка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Социальный патронаж детей, контроль успеваемости и межличностных отношений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СЕМЕЙНОЕ КОНСУЛЬТИРОВАНИЕ В РАБОТЕ СОЦИАЛЬНОГО ПЕДАГОГА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 Narrow"/>
              </a:rPr>
              <a:t>Примерная тематика социально-педагогического семейного консультирования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1. Воспитание детей в семье (решение проблем школьной дезадаптации , диагностика и коррекция отклоняющегося поведения, педагогический ликбез, помощь в правовых вопросах)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2. Проблемы внутреннего и внешнего общения семьи (содействие в решении внутрисемейных конфликтов)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3. Пропаганда здорового образа жизни (профилактика алкоголя, наркомании и табакокурения )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4. Духовно-ценностные ориентации (семейные устои и традиции, расхождения в ценностных ориентациях членов семьи, и т. п.);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5. Организация жизнедеятельности ( привитие навыков гигиены детям, организация в квартире уголка для подготовки  уроков и отдыха ребенка, организация внешкольного пребывания ребенка, его досуга, профессиональной ориентации, трудоустройства и т. п.);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РЕКОМЕНДАЦИИ СОЦИАЛЬНОГО ПЕДАГОГА РОДИТЕЛЯМ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ffffff"/>
                </a:solidFill>
                <a:uFillTx/>
                <a:latin typeface="Arial Narrow"/>
              </a:rPr>
              <a:t>                              </a:t>
            </a:r>
            <a:r>
              <a:rPr b="0" lang="ru-RU" sz="1700" spc="-1" strike="noStrike" u="sng">
                <a:solidFill>
                  <a:srgbClr val="ffffff"/>
                </a:solidFill>
                <a:uFillTx/>
                <a:latin typeface="Arial Narrow"/>
              </a:rPr>
              <a:t>Принципы отношений взрослых и детей 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1. </a:t>
            </a:r>
            <a:r>
              <a:rPr b="1" lang="ru-RU" sz="1700" spc="-1" strike="noStrike">
                <a:solidFill>
                  <a:srgbClr val="ffffff"/>
                </a:solidFill>
                <a:latin typeface="Arial Narrow"/>
              </a:rPr>
              <a:t>Принцип равенства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. Мир детей и мир взрослых совершенно равноправные части мира человека.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2. </a:t>
            </a:r>
            <a:r>
              <a:rPr b="1" lang="ru-RU" sz="1700" spc="-1" strike="noStrike">
                <a:solidFill>
                  <a:srgbClr val="ffffff"/>
                </a:solidFill>
                <a:latin typeface="Arial Narrow"/>
              </a:rPr>
              <a:t>Принцип сосуществования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. Мир детства и мир взрослых должны поддерживать обоюдный суверенитет, исходить из идеи невмешательства, не навязывания друг другу своих ценностей и законов. Любая акция взрослых или детей не должна наносить ущерб ни одной стороне.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3. </a:t>
            </a:r>
            <a:r>
              <a:rPr b="1" lang="ru-RU" sz="1700" spc="-1" strike="noStrike">
                <a:solidFill>
                  <a:srgbClr val="ffffff"/>
                </a:solidFill>
                <a:latin typeface="Arial Narrow"/>
              </a:rPr>
              <a:t>Принцип свободы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. Предоставление миру детства полной свободы в выборе собственного пути. Взрослые обязаны сохранять жизнь и здоровье детей.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4. </a:t>
            </a:r>
            <a:r>
              <a:rPr b="1" lang="ru-RU" sz="1700" spc="-1" strike="noStrike">
                <a:solidFill>
                  <a:srgbClr val="ffffff"/>
                </a:solidFill>
                <a:latin typeface="Arial Narrow"/>
              </a:rPr>
              <a:t>Принцип единства. 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Мир детства и мир взрослых не образуют двух разграниченных миров, но составляют единый мир людей.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СОВЕТЫ СОЦИАЛЬНОГО ПЕДАГОГА РОДИТЕЛЯМ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1. Проанализируйте вашу собственную систему ценностей в отношении воспитания детей. Способствует ли она одаренности и реализации  личности в обществе?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2. Будьте честными. Все дети весьма чувствительны ко лжи, а к одаренным детям это относиться в большей степени.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3. Оценивайте уровень развития ребенка.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4. Избегайте длинных объяснений или бесед с ребенком.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5. Старайтесь вовремя уловить изменения в ребенке. Они могут выражаться в неординарных вопросах или в поведении и являться признаком одаренности.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Прямоугольник 3" descr=""/>
          <p:cNvPicPr/>
          <p:nvPr/>
        </p:nvPicPr>
        <p:blipFill>
          <a:blip r:embed="rId1"/>
          <a:stretch/>
        </p:blipFill>
        <p:spPr>
          <a:xfrm>
            <a:off x="-457200" y="-255600"/>
            <a:ext cx="10034640" cy="1157400"/>
          </a:xfrm>
          <a:prstGeom prst="rect">
            <a:avLst/>
          </a:prstGeom>
          <a:ln w="0">
            <a:noFill/>
          </a:ln>
        </p:spPr>
      </p:pic>
      <p:pic>
        <p:nvPicPr>
          <p:cNvPr id="183" name="Прямоугольник 6" descr=""/>
          <p:cNvPicPr/>
          <p:nvPr/>
        </p:nvPicPr>
        <p:blipFill>
          <a:blip r:embed="rId2"/>
          <a:stretch/>
        </p:blipFill>
        <p:spPr>
          <a:xfrm>
            <a:off x="-255600" y="907920"/>
            <a:ext cx="7931160" cy="1244880"/>
          </a:xfrm>
          <a:prstGeom prst="rect">
            <a:avLst/>
          </a:prstGeom>
          <a:ln w="0">
            <a:noFill/>
          </a:ln>
        </p:spPr>
      </p:pic>
      <p:sp>
        <p:nvSpPr>
          <p:cNvPr id="184" name="TextBox 7"/>
          <p:cNvSpPr/>
          <p:nvPr/>
        </p:nvSpPr>
        <p:spPr>
          <a:xfrm>
            <a:off x="684360" y="2205000"/>
            <a:ext cx="32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1. Успешная социализация детей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5" name="TextBox 8"/>
          <p:cNvSpPr/>
          <p:nvPr/>
        </p:nvSpPr>
        <p:spPr>
          <a:xfrm>
            <a:off x="792000" y="3035160"/>
            <a:ext cx="30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2. Обеспечение психологического комфорта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6" name="TextBox 9"/>
          <p:cNvSpPr/>
          <p:nvPr/>
        </p:nvSpPr>
        <p:spPr>
          <a:xfrm>
            <a:off x="792000" y="4232160"/>
            <a:ext cx="21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3. Обеспечение эмоционального  комфорта ребёнка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7" name="Picture 2" descr="C:\Users\Артур\Pictures\happy family on the grass.jpg"/>
          <p:cNvPicPr/>
          <p:nvPr/>
        </p:nvPicPr>
        <p:blipFill>
          <a:blip r:embed="rId3"/>
          <a:stretch/>
        </p:blipFill>
        <p:spPr>
          <a:xfrm>
            <a:off x="5292720" y="2776680"/>
            <a:ext cx="2594160" cy="17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Прямоугольник 3" descr=""/>
          <p:cNvPicPr/>
          <p:nvPr/>
        </p:nvPicPr>
        <p:blipFill>
          <a:blip r:embed="rId1"/>
          <a:stretch/>
        </p:blipFill>
        <p:spPr>
          <a:xfrm>
            <a:off x="963720" y="-212760"/>
            <a:ext cx="7076880" cy="2803680"/>
          </a:xfrm>
          <a:prstGeom prst="rect">
            <a:avLst/>
          </a:prstGeom>
          <a:ln w="0">
            <a:noFill/>
          </a:ln>
        </p:spPr>
      </p:pic>
      <p:sp>
        <p:nvSpPr>
          <p:cNvPr id="189" name="TextBox 4"/>
          <p:cNvSpPr/>
          <p:nvPr/>
        </p:nvSpPr>
        <p:spPr>
          <a:xfrm>
            <a:off x="601560" y="25858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1. Обеспечение эффективной помощи семьи в вопросах успешной социальной адаптации детей и подростков .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0" name="TextBox 5"/>
          <p:cNvSpPr/>
          <p:nvPr/>
        </p:nvSpPr>
        <p:spPr>
          <a:xfrm>
            <a:off x="755640" y="3573360"/>
            <a:ext cx="728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2. В случае необходимости проводит социальную диагностику семьи, определяя тип семьи по различным основаниям классификации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Box 10"/>
          <p:cNvSpPr/>
          <p:nvPr/>
        </p:nvSpPr>
        <p:spPr>
          <a:xfrm>
            <a:off x="324000" y="45252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1. По структуре: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826920" y="1052640"/>
          <a:ext cx="7417080" cy="3944880"/>
        </p:xfrm>
        <a:graphic>
          <a:graphicData uri="http://schemas.openxmlformats.org/drawingml/2006/table">
            <a:tbl>
              <a:tblPr/>
              <a:tblGrid>
                <a:gridCol w="4175280"/>
                <a:gridCol w="3241800"/>
              </a:tblGrid>
              <a:tr h="32364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Полные семь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Неполные семь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) с одним ребенком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) одинокая мама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) с 2 (однополыми)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) родители разведены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) с 2 (разнополыми)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) одинокий отец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) с 3 детьми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)опекун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5) многодетная (с 4 детьми и более)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6) дети сводные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7) дети неродные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8) в том числе с бабушкой, дедушкой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Прямоугольник 3"/>
          <p:cNvSpPr/>
          <p:nvPr/>
        </p:nvSpPr>
        <p:spPr>
          <a:xfrm>
            <a:off x="169920" y="528480"/>
            <a:ext cx="8974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2.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По материальной обеспеченности семьи: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с очень высоким материальным достатком;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с высоким материальным достатком;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со средним материальным достатком;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с низким материальным достатком;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нуждающиеся (за чертой бедности).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Прямоугольник 3"/>
          <p:cNvSpPr/>
          <p:nvPr/>
        </p:nvSpPr>
        <p:spPr>
          <a:xfrm>
            <a:off x="262080" y="11592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3.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По социально-правовой устойчивости и воспитательному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потенциалу семьи: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285840" y="947880"/>
          <a:ext cx="8604000" cy="4494240"/>
        </p:xfrm>
        <a:graphic>
          <a:graphicData uri="http://schemas.openxmlformats.org/drawingml/2006/table">
            <a:tbl>
              <a:tblPr/>
              <a:tblGrid>
                <a:gridCol w="4297320"/>
                <a:gridCol w="4306680"/>
              </a:tblGrid>
              <a:tr h="8110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ts val="111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 indent="12600">
                        <a:lnSpc>
                          <a:spcPts val="1111"/>
                        </a:lnSpc>
                        <a:buClr>
                          <a:srgbClr val="ffffff"/>
                        </a:buClr>
                        <a:buFont typeface="Arial Narrow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социально-устойчивая, благо­получная в воспитательном отно­шен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- воспитательно силь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4760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ts val="111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ts val="111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) социально-устойчивая, но не­благополучная в воспитательном отношен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ts val="1111"/>
                        </a:lnSpc>
                        <a:tabLst>
                          <a:tab algn="l" pos="0"/>
                          <a:tab algn="l" pos="127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ts val="1111"/>
                        </a:lnSpc>
                        <a:tabLst>
                          <a:tab algn="l" pos="0"/>
                          <a:tab algn="l" pos="127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-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	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воспитательно неустойчивая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ts val="1111"/>
                        </a:lnSpc>
                        <a:tabLst>
                          <a:tab algn="l" pos="0"/>
                          <a:tab algn="l" pos="127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-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	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воспитательно слабая с утратой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контакта с детьми и контроля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над ним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4796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) социально-неустойчивая, небла­гополучная в воспитательном от­ношен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88920" indent="-88920">
                        <a:lnSpc>
                          <a:spcPts val="1111"/>
                        </a:lnSpc>
                        <a:tabLst>
                          <a:tab algn="l" pos="0"/>
                          <a:tab algn="l" pos="127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 marL="88920" indent="-88920">
                        <a:lnSpc>
                          <a:spcPts val="1111"/>
                        </a:lnSpc>
                        <a:tabLst>
                          <a:tab algn="l" pos="0"/>
                          <a:tab algn="l" pos="127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-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	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воспитательно слабая с постоян­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но конфликтной атмосферой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 marL="88920" indent="-88920">
                        <a:lnSpc>
                          <a:spcPts val="1111"/>
                        </a:lnSpc>
                        <a:tabLst>
                          <a:tab algn="l" pos="0"/>
                          <a:tab algn="l" pos="127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-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	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воспитательно слабая с агрессив­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но негативной атмосферо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8760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) социально-неустойчивая, нега­тивная в воспитательном отноше­н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81000" indent="-81000">
                        <a:lnSpc>
                          <a:spcPts val="1111"/>
                        </a:lnSpc>
                        <a:tabLst>
                          <a:tab algn="l" pos="0"/>
                          <a:tab algn="l" pos="117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 marL="81000" indent="-81000">
                        <a:lnSpc>
                          <a:spcPts val="1111"/>
                        </a:lnSpc>
                        <a:tabLst>
                          <a:tab algn="l" pos="0"/>
                          <a:tab algn="l" pos="117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-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	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маргинальная (с алкогольной,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сексуальной деморализацией,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наркотической зависимостью)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 marL="81000" indent="-81000">
                        <a:lnSpc>
                          <a:spcPts val="1111"/>
                        </a:lnSpc>
                        <a:tabLst>
                          <a:tab algn="l" pos="0"/>
                          <a:tab algn="l" pos="117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-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	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вступающая в конфликт с законом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 marL="81000" indent="-81000">
                        <a:lnSpc>
                          <a:spcPts val="1111"/>
                        </a:lnSpc>
                        <a:tabLst>
                          <a:tab algn="l" pos="0"/>
                          <a:tab algn="l" pos="117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-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	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преступная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 marL="81000" indent="-81000">
                        <a:lnSpc>
                          <a:spcPts val="1111"/>
                        </a:lnSpc>
                        <a:tabLst>
                          <a:tab algn="l" pos="0"/>
                          <a:tab algn="l" pos="117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-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	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психически отягощен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Прямоугольник 3"/>
          <p:cNvSpPr/>
          <p:nvPr/>
        </p:nvSpPr>
        <p:spPr>
          <a:xfrm>
            <a:off x="1258920" y="404640"/>
            <a:ext cx="6626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4. По взаимоотношениям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-гармоничная;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-компромиссная;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-неустойчивая;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-мнимая;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-конфликтная;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-резко конфликтная;</a:t>
            </a: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-потребительская;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Прямоугольник 3"/>
          <p:cNvSpPr/>
          <p:nvPr/>
        </p:nvSpPr>
        <p:spPr>
          <a:xfrm>
            <a:off x="0" y="32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5. По семейной ориентации: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-на деятельность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-общение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-самоудовлетворение (эгоистические).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8" name="Прямоугольник 4"/>
          <p:cNvSpPr/>
          <p:nvPr/>
        </p:nvSpPr>
        <p:spPr>
          <a:xfrm>
            <a:off x="4427640" y="6094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Определить воспитательную позицию семьи можно, используя данную таблицу: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611280" y="1255680"/>
          <a:ext cx="7273800" cy="5722920"/>
        </p:xfrm>
        <a:graphic>
          <a:graphicData uri="http://schemas.openxmlformats.org/drawingml/2006/table">
            <a:tbl>
              <a:tblPr/>
              <a:tblGrid>
                <a:gridCol w="1550880"/>
                <a:gridCol w="2374920"/>
                <a:gridCol w="3348000"/>
              </a:tblGrid>
              <a:tr h="419040">
                <a:tc>
                  <a:txBody>
                    <a:bodyPr lIns="23400" rIns="23400" tIns="0" bIns="0" anchor="t">
                      <a:noAutofit/>
                    </a:bodyPr>
                    <a:p>
                      <a:pPr marL="109440"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 marL="109440"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Позиция семь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Отношение родител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marL="7920"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 marL="7920"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Последствия в формировании лич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23400" rIns="23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17800"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. Педагоги­чески оправ­данная пози­ц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Заботливость, лю­бовь в сочетании с ра­зумной требователь­ностью, дружеские, доверительные отно­шения, поощрение са­мостоятель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ts val="111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ts val="111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Нормальное развитие лично­сти, адекватная самооцен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57120"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. «Залюблен-ное детство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Слепое обожание, ме­лочная опека, потака­ние всем желаниям, ребенок - центр се­мьи, неоправданная идеализация его роди­теля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Торможение социализации, не­самостоятельность, инфантиль­ность, эгоизм, своеволие, уп­рямство, капризность, ложь^ завышенная самооцен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17800"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. «Равно­душное дет­ство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Пренебрежение инте­ресами ребенка, отчу­жденность, равноду­шие, попустительство, бесконтроль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Замедление эмоционального развития, обостренное самолю­бие, агрессивность, отчаяние, недоверие к взрослым, озлоб­ленность, разочарование, уход, в собственный мир (девушки -секс, юноши - наркотики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36480"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ts val="11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ts val="11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. «Задавлен­ное детство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Чрезмерная опека, за­преты как система воспитания, чрезмер­ная требовательность, жестокость в обраще­нии, излишняя стро­гость, постоянные нотации,грубость в проявлениях роди­тельской вла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Проблемы в социализации, -по­давленные желания, неуверен­ность в себе, страх, коварство, мстительность, обидчивость, озлобленность, попадание в за­висимость к более сильным сверстникам, приспособленче­ство, угодничество, заниженная самооцен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09:28:52Z</dcterms:created>
  <dc:creator>Артур</dc:creator>
  <dc:description/>
  <dc:language>en-US</dc:language>
  <cp:lastModifiedBy>работа</cp:lastModifiedBy>
  <dcterms:modified xsi:type="dcterms:W3CDTF">2012-04-11T04:59:39Z</dcterms:modified>
  <cp:revision>42</cp:revision>
  <dc:subject/>
  <dc:title>МЕТОДИКА РАБОТЫ СОЦИАЛЬНОГО ПЕДАГОГА</dc:title>
</cp:coreProperties>
</file>