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camera.wav" ContentType="audio/x-wav"/>
  <Override PartName="/ppt/media/image1.jpeg" ContentType="image/jpeg"/>
  <Override PartName="/ppt/media/image2.png" ContentType="image/png"/>
  <Override PartName="/ppt/media/applause.wav" ContentType="audio/x-wav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25D-596F-4362-AB76-C40D414A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096-1504-42D3-8081-307DB9E6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A68-6976-493B-B871-96523BFB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F51-1EB7-481B-A2D6-5DB37680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2D71-B4CA-41BC-B494-4A996EB5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33A3-D34E-4B8E-B1E3-C3025A74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002C-707A-41BF-A23E-3287391C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BA50-84A2-4FC4-8E46-B5827217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1FA9-7E3D-4D84-9E4B-811C7226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B163-2535-4B0B-950D-F439F93B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04B3-250E-442E-94F3-E2E355C3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23B-9008-448B-93F3-731EA115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A4BD-F856-4DBC-8967-2F416D01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6E5D-BBBA-415D-B1E7-F2F02CC2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B820-FC9A-4A53-9C0B-E0F69112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C515-2D02-4E90-8998-85FC3942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9F6C-507D-457D-B398-C3BCE319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988-E247-45F0-9DCB-AB0FED1D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93B3-F5B8-4311-BFA6-2918E1C1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1DD-C612-4683-BC9B-A2777300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271-A3E1-45E8-AC71-2F573984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44B-F662-41B5-86A7-FB94DE10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D53-457D-41CA-98BE-F999E377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F0D-4178-41F3-A5AD-BE072A65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5A90-740B-4AE8-B266-C0A2CE622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B391-39D1-4920-BC05-FC0B43225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Методы и приемы работы с детьми девиантного поведения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95280" y="522900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Автор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социальный педагог МБОУ ДОД ДООСПЦ в СОШ № 16 г. Владими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макова Светлана Владимиро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бота лекторской групп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школе создана и активно действует лекторская группа 10-11 классов по пропаганде ЗОЖ в составе 12 человек, в том числе подучётные учащиеся (6 человек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частие в конкурса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ый Региональный открытый Молодежный фестиваль социальной рекламы «Неравнодуши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ан-при за социальную рекламу «Мы выбираем жизнь» по профилактике применения ПА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2-ое место и диплом за социальную рекламу «Вахта памяти» в номинации «Традиции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ый Городской конкурс творческих работ «Альтернатива - есть» Управления по делам молодежи, номинация «Профилактика наркомании и токсикомани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1988640"/>
            <a:ext cx="83026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eec94"/>
                </a:solidFill>
                <a:latin typeface="Times New Roman"/>
              </a:rPr>
              <a:t>Спасибо за внимание!!!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507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00"/>
                </a:solidFill>
                <a:latin typeface="Times New Roman"/>
              </a:rPr>
              <a:t>Метод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– способ прямого или опосредованного влияния на лично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3429000"/>
            <a:ext cx="8362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00"/>
                </a:solidFill>
                <a:latin typeface="Times New Roman"/>
              </a:rPr>
              <a:t>Прием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– часть метода, его фрагмен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cc00"/>
                </a:solidFill>
                <a:latin typeface="Times New Roman"/>
              </a:rPr>
              <a:t>Педагогические</a:t>
            </a:r>
            <a:br>
              <a:rPr sz="8000"/>
            </a:br>
            <a:r>
              <a:rPr b="1" lang="en-US" sz="8000" spc="-1" strike="noStrike">
                <a:solidFill>
                  <a:srgbClr val="cccc00"/>
                </a:solidFill>
                <a:latin typeface="Times New Roman"/>
              </a:rPr>
              <a:t>методы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33 L 0.125 0 L 0.177 0 L 0.177 0.06933 L 0.213 0.11867 L 0.177 0.16667 L 0.177 0.236 L 0.125 0.236 L 0.089 0.284 L 0.052 0.236 L 0 0.236 L 0 0.16667 L -0.037 0.11867 L 0 0.06933 L 0 0 Z">
                                      <p:cBhvr>
                                        <p:cTn id="3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739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еубеж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еклю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влечение в деятель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имулир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трудниче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овер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крытый диало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вобода выб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вле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нтро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моконтроль и самооценка деятельности и повед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cc00"/>
                </a:solidFill>
                <a:latin typeface="Times New Roman"/>
              </a:rPr>
              <a:t>Педагогические</a:t>
            </a:r>
            <a:br>
              <a:rPr sz="8000"/>
            </a:br>
            <a:r>
              <a:rPr b="1" lang="en-US" sz="8000" spc="-1" strike="noStrike">
                <a:solidFill>
                  <a:srgbClr val="cccc00"/>
                </a:solidFill>
                <a:latin typeface="Times New Roman"/>
              </a:rPr>
              <a:t>приемы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12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ОЗИДАТЕЛЬНЫ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302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явление доброты, внимания, забо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сьб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ощрение (одобрение, похвала, награда, доверие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Авансирование личности» (высказывание положительного мнения о личности авансом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Обходное движение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щ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ЕМЫ, СПОСОБСТВУЮЩИЕ ФОРМИРОВАНИЮ СОЦИАЛЬНО-ОДОБРЯЕМОГО ПОВЕДЕНИЯ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беждение и личный приме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ральная поддержка и укрепление веры в свои силы и возмож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буждение гуманных чув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влечение в интересную деятельность (социальное проектирование, конкурсы и презентации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6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8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eec94"/>
                </a:solidFill>
                <a:latin typeface="Times New Roman"/>
              </a:rPr>
              <a:t>СОЦИАЛЬНОЕ ПРОЕКТИРОВАНИЕ И УЧАСТИЕ В КОНКУРСАХ</a:t>
            </a:r>
            <a:endParaRPr b="1" lang="en-US" sz="35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Социальное проектирование и участие в конкурсах – </a:t>
            </a: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это система навыков, которые дают возможность «трудным» подросткам легче адаптироваться в социуме и предполагают толерантное отношение к другим люд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подготовка подростков к жизни в обществе «за всё я отвечаю, всё я должен делать по закону и совести» – формирование растущего человека, как субъекта социального действ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Поэтому так важен опыт участия детей в социальных проектах, акциях, конкурса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915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cc00"/>
                </a:solidFill>
                <a:latin typeface="Times New Roman"/>
              </a:rPr>
              <a:t>Ученик 9«Б» класса</a:t>
            </a:r>
            <a:r>
              <a:rPr b="1" lang="ru-RU" sz="35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3500" spc="-1" strike="noStrike">
                <a:solidFill>
                  <a:srgbClr val="feec94"/>
                </a:solidFill>
                <a:latin typeface="Times New Roman"/>
              </a:rPr>
              <a:t>Алексиев Дмитрий</a:t>
            </a:r>
            <a:r>
              <a:rPr b="1" lang="ru-RU" sz="35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500" spc="-1" strike="noStrike">
                <a:solidFill>
                  <a:srgbClr val="cccc00"/>
                </a:solidFill>
                <a:latin typeface="Times New Roman"/>
              </a:rPr>
              <a:t>получил</a:t>
            </a:r>
            <a:r>
              <a:rPr b="1" lang="ru-RU" sz="35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500" spc="-1" strike="noStrike">
                <a:solidFill>
                  <a:srgbClr val="feec94"/>
                </a:solidFill>
                <a:latin typeface="Times New Roman"/>
              </a:rPr>
              <a:t>Гранд Президента РФ</a:t>
            </a:r>
            <a:r>
              <a:rPr b="1" lang="ru-RU" sz="3500" spc="-1" strike="noStrike">
                <a:solidFill>
                  <a:srgbClr val="c00000"/>
                </a:solidFill>
                <a:latin typeface="Times New Roman"/>
              </a:rPr>
              <a:t> </a:t>
            </a:r>
            <a:br>
              <a:rPr sz="3500"/>
            </a:br>
            <a:r>
              <a:rPr b="1" lang="ru-RU" sz="3500" spc="-1" strike="noStrike">
                <a:solidFill>
                  <a:srgbClr val="cccc00"/>
                </a:solidFill>
                <a:latin typeface="Times New Roman"/>
              </a:rPr>
              <a:t>за первое место в Областном конкурсе молодежного плаката «Нарко-Стоп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2" descr="G:\Документы\Олимпиады\Олимпиады 2010 год\Получил Гранд президента РФ.jpg"/>
          <p:cNvPicPr/>
          <p:nvPr/>
        </p:nvPicPr>
        <p:blipFill>
          <a:blip r:embed="rId1"/>
          <a:stretch/>
        </p:blipFill>
        <p:spPr>
          <a:xfrm>
            <a:off x="684360" y="2565360"/>
            <a:ext cx="3035160" cy="4170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4651200" y="2565360"/>
            <a:ext cx="301500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30-12-12T15:42:26Z</dcterms:created>
  <dc:creator>XP GAME 2008</dc:creator>
  <dc:description/>
  <dc:language>en-US</dc:language>
  <cp:lastModifiedBy>XP GAME 2008</cp:lastModifiedBy>
  <dcterms:modified xsi:type="dcterms:W3CDTF">2031-03-08T13:48:43Z</dcterms:modified>
  <cp:revision>10</cp:revision>
  <dc:subject/>
  <dc:title>Методы и приемы работы с детьми девиантного поведения</dc:title>
</cp:coreProperties>
</file>