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camera.wav" ContentType="audio/x-wav"/>
  <Override PartName="/ppt/media/image1.jpeg" ContentType="image/jpeg"/>
  <Override PartName="/ppt/media/image2.png" ContentType="image/png"/>
  <Override PartName="/ppt/media/applause.wav" ContentType="audio/x-wav"/>
  <Override PartName="/ppt/media/drumroll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D8B-7452-4433-B9B4-B24BF550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875-ACA5-45A7-8F83-B5DE50DF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5AB-E2D9-42D4-B98F-2471AC47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C4F6-B22D-496A-9AE3-3AB11595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2B02-E105-476A-AB17-5203C633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83F2-440A-4307-8ACD-ED583264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9095-E09A-49BE-8674-15A314F0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E6D8-EBF0-44E2-97D0-BCB675E8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F140-31FA-42F7-92A9-B07B4B7D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0A24-C4FA-4E98-B3D7-06DC602C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B201-D539-47D9-B0CC-45ADE019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A905-28C9-4C77-B469-26B6EC33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1A34-36A2-4366-971A-28EFA906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5418-1FD8-4F99-A9E1-B97D1DA7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0448-4250-40AB-9F5E-8B561B37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80C6-BDBF-4CA1-9D47-2ACE3196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5C5A-17CC-4DED-9DB9-08F16ABB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621A-2D88-4AAD-A404-FFE8028C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D83-5E25-4122-A707-AAA83A65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3FE-5329-49D2-8C36-65088C62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6855-C3DC-4244-9669-BADD7859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7E6E-DD5B-46FF-AD2F-F5E670FA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F0C7-F635-4E52-9D19-2CC2F161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E64-EA4F-42C2-B921-268BA098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AEA4-0C84-49B0-80B8-2275653B24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5DB1-184E-42A0-BFB5-4B4F08EA82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Методы и приемы работы с детьми девиантного поведения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95280" y="522900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Автор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социальный педагог МБОУ ДОД ДООСПЦ в СОШ № 16 г. Владими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макова Светлана Владимиров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абота лекторской групп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школе создана и активно действует лекторская группа 10-11 классов по пропаганде ЗОЖ в составе 12 человек, в том числе подучётные учащиеся (6 человек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частие в конкурса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ый Региональный открытый Молодежный фестиваль социальной рекламы «Неравнодуши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ан-при за социальную рекламу «Мы выбираем жизнь» по профилактике применения ПА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2-ое место и диплом за социальную рекламу «Вахта памяти» в номинации «Традиции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ый Городской конкурс творческих работ «Альтернатива - есть» Управления по делам молодежи, номинация «Профилактика наркомании и токсикомани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1988640"/>
            <a:ext cx="83026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eec94"/>
                </a:solidFill>
                <a:latin typeface="Times New Roman"/>
              </a:rPr>
              <a:t>Спасибо за внимание!!!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507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00"/>
                </a:solidFill>
                <a:latin typeface="Times New Roman"/>
              </a:rPr>
              <a:t>Метод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– способ прямого или опосредованного влияния на лично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3429000"/>
            <a:ext cx="8362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00"/>
                </a:solidFill>
                <a:latin typeface="Times New Roman"/>
              </a:rPr>
              <a:t>Прием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– часть метода, его фрагмен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cc00"/>
                </a:solidFill>
                <a:latin typeface="Times New Roman"/>
              </a:rPr>
              <a:t>Педагогические</a:t>
            </a:r>
            <a:br>
              <a:rPr sz="8000"/>
            </a:br>
            <a:r>
              <a:rPr b="1" lang="en-US" sz="8000" spc="-1" strike="noStrike">
                <a:solidFill>
                  <a:srgbClr val="cccc00"/>
                </a:solidFill>
                <a:latin typeface="Times New Roman"/>
              </a:rPr>
              <a:t>методы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33 L 0.125 0 L 0.177 0 L 0.177 0.06933 L 0.213 0.11867 L 0.177 0.16667 L 0.177 0.236 L 0.125 0.236 L 0.089 0.284 L 0.052 0.236 L 0 0.236 L 0 0.16667 L -0.037 0.11867 L 0 0.06933 L 0 0 Z">
                                      <p:cBhvr>
                                        <p:cTn id="35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3739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еубеж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еклю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влечение в деятель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имулир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трудниче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овер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крытый диало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вобода выбо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вле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нтро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амоконтроль и самооценка деятельности и повед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cc00"/>
                </a:solidFill>
                <a:latin typeface="Times New Roman"/>
              </a:rPr>
              <a:t>Педагогические</a:t>
            </a:r>
            <a:br>
              <a:rPr sz="8000"/>
            </a:br>
            <a:r>
              <a:rPr b="1" lang="en-US" sz="8000" spc="-1" strike="noStrike">
                <a:solidFill>
                  <a:srgbClr val="cccc00"/>
                </a:solidFill>
                <a:latin typeface="Times New Roman"/>
              </a:rPr>
              <a:t>приемы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12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ОЗИДАТЕЛЬНЫ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302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явление доброты, внимания, забо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сьб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ощрение (одобрение, похвала, награда, доверие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Авансирование личности» (высказывание положительного мнения о личности авансом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Обходное движение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щ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I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ЕМЫ, СПОСОБСТВУЮЩИЕ ФОРМИРОВАНИЮ СОЦИАЛЬНО-ОДОБРЯЕМОГО ПОВЕДЕНИЯ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беждение и личный приме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ральная поддержка и укрепление веры в свои силы и возмож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буждение гуманных чувст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влечение в интересную деятельность (социальное проектирование, конкурсы и презентации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6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8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eec94"/>
                </a:solidFill>
                <a:latin typeface="Times New Roman"/>
              </a:rPr>
              <a:t>СОЦИАЛЬНОЕ ПРОЕКТИРОВАНИЕ И УЧАСТИЕ В КОНКУРСАХ</a:t>
            </a:r>
            <a:endParaRPr b="1" lang="en-US" sz="35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Социальное проектирование и участие в конкурсах – </a:t>
            </a: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это система навыков, которые дают возможность «трудным» подросткам легче адаптироваться в социуме и предполагают толерантное отношение к другим люд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подготовка подростков к жизни в обществе «за всё я отвечаю, всё я должен делать по закону и совести» – формирование растущего человека, как субъекта социального действ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Times New Roman"/>
              </a:rPr>
              <a:t>Поэтому так важен опыт участия детей в социальных проектах, акциях, конкурсах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915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ccc00"/>
                </a:solidFill>
                <a:latin typeface="Times New Roman"/>
              </a:rPr>
              <a:t>Ученик 9«Б» класса</a:t>
            </a:r>
            <a:r>
              <a:rPr b="1" lang="ru-RU" sz="35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3500" spc="-1" strike="noStrike">
                <a:solidFill>
                  <a:srgbClr val="feec94"/>
                </a:solidFill>
                <a:latin typeface="Times New Roman"/>
              </a:rPr>
              <a:t>Алексиев Дмитрий</a:t>
            </a:r>
            <a:r>
              <a:rPr b="1" lang="ru-RU" sz="35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3500" spc="-1" strike="noStrike">
                <a:solidFill>
                  <a:srgbClr val="cccc00"/>
                </a:solidFill>
                <a:latin typeface="Times New Roman"/>
              </a:rPr>
              <a:t>получил</a:t>
            </a:r>
            <a:r>
              <a:rPr b="1" lang="ru-RU" sz="35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500" spc="-1" strike="noStrike">
                <a:solidFill>
                  <a:srgbClr val="feec94"/>
                </a:solidFill>
                <a:latin typeface="Times New Roman"/>
              </a:rPr>
              <a:t>Гранд Президента РФ</a:t>
            </a:r>
            <a:r>
              <a:rPr b="1" lang="ru-RU" sz="3500" spc="-1" strike="noStrike">
                <a:solidFill>
                  <a:srgbClr val="c00000"/>
                </a:solidFill>
                <a:latin typeface="Times New Roman"/>
              </a:rPr>
              <a:t> </a:t>
            </a:r>
            <a:br>
              <a:rPr sz="3500"/>
            </a:br>
            <a:r>
              <a:rPr b="1" lang="ru-RU" sz="3500" spc="-1" strike="noStrike">
                <a:solidFill>
                  <a:srgbClr val="cccc00"/>
                </a:solidFill>
                <a:latin typeface="Times New Roman"/>
              </a:rPr>
              <a:t>за первое место в Областном конкурсе молодежного плаката «Нарко-Стоп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2" descr="G:\Документы\Олимпиады\Олимпиады 2010 год\Получил Гранд президента РФ.jpg"/>
          <p:cNvPicPr/>
          <p:nvPr/>
        </p:nvPicPr>
        <p:blipFill>
          <a:blip r:embed="rId1"/>
          <a:stretch/>
        </p:blipFill>
        <p:spPr>
          <a:xfrm>
            <a:off x="684360" y="2565360"/>
            <a:ext cx="3035160" cy="4170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4651200" y="2565360"/>
            <a:ext cx="301500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30-12-12T15:42:26Z</dcterms:created>
  <dc:creator>XP GAME 2008</dc:creator>
  <dc:description/>
  <dc:language>en-US</dc:language>
  <cp:lastModifiedBy>XP GAME 2008</cp:lastModifiedBy>
  <dcterms:modified xsi:type="dcterms:W3CDTF">2031-03-08T13:48:43Z</dcterms:modified>
  <cp:revision>10</cp:revision>
  <dc:subject/>
  <dc:title>Методы и приемы работы с детьми девиантного поведения</dc:title>
</cp:coreProperties>
</file>