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camera.wav" ContentType="audio/x-wav"/>
  <Override PartName="/ppt/media/image1.jpeg" ContentType="image/jpeg"/>
  <Override PartName="/ppt/media/image2.png" ContentType="image/png"/>
  <Override PartName="/ppt/media/applause.wav" ContentType="audio/x-wav"/>
  <Override PartName="/ppt/media/drumroll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BC5-27D7-4222-97FC-37437EDC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E5E3-840C-4294-B17E-C4CA222B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96B4-8DCF-4A4B-97D3-A5369E28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3C80-87B8-4000-9A3F-65FCF969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1248-F02F-4566-8419-BFE76CD1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532E-76C1-43AC-A280-ADF4DF15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9562-D443-4D2C-849A-BC9D1A16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1368-CFB8-4FFC-9290-BA0A2D47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2519-6B17-4094-A51D-0D9CE1FF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AA20-3C1C-4042-8848-73ED8699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6158-ADD5-49B7-8AE7-D38A843C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13A0-66FE-4F5D-9C5F-5970B003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F9A0-10EB-4242-AA38-224E6226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B8A5-6CEE-4531-B300-532E6072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3945-84AC-48BD-99D0-9F1F7129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4A84-05B9-4FD7-8F5D-EEFC074D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D729-120D-48CC-A28E-819585A1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5D4D-3529-46F5-AC2F-13406564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3AF3-B9CB-4294-A8A8-72014D97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6E47-767C-4AFB-8699-F67ACE17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1825-5790-40DB-AC4D-0E4EA5F6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69F-4BBB-46C9-AEB4-FF684643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1D86-C6BA-4F1D-8D2D-381564F5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F80-9C3B-45A7-A59E-EF424A74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8C94-091F-4963-AF1F-74E55A52ED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13A9-02D7-4F1D-88FE-683004F211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Методы и приемы работы с детьми девиантного поведения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95280" y="522900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Автор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социальный педагог МБОУ ДОД ДООСПЦ в СОШ № 16 г. Владими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макова Светлана Владимиров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абота лекторской групп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школе создана и активно действует лекторская группа 10-11 классов по пропаганде ЗОЖ в составе 12 человек, в том числе подучётные учащиеся (6 человек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частие в конкурса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ый Региональный открытый Молодежный фестиваль социальной рекламы «Неравнодуши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ан-при за социальную рекламу «Мы выбираем жизнь» по профилактике применения ПА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2-ое место и диплом за социальную рекламу «Вахта памяти» в номинации «Традиции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ый Городской конкурс творческих работ «Альтернатива - есть» Управления по делам молодежи, номинация «Профилактика наркомании и токсикомани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1988640"/>
            <a:ext cx="83026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eec94"/>
                </a:solidFill>
                <a:latin typeface="Times New Roman"/>
              </a:rPr>
              <a:t>Спасибо за внимание!!!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507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00"/>
                </a:solidFill>
                <a:latin typeface="Times New Roman"/>
              </a:rPr>
              <a:t>Метод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– способ прямого или опосредованного влияния на лично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3429000"/>
            <a:ext cx="8362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00"/>
                </a:solidFill>
                <a:latin typeface="Times New Roman"/>
              </a:rPr>
              <a:t>Прием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– часть метода, его фрагмен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cc00"/>
                </a:solidFill>
                <a:latin typeface="Times New Roman"/>
              </a:rPr>
              <a:t>Педагогические</a:t>
            </a:r>
            <a:br>
              <a:rPr sz="8000"/>
            </a:br>
            <a:r>
              <a:rPr b="1" lang="en-US" sz="8000" spc="-1" strike="noStrike">
                <a:solidFill>
                  <a:srgbClr val="cccc00"/>
                </a:solidFill>
                <a:latin typeface="Times New Roman"/>
              </a:rPr>
              <a:t>методы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33 L 0.125 0 L 0.177 0 L 0.177 0.06933 L 0.213 0.11867 L 0.177 0.16667 L 0.177 0.236 L 0.125 0.236 L 0.089 0.284 L 0.052 0.236 L 0 0.236 L 0 0.16667 L -0.037 0.11867 L 0 0.06933 L 0 0 Z">
                                      <p:cBhvr>
                                        <p:cTn id="35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3739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еубеж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еклю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влечение в деятель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имулир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трудниче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овер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крытый диало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вобода выбо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вле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нтро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амоконтроль и самооценка деятельности и повед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cc00"/>
                </a:solidFill>
                <a:latin typeface="Times New Roman"/>
              </a:rPr>
              <a:t>Педагогические</a:t>
            </a:r>
            <a:br>
              <a:rPr sz="8000"/>
            </a:br>
            <a:r>
              <a:rPr b="1" lang="en-US" sz="8000" spc="-1" strike="noStrike">
                <a:solidFill>
                  <a:srgbClr val="cccc00"/>
                </a:solidFill>
                <a:latin typeface="Times New Roman"/>
              </a:rPr>
              <a:t>приемы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12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ОЗИДАТЕЛЬНЫ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302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явление доброты, внимания, забо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сьб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ощрение (одобрение, похвала, награда, доверие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Авансирование личности» (высказывание положительного мнения о личности авансом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Обходное движение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щ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I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ЕМЫ, СПОСОБСТВУЮЩИЕ ФОРМИРОВАНИЮ СОЦИАЛЬНО-ОДОБРЯЕМОГО ПОВЕДЕНИЯ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беждение и личный приме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ральная поддержка и укрепление веры в свои силы и возмож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буждение гуманных чувст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влечение в интересную деятельность (социальное проектирование, конкурсы и презентации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6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8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eec94"/>
                </a:solidFill>
                <a:latin typeface="Times New Roman"/>
              </a:rPr>
              <a:t>СОЦИАЛЬНОЕ ПРОЕКТИРОВАНИЕ И УЧАСТИЕ В КОНКУРСАХ</a:t>
            </a:r>
            <a:endParaRPr b="1" lang="en-US" sz="35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Социальное проектирование и участие в конкурсах – </a:t>
            </a: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это система навыков, которые дают возможность «трудным» подросткам легче адаптироваться в социуме и предполагают толерантное отношение к другим люд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подготовка подростков к жизни в обществе «за всё я отвечаю, всё я должен делать по закону и совести» – формирование растущего человека, как субъекта социального действ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Times New Roman"/>
              </a:rPr>
              <a:t>Поэтому так важен опыт участия детей в социальных проектах, акциях, конкурсах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915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ccc00"/>
                </a:solidFill>
                <a:latin typeface="Times New Roman"/>
              </a:rPr>
              <a:t>Ученик 9«Б» класса</a:t>
            </a:r>
            <a:r>
              <a:rPr b="1" lang="ru-RU" sz="35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3500" spc="-1" strike="noStrike">
                <a:solidFill>
                  <a:srgbClr val="feec94"/>
                </a:solidFill>
                <a:latin typeface="Times New Roman"/>
              </a:rPr>
              <a:t>Алексиев Дмитрий</a:t>
            </a:r>
            <a:r>
              <a:rPr b="1" lang="ru-RU" sz="35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3500" spc="-1" strike="noStrike">
                <a:solidFill>
                  <a:srgbClr val="cccc00"/>
                </a:solidFill>
                <a:latin typeface="Times New Roman"/>
              </a:rPr>
              <a:t>получил</a:t>
            </a:r>
            <a:r>
              <a:rPr b="1" lang="ru-RU" sz="35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500" spc="-1" strike="noStrike">
                <a:solidFill>
                  <a:srgbClr val="feec94"/>
                </a:solidFill>
                <a:latin typeface="Times New Roman"/>
              </a:rPr>
              <a:t>Гранд Президента РФ</a:t>
            </a:r>
            <a:r>
              <a:rPr b="1" lang="ru-RU" sz="3500" spc="-1" strike="noStrike">
                <a:solidFill>
                  <a:srgbClr val="c00000"/>
                </a:solidFill>
                <a:latin typeface="Times New Roman"/>
              </a:rPr>
              <a:t> </a:t>
            </a:r>
            <a:br>
              <a:rPr sz="3500"/>
            </a:br>
            <a:r>
              <a:rPr b="1" lang="ru-RU" sz="3500" spc="-1" strike="noStrike">
                <a:solidFill>
                  <a:srgbClr val="cccc00"/>
                </a:solidFill>
                <a:latin typeface="Times New Roman"/>
              </a:rPr>
              <a:t>за первое место в Областном конкурсе молодежного плаката «Нарко-Стоп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2" descr="G:\Документы\Олимпиады\Олимпиады 2010 год\Получил Гранд президента РФ.jpg"/>
          <p:cNvPicPr/>
          <p:nvPr/>
        </p:nvPicPr>
        <p:blipFill>
          <a:blip r:embed="rId1"/>
          <a:stretch/>
        </p:blipFill>
        <p:spPr>
          <a:xfrm>
            <a:off x="684360" y="2565360"/>
            <a:ext cx="3035160" cy="4170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4651200" y="2565360"/>
            <a:ext cx="301500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30-12-12T15:42:26Z</dcterms:created>
  <dc:creator>XP GAME 2008</dc:creator>
  <dc:description/>
  <dc:language>en-US</dc:language>
  <cp:lastModifiedBy>XP GAME 2008</cp:lastModifiedBy>
  <dcterms:modified xsi:type="dcterms:W3CDTF">2031-03-08T13:48:43Z</dcterms:modified>
  <cp:revision>10</cp:revision>
  <dc:subject/>
  <dc:title>Методы и приемы работы с детьми девиантного поведения</dc:title>
</cp:coreProperties>
</file>