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82B6-3FC3-4BC1-BD34-FA4694D2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2B29-836D-4A8A-8B55-D913E637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7E1A-C3A2-46FE-B04E-094512943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9C97-C786-40B4-85FE-4CFD3073D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0A00-8792-480F-AA6B-F947912B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6C2A-DDBE-4D7C-950A-A7667EFE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BE0F-4894-4FD1-B01C-5E190270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2F8D-E3FA-4014-8FC1-F0F3B1DD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0F08-FF89-4BB3-80BA-66F84F17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4515-846B-460C-9BBA-DA666632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B82C-9A08-40BF-B84F-026E0D2F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C58B-74A7-4DBB-88F8-5E0F6BFB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6DFF-CAF5-42E9-A893-50335500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D6FE-B0EC-4457-A334-A42D1EF1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DE0E-A2F2-4007-9E0F-43DA9227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7513-B458-492D-8334-395ACBB1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E911-BF6D-4D3C-B18D-8A4F7A81A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8610-F915-48DC-8043-78D07551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6C46-7710-4038-B588-96483861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52B4-0127-45B7-9D92-839A9D4D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A55F-C0D7-4B10-8C91-13B71584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629C-0843-4676-9E4A-ED7C25B4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A759-2AA2-40A5-8E27-24116153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5A77-A2C5-4864-9F0D-F959DA9C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4D03-7126-4703-9E58-DC3FC6EE58FD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2272-DECF-473D-9007-0F591AFB396C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6696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атематический праздник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116000" y="285228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«Мы бросаем скуке вызов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онкурс «Эрудит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779640" y="1628280"/>
            <a:ext cx="36176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4920" y="1557360"/>
          <a:ext cx="7351560" cy="4848120"/>
        </p:xfrm>
        <a:graphic>
          <a:graphicData uri="http://schemas.openxmlformats.org/drawingml/2006/table">
            <a:tbl>
              <a:tblPr/>
              <a:tblGrid>
                <a:gridCol w="7351560"/>
              </a:tblGrid>
              <a:tr h="51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о горизонтали:                По вертикали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1 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.Компонент математического                  2.самое маленькое натуральное              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действия «вычитание»                                              число.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6.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.Компонент математического                         </a:t>
                      </a: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3.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Число .   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действия «умножение»                                     </a:t>
                      </a: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 4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. Одно из измерений прямо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8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.Единица измерения массы.                                Угольника.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9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.Число, которое не может быть                         </a:t>
                      </a: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5.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Результат деления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делителем                                                          </a:t>
                      </a: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  7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.Результат вычитания.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11.Часть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прямой, ограниченная двумя              </a:t>
                      </a: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  8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.Геометрическая фигура.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точками                                                                  </a:t>
                      </a: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10 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Часть прямой</a:t>
                      </a: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,                                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12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.Запись, состоящая из одной или                    ограниченная одной точкой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нескольких цифр.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13.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Что находят, умножая длину прямоугольника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на ширину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"/>
          <p:cNvSpPr/>
          <p:nvPr/>
        </p:nvSpPr>
        <p:spPr>
          <a:xfrm>
            <a:off x="3780000" y="1844640"/>
            <a:ext cx="71280" cy="41054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69660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абава М.Ю Лермонтов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971280" y="1483920"/>
            <a:ext cx="5640120" cy="24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Задумайте число(не больше20).Прибавьте к нему 25, прибавьте еще 40, отнять 36, отнять задуманное число, остаток умножить на 2, отнять 8.  Получится 50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b8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3640" y="1483920"/>
            <a:ext cx="74451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А мы бросаем скуке вызов, потому что,  потому, жить на свете без сюрпризов невозможно никому. Пусть задачу  за задачей мы решим, получим приз. Только так, а не иначе , только так а не иначе и да здравствует сюрприз!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7382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SzPct val="4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f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онкурс «Устный счёт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73864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1280" y="2060640"/>
            <a:ext cx="792000" cy="5763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79640" y="1916280"/>
            <a:ext cx="914400" cy="6267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: 8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403280" y="2133720"/>
            <a:ext cx="504720" cy="2872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6360" y="2205000"/>
            <a:ext cx="718920" cy="360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35280" y="2205000"/>
            <a:ext cx="792360" cy="57636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+17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427640" y="2060280"/>
            <a:ext cx="577800" cy="360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76720" y="2492280"/>
            <a:ext cx="144720" cy="7164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03640" y="1700280"/>
            <a:ext cx="792360" cy="91440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* 6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96000" y="2276640"/>
            <a:ext cx="431640" cy="215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27640" y="1989000"/>
            <a:ext cx="914400" cy="648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2781360"/>
            <a:ext cx="647640" cy="792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116000" y="2852280"/>
            <a:ext cx="431640" cy="360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76360" y="2708280"/>
            <a:ext cx="987480" cy="84312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* 30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84360" y="3068640"/>
            <a:ext cx="432000" cy="216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59280" y="3429000"/>
            <a:ext cx="72720" cy="7308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43280" y="2781360"/>
            <a:ext cx="649080" cy="72072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-1200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492360" y="3068280"/>
            <a:ext cx="574920" cy="2890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67280" y="2781360"/>
            <a:ext cx="1152360" cy="71892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: 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92720" y="3284640"/>
            <a:ext cx="64764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997360"/>
            <a:ext cx="914400" cy="6984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9640" y="3860640"/>
            <a:ext cx="914400" cy="9162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547640" y="4220640"/>
            <a:ext cx="792360" cy="71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68360" y="4005360"/>
            <a:ext cx="935280" cy="79200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+47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4221000"/>
            <a:ext cx="50328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80000" y="3933720"/>
            <a:ext cx="863280" cy="79056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* 3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16360" y="4365720"/>
            <a:ext cx="64764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435640" y="3860640"/>
            <a:ext cx="720720" cy="8636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- 130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300720" y="4365720"/>
            <a:ext cx="50328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77080" y="3933720"/>
            <a:ext cx="574560" cy="8636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=80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9640" y="5084640"/>
            <a:ext cx="719280" cy="9144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258920" y="5373360"/>
            <a:ext cx="720720" cy="144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08000" y="5157720"/>
            <a:ext cx="914400" cy="91440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: 13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916360" y="5300280"/>
            <a:ext cx="576000" cy="360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19640" y="5229360"/>
            <a:ext cx="647640" cy="50472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* 8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140360" y="5157360"/>
            <a:ext cx="431640" cy="3589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5013360"/>
            <a:ext cx="720720" cy="79200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+2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292720" y="5444640"/>
            <a:ext cx="503280" cy="71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96000" y="5157720"/>
            <a:ext cx="1008000" cy="7192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=49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айди фигур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ервая команд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торая команд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826920" y="2707920"/>
            <a:ext cx="1657440" cy="8636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4360" y="2708280"/>
            <a:ext cx="1006560" cy="158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826560" y="3429000"/>
            <a:ext cx="73080" cy="20876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5640" y="5589720"/>
            <a:ext cx="2521080" cy="14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276720" y="4292640"/>
            <a:ext cx="287280" cy="14414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755640" y="2708280"/>
            <a:ext cx="1728720" cy="28098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00000" y="3500280"/>
            <a:ext cx="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00000" y="3500280"/>
            <a:ext cx="2737080" cy="8636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826560" y="3428640"/>
            <a:ext cx="2449800" cy="23050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826920" y="4292640"/>
            <a:ext cx="2737080" cy="1224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284720" y="2133360"/>
            <a:ext cx="2303280" cy="28796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588000" y="2205000"/>
            <a:ext cx="863640" cy="3600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84720" y="5013360"/>
            <a:ext cx="3166920" cy="792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724000" y="2205000"/>
            <a:ext cx="863640" cy="3168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5148360" y="3933720"/>
            <a:ext cx="576000" cy="1440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724360" y="4221000"/>
            <a:ext cx="1297080" cy="1152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48360" y="3933720"/>
            <a:ext cx="1944720" cy="2872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6732720" y="4221000"/>
            <a:ext cx="287280" cy="1368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65772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Раздели торт</a:t>
            </a:r>
            <a:br>
              <a:rPr sz="3600"/>
            </a:b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Разделить торт на 7 кусков( не обязательно одинаковых) тремя прямыми  , так ,чтобы на каждом куске было по одной розочке.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92360" y="2637000"/>
            <a:ext cx="3529080" cy="280800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69120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«Задачи на внимание»</a:t>
            </a:r>
            <a:br>
              <a:rPr sz="3600"/>
            </a:br>
            <a:br>
              <a:rPr sz="36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Два сына и два отца несли три апельсина .Сколько нёс каждый?(по одному)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У родителей  шесть сыновей и у каждого из них есть сестра Сколько детей в семье?(семь)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Цапля на одной ноге весит 10 кг.А на двух?(10 кг)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Три человека ждали поезд 3 часа .Сколько ждал каждый(3ч)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Верёвку разрезали на 5 частей. Сколько сделали разрезов?(4)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Сколько концов у полки? У шести палок? У шести с половиной палок?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(2; 12;14)</a:t>
            </a: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Летело 10 уток .Двух убили. Сколько осталось? (две)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На двух руках 10 пальцев. Сколько пальцев на10 руках? (50)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Сколько орехов в пустом кармане? (0)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Профессор ложится в 20 часов. Ставит будильник на 9 утра. Сколько часов проспит профессор? ( 1час)</a:t>
            </a: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65768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Конкурс для болельщиков</a:t>
            </a:r>
            <a:br>
              <a:rPr sz="3600"/>
            </a:br>
            <a:r>
              <a:rPr b="1" lang="en-US" sz="2000" spc="-1" strike="noStrike">
                <a:solidFill>
                  <a:srgbClr val="f7d47d"/>
                </a:solidFill>
                <a:latin typeface="Arial"/>
              </a:rPr>
              <a:t>«Закончи пословицу или поговорку»</a:t>
            </a:r>
            <a:br>
              <a:rPr sz="2000"/>
            </a:br>
            <a:br>
              <a:rPr sz="1400"/>
            </a:b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Лучше  один раз увидеть……………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Семеро одного…….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 Семь пятниц на неделе………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Один с сошкой………….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Один как ясный месяц…….</a:t>
            </a:r>
            <a:br>
              <a:rPr sz="1400"/>
            </a:b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Два сапога…….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Один за всех……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Седьмая вода на……..</a:t>
            </a:r>
            <a:br>
              <a:rPr sz="1400"/>
            </a:br>
            <a:endParaRPr b="0" lang="en-US" sz="1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655344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онкурс «Найди цифру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cxnSp>
        <p:nvCxnSpPr>
          <p:cNvPr id="263" name=""/>
          <p:cNvCxnSpPr/>
          <p:nvPr/>
        </p:nvCxnSpPr>
        <p:spPr>
          <a:xfrm>
            <a:off x="178920" y="3806640"/>
            <a:ext cx="1080" cy="1080"/>
          </a:xfrm>
          <a:prstGeom prst="straightConnector1">
            <a:avLst/>
          </a:prstGeom>
          <a:ln w="9360">
            <a:solidFill>
              <a:srgbClr val="2f1311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онкурс  «Эрудит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6T17:55:22Z</dcterms:created>
  <dc:creator>user</dc:creator>
  <dc:description/>
  <dc:language>en-US</dc:language>
  <cp:lastModifiedBy>user</cp:lastModifiedBy>
  <dcterms:modified xsi:type="dcterms:W3CDTF">2013-10-27T17:01:13Z</dcterms:modified>
  <cp:revision>12</cp:revision>
  <dc:subject/>
  <dc:title>Математический праздник</dc:title>
</cp:coreProperties>
</file>