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84C-8F80-45A6-B20F-31409C84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870-F3AD-490C-9C64-C6F19E3F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951-DBE6-4D69-A338-053B6BFC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23E-5864-4B43-9962-031388EC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E486-C259-4760-9EDB-50074FE7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4B38-E5F5-4190-9BA7-C28B7717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EF6F-9679-4B57-AF76-9823E6F2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7CEB-9A47-4E65-8715-75D2ABBC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1AAC-52F8-46FD-99D7-8B7BA1E9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5289-9C59-4710-B078-DD133517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8738-F636-40AA-A604-E0699D6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334-82E6-4ABA-8442-02097E4B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AF3C-9BB8-46E8-AD84-A4AB0B86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19A2-F202-4C79-BFC2-E8C0B17E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F9A4-7C9C-4292-A2BE-75F98040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4D47-C694-45A2-819F-0898BAA5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4FC6-0B38-404C-BF99-5B89A6C2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F73-A841-4ECE-83B7-FDE6670D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0F0-DF4C-4649-A25C-1E134EEE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85A-D003-4920-A933-DADDF5AB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0A5-13A6-42DC-9C0C-45C37778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636-AE82-415F-AD18-9B66BE8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DCC-3876-406D-B0B5-FBF99DF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6E3-0574-458E-BB08-9D88D4AD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2506-D43D-428E-8FF7-BB9D977082E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1C97-F569-44BA-A34D-23F37EEDEC8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66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тематический праздн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2852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Мы бросаем скуке вызов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Эруди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779640" y="1628280"/>
            <a:ext cx="3617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4920" y="1557360"/>
          <a:ext cx="7351560" cy="4848120"/>
        </p:xfrm>
        <a:graphic>
          <a:graphicData uri="http://schemas.openxmlformats.org/drawingml/2006/table">
            <a:tbl>
              <a:tblPr/>
              <a:tblGrid>
                <a:gridCol w="7351560"/>
              </a:tblGrid>
              <a:tr h="51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 горизонтали:                По вертикали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Компонент математического                  2.самое маленькое натуральное           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йствия «вычитание»                                              число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6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.Компонент математического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исло .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йствия «умножение»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4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 Одно из измерений прямо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Единица измерения массы.                                Угольника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Число, которое не может быть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5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Результат деления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лителем                     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 7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Результат вычитания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1.Часть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прямой, ограниченная двумя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 8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Геометрическая фигура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чками                             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0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асть прямой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,                             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2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Запись, состоящая из одной или                    ограниченная одной точкой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скольких цифр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3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то находят, умножая длину прямоугольник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а ширину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3780000" y="1844640"/>
            <a:ext cx="71280" cy="4105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6966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бава М.Ю Лермонто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71280" y="1483920"/>
            <a:ext cx="564012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думайте число(не больше20).Прибавьте к нему 25, прибавьте еще 40, отнять 36, отнять задуманное число, остаток умножить на 2, отнять 8.  Получится 50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1483920"/>
            <a:ext cx="7445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 мы бросаем скуке вызов, потому что,  потому, жить на свете без сюрпризов невозможно никому. Пусть задачу  за задачей мы решим, получим приз. Только так, а не иначе , только так а не иначе и да здравствует сюрприз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738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Устный счё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7386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2060640"/>
            <a:ext cx="79200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1916280"/>
            <a:ext cx="914400" cy="6267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403280" y="2133720"/>
            <a:ext cx="504720" cy="287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2205000"/>
            <a:ext cx="71892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205000"/>
            <a:ext cx="792360" cy="576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17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27640" y="2060280"/>
            <a:ext cx="57780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2492280"/>
            <a:ext cx="144720" cy="716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3640" y="1700280"/>
            <a:ext cx="79236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6000" y="2276640"/>
            <a:ext cx="43164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1989000"/>
            <a:ext cx="914400" cy="64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2781360"/>
            <a:ext cx="64764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116000" y="2852280"/>
            <a:ext cx="43164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2708280"/>
            <a:ext cx="987480" cy="8431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3068640"/>
            <a:ext cx="43200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3429000"/>
            <a:ext cx="72720" cy="730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2781360"/>
            <a:ext cx="649080" cy="720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120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492360" y="3068280"/>
            <a:ext cx="57492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2781360"/>
            <a:ext cx="1152360" cy="7189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284640"/>
            <a:ext cx="64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997360"/>
            <a:ext cx="914400" cy="698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860640"/>
            <a:ext cx="914400" cy="9162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47640" y="4220640"/>
            <a:ext cx="792360" cy="7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4005360"/>
            <a:ext cx="935280" cy="792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4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221000"/>
            <a:ext cx="5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80000" y="3933720"/>
            <a:ext cx="863280" cy="7905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365720"/>
            <a:ext cx="64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3860640"/>
            <a:ext cx="72072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1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00720" y="4365720"/>
            <a:ext cx="5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77080" y="3933720"/>
            <a:ext cx="57456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=8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5084640"/>
            <a:ext cx="719280" cy="914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258920" y="5373360"/>
            <a:ext cx="720720" cy="144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5157720"/>
            <a:ext cx="91440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916360" y="5300280"/>
            <a:ext cx="57600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19640" y="5229360"/>
            <a:ext cx="647640" cy="504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40360" y="5157360"/>
            <a:ext cx="431640" cy="358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013360"/>
            <a:ext cx="720720" cy="792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2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92720" y="5444640"/>
            <a:ext cx="503280" cy="7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5157720"/>
            <a:ext cx="1008000" cy="719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=4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йди фигу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вая коман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торая коман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26920" y="2707920"/>
            <a:ext cx="1657440" cy="8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2708280"/>
            <a:ext cx="1006560" cy="158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26560" y="3429000"/>
            <a:ext cx="73080" cy="2087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5589720"/>
            <a:ext cx="252108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276720" y="4292640"/>
            <a:ext cx="287280" cy="1441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55640" y="2708280"/>
            <a:ext cx="1728720" cy="28098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350028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3500280"/>
            <a:ext cx="2737080" cy="8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826560" y="3428640"/>
            <a:ext cx="2449800" cy="2305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26920" y="4292640"/>
            <a:ext cx="2737080" cy="1224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284720" y="2133360"/>
            <a:ext cx="2303280" cy="2879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88000" y="2205000"/>
            <a:ext cx="863640" cy="360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5013360"/>
            <a:ext cx="3166920" cy="792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724000" y="2205000"/>
            <a:ext cx="863640" cy="316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148360" y="3933720"/>
            <a:ext cx="576000" cy="1440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24360" y="4221000"/>
            <a:ext cx="1297080" cy="1152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933720"/>
            <a:ext cx="194472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732720" y="4221000"/>
            <a:ext cx="287280" cy="136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577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аздели торт</a:t>
            </a:r>
            <a:br>
              <a:rPr sz="36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Разделить торт на 7 кусков( не обязательно одинаковых) тремя прямыми  , так ,чтобы на каждом куске было по одной розочке.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2637000"/>
            <a:ext cx="3529080" cy="2808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912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Задачи на внимание»</a:t>
            </a:r>
            <a:br>
              <a:rPr sz="3600"/>
            </a:br>
            <a:br>
              <a:rPr sz="36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Два сына и два отца несли три апельсина .Сколько нёс каждый?(по одному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У родителей  шесть сыновей и у каждого из них есть сестра Сколько детей в семье?(семь)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Цапля на одной ноге весит 10 кг.А на двух?(10 кг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Три человека ждали поезд 3 часа .Сколько ждал каждый(3ч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Верёвку разрезали на 5 частей. Сколько сделали разрезов?(4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Сколько концов у полки? У шести палок? У шести с половиной палок?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(2; 12;14)</a:t>
            </a: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Летело 10 уток .Двух убили. Сколько осталось? (две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На двух руках 10 пальцев. Сколько пальцев на10 руках? (50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Сколько орехов в пустом кармане? (0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Профессор ложится в 20 часов. Ставит будильник на 9 утра. Сколько часов проспит профессор? ( 1час)</a:t>
            </a: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576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онкурс для болельщиков</a:t>
            </a:r>
            <a:br>
              <a:rPr sz="36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«Закончи пословицу или поговорку»</a:t>
            </a: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Лучше  один раз увидеть…………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Семеро одного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Семь пятниц на неделе……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с сошкой……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как ясный месяц…….</a:t>
            </a: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Два сапога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за всех……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Седьмая вода на……..</a:t>
            </a:r>
            <a:br>
              <a:rPr sz="1400"/>
            </a:b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65534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Найди цифру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63" name=""/>
          <p:cNvCxnSpPr/>
          <p:nvPr/>
        </p:nvCxnSpPr>
        <p:spPr>
          <a:xfrm>
            <a:off x="178920" y="3806640"/>
            <a:ext cx="1080" cy="1080"/>
          </a:xfrm>
          <a:prstGeom prst="straightConnector1">
            <a:avLst/>
          </a:prstGeom>
          <a:ln w="9360">
            <a:solidFill>
              <a:srgbClr val="2f1311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 «Эруди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7:55:22Z</dcterms:created>
  <dc:creator>user</dc:creator>
  <dc:description/>
  <dc:language>en-US</dc:language>
  <cp:lastModifiedBy>user</cp:lastModifiedBy>
  <dcterms:modified xsi:type="dcterms:W3CDTF">2013-10-27T17:01:13Z</dcterms:modified>
  <cp:revision>12</cp:revision>
  <dc:subject/>
  <dc:title>Математический праздник</dc:title>
</cp:coreProperties>
</file>