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6C6-3B75-4C58-824E-44651B06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985-C389-44BE-9265-7D91DC6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DA4-892E-4A04-A877-31044B45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848-F716-4507-BF6E-4A040AF3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542-A738-4870-BBE2-96D80379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8B07-5275-41F0-A4CD-41EE9843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E635-AF3B-40D3-8761-DA4705B4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0E8F-8DFA-4CBC-90A5-A38CA78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4D1-4255-419F-8C6F-16AABC9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06E1-155D-4432-853C-B20852E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E29C-207F-4959-BEB7-336A960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CAD-EE24-4DE5-9253-2FE09C6F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4FE7-ECCE-4D53-8AED-F195223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FBF9-BB80-434D-87F7-E10B564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F7AE-BDEA-4F8C-9377-632BF80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64D-F190-4B30-BF3F-45AF3AD6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5B95-C628-4DA5-B70D-764C787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C16-F421-480F-8CEF-C02A6CEA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1A7-9713-454A-B15B-7EDFF64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90F-3CAF-47C2-B366-EC1DD222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4EF-A884-4744-BC64-30F36DFD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46F-7E6A-4BB7-9D2D-06D497A9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71C-B529-48B0-B480-E3AFE2A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ED8-857F-4A2D-8D09-B7F38D9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0EB-4996-4C64-8A6B-981237BBA43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949B-2F83-427F-99A5-6AC682BB2D5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66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матический празд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Мы бросаем скуке вызов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77964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920" y="1557360"/>
          <a:ext cx="7351560" cy="4848120"/>
        </p:xfrm>
        <a:graphic>
          <a:graphicData uri="http://schemas.openxmlformats.org/drawingml/2006/table">
            <a:tbl>
              <a:tblPr/>
              <a:tblGrid>
                <a:gridCol w="7351560"/>
              </a:tblGrid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 горизонтали:                По вертикали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Компонент математического                  2.самое маленькое натуральное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вычитание»                                              число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6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.Компонент математического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исло .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умножение»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4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 Одно из измерений прямо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Единица измерения массы.                                Угольник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Число, которое не может быть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5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Результат делен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лителем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7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Результат вычитания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1.Часть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прямой, ограниченная двумя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Геометрическая фигур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чками        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0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асть прямой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,                  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2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Запись, состоящая из одной или                    ограниченная одной точко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скольких цифр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 находят, умножая длину прямоугольник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 ширин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780000" y="1844640"/>
            <a:ext cx="71280" cy="4105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696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бава М.Ю Лермонт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71280" y="1483920"/>
            <a:ext cx="564012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умайте число(не больше20).Прибавьте к нему 25, прибавьте еще 40, отнять 36, отнять задуманное число, остаток умножить на 2, отнять 8.  Получится 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744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мы бросаем скуке вызов, потому что,  потому, жить на свете без сюрпризов невозможно никому. Пусть задачу  за задачей мы решим, получим приз. Только так, а не иначе , только так а не иначе и да здравствует сюрприз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738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Устный счё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2060640"/>
            <a:ext cx="792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916280"/>
            <a:ext cx="914400" cy="6267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03280" y="2133720"/>
            <a:ext cx="50472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205000"/>
            <a:ext cx="7189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205000"/>
            <a:ext cx="792360" cy="57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17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27640" y="2060280"/>
            <a:ext cx="5778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492280"/>
            <a:ext cx="144720" cy="7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1700280"/>
            <a:ext cx="79236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276640"/>
            <a:ext cx="43164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89000"/>
            <a:ext cx="914400" cy="6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781360"/>
            <a:ext cx="647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16000" y="2852280"/>
            <a:ext cx="43164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2708280"/>
            <a:ext cx="98748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432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429000"/>
            <a:ext cx="72720" cy="73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781360"/>
            <a:ext cx="649080" cy="720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12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92360" y="3068280"/>
            <a:ext cx="574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781360"/>
            <a:ext cx="1152360" cy="718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28464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997360"/>
            <a:ext cx="914400" cy="698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860640"/>
            <a:ext cx="914400" cy="9162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7640" y="4220640"/>
            <a:ext cx="79236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4005360"/>
            <a:ext cx="93528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4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22100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0000" y="3933720"/>
            <a:ext cx="863280" cy="7905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36572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3860640"/>
            <a:ext cx="72072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1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436572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3933720"/>
            <a:ext cx="57456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8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084640"/>
            <a:ext cx="71928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58920" y="5373360"/>
            <a:ext cx="72072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5157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16360" y="5300280"/>
            <a:ext cx="5760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229360"/>
            <a:ext cx="647640" cy="504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40360" y="5157360"/>
            <a:ext cx="43164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013360"/>
            <a:ext cx="72072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2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92720" y="5444640"/>
            <a:ext cx="50328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157720"/>
            <a:ext cx="1008000" cy="7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4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йди фиг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26920" y="2707920"/>
            <a:ext cx="165744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2708280"/>
            <a:ext cx="1006560" cy="158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6560" y="3429000"/>
            <a:ext cx="73080" cy="20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589720"/>
            <a:ext cx="2521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720" y="4292640"/>
            <a:ext cx="287280" cy="144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5640" y="2708280"/>
            <a:ext cx="1728720" cy="28098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500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500280"/>
            <a:ext cx="273708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26560" y="3428640"/>
            <a:ext cx="2449800" cy="2305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26920" y="4292640"/>
            <a:ext cx="2737080" cy="1224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284720" y="2133360"/>
            <a:ext cx="2303280" cy="2879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2205000"/>
            <a:ext cx="863640" cy="360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5013360"/>
            <a:ext cx="3166920" cy="792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24000" y="2205000"/>
            <a:ext cx="863640" cy="31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48360" y="3933720"/>
            <a:ext cx="576000" cy="14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4360" y="4221000"/>
            <a:ext cx="1297080" cy="115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933720"/>
            <a:ext cx="194472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732720" y="4221000"/>
            <a:ext cx="287280" cy="13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5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здели торт</a:t>
            </a:r>
            <a:br>
              <a:rPr sz="36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Разделить торт на 7 кусков( не обязательно одинаковых) тремя прямыми  , так ,чтобы на каждом куске было по одной розочк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637000"/>
            <a:ext cx="3529080" cy="2808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912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Задачи на внимание»</a:t>
            </a: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Два сына и два отца несли три апельсина .Сколько нёс каждый?(по одному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У родителей  шесть сыновей и у каждого из них есть сестра Сколько детей в семье?(семь)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апля на одной ноге весит 10 кг.А на двух?(10 кг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Три человека ждали поезд 3 часа .Сколько ждал каждый(3ч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Верёвку разрезали на 5 частей. Сколько сделали разрезов?(4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концов у полки? У шести палок? У шести с половиной палок?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(2; 12;14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Летело 10 уток .Двух убили. Сколько осталось? (две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На двух руках 10 пальцев. Сколько пальцев на10 руках? (5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орехов в пустом кармане? (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офессор ложится в 20 часов. Ставит будильник на 9 утра. Сколько часов проспит профессор? ( 1час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576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нкурс для болельщиков</a:t>
            </a:r>
            <a:br>
              <a:rPr sz="36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«Закончи пословицу или поговорку»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учше  один раз увидеть……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меро одного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Семь пятниц на неделе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с сошкой……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как ясный месяц…….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Два сапога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за всех……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дьмая вода на……..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5534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Найди цифру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178920" y="3806640"/>
            <a:ext cx="1080" cy="1080"/>
          </a:xfrm>
          <a:prstGeom prst="straightConnector1">
            <a:avLst/>
          </a:prstGeom>
          <a:ln w="9360">
            <a:solidFill>
              <a:srgbClr val="2f131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7:55:22Z</dcterms:created>
  <dc:creator>user</dc:creator>
  <dc:description/>
  <dc:language>en-US</dc:language>
  <cp:lastModifiedBy>user</cp:lastModifiedBy>
  <dcterms:modified xsi:type="dcterms:W3CDTF">2013-10-27T17:01:13Z</dcterms:modified>
  <cp:revision>12</cp:revision>
  <dc:subject/>
  <dc:title>Математический праздник</dc:title>
</cp:coreProperties>
</file>