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17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chimes.wav" ContentType="audio/x-wav"/>
  <Override PartName="/ppt/media/image1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A57-7F9C-420E-B5DD-E01421ED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F48-B411-467B-A424-5EC49AB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DEA-F14E-4BB0-9A6D-B1932A05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7C6-C7E9-459B-BFF4-9AE96CFF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C1B2-F614-4522-8B86-79A58CD2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780-14EC-4361-A7C0-C7156948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E807-F712-43D1-AF48-A305C35E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9EEF-A8B0-4B18-9F0D-33ED508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7124-7956-466A-87AC-F4A51AD2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8CC-5856-458E-85EE-1AACC0F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B0DD-C9C1-44D3-A2A4-0772685A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A18-B271-401E-BEF7-1C5E902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984D-8823-4B11-984E-C53BDBA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46E-F59D-49A0-8F03-8D531A7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D5A4-332A-4F05-B207-4ADFCE5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C077-DC40-48A2-9821-6CC4006B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E16D-5CC8-4FFB-8A4F-78BE20D9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0E85-1961-4492-BB3A-C38D973A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2B85-4E30-4914-8ECB-40C7B389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0C88-E0E0-466A-8F62-AA70B34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DE9F-14C8-4025-AE2E-62967FFB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670B-F261-4125-A033-7789895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4F8-A750-4E57-96F8-3A163B4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EB40-462D-4A71-8137-F479D0E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AC2A-6C7C-4FC0-AA09-430620E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F2FC-82E5-4C70-9E92-A7A7839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094E-5595-41E3-8ED2-B0B1EFE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1824-8548-45CF-8B44-5054EF6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A670-8D9D-43E5-8D30-6247E484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8841-E069-4404-B011-A06A8F08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171C-5E4C-4403-8E77-F0A2EC8A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6BFD-B571-4A04-BA64-8A9AA6C2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261D-6C18-4C60-9339-297405FB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43D-90B5-4BEA-9908-2B258C3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8CCC-E58F-434C-AACE-0A8B9DD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EBA5-AAF4-4E31-BEC5-9166B7A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7422-9AE1-4025-B242-A110E0C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257D-D196-435C-92C2-4F6EAC4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2803-0FB3-4C65-BDBA-689F1F7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BA82-5722-4ED3-95FC-87EF67A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B598-ACC7-4AD4-98EE-8AFDFB0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4C20-A688-4112-9F05-78DA39CC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A274-AC01-471F-AAE7-2228121C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3003-73A3-4FAF-9DAD-2E1C957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1FF-A5B5-459B-AA2F-B6E97FB5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B81F-0015-4B7B-B235-C7BF9C9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65A1-B74C-4648-89CC-F591C633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EFFB-5439-4B24-B2EA-4FC21BC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1601-75D7-4910-AF48-2781A46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D2C4-57B6-4ACE-A728-3FBFEC2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A515-E669-4E97-9D28-25EF5D2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524BF-181E-48B6-8AAE-5F1987B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D612-B411-4F89-92CA-299C687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BE9C-2264-4619-89BE-2695EEC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5DEC-58B7-440F-A541-50628487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372-943F-4A99-BBFC-622BCCC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3289-B788-443A-B08A-3458B349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FE13-EC62-42BB-A314-0A4A819F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0898-2C92-4775-AAAE-95FF049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855E-8AE3-4E21-BEAA-4A7E690B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F42C-92A3-4F14-9EAA-0C9A39B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232E-0E86-44D0-BBC7-B6EC689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66846-2DD4-4CE8-999F-1F88890A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4AE3-4ECA-4512-8F31-420DA27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C18F-BDCD-40C5-9F5A-D78A093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DF55-AAD3-47FB-A9C0-EF88960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D6-52F1-4B37-BF93-B4D2FE7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7F2D-F083-4DC0-B016-F667336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8107-DD24-48DA-A2A0-851DFA14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2EF4-3EE2-4F0E-99A1-5380B96F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ACB-1147-4662-A5F1-4DD5A5A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A3C-DE7A-4F09-B30F-7C55CF4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CEF-6F71-4160-97BE-66A363B7CE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0DA-AD8D-4A40-B7E9-C79D843CC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E01-A898-49CA-AB77-340547039230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5076-B634-4BA1-90C2-18EF9D6689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3663-70F7-4042-82A8-67A4DA2F0592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46A-3F4F-4F31-8C0E-6CA67E55E5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542-7547-4440-97BE-FAF3798AA3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3EA-4047-4EB9-96FD-0AB14E3B2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BC7-AD67-4F86-86A1-E32B6F032BC6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FD1D-5744-4672-878D-92AC7583B3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160-CF9D-4D91-9DEA-90B1E9A93E1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81E-9C42-4F2D-A855-5D3DA393B0D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8.xml"/><Relationship Id="rId23" Type="http://schemas.openxmlformats.org/officeDocument/2006/relationships/slide" Target="slide19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image" Target="../media/image8.gif"/><Relationship Id="rId29" Type="http://schemas.openxmlformats.org/officeDocument/2006/relationships/image" Target="../media/image8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8.gif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6" descr=""/>
          <p:cNvPicPr/>
          <p:nvPr/>
        </p:nvPicPr>
        <p:blipFill>
          <a:blip r:embed="rId1"/>
          <a:stretch/>
        </p:blipFill>
        <p:spPr>
          <a:xfrm>
            <a:off x="1855800" y="2781360"/>
            <a:ext cx="5164200" cy="3816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22312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ТЕМАТИЧЕСКИЙ</a:t>
            </a: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РАФОН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0" y="2390400"/>
            <a:ext cx="9144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Dvazhdy_dva_-_chetyre.mp3" descr=""/>
          <p:cNvPicPr/>
          <p:nvPr/>
        </p:nvPicPr>
        <p:blipFill>
          <a:blip r:embed="rId2"/>
          <a:stretch/>
        </p:blipFill>
        <p:spPr>
          <a:xfrm>
            <a:off x="558000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4937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3 мин. бревно распилили на полуметровые бревна, причём каждая распиловка занимала 1 мин.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Найти длину бревна.</a:t>
            </a:r>
            <a:br>
              <a:rPr sz="44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658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7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4" descr="f8920bf0544f"/>
          <p:cNvPicPr/>
          <p:nvPr/>
        </p:nvPicPr>
        <p:blipFill>
          <a:blip r:embed="rId3"/>
          <a:stretch/>
        </p:blipFill>
        <p:spPr>
          <a:xfrm>
            <a:off x="395280" y="4365720"/>
            <a:ext cx="2722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Найти площадь квадрата, периметр которого 36 см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92360" y="450828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81 кв.с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Picture 14" descr="f8920bf0544f"/>
          <p:cNvPicPr/>
          <p:nvPr/>
        </p:nvPicPr>
        <p:blipFill>
          <a:blip r:embed="rId3"/>
          <a:stretch/>
        </p:blipFill>
        <p:spPr>
          <a:xfrm>
            <a:off x="250920" y="4941720"/>
            <a:ext cx="2722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360" y="3645000"/>
            <a:ext cx="860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к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4211640" y="105264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211640" y="3933720"/>
            <a:ext cx="1944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324000" y="54288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сса бидона с молоком 32 кг, без молока – 2 кг. Какова масса бидона, заполненного молоком наполовин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14" descr="f8920bf0544f"/>
          <p:cNvPicPr/>
          <p:nvPr/>
        </p:nvPicPr>
        <p:blipFill>
          <a:blip r:embed="rId3"/>
          <a:stretch/>
        </p:blipFill>
        <p:spPr>
          <a:xfrm>
            <a:off x="179280" y="5041800"/>
            <a:ext cx="2592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02 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6"/>
          <p:cNvSpPr/>
          <p:nvPr/>
        </p:nvSpPr>
        <p:spPr>
          <a:xfrm>
            <a:off x="755640" y="836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разить в  метрах   15км 2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Рисунок 7" descr="314889979.gif"/>
          <p:cNvPicPr/>
          <p:nvPr/>
        </p:nvPicPr>
        <p:blipFill>
          <a:blip r:embed="rId3"/>
          <a:stretch/>
        </p:blipFill>
        <p:spPr>
          <a:xfrm>
            <a:off x="6300720" y="256536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+40)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∙3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Рисунок 7" descr="314889979.gif"/>
          <p:cNvPicPr/>
          <p:nvPr/>
        </p:nvPicPr>
        <p:blipFill>
          <a:blip r:embed="rId3"/>
          <a:stretch/>
        </p:blipFill>
        <p:spPr>
          <a:xfrm>
            <a:off x="7129440" y="3860640"/>
            <a:ext cx="2014560" cy="17258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10"/>
          <p:cNvSpPr/>
          <p:nvPr/>
        </p:nvSpPr>
        <p:spPr>
          <a:xfrm>
            <a:off x="0" y="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Цена хризантемы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р. за один цветок, а цена одной розы –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на 40 р. больше. 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Запишите на математическом языке стоимость трех роз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4385520" y="3244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а-49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6"/>
          <p:cNvSpPr/>
          <p:nvPr/>
        </p:nvSpPr>
        <p:spPr>
          <a:xfrm>
            <a:off x="250920" y="83664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Записать выраже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сумма  85   и  а-4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658800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– 27=8,  Х=27+8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-8=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6"/>
          <p:cNvSpPr/>
          <p:nvPr/>
        </p:nvSpPr>
        <p:spPr>
          <a:xfrm>
            <a:off x="250920" y="33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Записать в виде уравнения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Х  больше  27 на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5880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: </a:t>
            </a: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всей покупки</a:t>
            </a:r>
            <a:r>
              <a:rPr b="0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250920" y="0"/>
            <a:ext cx="86421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Мама купила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конфет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 и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печенья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. Какой смысл имеет выраже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ах+ву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44d26"/>
                </a:solidFill>
                <a:latin typeface="Garamond"/>
              </a:rPr>
              <a:t>Сравните</a:t>
            </a:r>
            <a:br>
              <a:rPr sz="54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851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9" name="Рисунок 6" descr="934367234.gif"/>
          <p:cNvPicPr/>
          <p:nvPr/>
        </p:nvPicPr>
        <p:blipFill>
          <a:blip r:embed="rId3"/>
          <a:stretch/>
        </p:blipFill>
        <p:spPr>
          <a:xfrm>
            <a:off x="7451640" y="3716280"/>
            <a:ext cx="1440000" cy="15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Object 6"/>
              <p:cNvSpPr txBox="1"/>
              <p:nvPr/>
            </p:nvSpPr>
            <p:spPr>
              <a:xfrm>
                <a:off x="2556000" y="1125360"/>
                <a:ext cx="8236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5292720" y="1125360"/>
                <a:ext cx="1114560" cy="217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8"/>
              <p:cNvSpPr txBox="1"/>
              <p:nvPr/>
            </p:nvSpPr>
            <p:spPr>
              <a:xfrm>
                <a:off x="3276720" y="3860640"/>
                <a:ext cx="8254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5364000" y="3860640"/>
                <a:ext cx="107964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Представить число 25 в виде дроби со знаменателем 4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778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0"/>
              <p:cNvSpPr txBox="1"/>
              <p:nvPr/>
            </p:nvSpPr>
            <p:spPr>
              <a:xfrm>
                <a:off x="4859280" y="3141720"/>
                <a:ext cx="2544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8" name="Рисунок 6" descr="934367234.gif"/>
          <p:cNvPicPr/>
          <p:nvPr/>
        </p:nvPicPr>
        <p:blipFill>
          <a:blip r:embed="rId3"/>
          <a:stretch/>
        </p:blipFill>
        <p:spPr>
          <a:xfrm>
            <a:off x="5076720" y="443700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260280"/>
          <a:ext cx="8686800" cy="6475320"/>
        </p:xfrm>
        <a:graphic>
          <a:graphicData uri="http://schemas.openxmlformats.org/drawingml/2006/table">
            <a:tbl>
              <a:tblPr/>
              <a:tblGrid>
                <a:gridCol w="1692360"/>
                <a:gridCol w="1203120"/>
                <a:gridCol w="1605240"/>
                <a:gridCol w="1439640"/>
                <a:gridCol w="1511280"/>
                <a:gridCol w="1235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реде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ыры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роб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образ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WordArt 4"/>
          <p:cNvSpPr txBox="1"/>
          <p:nvPr/>
        </p:nvSpPr>
        <p:spPr>
          <a:xfrm>
            <a:off x="8712360" y="602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Text Box 107">
            <a:hlinkClick r:id="rId3" action="ppaction://hlinksldjump"/>
          </p:cNvPr>
          <p:cNvSpPr/>
          <p:nvPr/>
        </p:nvSpPr>
        <p:spPr>
          <a:xfrm>
            <a:off x="1547640" y="260280"/>
            <a:ext cx="1295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08">
            <a:hlinkClick r:id="rId5" action="ppaction://hlinksldjump"/>
          </p:cNvPr>
          <p:cNvSpPr/>
          <p:nvPr/>
        </p:nvSpPr>
        <p:spPr>
          <a:xfrm>
            <a:off x="2987640" y="26028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09">
            <a:hlinkClick r:id="rId7" action="ppaction://hlinksldjump"/>
          </p:cNvPr>
          <p:cNvSpPr/>
          <p:nvPr/>
        </p:nvSpPr>
        <p:spPr>
          <a:xfrm>
            <a:off x="4500720" y="260280"/>
            <a:ext cx="122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0">
            <a:hlinkClick r:id="rId9"/>
          </p:cNvPr>
          <p:cNvSpPr/>
          <p:nvPr/>
        </p:nvSpPr>
        <p:spPr>
          <a:xfrm>
            <a:off x="5796000" y="26028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11"/>
          <p:cNvSpPr/>
          <p:nvPr/>
        </p:nvSpPr>
        <p:spPr>
          <a:xfrm>
            <a:off x="7380360" y="26028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2"/>
          <p:cNvSpPr/>
          <p:nvPr/>
        </p:nvSpPr>
        <p:spPr>
          <a:xfrm>
            <a:off x="1476360" y="1628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13"/>
          <p:cNvSpPr/>
          <p:nvPr/>
        </p:nvSpPr>
        <p:spPr>
          <a:xfrm>
            <a:off x="291636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4"/>
          <p:cNvSpPr/>
          <p:nvPr/>
        </p:nvSpPr>
        <p:spPr>
          <a:xfrm>
            <a:off x="435600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5"/>
          <p:cNvSpPr/>
          <p:nvPr/>
        </p:nvSpPr>
        <p:spPr>
          <a:xfrm>
            <a:off x="586728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6"/>
          <p:cNvSpPr/>
          <p:nvPr/>
        </p:nvSpPr>
        <p:spPr>
          <a:xfrm>
            <a:off x="738036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17"/>
          <p:cNvSpPr/>
          <p:nvPr/>
        </p:nvSpPr>
        <p:spPr>
          <a:xfrm>
            <a:off x="161928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18"/>
          <p:cNvSpPr/>
          <p:nvPr/>
        </p:nvSpPr>
        <p:spPr>
          <a:xfrm>
            <a:off x="2916360" y="2852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8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19"/>
          <p:cNvSpPr/>
          <p:nvPr/>
        </p:nvSpPr>
        <p:spPr>
          <a:xfrm>
            <a:off x="442764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20"/>
          <p:cNvSpPr/>
          <p:nvPr/>
        </p:nvSpPr>
        <p:spPr>
          <a:xfrm>
            <a:off x="5867280" y="2852640"/>
            <a:ext cx="122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21"/>
          <p:cNvSpPr/>
          <p:nvPr/>
        </p:nvSpPr>
        <p:spPr>
          <a:xfrm>
            <a:off x="7380360" y="2852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22"/>
          <p:cNvSpPr/>
          <p:nvPr/>
        </p:nvSpPr>
        <p:spPr>
          <a:xfrm>
            <a:off x="169236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23"/>
          <p:cNvSpPr/>
          <p:nvPr/>
        </p:nvSpPr>
        <p:spPr>
          <a:xfrm>
            <a:off x="2987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24"/>
          <p:cNvSpPr/>
          <p:nvPr/>
        </p:nvSpPr>
        <p:spPr>
          <a:xfrm>
            <a:off x="457200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25"/>
          <p:cNvSpPr/>
          <p:nvPr/>
        </p:nvSpPr>
        <p:spPr>
          <a:xfrm>
            <a:off x="6012000" y="422100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26"/>
          <p:cNvSpPr/>
          <p:nvPr/>
        </p:nvSpPr>
        <p:spPr>
          <a:xfrm>
            <a:off x="7451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27"/>
          <p:cNvSpPr/>
          <p:nvPr/>
        </p:nvSpPr>
        <p:spPr>
          <a:xfrm>
            <a:off x="161928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8"/>
          <p:cNvSpPr/>
          <p:nvPr/>
        </p:nvSpPr>
        <p:spPr>
          <a:xfrm>
            <a:off x="3132000" y="5516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29"/>
          <p:cNvSpPr/>
          <p:nvPr/>
        </p:nvSpPr>
        <p:spPr>
          <a:xfrm>
            <a:off x="457200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30"/>
          <p:cNvSpPr/>
          <p:nvPr/>
        </p:nvSpPr>
        <p:spPr>
          <a:xfrm>
            <a:off x="6084720" y="5516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31"/>
          <p:cNvSpPr/>
          <p:nvPr/>
        </p:nvSpPr>
        <p:spPr>
          <a:xfrm>
            <a:off x="752472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32"/>
          <p:cNvSpPr/>
          <p:nvPr/>
        </p:nvSpPr>
        <p:spPr>
          <a:xfrm>
            <a:off x="0" y="98100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33"/>
          <p:cNvSpPr/>
          <p:nvPr/>
        </p:nvSpPr>
        <p:spPr>
          <a:xfrm>
            <a:off x="0" y="9079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39" descr="star23"/>
          <p:cNvPicPr/>
          <p:nvPr/>
        </p:nvPicPr>
        <p:blipFill>
          <a:blip r:embed="rId28"/>
          <a:stretch/>
        </p:blipFill>
        <p:spPr>
          <a:xfrm>
            <a:off x="90000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0" descr="star23"/>
          <p:cNvPicPr/>
          <p:nvPr/>
        </p:nvPicPr>
        <p:blipFill>
          <a:blip r:embed="rId29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1" descr="star23"/>
          <p:cNvPicPr/>
          <p:nvPr/>
        </p:nvPicPr>
        <p:blipFill>
          <a:blip r:embed="rId30"/>
          <a:stretch/>
        </p:blipFill>
        <p:spPr>
          <a:xfrm>
            <a:off x="1116000" y="63104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2" descr="star23"/>
          <p:cNvPicPr/>
          <p:nvPr/>
        </p:nvPicPr>
        <p:blipFill>
          <a:blip r:embed="rId31"/>
          <a:stretch/>
        </p:blipFill>
        <p:spPr>
          <a:xfrm>
            <a:off x="8675640" y="350028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3" descr="star23"/>
          <p:cNvPicPr/>
          <p:nvPr/>
        </p:nvPicPr>
        <p:blipFill>
          <a:blip r:embed="rId32"/>
          <a:stretch/>
        </p:blipFill>
        <p:spPr>
          <a:xfrm>
            <a:off x="0" y="2276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4" descr="star23"/>
          <p:cNvPicPr/>
          <p:nvPr/>
        </p:nvPicPr>
        <p:blipFill>
          <a:blip r:embed="rId33"/>
          <a:stretch/>
        </p:blipFill>
        <p:spPr>
          <a:xfrm>
            <a:off x="1042920" y="3357720"/>
            <a:ext cx="476280" cy="475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5" descr="star23"/>
          <p:cNvPicPr/>
          <p:nvPr/>
        </p:nvPicPr>
        <p:blipFill>
          <a:blip r:embed="rId34"/>
          <a:stretch/>
        </p:blipFill>
        <p:spPr>
          <a:xfrm>
            <a:off x="428472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6" descr="star23"/>
          <p:cNvPicPr/>
          <p:nvPr/>
        </p:nvPicPr>
        <p:blipFill>
          <a:blip r:embed="rId35"/>
          <a:stretch/>
        </p:blipFill>
        <p:spPr>
          <a:xfrm>
            <a:off x="4140360" y="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7" descr="star23"/>
          <p:cNvPicPr/>
          <p:nvPr/>
        </p:nvPicPr>
        <p:blipFill>
          <a:blip r:embed="rId36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820000" cy="3167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Найти число, которое составляет 1/9 от 153?</a:t>
            </a:r>
            <a:br>
              <a:rPr sz="3600"/>
            </a:b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4487400"/>
            <a:ext cx="738648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5219640" y="6524640"/>
            <a:ext cx="73080" cy="375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Рисунок 7" descr="934367234.gif"/>
          <p:cNvPicPr/>
          <p:nvPr/>
        </p:nvPicPr>
        <p:blipFill>
          <a:blip r:embed="rId3"/>
          <a:stretch/>
        </p:blipFill>
        <p:spPr>
          <a:xfrm>
            <a:off x="6516720" y="407664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276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44d26"/>
                </a:solidFill>
                <a:latin typeface="Garamond"/>
              </a:rPr>
              <a:t>Что надо поставить вместо  * , чтобы получилось верное равенство?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444d26"/>
                </a:solidFill>
                <a:latin typeface="Garamond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+ * = 1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612720" y="5013360"/>
            <a:ext cx="738648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6"/>
              <p:cNvSpPr txBox="1"/>
              <p:nvPr/>
            </p:nvSpPr>
            <p:spPr>
              <a:xfrm>
                <a:off x="755640" y="3881520"/>
                <a:ext cx="647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8"/>
              <p:cNvSpPr txBox="1"/>
              <p:nvPr/>
            </p:nvSpPr>
            <p:spPr>
              <a:xfrm>
                <a:off x="4356000" y="4941720"/>
                <a:ext cx="620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9" name="Рисунок 7" descr="934367234.gif"/>
          <p:cNvPicPr/>
          <p:nvPr/>
        </p:nvPicPr>
        <p:blipFill>
          <a:blip r:embed="rId3"/>
          <a:stretch/>
        </p:blipFill>
        <p:spPr>
          <a:xfrm>
            <a:off x="6012000" y="436572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Сколько минут в 3/5 часа?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3" name="Рисунок 6" descr="934367234.gif"/>
          <p:cNvPicPr/>
          <p:nvPr/>
        </p:nvPicPr>
        <p:blipFill>
          <a:blip r:embed="rId3"/>
          <a:stretch/>
        </p:blipFill>
        <p:spPr>
          <a:xfrm>
            <a:off x="7093080" y="364500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2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очках </a:t>
            </a: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писаны цифры. Как одним движением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личить число 69 на 27,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производя вычислений?</a:t>
            </a:r>
            <a:endParaRPr b="0" lang="en-US" sz="43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енять карточки местами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7236000" y="5950080"/>
            <a:ext cx="349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2700360" y="2924280"/>
            <a:ext cx="1079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4140360" y="2924280"/>
            <a:ext cx="1223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732720" y="2997360"/>
            <a:ext cx="158436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Крышка стола имеет 4 угла. Когда один угол отпилили- сколько стало углов?</a:t>
            </a:r>
            <a:br>
              <a:rPr sz="3600"/>
            </a:b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углов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3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5724360" y="371628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му равно произведение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ех цифр</a:t>
            </a:r>
            <a:r>
              <a:rPr b="1" i="1" lang="ru-RU" sz="8000" spc="-1" strike="noStrike">
                <a:solidFill>
                  <a:srgbClr val="00b050"/>
                </a:solidFill>
                <a:latin typeface="Arial"/>
                <a:ea typeface="Times New Roman"/>
              </a:rPr>
              <a:t>? </a:t>
            </a:r>
            <a:endParaRPr b="0" lang="en-US" sz="80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7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7380360" y="314172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1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9676d"/>
                </a:solidFill>
                <a:latin typeface="Tahoma"/>
              </a:rPr>
              <a:t>           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Назвать самое   маленькое четырехзначное число, в записи которого все цифры различны?</a:t>
            </a: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2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516720" y="328464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69676d"/>
              </a:solidFill>
              <a:latin typeface="Times New Roman"/>
              <a:ea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4508280"/>
            <a:ext cx="822960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9144000" y="6524640"/>
            <a:ext cx="181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5" name="Рисунок 6" descr="934367234.gif"/>
          <p:cNvPicPr/>
          <p:nvPr/>
        </p:nvPicPr>
        <p:blipFill>
          <a:blip r:embed="rId3"/>
          <a:stretch/>
        </p:blipFill>
        <p:spPr>
          <a:xfrm>
            <a:off x="2484360" y="476280"/>
            <a:ext cx="3884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57120" y="549000"/>
            <a:ext cx="83296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СПАСИБО ЗА 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РАБОТУ!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2" descr="C:\Documents and Settings\Владелец\Мои документы\Мои рисунки\ол.gif"/>
          <p:cNvPicPr/>
          <p:nvPr/>
        </p:nvPicPr>
        <p:blipFill>
          <a:blip r:embed="rId1"/>
          <a:stretch/>
        </p:blipFill>
        <p:spPr>
          <a:xfrm>
            <a:off x="5991120" y="2571840"/>
            <a:ext cx="3303720" cy="18651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4" descr="smile.gif"/>
          <p:cNvPicPr/>
          <p:nvPr/>
        </p:nvPicPr>
        <p:blipFill>
          <a:blip r:embed="rId2"/>
          <a:stretch/>
        </p:blipFill>
        <p:spPr>
          <a:xfrm>
            <a:off x="468360" y="1628640"/>
            <a:ext cx="3166920" cy="2881440"/>
          </a:xfrm>
          <a:prstGeom prst="rect">
            <a:avLst/>
          </a:prstGeom>
          <a:ln w="0">
            <a:noFill/>
          </a:ln>
        </p:spPr>
      </p:pic>
      <p:pic>
        <p:nvPicPr>
          <p:cNvPr id="559" name="Dvazhdy_dva_-_chetyre.mp3" descr=""/>
          <p:cNvPicPr/>
          <p:nvPr/>
        </p:nvPicPr>
        <p:blipFill>
          <a:blip r:embed="rId3"/>
          <a:stretch/>
        </p:blipFill>
        <p:spPr>
          <a:xfrm>
            <a:off x="6804000" y="3429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60" name="аплодисменты.mp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74937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5099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называется отрезок ломаной? </a:t>
            </a:r>
            <a:br>
              <a:rPr sz="36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-360" y="2394000"/>
            <a:ext cx="8589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е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0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124000" y="429264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ак называется точка, равноудаленная от всех точек окружности?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8785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 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 окру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5219640" y="14954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1835280" y="443700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3367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Как называется прямоугольный параллелепипед, все измерения которого равны?</a:t>
            </a:r>
            <a:endParaRPr b="0" lang="en-US" sz="48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4067280" y="465300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34920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6000" spc="-1" strike="noStrike">
              <a:solidFill>
                <a:srgbClr val="444d26"/>
              </a:solidFill>
              <a:latin typeface="Times New Roman"/>
              <a:ea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37890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е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179280" y="4046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начение буквы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 котором уравнение превращается в верное числовое равенств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3059280" y="500364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Совокупность делений на линейках различных форм?</a:t>
            </a:r>
            <a:endParaRPr b="0" lang="en-US" sz="66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3428640"/>
            <a:ext cx="82296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8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627280" y="458136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книгу заплатили 100рублей и еще половину стоимости книги. Сколько стоит книга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0 рубле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2" name="Picture 14" descr="f8920bf0544f"/>
          <p:cNvPicPr/>
          <p:nvPr/>
        </p:nvPicPr>
        <p:blipFill>
          <a:blip r:embed="rId3"/>
          <a:stretch/>
        </p:blipFill>
        <p:spPr>
          <a:xfrm>
            <a:off x="611280" y="3429000"/>
            <a:ext cx="272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64000" y="189000"/>
            <a:ext cx="4665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бидон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6" name="Picture 5" descr="d71e8489e16dfe8e5324fc43b77"/>
          <p:cNvPicPr/>
          <p:nvPr/>
        </p:nvPicPr>
        <p:blipFill>
          <a:blip r:embed="rId3"/>
          <a:stretch/>
        </p:blipFill>
        <p:spPr>
          <a:xfrm>
            <a:off x="0" y="115920"/>
            <a:ext cx="3419640" cy="3033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6"/>
          <p:cNvSpPr/>
          <p:nvPr/>
        </p:nvSpPr>
        <p:spPr>
          <a:xfrm>
            <a:off x="3059280" y="0"/>
            <a:ext cx="59054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один день на пасеке собра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0 л мёда. Весь мёд нужно разлить в бидоны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 ли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ое минимальное количество таких бидонов для этого потребу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4" descr="f8920bf0544f"/>
          <p:cNvPicPr/>
          <p:nvPr/>
        </p:nvPicPr>
        <p:blipFill>
          <a:blip r:embed="rId4"/>
          <a:stretch/>
        </p:blipFill>
        <p:spPr>
          <a:xfrm>
            <a:off x="2484360" y="3500280"/>
            <a:ext cx="2722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05:30:36Z</dcterms:created>
  <dc:creator>сержик</dc:creator>
  <dc:description/>
  <dc:language>en-US</dc:language>
  <cp:lastModifiedBy>Татьяна</cp:lastModifiedBy>
  <dcterms:modified xsi:type="dcterms:W3CDTF">2015-01-17T16:51:09Z</dcterms:modified>
  <cp:revision>109</cp:revision>
  <dc:subject/>
  <dc:title>Интеллектуальная игра</dc:title>
</cp:coreProperties>
</file>