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gif" ContentType="image/gif"/>
  <Override PartName="/ppt/media/image17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chimes.wav" ContentType="audio/x-wav"/>
  <Override PartName="/ppt/media/image1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61B-A339-49A5-952E-F65EB67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74A-930F-4E70-9330-05656D6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6B6-3AF9-47C4-9D06-BD930F1A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1BC-2F48-4D7E-9132-9D71755F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0A1-9CA0-4994-B1E1-D43A3E6E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EE3D-85EC-4253-8983-FBE300A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DAA-93C5-4285-A5A1-BAC7FAE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FB1-F754-48FB-A6CC-03C05274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4BF3-1E2B-4592-890E-A97A77FC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A3AE-0B45-4C86-B838-275FD2B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701A-526D-4C3C-9E9B-61453D5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978-5B1E-4FE2-88FC-DDB804D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97C-A733-41F7-B15C-F89AEEB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D641-44AE-463A-B4D3-8C50E15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C57-12EF-4234-B217-F1D5234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2A6-49FF-44EA-97E8-640C5FE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65D-71AE-4567-A76F-BB834109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1EAD-B1AF-420B-ABD4-95D04CDF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3719-D6F4-47D8-9D0B-BD829B6C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2034-3503-4DD9-8909-4F62670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22A6-623C-4AF9-85BA-4612DF5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3976-A27B-4A7F-8E6D-44768EE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368-EEFC-43D4-A0A9-3E1AB645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3739-B48F-4A7A-BC56-C25E7C4E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CBD8-9ACC-4638-BDD8-5BF6668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7BFB-E74B-4C54-82CC-10301E5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5F4B-9442-4CBA-8894-189BA84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DB2F-2F9C-4E32-8CB6-0A858302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8394-0791-4CCC-A9A3-DA362266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DD92-D71D-4AB8-9F68-A46CE02C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0625-21CD-406F-8E43-5ACF6A0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DAC2-D9EF-4A6C-99A3-62A7D02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A09F-2011-4393-B0F4-FA57C43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134-E2AF-4B51-95F9-FEEF333E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FA7A-5696-4F18-AD8E-451B2A7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D950-E341-4A05-85C9-6850E19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6980-B7A6-43FF-A113-B31D170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0B74-CDA5-443E-B5C6-FED8296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406B-47D2-4073-9A08-EDAF182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F875-1ED2-4677-9354-F40C19D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9A62-1083-4686-8DD3-F1929650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FAD6-1F39-40E8-9324-FA142827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3B36-2CE2-4A46-95B4-5C7EFDA6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44A8-93CB-4049-B637-6272F10B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D2B-15C2-44DF-A8A6-33158993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A227-7BAC-4AA5-8EFA-51B737E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26F9-1E32-441A-B28D-82B9FE1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A884-A911-490F-9140-6B4DA11A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9028-A86E-4C6C-8151-AF8CF78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2347-B492-4572-8DE7-8968E778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1F76D-E29C-4005-A53B-31654E1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45BC8-494A-41F8-A970-AFBF349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381C-B073-470A-BAFB-B784034F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4D5F-6CE8-44A7-9DDA-26922FAA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B190-ED9A-47D2-B4DF-0EBE7ED6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153-B257-4879-B8EC-C58DA08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C1E4-E5DA-4FC3-A3FF-B4E39C78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3A3C-42C7-4F1F-A466-3AC9042F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1A86-707F-4EAC-A234-092C8F8F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C28F-183E-4829-8DBC-340D19EA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282C-E157-4508-89EB-CB5AB1A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FDC1-A054-4EDF-BE9A-942A165F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2C90-F02F-416E-B0B0-BCB467F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25F6-36ED-4AED-888F-2B0EA94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1806-820B-4664-BBE8-81B72F3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EC1B-6ACD-45F2-85E1-85CB75C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A2A-BDB6-40CE-9B89-1983681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6747D-F4C0-42A9-97CB-9FAB782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DB1D-E465-4BCB-84BF-A1105A2D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05F0-6959-45AC-9BEC-74670AEE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C89-13C6-4676-9A18-B98EAA2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10A-EA77-40C7-BCBC-485E5D2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35B-81D7-4940-B9D6-44EAC3DD2F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300-2A73-41C1-A62F-796EBF01C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2D06-2510-442B-985A-C11EE5F5BB0D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76D-367C-4594-BF6F-0990CFC8C3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CAE-E9F3-46CA-A62B-447003B4CAB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13B-57D4-49BF-91E5-C8EE80227F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ae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ae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a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ae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6BD7-5825-400B-83A7-B8FC6001F7F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A8B-1E74-4D7B-BB61-DAD1E0D00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44d2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3a4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a5b5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3a4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a5b59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1D53-EB37-4C42-8746-C42540228019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248-372D-4AF2-B203-A5BBCF4FE6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9c2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008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100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652-ECFB-4E01-B25D-5239D4328F14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A0C-BA5E-46EB-B869-0165109036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8.xml"/><Relationship Id="rId23" Type="http://schemas.openxmlformats.org/officeDocument/2006/relationships/slide" Target="slide19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image" Target="../media/image8.gif"/><Relationship Id="rId29" Type="http://schemas.openxmlformats.org/officeDocument/2006/relationships/image" Target="../media/image8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8.gif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6" descr=""/>
          <p:cNvPicPr/>
          <p:nvPr/>
        </p:nvPicPr>
        <p:blipFill>
          <a:blip r:embed="rId1"/>
          <a:stretch/>
        </p:blipFill>
        <p:spPr>
          <a:xfrm>
            <a:off x="1855800" y="2781360"/>
            <a:ext cx="5164200" cy="3816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22312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ТЕМАТИЧЕСКИЙ</a:t>
            </a: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МАРАФОН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0" y="2390400"/>
            <a:ext cx="9144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Dvazhdy_dva_-_chetyre.mp3" descr=""/>
          <p:cNvPicPr/>
          <p:nvPr/>
        </p:nvPicPr>
        <p:blipFill>
          <a:blip r:embed="rId2"/>
          <a:stretch/>
        </p:blipFill>
        <p:spPr>
          <a:xfrm>
            <a:off x="558000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4937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3 мин. бревно распилили на полуметровые бревна, причём каждая распиловка занимала 1 мин.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Найти длину бревна.</a:t>
            </a:r>
            <a:br>
              <a:rPr sz="44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658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7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м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14" descr="f8920bf0544f"/>
          <p:cNvPicPr/>
          <p:nvPr/>
        </p:nvPicPr>
        <p:blipFill>
          <a:blip r:embed="rId3"/>
          <a:stretch/>
        </p:blipFill>
        <p:spPr>
          <a:xfrm>
            <a:off x="395280" y="4365720"/>
            <a:ext cx="2722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Найти площадь квадрата, периметр которого 36 см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92360" y="450828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81 кв.с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Picture 14" descr="f8920bf0544f"/>
          <p:cNvPicPr/>
          <p:nvPr/>
        </p:nvPicPr>
        <p:blipFill>
          <a:blip r:embed="rId3"/>
          <a:stretch/>
        </p:blipFill>
        <p:spPr>
          <a:xfrm>
            <a:off x="250920" y="4941720"/>
            <a:ext cx="2722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-360" y="3645000"/>
            <a:ext cx="860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к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4211640" y="105264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211640" y="3933720"/>
            <a:ext cx="1944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324000" y="54288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сса бидона с молоком 32 кг, без молока – 2 кг. Какова масса бидона, заполненного молоком наполовин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14" descr="f8920bf0544f"/>
          <p:cNvPicPr/>
          <p:nvPr/>
        </p:nvPicPr>
        <p:blipFill>
          <a:blip r:embed="rId3"/>
          <a:stretch/>
        </p:blipFill>
        <p:spPr>
          <a:xfrm>
            <a:off x="179280" y="5041800"/>
            <a:ext cx="2592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02 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6"/>
          <p:cNvSpPr/>
          <p:nvPr/>
        </p:nvSpPr>
        <p:spPr>
          <a:xfrm>
            <a:off x="755640" y="836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разить в  метрах   15км 2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Рисунок 7" descr="314889979.gif"/>
          <p:cNvPicPr/>
          <p:nvPr/>
        </p:nvPicPr>
        <p:blipFill>
          <a:blip r:embed="rId3"/>
          <a:stretch/>
        </p:blipFill>
        <p:spPr>
          <a:xfrm>
            <a:off x="6300720" y="256536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+40)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∙3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Рисунок 7" descr="314889979.gif"/>
          <p:cNvPicPr/>
          <p:nvPr/>
        </p:nvPicPr>
        <p:blipFill>
          <a:blip r:embed="rId3"/>
          <a:stretch/>
        </p:blipFill>
        <p:spPr>
          <a:xfrm>
            <a:off x="7129440" y="3860640"/>
            <a:ext cx="2014560" cy="17258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10"/>
          <p:cNvSpPr/>
          <p:nvPr/>
        </p:nvSpPr>
        <p:spPr>
          <a:xfrm>
            <a:off x="0" y="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Цена хризантемы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 р. за один цветок, а цена одной розы –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на 40 р. больше. 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Запишите на математическом языке стоимость трех роз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4385520" y="3244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а-49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6"/>
          <p:cNvSpPr/>
          <p:nvPr/>
        </p:nvSpPr>
        <p:spPr>
          <a:xfrm>
            <a:off x="250920" y="83664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Записать выраже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сумма  85   и  а-4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658800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– 27=8,  Х=27+8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-8=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6"/>
          <p:cNvSpPr/>
          <p:nvPr/>
        </p:nvSpPr>
        <p:spPr>
          <a:xfrm>
            <a:off x="250920" y="33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Записать в виде уравнения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Х  больше  27 на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5880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: </a:t>
            </a: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всей покупки</a:t>
            </a:r>
            <a:r>
              <a:rPr b="0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124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3348000" y="5708520"/>
            <a:ext cx="2448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250920" y="0"/>
            <a:ext cx="86421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Мама купила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конфет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 и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г печенья по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рублей за килограмм. Какой смысл имеет выраже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ах+ву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Рисунок 7" descr="314889979.gif"/>
          <p:cNvPicPr/>
          <p:nvPr/>
        </p:nvPicPr>
        <p:blipFill>
          <a:blip r:embed="rId3"/>
          <a:stretch/>
        </p:blipFill>
        <p:spPr>
          <a:xfrm>
            <a:off x="6659640" y="3429000"/>
            <a:ext cx="201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44d26"/>
                </a:solidFill>
                <a:latin typeface="Garamond"/>
              </a:rPr>
              <a:t>Сравните</a:t>
            </a:r>
            <a:br>
              <a:rPr sz="54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8515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9" name="Рисунок 6" descr="934367234.gif"/>
          <p:cNvPicPr/>
          <p:nvPr/>
        </p:nvPicPr>
        <p:blipFill>
          <a:blip r:embed="rId3"/>
          <a:stretch/>
        </p:blipFill>
        <p:spPr>
          <a:xfrm>
            <a:off x="7451640" y="3716280"/>
            <a:ext cx="1440000" cy="15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Object 6"/>
              <p:cNvSpPr txBox="1"/>
              <p:nvPr/>
            </p:nvSpPr>
            <p:spPr>
              <a:xfrm>
                <a:off x="2556000" y="1125360"/>
                <a:ext cx="8236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5292720" y="1125360"/>
                <a:ext cx="1114560" cy="217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8"/>
              <p:cNvSpPr txBox="1"/>
              <p:nvPr/>
            </p:nvSpPr>
            <p:spPr>
              <a:xfrm>
                <a:off x="3276720" y="3860640"/>
                <a:ext cx="8254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5364000" y="3860640"/>
                <a:ext cx="107964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Представить число 25 в виде дроби со знаменателем 4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778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0"/>
              <p:cNvSpPr txBox="1"/>
              <p:nvPr/>
            </p:nvSpPr>
            <p:spPr>
              <a:xfrm>
                <a:off x="4859280" y="3141720"/>
                <a:ext cx="2544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8" name="Рисунок 6" descr="934367234.gif"/>
          <p:cNvPicPr/>
          <p:nvPr/>
        </p:nvPicPr>
        <p:blipFill>
          <a:blip r:embed="rId3"/>
          <a:stretch/>
        </p:blipFill>
        <p:spPr>
          <a:xfrm>
            <a:off x="5076720" y="443700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260280"/>
          <a:ext cx="8686800" cy="6475320"/>
        </p:xfrm>
        <a:graphic>
          <a:graphicData uri="http://schemas.openxmlformats.org/drawingml/2006/table">
            <a:tbl>
              <a:tblPr/>
              <a:tblGrid>
                <a:gridCol w="1692360"/>
                <a:gridCol w="1203120"/>
                <a:gridCol w="1605240"/>
                <a:gridCol w="1439640"/>
                <a:gridCol w="1511280"/>
                <a:gridCol w="1235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реде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ыры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роб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образ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WordArt 4"/>
          <p:cNvSpPr txBox="1"/>
          <p:nvPr/>
        </p:nvSpPr>
        <p:spPr>
          <a:xfrm>
            <a:off x="8712360" y="602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Text Box 107">
            <a:hlinkClick r:id="rId3" action="ppaction://hlinksldjump"/>
          </p:cNvPr>
          <p:cNvSpPr/>
          <p:nvPr/>
        </p:nvSpPr>
        <p:spPr>
          <a:xfrm>
            <a:off x="1547640" y="260280"/>
            <a:ext cx="1295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08">
            <a:hlinkClick r:id="rId5" action="ppaction://hlinksldjump"/>
          </p:cNvPr>
          <p:cNvSpPr/>
          <p:nvPr/>
        </p:nvSpPr>
        <p:spPr>
          <a:xfrm>
            <a:off x="2987640" y="260280"/>
            <a:ext cx="122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09">
            <a:hlinkClick r:id="rId7" action="ppaction://hlinksldjump"/>
          </p:cNvPr>
          <p:cNvSpPr/>
          <p:nvPr/>
        </p:nvSpPr>
        <p:spPr>
          <a:xfrm>
            <a:off x="4500720" y="260280"/>
            <a:ext cx="122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0">
            <a:hlinkClick r:id="rId9"/>
          </p:cNvPr>
          <p:cNvSpPr/>
          <p:nvPr/>
        </p:nvSpPr>
        <p:spPr>
          <a:xfrm>
            <a:off x="5796000" y="26028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11"/>
          <p:cNvSpPr/>
          <p:nvPr/>
        </p:nvSpPr>
        <p:spPr>
          <a:xfrm>
            <a:off x="7380360" y="26028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2"/>
          <p:cNvSpPr/>
          <p:nvPr/>
        </p:nvSpPr>
        <p:spPr>
          <a:xfrm>
            <a:off x="1476360" y="1628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13"/>
          <p:cNvSpPr/>
          <p:nvPr/>
        </p:nvSpPr>
        <p:spPr>
          <a:xfrm>
            <a:off x="291636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4"/>
          <p:cNvSpPr/>
          <p:nvPr/>
        </p:nvSpPr>
        <p:spPr>
          <a:xfrm>
            <a:off x="4356000" y="1628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5"/>
          <p:cNvSpPr/>
          <p:nvPr/>
        </p:nvSpPr>
        <p:spPr>
          <a:xfrm>
            <a:off x="586728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6"/>
          <p:cNvSpPr/>
          <p:nvPr/>
        </p:nvSpPr>
        <p:spPr>
          <a:xfrm>
            <a:off x="7380360" y="1628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17"/>
          <p:cNvSpPr/>
          <p:nvPr/>
        </p:nvSpPr>
        <p:spPr>
          <a:xfrm>
            <a:off x="161928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18"/>
          <p:cNvSpPr/>
          <p:nvPr/>
        </p:nvSpPr>
        <p:spPr>
          <a:xfrm>
            <a:off x="2916360" y="2852640"/>
            <a:ext cx="136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8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19"/>
          <p:cNvSpPr/>
          <p:nvPr/>
        </p:nvSpPr>
        <p:spPr>
          <a:xfrm>
            <a:off x="4427640" y="2852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20"/>
          <p:cNvSpPr/>
          <p:nvPr/>
        </p:nvSpPr>
        <p:spPr>
          <a:xfrm>
            <a:off x="5867280" y="2852640"/>
            <a:ext cx="122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21"/>
          <p:cNvSpPr/>
          <p:nvPr/>
        </p:nvSpPr>
        <p:spPr>
          <a:xfrm>
            <a:off x="7380360" y="2852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22"/>
          <p:cNvSpPr/>
          <p:nvPr/>
        </p:nvSpPr>
        <p:spPr>
          <a:xfrm>
            <a:off x="169236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2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23"/>
          <p:cNvSpPr/>
          <p:nvPr/>
        </p:nvSpPr>
        <p:spPr>
          <a:xfrm>
            <a:off x="2987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3" action="ppaction://hlinksldjump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24"/>
          <p:cNvSpPr/>
          <p:nvPr/>
        </p:nvSpPr>
        <p:spPr>
          <a:xfrm>
            <a:off x="4572000" y="4221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25"/>
          <p:cNvSpPr/>
          <p:nvPr/>
        </p:nvSpPr>
        <p:spPr>
          <a:xfrm>
            <a:off x="6012000" y="422100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5" action="ppaction://hlinksldjump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26"/>
          <p:cNvSpPr/>
          <p:nvPr/>
        </p:nvSpPr>
        <p:spPr>
          <a:xfrm>
            <a:off x="7451640" y="422100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27"/>
          <p:cNvSpPr/>
          <p:nvPr/>
        </p:nvSpPr>
        <p:spPr>
          <a:xfrm>
            <a:off x="161928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 u="sng">
                <a:solidFill>
                  <a:srgbClr val="99ff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8"/>
          <p:cNvSpPr/>
          <p:nvPr/>
        </p:nvSpPr>
        <p:spPr>
          <a:xfrm>
            <a:off x="3132000" y="551664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29"/>
          <p:cNvSpPr/>
          <p:nvPr/>
        </p:nvSpPr>
        <p:spPr>
          <a:xfrm>
            <a:off x="457200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30"/>
          <p:cNvSpPr/>
          <p:nvPr/>
        </p:nvSpPr>
        <p:spPr>
          <a:xfrm>
            <a:off x="6084720" y="5516640"/>
            <a:ext cx="129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31"/>
          <p:cNvSpPr/>
          <p:nvPr/>
        </p:nvSpPr>
        <p:spPr>
          <a:xfrm>
            <a:off x="7524720" y="551664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32"/>
          <p:cNvSpPr/>
          <p:nvPr/>
        </p:nvSpPr>
        <p:spPr>
          <a:xfrm>
            <a:off x="0" y="98100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33"/>
          <p:cNvSpPr/>
          <p:nvPr/>
        </p:nvSpPr>
        <p:spPr>
          <a:xfrm>
            <a:off x="0" y="9079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39" descr="star23"/>
          <p:cNvPicPr/>
          <p:nvPr/>
        </p:nvPicPr>
        <p:blipFill>
          <a:blip r:embed="rId28"/>
          <a:stretch/>
        </p:blipFill>
        <p:spPr>
          <a:xfrm>
            <a:off x="900000" y="105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0" descr="star23"/>
          <p:cNvPicPr/>
          <p:nvPr/>
        </p:nvPicPr>
        <p:blipFill>
          <a:blip r:embed="rId29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1" descr="star23"/>
          <p:cNvPicPr/>
          <p:nvPr/>
        </p:nvPicPr>
        <p:blipFill>
          <a:blip r:embed="rId30"/>
          <a:stretch/>
        </p:blipFill>
        <p:spPr>
          <a:xfrm>
            <a:off x="1116000" y="63104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2" descr="star23"/>
          <p:cNvPicPr/>
          <p:nvPr/>
        </p:nvPicPr>
        <p:blipFill>
          <a:blip r:embed="rId31"/>
          <a:stretch/>
        </p:blipFill>
        <p:spPr>
          <a:xfrm>
            <a:off x="8675640" y="350028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3" descr="star23"/>
          <p:cNvPicPr/>
          <p:nvPr/>
        </p:nvPicPr>
        <p:blipFill>
          <a:blip r:embed="rId32"/>
          <a:stretch/>
        </p:blipFill>
        <p:spPr>
          <a:xfrm>
            <a:off x="0" y="2276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4" descr="star23"/>
          <p:cNvPicPr/>
          <p:nvPr/>
        </p:nvPicPr>
        <p:blipFill>
          <a:blip r:embed="rId33"/>
          <a:stretch/>
        </p:blipFill>
        <p:spPr>
          <a:xfrm>
            <a:off x="1042920" y="3357720"/>
            <a:ext cx="476280" cy="475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5" descr="star23"/>
          <p:cNvPicPr/>
          <p:nvPr/>
        </p:nvPicPr>
        <p:blipFill>
          <a:blip r:embed="rId34"/>
          <a:stretch/>
        </p:blipFill>
        <p:spPr>
          <a:xfrm>
            <a:off x="428472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6" descr="star23"/>
          <p:cNvPicPr/>
          <p:nvPr/>
        </p:nvPicPr>
        <p:blipFill>
          <a:blip r:embed="rId35"/>
          <a:stretch/>
        </p:blipFill>
        <p:spPr>
          <a:xfrm>
            <a:off x="4140360" y="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7" descr="star23"/>
          <p:cNvPicPr/>
          <p:nvPr/>
        </p:nvPicPr>
        <p:blipFill>
          <a:blip r:embed="rId36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820000" cy="3167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Найти число, которое составляет 1/9 от 153?</a:t>
            </a:r>
            <a:br>
              <a:rPr sz="3600"/>
            </a:b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4487400"/>
            <a:ext cx="738648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5219640" y="6524640"/>
            <a:ext cx="73080" cy="375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Рисунок 7" descr="934367234.gif"/>
          <p:cNvPicPr/>
          <p:nvPr/>
        </p:nvPicPr>
        <p:blipFill>
          <a:blip r:embed="rId3"/>
          <a:stretch/>
        </p:blipFill>
        <p:spPr>
          <a:xfrm>
            <a:off x="6516720" y="407664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4276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44d26"/>
                </a:solidFill>
                <a:latin typeface="Garamond"/>
              </a:rPr>
              <a:t>Что надо поставить вместо  * , чтобы получилось верное равенство?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444d26"/>
                </a:solidFill>
                <a:latin typeface="Garamond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+ * = 1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612720" y="5013360"/>
            <a:ext cx="738648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4"/>
          <p:cNvSpPr txBox="1"/>
          <p:nvPr/>
        </p:nvSpPr>
        <p:spPr>
          <a:xfrm>
            <a:off x="7308720" y="5877000"/>
            <a:ext cx="349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6"/>
              <p:cNvSpPr txBox="1"/>
              <p:nvPr/>
            </p:nvSpPr>
            <p:spPr>
              <a:xfrm>
                <a:off x="755640" y="3881520"/>
                <a:ext cx="647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8"/>
              <p:cNvSpPr txBox="1"/>
              <p:nvPr/>
            </p:nvSpPr>
            <p:spPr>
              <a:xfrm>
                <a:off x="4356000" y="4941720"/>
                <a:ext cx="620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9" name="Рисунок 7" descr="934367234.gif"/>
          <p:cNvPicPr/>
          <p:nvPr/>
        </p:nvPicPr>
        <p:blipFill>
          <a:blip r:embed="rId3"/>
          <a:stretch/>
        </p:blipFill>
        <p:spPr>
          <a:xfrm>
            <a:off x="6012000" y="436572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44d26"/>
                </a:solidFill>
                <a:latin typeface="Garamond"/>
              </a:rPr>
              <a:t>Сколько минут в 3/5 часа?</a:t>
            </a:r>
            <a:endParaRPr b="0" lang="en-US" sz="6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3" name="Рисунок 6" descr="934367234.gif"/>
          <p:cNvPicPr/>
          <p:nvPr/>
        </p:nvPicPr>
        <p:blipFill>
          <a:blip r:embed="rId3"/>
          <a:stretch/>
        </p:blipFill>
        <p:spPr>
          <a:xfrm>
            <a:off x="7093080" y="3645000"/>
            <a:ext cx="1439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2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очках </a:t>
            </a: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писаны цифры. Как одним движением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величить число 69 на 27, </a:t>
            </a:r>
            <a:br>
              <a:rPr sz="4300"/>
            </a:br>
            <a:r>
              <a:rPr b="1" i="1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производя вычислений?</a:t>
            </a:r>
            <a:endParaRPr b="0" lang="en-US" sz="43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енять карточки местами 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7236000" y="5950080"/>
            <a:ext cx="349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2700360" y="2924280"/>
            <a:ext cx="1079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4140360" y="2924280"/>
            <a:ext cx="122364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732720" y="2997360"/>
            <a:ext cx="158436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Крышка стола имеет 4 угла. Когда один угол отпилили- сколько стало углов?</a:t>
            </a:r>
            <a:br>
              <a:rPr sz="3600"/>
            </a:b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углов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3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5724360" y="371628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му равно произведение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ех цифр</a:t>
            </a:r>
            <a:r>
              <a:rPr b="1" i="1" lang="ru-RU" sz="8000" spc="-1" strike="noStrike">
                <a:solidFill>
                  <a:srgbClr val="00b050"/>
                </a:solidFill>
                <a:latin typeface="Arial"/>
                <a:ea typeface="Times New Roman"/>
              </a:rPr>
              <a:t>? </a:t>
            </a:r>
            <a:endParaRPr b="0" lang="en-US" sz="80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7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7380360" y="314172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1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9676d"/>
                </a:solidFill>
                <a:latin typeface="Tahoma"/>
              </a:rPr>
              <a:t>           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Назвать самое   маленькое четырехзначное число, в записи которого все цифры различны?</a:t>
            </a:r>
            <a:endParaRPr b="0" lang="en-US" sz="5400" spc="-1" strike="noStrike">
              <a:solidFill>
                <a:srgbClr val="69676d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2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Picture 16" descr="C:\Users\Татьяна\Desktop\оформление презентаций\физминутки и шаблоны презентаций\67.gif"/>
          <p:cNvPicPr/>
          <p:nvPr/>
        </p:nvPicPr>
        <p:blipFill>
          <a:blip r:embed="rId3"/>
          <a:stretch/>
        </p:blipFill>
        <p:spPr>
          <a:xfrm>
            <a:off x="6516720" y="328464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69676d"/>
              </a:solidFill>
              <a:latin typeface="Times New Roman"/>
              <a:ea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4508280"/>
            <a:ext cx="822960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9144000" y="6524640"/>
            <a:ext cx="181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5" name="Рисунок 6" descr="934367234.gif"/>
          <p:cNvPicPr/>
          <p:nvPr/>
        </p:nvPicPr>
        <p:blipFill>
          <a:blip r:embed="rId3"/>
          <a:stretch/>
        </p:blipFill>
        <p:spPr>
          <a:xfrm>
            <a:off x="2484360" y="476280"/>
            <a:ext cx="3884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57120" y="549000"/>
            <a:ext cx="83296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СПАСИБО ЗА 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  <a:p>
            <a:pPr marL="429840" indent="-36720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РАБОТУ!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2" descr="C:\Documents and Settings\Владелец\Мои документы\Мои рисунки\ол.gif"/>
          <p:cNvPicPr/>
          <p:nvPr/>
        </p:nvPicPr>
        <p:blipFill>
          <a:blip r:embed="rId1"/>
          <a:stretch/>
        </p:blipFill>
        <p:spPr>
          <a:xfrm>
            <a:off x="5991120" y="2571840"/>
            <a:ext cx="3303720" cy="18651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4" descr="smile.gif"/>
          <p:cNvPicPr/>
          <p:nvPr/>
        </p:nvPicPr>
        <p:blipFill>
          <a:blip r:embed="rId2"/>
          <a:stretch/>
        </p:blipFill>
        <p:spPr>
          <a:xfrm>
            <a:off x="468360" y="1628640"/>
            <a:ext cx="3166920" cy="2881440"/>
          </a:xfrm>
          <a:prstGeom prst="rect">
            <a:avLst/>
          </a:prstGeom>
          <a:ln w="0">
            <a:noFill/>
          </a:ln>
        </p:spPr>
      </p:pic>
      <p:pic>
        <p:nvPicPr>
          <p:cNvPr id="559" name="Dvazhdy_dva_-_chetyre.mp3" descr=""/>
          <p:cNvPicPr/>
          <p:nvPr/>
        </p:nvPicPr>
        <p:blipFill>
          <a:blip r:embed="rId3"/>
          <a:stretch/>
        </p:blipFill>
        <p:spPr>
          <a:xfrm>
            <a:off x="6804000" y="3429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60" name="аплодисменты.mp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0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1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435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436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74937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5099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называется отрезок ломаной? </a:t>
            </a:r>
            <a:br>
              <a:rPr sz="3600"/>
            </a:br>
            <a:endParaRPr b="0" lang="en-US" sz="54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-360" y="2394000"/>
            <a:ext cx="8589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е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0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124000" y="429264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3168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ак называется точка, равноудаленная от всех точек окружности?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8785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 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 окру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5219640" y="14954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1835280" y="443700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3367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Как называется прямоугольный параллелепипед, все измерения которого равны?</a:t>
            </a:r>
            <a:endParaRPr b="0" lang="en-US" sz="48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4067280" y="4653000"/>
            <a:ext cx="3267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34920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6000" spc="-1" strike="noStrike">
              <a:solidFill>
                <a:srgbClr val="444d26"/>
              </a:solidFill>
              <a:latin typeface="Times New Roman"/>
              <a:ea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37890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</a:t>
            </a: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е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Прямоугольник 5"/>
          <p:cNvSpPr/>
          <p:nvPr/>
        </p:nvSpPr>
        <p:spPr>
          <a:xfrm>
            <a:off x="179280" y="4046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начение буквы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ри котором уравнение превращается в верное числовое равенств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3059280" y="500364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Совокупность делений на линейках различных форм?</a:t>
            </a:r>
            <a:endParaRPr b="0" lang="en-US" sz="6600" spc="-1" strike="noStrike">
              <a:solidFill>
                <a:srgbClr val="444d2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3428640"/>
            <a:ext cx="82296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:  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8" name="Picture 3" descr="D:\Мои документы\КАРТИНКИ\анимац карт\004.gif"/>
          <p:cNvPicPr/>
          <p:nvPr/>
        </p:nvPicPr>
        <p:blipFill>
          <a:blip r:embed="rId3"/>
          <a:stretch/>
        </p:blipFill>
        <p:spPr>
          <a:xfrm>
            <a:off x="2627280" y="4581360"/>
            <a:ext cx="3267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книгу заплатили 100рублей и еще половину стоимости книги. Сколько стоит книга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0 рубле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2" name="Picture 14" descr="f8920bf0544f"/>
          <p:cNvPicPr/>
          <p:nvPr/>
        </p:nvPicPr>
        <p:blipFill>
          <a:blip r:embed="rId3"/>
          <a:stretch/>
        </p:blipFill>
        <p:spPr>
          <a:xfrm>
            <a:off x="611280" y="3429000"/>
            <a:ext cx="272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64000" y="189000"/>
            <a:ext cx="4665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 :  </a:t>
            </a:r>
            <a:r>
              <a:rPr b="1" i="1" lang="ru-RU" sz="6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7 бидон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8244000" y="5661000"/>
            <a:ext cx="34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6" name="Picture 5" descr="d71e8489e16dfe8e5324fc43b77"/>
          <p:cNvPicPr/>
          <p:nvPr/>
        </p:nvPicPr>
        <p:blipFill>
          <a:blip r:embed="rId3"/>
          <a:stretch/>
        </p:blipFill>
        <p:spPr>
          <a:xfrm>
            <a:off x="0" y="115920"/>
            <a:ext cx="3419640" cy="3033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6"/>
          <p:cNvSpPr/>
          <p:nvPr/>
        </p:nvSpPr>
        <p:spPr>
          <a:xfrm>
            <a:off x="3059280" y="0"/>
            <a:ext cx="59054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один день на пасеке собра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50 л мёда. Весь мёд нужно разлить в бидоны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 ли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ое минимальное количество таких бидонов для этого потребу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4" descr="f8920bf0544f"/>
          <p:cNvPicPr/>
          <p:nvPr/>
        </p:nvPicPr>
        <p:blipFill>
          <a:blip r:embed="rId4"/>
          <a:stretch/>
        </p:blipFill>
        <p:spPr>
          <a:xfrm>
            <a:off x="2484360" y="3500280"/>
            <a:ext cx="2722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05:30:36Z</dcterms:created>
  <dc:creator>сержик</dc:creator>
  <dc:description/>
  <dc:language>en-US</dc:language>
  <cp:lastModifiedBy>Татьяна</cp:lastModifiedBy>
  <dcterms:modified xsi:type="dcterms:W3CDTF">2015-01-17T16:51:09Z</dcterms:modified>
  <cp:revision>109</cp:revision>
  <dc:subject/>
  <dc:title>Интеллектуальная игра</dc:title>
</cp:coreProperties>
</file>