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8.gif" ContentType="image/gif"/>
  <Override PartName="/ppt/media/image17.gif" ContentType="image/gif"/>
  <Override PartName="/ppt/media/image15.gif" ContentType="image/gif"/>
  <Override PartName="/ppt/media/image3.jpeg" ContentType="image/jpeg"/>
  <Override PartName="/ppt/media/image14.gif" ContentType="image/gif"/>
  <Override PartName="/ppt/media/image5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chimes.wav" ContentType="audio/x-wav"/>
  <Override PartName="/ppt/media/image16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55D-5E8A-4208-98E2-FF3C2653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91C-CFBB-4A91-8668-68CACFCB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DC7-A97A-4685-8C32-9FCFADAB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8BD-8637-4A53-BBF4-FEEE528C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811A-A22E-4E85-A6A5-593AAD84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9A0A-2D6C-47BC-B638-0D84A6B2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D5DE-4B78-46A1-8F65-BB897043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8765-27F9-4C37-BB77-A2A4B759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AD29-1818-418D-A559-041FF2B9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DD87-5C3A-4031-B44B-D8B2A540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AFDD-5F45-45EF-B0CF-E2B80486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520-5D24-40DC-B2EA-C7DE039A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837E-BDE6-4CCD-8FBB-5207964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6CB2-CB94-47BF-A028-B6F1468E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EE90-4A08-422C-944B-5CEF4CFF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44F1-1480-436F-8431-B6E58526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16BE-7FC4-46EB-A6B7-A879BCA3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CCDE-5E5E-443B-ABC1-2F176C82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B828A-6128-4A1B-8839-F927189F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CE96-C190-45E8-841B-5678A6B9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2031D-12C6-4FEA-9093-CF0EC7FE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E1C3-7A0B-4D9D-B27D-1366D8C7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972-7FCC-43D9-A80D-F6652D87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3B17-0C77-486E-A697-712842BB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6AF3-F9ED-4654-A989-42C2865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7BBC-7FD9-4742-A780-E41791B0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0C3C-A9F3-4B7E-8ACD-1A0FE6CC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10D0-9710-42DA-B863-1CC8D500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8A05-3246-47E7-9D5A-E0A22077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143A-A85F-48CE-AF1A-2537DAF0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6767A-4913-4A3D-9921-6578487D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AD11-003E-4010-97F7-6A788526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4040-EE47-4538-8BB0-7F216559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6B9-ECF4-44D1-AA6B-CBE95F16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CAA2-A711-43DB-9D8B-76F6F496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CA2A2-D99B-4298-9811-0B7AF9AB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22A4F-41BA-4DEE-81F2-EA16B483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7A43C-8E54-4B8B-9B68-B42AD4F2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B80B-3FD2-4DCB-9129-FB8B506D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833FB-D4DE-4A79-A3BA-B62DF34A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FE1E-F110-45E4-836A-CC24022C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35A75-AB50-4C22-AE51-FD82E94A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EE55-12DC-424B-BA7F-A3365960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D8283-075E-42AC-9D34-22596A34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D6F-59DD-411D-B08F-7132EB16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EBF25-0BCF-4701-AA59-8D8C1871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96CC0-B110-4AD2-AB8B-B8818B52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52726-0630-44AA-9059-BD65B730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7DC35-6450-4A2D-8740-9E3D8014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AAD9E-0EAA-488D-AF41-E058280A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40CE-6EAE-4171-9B8F-51E9F436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F3058-10FD-4655-BF24-538BCA48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6DDD6-567D-4854-9BDF-F135823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4C18F-D9F6-4C79-A76C-13292973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2CC39-E698-44E8-8DB5-95C154A4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F46-EF29-4A7A-8931-94098991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5767B-2F69-48B0-B212-768CF90E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F13D3-68B8-4213-A7D0-CB50DD32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B46B5-EBE6-4DD9-A1C3-F7DC1079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04F96-164F-4F1C-9B1D-988E1E43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D0AD8-69ED-4B70-9C08-A35630B0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57158-CA57-4880-A995-45D8EF8A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DE4A-9D52-4A98-88AA-ED1FABB1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5F11C-A8F1-4F47-82DE-E37C8E0A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23794-1310-4CF0-B6D2-9F84E4DB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4E3A7-817A-4CFA-8AFE-24DCEB8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11F-D86B-4381-81E5-4522D804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525A5-937D-4BE7-8729-F8ACFFCB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7E606-1DA7-4258-B44D-7D127EAB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C840-6FB4-4E8A-8EAF-86CEF314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F02-E631-4596-BE6D-8C3E3AFB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2AF-0BF3-4AF3-B910-DCCE5AF7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3FC4-B5EC-4CBD-BFCE-04C20784F7A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DAA5-D5C7-4928-9895-83F9194311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3a4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3a44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a5b59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7D65-E795-4E16-AA1C-5DAF18B707F1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8B4E-2D43-4278-A93D-BEF3F57AA45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5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c9c2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C9E5-74F0-4555-90C4-84542BA837BF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0895-06A5-4EC0-A517-B5597385273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F875-0B92-4E82-8823-E0732BFDA99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4169-10D5-426F-A3D0-F99FB7389A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3a4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3a44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a5b59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BD1B-40E3-46D6-8583-7BAEE60E0A7E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0FC9-A1CE-44AF-B76A-CBBC096095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c9c2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93B4-8FEC-41E9-B453-4D3CA2D19A8D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786B-A097-4737-91F2-507883AC8A0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4.xml"/><Relationship Id="rId19" Type="http://schemas.openxmlformats.org/officeDocument/2006/relationships/slide" Target="slide15.xml"/><Relationship Id="rId20" Type="http://schemas.openxmlformats.org/officeDocument/2006/relationships/slide" Target="slide16.xml"/><Relationship Id="rId21" Type="http://schemas.openxmlformats.org/officeDocument/2006/relationships/slide" Target="slide17.xml"/><Relationship Id="rId22" Type="http://schemas.openxmlformats.org/officeDocument/2006/relationships/slide" Target="slide18.xml"/><Relationship Id="rId23" Type="http://schemas.openxmlformats.org/officeDocument/2006/relationships/slide" Target="slide19.xml"/><Relationship Id="rId24" Type="http://schemas.openxmlformats.org/officeDocument/2006/relationships/slide" Target="slide21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23.xml"/><Relationship Id="rId28" Type="http://schemas.openxmlformats.org/officeDocument/2006/relationships/image" Target="../media/image8.gif"/><Relationship Id="rId29" Type="http://schemas.openxmlformats.org/officeDocument/2006/relationships/image" Target="../media/image8.gif"/><Relationship Id="rId30" Type="http://schemas.openxmlformats.org/officeDocument/2006/relationships/image" Target="../media/image8.gif"/><Relationship Id="rId31" Type="http://schemas.openxmlformats.org/officeDocument/2006/relationships/image" Target="../media/image8.gif"/><Relationship Id="rId32" Type="http://schemas.openxmlformats.org/officeDocument/2006/relationships/image" Target="../media/image8.gif"/><Relationship Id="rId33" Type="http://schemas.openxmlformats.org/officeDocument/2006/relationships/image" Target="../media/image8.gif"/><Relationship Id="rId34" Type="http://schemas.openxmlformats.org/officeDocument/2006/relationships/image" Target="../media/image8.gif"/><Relationship Id="rId35" Type="http://schemas.openxmlformats.org/officeDocument/2006/relationships/image" Target="../media/image8.gif"/><Relationship Id="rId36" Type="http://schemas.openxmlformats.org/officeDocument/2006/relationships/image" Target="../media/image8.gif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6" descr=""/>
          <p:cNvPicPr/>
          <p:nvPr/>
        </p:nvPicPr>
        <p:blipFill>
          <a:blip r:embed="rId1"/>
          <a:stretch/>
        </p:blipFill>
        <p:spPr>
          <a:xfrm>
            <a:off x="1855800" y="2781360"/>
            <a:ext cx="5164200" cy="38163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223120" cy="230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МАТЕМАТИЧЕСКИЙ</a:t>
            </a:r>
            <a:br>
              <a:rPr sz="6000"/>
            </a:b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МАРАФОН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0" y="2390400"/>
            <a:ext cx="9144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Dvazhdy_dva_-_chetyre.mp3" descr=""/>
          <p:cNvPicPr/>
          <p:nvPr/>
        </p:nvPicPr>
        <p:blipFill>
          <a:blip r:embed="rId2"/>
          <a:stretch/>
        </p:blipFill>
        <p:spPr>
          <a:xfrm>
            <a:off x="558000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74937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а 3 мин. бревно распилили на полуметровые бревна, причём каждая распиловка занимала 1 мин.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Найти длину бревна.</a:t>
            </a:r>
            <a:br>
              <a:rPr sz="44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0" y="5300280"/>
            <a:ext cx="6588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7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 м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14" descr="f8920bf0544f"/>
          <p:cNvPicPr/>
          <p:nvPr/>
        </p:nvPicPr>
        <p:blipFill>
          <a:blip r:embed="rId3"/>
          <a:stretch/>
        </p:blipFill>
        <p:spPr>
          <a:xfrm>
            <a:off x="395280" y="4365720"/>
            <a:ext cx="27226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Найти площадь квадрата, периметр которого 36 см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692360" y="4508280"/>
            <a:ext cx="720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81 кв.с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WordArt 4"/>
          <p:cNvSpPr txBox="1"/>
          <p:nvPr/>
        </p:nvSpPr>
        <p:spPr>
          <a:xfrm>
            <a:off x="7308720" y="5877000"/>
            <a:ext cx="349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7" name="Picture 14" descr="f8920bf0544f"/>
          <p:cNvPicPr/>
          <p:nvPr/>
        </p:nvPicPr>
        <p:blipFill>
          <a:blip r:embed="rId3"/>
          <a:stretch/>
        </p:blipFill>
        <p:spPr>
          <a:xfrm>
            <a:off x="250920" y="4941720"/>
            <a:ext cx="27223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-360" y="3645000"/>
            <a:ext cx="860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7 кг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TextBox 8"/>
          <p:cNvSpPr/>
          <p:nvPr/>
        </p:nvSpPr>
        <p:spPr>
          <a:xfrm>
            <a:off x="4211640" y="1052640"/>
            <a:ext cx="194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9"/>
          <p:cNvSpPr/>
          <p:nvPr/>
        </p:nvSpPr>
        <p:spPr>
          <a:xfrm>
            <a:off x="4211640" y="3933720"/>
            <a:ext cx="1944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3"/>
          <p:cNvSpPr/>
          <p:nvPr/>
        </p:nvSpPr>
        <p:spPr>
          <a:xfrm>
            <a:off x="324000" y="542880"/>
            <a:ext cx="882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Масса бидона с молоком 32 кг, без молока – 2 кг. Какова масса бидона, заполненного молоком наполовин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14" descr="f8920bf0544f"/>
          <p:cNvPicPr/>
          <p:nvPr/>
        </p:nvPicPr>
        <p:blipFill>
          <a:blip r:embed="rId3"/>
          <a:stretch/>
        </p:blipFill>
        <p:spPr>
          <a:xfrm>
            <a:off x="179280" y="5041800"/>
            <a:ext cx="259236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002 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6"/>
          <p:cNvSpPr/>
          <p:nvPr/>
        </p:nvSpPr>
        <p:spPr>
          <a:xfrm>
            <a:off x="755640" y="8366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Выразить в  метрах   15км 2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Рисунок 7" descr="314889979.gif"/>
          <p:cNvPicPr/>
          <p:nvPr/>
        </p:nvPicPr>
        <p:blipFill>
          <a:blip r:embed="rId3"/>
          <a:stretch/>
        </p:blipFill>
        <p:spPr>
          <a:xfrm>
            <a:off x="6300720" y="256536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а+40)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∙3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Рисунок 7" descr="314889979.gif"/>
          <p:cNvPicPr/>
          <p:nvPr/>
        </p:nvPicPr>
        <p:blipFill>
          <a:blip r:embed="rId3"/>
          <a:stretch/>
        </p:blipFill>
        <p:spPr>
          <a:xfrm>
            <a:off x="7129440" y="3860640"/>
            <a:ext cx="2014560" cy="172584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10"/>
          <p:cNvSpPr/>
          <p:nvPr/>
        </p:nvSpPr>
        <p:spPr>
          <a:xfrm>
            <a:off x="0" y="0"/>
            <a:ext cx="914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Цена хризантемы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 р. за один цветок, а цена одной розы –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на 40 р. больше. 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Запишите на математическом языке стоимость трех роз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4385520" y="3244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(а-49)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6"/>
          <p:cNvSpPr/>
          <p:nvPr/>
        </p:nvSpPr>
        <p:spPr>
          <a:xfrm>
            <a:off x="250920" y="83664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Записать выраже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сумма  85   и  а-4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Рисунок 7" descr="314889979.gif"/>
          <p:cNvPicPr/>
          <p:nvPr/>
        </p:nvPicPr>
        <p:blipFill>
          <a:blip r:embed="rId3"/>
          <a:stretch/>
        </p:blipFill>
        <p:spPr>
          <a:xfrm>
            <a:off x="6659640" y="342900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658800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– 27=8,  Х=27+8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-8=2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6"/>
          <p:cNvSpPr/>
          <p:nvPr/>
        </p:nvSpPr>
        <p:spPr>
          <a:xfrm>
            <a:off x="250920" y="333360"/>
            <a:ext cx="86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Записать в виде уравнения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Х  больше  27 на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Рисунок 7" descr="314889979.gif"/>
          <p:cNvPicPr/>
          <p:nvPr/>
        </p:nvPicPr>
        <p:blipFill>
          <a:blip r:embed="rId3"/>
          <a:stretch/>
        </p:blipFill>
        <p:spPr>
          <a:xfrm>
            <a:off x="6659640" y="342900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65880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: </a:t>
            </a: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всей покупки</a:t>
            </a:r>
            <a:r>
              <a:rPr b="0" i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2124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6"/>
          <p:cNvSpPr/>
          <p:nvPr/>
        </p:nvSpPr>
        <p:spPr>
          <a:xfrm>
            <a:off x="250920" y="0"/>
            <a:ext cx="864216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Мама купила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г конфет по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рублей за килограмм и</a:t>
            </a:r>
            <a:r>
              <a:rPr b="1" i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i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г печенья по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рублей за килограмм. Какой смысл имеет выраже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ах+ву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Рисунок 7" descr="314889979.gif"/>
          <p:cNvPicPr/>
          <p:nvPr/>
        </p:nvPicPr>
        <p:blipFill>
          <a:blip r:embed="rId3"/>
          <a:stretch/>
        </p:blipFill>
        <p:spPr>
          <a:xfrm>
            <a:off x="6659640" y="342900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44d26"/>
                </a:solidFill>
                <a:latin typeface="Garamond"/>
              </a:rPr>
              <a:t>Сравните</a:t>
            </a:r>
            <a:br>
              <a:rPr sz="5400"/>
            </a:br>
            <a:endParaRPr b="0" lang="en-US" sz="54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68515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9" name="Рисунок 6" descr="934367234.gif"/>
          <p:cNvPicPr/>
          <p:nvPr/>
        </p:nvPicPr>
        <p:blipFill>
          <a:blip r:embed="rId3"/>
          <a:stretch/>
        </p:blipFill>
        <p:spPr>
          <a:xfrm>
            <a:off x="7451640" y="3716280"/>
            <a:ext cx="1440000" cy="154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0" name="Object 6"/>
              <p:cNvSpPr txBox="1"/>
              <p:nvPr/>
            </p:nvSpPr>
            <p:spPr>
              <a:xfrm>
                <a:off x="2556000" y="1125360"/>
                <a:ext cx="8236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5292720" y="1125360"/>
                <a:ext cx="1114560" cy="217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8"/>
              <p:cNvSpPr txBox="1"/>
              <p:nvPr/>
            </p:nvSpPr>
            <p:spPr>
              <a:xfrm>
                <a:off x="3276720" y="3860640"/>
                <a:ext cx="8254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5364000" y="3860640"/>
                <a:ext cx="1079640" cy="21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44d26"/>
                </a:solidFill>
                <a:latin typeface="Garamond"/>
              </a:rPr>
              <a:t>Представить число 25 в виде дроби со знаменателем 4</a:t>
            </a: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6778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0"/>
              <p:cNvSpPr txBox="1"/>
              <p:nvPr/>
            </p:nvSpPr>
            <p:spPr>
              <a:xfrm>
                <a:off x="4859280" y="3141720"/>
                <a:ext cx="254484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8" name="Рисунок 6" descr="934367234.gif"/>
          <p:cNvPicPr/>
          <p:nvPr/>
        </p:nvPicPr>
        <p:blipFill>
          <a:blip r:embed="rId3"/>
          <a:stretch/>
        </p:blipFill>
        <p:spPr>
          <a:xfrm>
            <a:off x="5076720" y="4437000"/>
            <a:ext cx="144000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0" y="260280"/>
          <a:ext cx="8686800" cy="6475320"/>
        </p:xfrm>
        <a:graphic>
          <a:graphicData uri="http://schemas.openxmlformats.org/drawingml/2006/table">
            <a:tbl>
              <a:tblPr/>
              <a:tblGrid>
                <a:gridCol w="1692360"/>
                <a:gridCol w="1203120"/>
                <a:gridCol w="1605240"/>
                <a:gridCol w="1439640"/>
                <a:gridCol w="1511280"/>
                <a:gridCol w="1235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предел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Задач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ырыж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роб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ообраз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WordArt 4"/>
          <p:cNvSpPr txBox="1"/>
          <p:nvPr/>
        </p:nvSpPr>
        <p:spPr>
          <a:xfrm>
            <a:off x="8712360" y="602136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1" name="Text Box 107">
            <a:hlinkClick r:id="rId3" action="ppaction://hlinksldjump"/>
          </p:cNvPr>
          <p:cNvSpPr/>
          <p:nvPr/>
        </p:nvSpPr>
        <p:spPr>
          <a:xfrm>
            <a:off x="1547640" y="260280"/>
            <a:ext cx="1295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08">
            <a:hlinkClick r:id="rId5" action="ppaction://hlinksldjump"/>
          </p:cNvPr>
          <p:cNvSpPr/>
          <p:nvPr/>
        </p:nvSpPr>
        <p:spPr>
          <a:xfrm>
            <a:off x="2987640" y="260280"/>
            <a:ext cx="122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09">
            <a:hlinkClick r:id="rId7" action="ppaction://hlinksldjump"/>
          </p:cNvPr>
          <p:cNvSpPr/>
          <p:nvPr/>
        </p:nvSpPr>
        <p:spPr>
          <a:xfrm>
            <a:off x="4500720" y="260280"/>
            <a:ext cx="122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8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0">
            <a:hlinkClick r:id="rId9"/>
          </p:cNvPr>
          <p:cNvSpPr/>
          <p:nvPr/>
        </p:nvSpPr>
        <p:spPr>
          <a:xfrm>
            <a:off x="5796000" y="26028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0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11"/>
          <p:cNvSpPr/>
          <p:nvPr/>
        </p:nvSpPr>
        <p:spPr>
          <a:xfrm>
            <a:off x="7380360" y="26028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1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12"/>
          <p:cNvSpPr/>
          <p:nvPr/>
        </p:nvSpPr>
        <p:spPr>
          <a:xfrm>
            <a:off x="1476360" y="162864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13"/>
          <p:cNvSpPr/>
          <p:nvPr/>
        </p:nvSpPr>
        <p:spPr>
          <a:xfrm>
            <a:off x="2916360" y="1628640"/>
            <a:ext cx="136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3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14"/>
          <p:cNvSpPr/>
          <p:nvPr/>
        </p:nvSpPr>
        <p:spPr>
          <a:xfrm>
            <a:off x="4356000" y="1628640"/>
            <a:ext cx="136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5"/>
          <p:cNvSpPr/>
          <p:nvPr/>
        </p:nvSpPr>
        <p:spPr>
          <a:xfrm>
            <a:off x="5867280" y="1628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5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6"/>
          <p:cNvSpPr/>
          <p:nvPr/>
        </p:nvSpPr>
        <p:spPr>
          <a:xfrm>
            <a:off x="7380360" y="1628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6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17"/>
          <p:cNvSpPr/>
          <p:nvPr/>
        </p:nvSpPr>
        <p:spPr>
          <a:xfrm>
            <a:off x="1619280" y="2852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7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18"/>
          <p:cNvSpPr/>
          <p:nvPr/>
        </p:nvSpPr>
        <p:spPr>
          <a:xfrm>
            <a:off x="2916360" y="2852640"/>
            <a:ext cx="136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8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19"/>
          <p:cNvSpPr/>
          <p:nvPr/>
        </p:nvSpPr>
        <p:spPr>
          <a:xfrm>
            <a:off x="4427640" y="2852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9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20"/>
          <p:cNvSpPr/>
          <p:nvPr/>
        </p:nvSpPr>
        <p:spPr>
          <a:xfrm>
            <a:off x="5867280" y="2852640"/>
            <a:ext cx="1225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21"/>
          <p:cNvSpPr/>
          <p:nvPr/>
        </p:nvSpPr>
        <p:spPr>
          <a:xfrm>
            <a:off x="7380360" y="2852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22"/>
          <p:cNvSpPr/>
          <p:nvPr/>
        </p:nvSpPr>
        <p:spPr>
          <a:xfrm>
            <a:off x="1692360" y="422100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2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23"/>
          <p:cNvSpPr/>
          <p:nvPr/>
        </p:nvSpPr>
        <p:spPr>
          <a:xfrm>
            <a:off x="2987640" y="422100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3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24"/>
          <p:cNvSpPr/>
          <p:nvPr/>
        </p:nvSpPr>
        <p:spPr>
          <a:xfrm>
            <a:off x="4572000" y="422100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4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25"/>
          <p:cNvSpPr/>
          <p:nvPr/>
        </p:nvSpPr>
        <p:spPr>
          <a:xfrm>
            <a:off x="6012000" y="422100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5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26"/>
          <p:cNvSpPr/>
          <p:nvPr/>
        </p:nvSpPr>
        <p:spPr>
          <a:xfrm>
            <a:off x="7451640" y="422100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27"/>
          <p:cNvSpPr/>
          <p:nvPr/>
        </p:nvSpPr>
        <p:spPr>
          <a:xfrm>
            <a:off x="1619280" y="5516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7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28"/>
          <p:cNvSpPr/>
          <p:nvPr/>
        </p:nvSpPr>
        <p:spPr>
          <a:xfrm>
            <a:off x="3132000" y="5516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29"/>
          <p:cNvSpPr/>
          <p:nvPr/>
        </p:nvSpPr>
        <p:spPr>
          <a:xfrm>
            <a:off x="4572000" y="5516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30"/>
          <p:cNvSpPr/>
          <p:nvPr/>
        </p:nvSpPr>
        <p:spPr>
          <a:xfrm>
            <a:off x="6084720" y="551664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31"/>
          <p:cNvSpPr/>
          <p:nvPr/>
        </p:nvSpPr>
        <p:spPr>
          <a:xfrm>
            <a:off x="7524720" y="5516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32"/>
          <p:cNvSpPr/>
          <p:nvPr/>
        </p:nvSpPr>
        <p:spPr>
          <a:xfrm>
            <a:off x="0" y="981000"/>
            <a:ext cx="13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33"/>
          <p:cNvSpPr/>
          <p:nvPr/>
        </p:nvSpPr>
        <p:spPr>
          <a:xfrm>
            <a:off x="0" y="9079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39" descr="star23"/>
          <p:cNvPicPr/>
          <p:nvPr/>
        </p:nvPicPr>
        <p:blipFill>
          <a:blip r:embed="rId28"/>
          <a:stretch/>
        </p:blipFill>
        <p:spPr>
          <a:xfrm>
            <a:off x="900000" y="105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0" descr="star23"/>
          <p:cNvPicPr/>
          <p:nvPr/>
        </p:nvPicPr>
        <p:blipFill>
          <a:blip r:embed="rId29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1" descr="star23"/>
          <p:cNvPicPr/>
          <p:nvPr/>
        </p:nvPicPr>
        <p:blipFill>
          <a:blip r:embed="rId30"/>
          <a:stretch/>
        </p:blipFill>
        <p:spPr>
          <a:xfrm>
            <a:off x="1116000" y="631044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2" descr="star23"/>
          <p:cNvPicPr/>
          <p:nvPr/>
        </p:nvPicPr>
        <p:blipFill>
          <a:blip r:embed="rId31"/>
          <a:stretch/>
        </p:blipFill>
        <p:spPr>
          <a:xfrm>
            <a:off x="8675640" y="350028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3" descr="star23"/>
          <p:cNvPicPr/>
          <p:nvPr/>
        </p:nvPicPr>
        <p:blipFill>
          <a:blip r:embed="rId32"/>
          <a:stretch/>
        </p:blipFill>
        <p:spPr>
          <a:xfrm>
            <a:off x="0" y="227664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4" descr="star23"/>
          <p:cNvPicPr/>
          <p:nvPr/>
        </p:nvPicPr>
        <p:blipFill>
          <a:blip r:embed="rId33"/>
          <a:stretch/>
        </p:blipFill>
        <p:spPr>
          <a:xfrm>
            <a:off x="1042920" y="3357720"/>
            <a:ext cx="476280" cy="475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5" descr="star23"/>
          <p:cNvPicPr/>
          <p:nvPr/>
        </p:nvPicPr>
        <p:blipFill>
          <a:blip r:embed="rId34"/>
          <a:stretch/>
        </p:blipFill>
        <p:spPr>
          <a:xfrm>
            <a:off x="4284720" y="6381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6" descr="star23"/>
          <p:cNvPicPr/>
          <p:nvPr/>
        </p:nvPicPr>
        <p:blipFill>
          <a:blip r:embed="rId35"/>
          <a:stretch/>
        </p:blipFill>
        <p:spPr>
          <a:xfrm>
            <a:off x="4140360" y="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47" descr="star23"/>
          <p:cNvPicPr/>
          <p:nvPr/>
        </p:nvPicPr>
        <p:blipFill>
          <a:blip r:embed="rId36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8820000" cy="31672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44d26"/>
                </a:solidFill>
                <a:latin typeface="Garamond"/>
              </a:rPr>
              <a:t>Найти число, которое составляет 1/9 от 153?</a:t>
            </a:r>
            <a:br>
              <a:rPr sz="3600"/>
            </a:b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4487400"/>
            <a:ext cx="738648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WordArt 4"/>
          <p:cNvSpPr txBox="1"/>
          <p:nvPr/>
        </p:nvSpPr>
        <p:spPr>
          <a:xfrm>
            <a:off x="7308720" y="5877000"/>
            <a:ext cx="349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TextBox 5"/>
          <p:cNvSpPr/>
          <p:nvPr/>
        </p:nvSpPr>
        <p:spPr>
          <a:xfrm>
            <a:off x="5219640" y="6524640"/>
            <a:ext cx="73080" cy="3750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6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Рисунок 7" descr="934367234.gif"/>
          <p:cNvPicPr/>
          <p:nvPr/>
        </p:nvPicPr>
        <p:blipFill>
          <a:blip r:embed="rId3"/>
          <a:stretch/>
        </p:blipFill>
        <p:spPr>
          <a:xfrm>
            <a:off x="6516720" y="4076640"/>
            <a:ext cx="144000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4276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44d26"/>
                </a:solidFill>
                <a:latin typeface="Garamond"/>
              </a:rPr>
              <a:t>Что надо поставить вместо  * , чтобы получилось верное равенство?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444d26"/>
                </a:solidFill>
                <a:latin typeface="Garamond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Garamond"/>
              </a:rPr>
              <a:t>+ * = 1</a:t>
            </a: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-612720" y="5013360"/>
            <a:ext cx="738648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WordArt 4"/>
          <p:cNvSpPr txBox="1"/>
          <p:nvPr/>
        </p:nvSpPr>
        <p:spPr>
          <a:xfrm>
            <a:off x="7308720" y="5877000"/>
            <a:ext cx="349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6"/>
              <p:cNvSpPr txBox="1"/>
              <p:nvPr/>
            </p:nvSpPr>
            <p:spPr>
              <a:xfrm>
                <a:off x="755640" y="3881520"/>
                <a:ext cx="64764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8"/>
              <p:cNvSpPr txBox="1"/>
              <p:nvPr/>
            </p:nvSpPr>
            <p:spPr>
              <a:xfrm>
                <a:off x="4356000" y="4941720"/>
                <a:ext cx="6206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29" name="Рисунок 7" descr="934367234.gif"/>
          <p:cNvPicPr/>
          <p:nvPr/>
        </p:nvPicPr>
        <p:blipFill>
          <a:blip r:embed="rId3"/>
          <a:stretch/>
        </p:blipFill>
        <p:spPr>
          <a:xfrm>
            <a:off x="6012000" y="4365720"/>
            <a:ext cx="1439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2960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44d26"/>
                </a:solidFill>
                <a:latin typeface="Garamond"/>
              </a:rPr>
              <a:t>Сколько минут в 3/5 часа?</a:t>
            </a: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3" name="Рисунок 6" descr="934367234.gif"/>
          <p:cNvPicPr/>
          <p:nvPr/>
        </p:nvPicPr>
        <p:blipFill>
          <a:blip r:embed="rId3"/>
          <a:stretch/>
        </p:blipFill>
        <p:spPr>
          <a:xfrm>
            <a:off x="7093080" y="3645000"/>
            <a:ext cx="1439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92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очках </a:t>
            </a:r>
            <a:r>
              <a:rPr b="1" i="1" lang="ru-RU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писаны цифры. Как одним движением </a:t>
            </a:r>
            <a:br>
              <a:rPr sz="4300"/>
            </a:br>
            <a:r>
              <a:rPr b="1" i="1" lang="ru-RU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еличить число 69 на 27, </a:t>
            </a:r>
            <a:br>
              <a:rPr sz="4300"/>
            </a:br>
            <a:r>
              <a:rPr b="1" i="1" lang="ru-RU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производя вычислений?</a:t>
            </a:r>
            <a:endParaRPr b="0" lang="en-US" sz="43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енять карточки местами 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7236000" y="5950080"/>
            <a:ext cx="349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2700360" y="2924280"/>
            <a:ext cx="1079640" cy="192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4140360" y="2924280"/>
            <a:ext cx="1223640" cy="192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6732720" y="2997360"/>
            <a:ext cx="1584360" cy="15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00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Крышка стола имеет 4 угла. Когда один угол отпилили- сколько стало углов?</a:t>
            </a:r>
            <a:br>
              <a:rPr sz="3600"/>
            </a:br>
            <a:endParaRPr b="0" lang="en-US" sz="5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углов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3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5724360" y="3716280"/>
            <a:ext cx="1584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ему равно произведение</a:t>
            </a:r>
            <a:br>
              <a:rPr sz="8000"/>
            </a:br>
            <a:r>
              <a:rPr b="0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сех цифр</a:t>
            </a:r>
            <a:r>
              <a:rPr b="1" i="1" lang="ru-RU" sz="8000" spc="-1" strike="noStrike">
                <a:solidFill>
                  <a:srgbClr val="00b050"/>
                </a:solidFill>
                <a:latin typeface="Arial"/>
                <a:ea typeface="Times New Roman"/>
              </a:rPr>
              <a:t>? </a:t>
            </a:r>
            <a:endParaRPr b="0" lang="en-US" sz="80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7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7380360" y="3141720"/>
            <a:ext cx="1584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13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9676d"/>
                </a:solidFill>
                <a:latin typeface="Tahoma"/>
              </a:rPr>
              <a:t>           </a:t>
            </a: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Назвать самое   маленькое четырехзначное число, в записи которого все цифры различны?</a:t>
            </a:r>
            <a:endParaRPr b="0" lang="en-US" sz="5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501336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23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1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6516720" y="3284640"/>
            <a:ext cx="1584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2960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5400" spc="-1" strike="noStrike">
              <a:solidFill>
                <a:srgbClr val="69676d"/>
              </a:solidFill>
              <a:latin typeface="Times New Roman"/>
              <a:ea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4508280"/>
            <a:ext cx="822960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!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WordArt 4"/>
          <p:cNvSpPr txBox="1"/>
          <p:nvPr/>
        </p:nvSpPr>
        <p:spPr>
          <a:xfrm>
            <a:off x="9144000" y="6524640"/>
            <a:ext cx="18108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5" name="Рисунок 6" descr="934367234.gif"/>
          <p:cNvPicPr/>
          <p:nvPr/>
        </p:nvPicPr>
        <p:blipFill>
          <a:blip r:embed="rId3"/>
          <a:stretch/>
        </p:blipFill>
        <p:spPr>
          <a:xfrm>
            <a:off x="2484360" y="476280"/>
            <a:ext cx="3884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57120" y="549000"/>
            <a:ext cx="832968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Tahoma"/>
              </a:rPr>
              <a:t>СПАСИБО ЗА </a:t>
            </a:r>
            <a:endParaRPr b="0" lang="en-US" sz="11500" spc="-1" strike="noStrike">
              <a:solidFill>
                <a:srgbClr val="000000"/>
              </a:solidFill>
              <a:latin typeface="Tahoma"/>
            </a:endParaRPr>
          </a:p>
          <a:p>
            <a:pPr marL="429840" indent="-36720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Tahoma"/>
              </a:rPr>
              <a:t>РАБОТУ!</a:t>
            </a:r>
            <a:endParaRPr b="0" lang="en-US" sz="1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Picture 2" descr="C:\Documents and Settings\Владелец\Мои документы\Мои рисунки\ол.gif"/>
          <p:cNvPicPr/>
          <p:nvPr/>
        </p:nvPicPr>
        <p:blipFill>
          <a:blip r:embed="rId1"/>
          <a:stretch/>
        </p:blipFill>
        <p:spPr>
          <a:xfrm>
            <a:off x="5991120" y="2571840"/>
            <a:ext cx="3303720" cy="18651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4" descr="smile.gif"/>
          <p:cNvPicPr/>
          <p:nvPr/>
        </p:nvPicPr>
        <p:blipFill>
          <a:blip r:embed="rId2"/>
          <a:stretch/>
        </p:blipFill>
        <p:spPr>
          <a:xfrm>
            <a:off x="468360" y="1628640"/>
            <a:ext cx="3166920" cy="2881440"/>
          </a:xfrm>
          <a:prstGeom prst="rect">
            <a:avLst/>
          </a:prstGeom>
          <a:ln w="0">
            <a:noFill/>
          </a:ln>
        </p:spPr>
      </p:pic>
      <p:pic>
        <p:nvPicPr>
          <p:cNvPr id="559" name="Dvazhdy_dva_-_chetyre.mp3" descr=""/>
          <p:cNvPicPr/>
          <p:nvPr/>
        </p:nvPicPr>
        <p:blipFill>
          <a:blip r:embed="rId3"/>
          <a:stretch/>
        </p:blipFill>
        <p:spPr>
          <a:xfrm>
            <a:off x="6804000" y="34290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60" name="аплодисменты.mp3" descr=""/>
          <p:cNvPicPr/>
          <p:nvPr/>
        </p:nvPicPr>
        <p:blipFill>
          <a:blip r:embed="rId4"/>
          <a:stretch/>
        </p:blipFill>
        <p:spPr>
          <a:xfrm>
            <a:off x="2627280" y="3357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chimes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10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1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15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0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1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6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animClr clrSpc="rgb">
                                      <p:cBhvr>
                                        <p:cTn id="430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431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animClr clrSpc="rgb">
                                      <p:cBhvr>
                                        <p:cTn id="435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436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74937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5099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Как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называется отрезок ломаной? </a:t>
            </a:r>
            <a:br>
              <a:rPr sz="3600"/>
            </a:br>
            <a:endParaRPr b="0" lang="en-US" sz="54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-360" y="2394000"/>
            <a:ext cx="8589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е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0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2124000" y="4292640"/>
            <a:ext cx="32670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3080" cy="3168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Как называется точка, равноудаленная от всех точек окружности?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9280" y="3141720"/>
            <a:ext cx="8785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  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нтр окруж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TextBox 14"/>
          <p:cNvSpPr/>
          <p:nvPr/>
        </p:nvSpPr>
        <p:spPr>
          <a:xfrm>
            <a:off x="5219640" y="14954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1835280" y="4437000"/>
            <a:ext cx="3267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33674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Как называется прямоугольный параллелепипед, все измерения которого равны?</a:t>
            </a:r>
            <a:endParaRPr b="0" lang="en-US" sz="48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0920" y="350028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9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4067280" y="4653000"/>
            <a:ext cx="32670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8000" y="34920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6000" spc="-1" strike="noStrike">
              <a:solidFill>
                <a:srgbClr val="444d26"/>
              </a:solidFill>
              <a:latin typeface="Times New Roman"/>
              <a:ea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1280" y="378900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ен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Прямоугольник 5"/>
          <p:cNvSpPr/>
          <p:nvPr/>
        </p:nvSpPr>
        <p:spPr>
          <a:xfrm>
            <a:off x="179280" y="40464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Значение буквы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при котором уравнение превращается в верное числовое равенств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3059280" y="5003640"/>
            <a:ext cx="3267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511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Совокупность делений на линейках различных форм?</a:t>
            </a:r>
            <a:endParaRPr b="0" lang="en-US" sz="66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360" y="3428640"/>
            <a:ext cx="822960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 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а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8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2627280" y="4581360"/>
            <a:ext cx="3267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а книгу заплатили 100рублей и еще половину стоимости книги. Сколько стоит книга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0" y="544464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00 рубле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2" name="Picture 14" descr="f8920bf0544f"/>
          <p:cNvPicPr/>
          <p:nvPr/>
        </p:nvPicPr>
        <p:blipFill>
          <a:blip r:embed="rId3"/>
          <a:stretch/>
        </p:blipFill>
        <p:spPr>
          <a:xfrm>
            <a:off x="611280" y="3429000"/>
            <a:ext cx="2722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64000" y="189000"/>
            <a:ext cx="4665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7 бидон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6" name="Picture 5" descr="d71e8489e16dfe8e5324fc43b77"/>
          <p:cNvPicPr/>
          <p:nvPr/>
        </p:nvPicPr>
        <p:blipFill>
          <a:blip r:embed="rId3"/>
          <a:stretch/>
        </p:blipFill>
        <p:spPr>
          <a:xfrm>
            <a:off x="0" y="115920"/>
            <a:ext cx="3419640" cy="3033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6"/>
          <p:cNvSpPr/>
          <p:nvPr/>
        </p:nvSpPr>
        <p:spPr>
          <a:xfrm>
            <a:off x="3059280" y="0"/>
            <a:ext cx="59054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 один день на пасеке собра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50 л мёда. Весь мёд нужно разлить в бидоны п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3 ли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кое минимальное количество таких бидонов для этого потребу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4" descr="f8920bf0544f"/>
          <p:cNvPicPr/>
          <p:nvPr/>
        </p:nvPicPr>
        <p:blipFill>
          <a:blip r:embed="rId4"/>
          <a:stretch/>
        </p:blipFill>
        <p:spPr>
          <a:xfrm>
            <a:off x="2484360" y="3500280"/>
            <a:ext cx="2722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05:30:36Z</dcterms:created>
  <dc:creator>сержик</dc:creator>
  <dc:description/>
  <dc:language>en-US</dc:language>
  <cp:lastModifiedBy>Татьяна</cp:lastModifiedBy>
  <dcterms:modified xsi:type="dcterms:W3CDTF">2015-01-17T16:51:09Z</dcterms:modified>
  <cp:revision>109</cp:revision>
  <dc:subject/>
  <dc:title>Интеллектуальная игра</dc:title>
</cp:coreProperties>
</file>