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397-779E-4B63-981C-AA564B10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67C-2B06-4849-B7FF-1CE840E8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2A7-2C6A-4F75-8106-5269F313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29D-D30A-4F26-8F0A-523F55B0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CFEF6-24C4-422D-9D6B-97E93986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363BC-66E2-434B-813D-C63047B6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4071C-4133-455C-84F8-6034006E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D0413-E1E8-4916-8775-36941DA1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0FD77-EF15-48AA-AE60-09E6BD36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A6CC4-6E79-4BA6-87F0-6828F386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9E6C6-3D92-4E7E-858F-209295D0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A44-466D-447F-9EAE-748A1E8F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84AD9-C1BB-473C-A00F-3093A2D2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6663B-29F8-4331-85AC-8E1A4217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E0E1F-94B9-4D19-BD90-B720BC8F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A5D76-BB91-4F96-8970-0D9D674A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55451-126A-4E42-9260-E12345D3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986FB-C46D-49AB-BED9-372369C9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68480-C78F-420C-A20E-E9D7FE6F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101B1-CB7A-4365-B853-DEF10951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38EDB-A71B-41A7-B32B-3C46F89F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CCD6-7AB9-4C0C-B9A7-03146669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DCD-4C9A-416A-AB05-40E56895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DA5EA-E8FE-4286-84CC-8D42AC6B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8FAB-21C8-4C14-83EF-5BE560A8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38132-3861-40B8-924D-69E4DAFB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7F989-D724-4FA5-9A86-BDE6D78B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FEE7F-E06C-4E8B-96AD-F41DC9F1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2F82-601E-42A6-ADAF-B9E3937C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55280-B3DF-49D0-B44B-5BC1F5D1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758DB-741E-49EA-AF56-E1C38860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3FF2B-3D17-40BB-8B7B-2F1B452D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90FD5-2BDF-4EB4-A4AA-05321F79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4EC-CE38-4FBB-AB9E-5C7871BD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221C2-B6CD-43D6-9E31-F7AD4597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4F462-FB2C-4696-8974-D3325CE4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01185-2267-4496-83CC-1549D645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8E374-F4FA-40C4-8C84-12CB5F24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83CEC-928C-4524-9E32-0AC48CC9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1E719-B07C-4491-A20E-74BB365D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E0B48-D9D3-4DE0-9BE0-020ED019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23148-C5E7-4B57-A157-C64BE2B0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1F9FA-0052-4747-91E4-CBF4A0D2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862-5251-4FC7-A517-0D031956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B2A0-6AE0-4511-8D76-BF43BE35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C25-EC7D-493C-BCC6-0108DC0A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C9E0-E477-4F49-94C2-077DF31F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E5D-713A-4F4C-9914-090424D4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E933-8B27-4701-83FC-33088A7FE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9A4A-F8F7-4B6A-8CAF-2A4A6E107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6203-40DE-4614-8DE6-6593E0A037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A489-01A5-478F-BFAE-951D0E87D2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068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Vladimir Script"/>
              </a:rPr>
              <a:t>Коррекция эмоций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 rot="19701000">
            <a:off x="323640" y="404280"/>
            <a:ext cx="3384360" cy="1778040"/>
          </a:xfrm>
          <a:prstGeom prst="smileyFace">
            <a:avLst>
              <a:gd name="adj" fmla="val 9282"/>
            </a:avLst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Эмоциональные процесс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человека достоверность и очевидность и очевидность собственного мира выступает прежде всего  как эмоциональная реальность, как его переживания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 эмоциональным процессам или переживаниям относя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бственно эмо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ффек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а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есс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ув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Аффект и аффективные дет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ффект – сильное и относительно кратковременное эмоциональное пережи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ффективные дети –  дети, у которых в силу неудовлетворения каких-либо существенных для них потребностей возникают тяжелые эмоциональные переживания и связанные с ними формы поведения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ЧУВСТВА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1970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УВСТВА – устойчивое эмоциональное отношение чело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увства всегда субъективны и связаны с конкретным объектом (предметом, человеком, событием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одном чувстве нередко сливаются, переходят друг в друга различные положительные и отрицательные эмоции (любовь, печаль, радость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им объясняется такое свойство чувств как двойственность (амбивалентность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увства формируются по мере развития индивидуального созн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увство исключительной силы и стойкости , выражающееся в направленности помыслов человека на одну цель, называется стра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увства человека обусловлены его взаимоотношениями с другими людьми, они регулируются  общественными нормами, правилами, обычаями, традиция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Если в детстве ребенок чувствует себя неуспешным, то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него накапливается отрицательный опы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астает беспомощнос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ах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ваннос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щущение непризнанности друг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Это может сопровождаться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оянным повышенным стремлением к внешней похвал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обрени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сти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товностью соглашаться  с мнениями други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заниженная самооцен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может в будущем привести в недостаточному использованию человеком своего внутреннего потенциала, способностей и возможностей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вышенная самооцен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ставление ребенка о себе может быть нереалистичным, приукрашенным. Такие дети полагают, что они лучше других, считают, сто им все под силу. Завышенная самооценка может отрицательно влиять на восприятие ребенком  чувств, мнений, желаний друг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Став взрослыми, такие люди не будут располагать к общению, а их излишняя самоуверенность  может повлечь безответственные и даже опасные для них самих действия и поступ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Адекватная самооцен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ребенка с положительными представлениями о себе и адекватной самооценкой отсутствует страх контактов с другими людьми, боязнь неудачи, неуспеха и соответственно – стремление избежать принятие решения.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Такие люди свободно выражают собственную точку зрения, желания и чув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Игры и задания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иды эмоциональных состоя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мся понимать эмоции и чув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мся передавать эмоции и чув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го меняется настроени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туация и настро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упки и настро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моции в  сказк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вет и настро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рода и настро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грушки и эмо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Я и моя семь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я самооцен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бенок среди сверстни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ремся со своими страх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чь и эмоции (слово огорчает, утешает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сихогимнастика (радость, удивление, отвращение, печаль, страх, гне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веты родителя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Arial"/>
              </a:rPr>
              <a:t>эмоц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моции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посредственные переживания, отражающие значимость действующих  на человека  явлений и ситу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Эмоции способн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предвосхищать ситуацию или событие на основе представления человеком  о пережитом или воображаем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Эмоциональный опы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человека гораздо шире, чем опыт  его собственных переживаний. Он формируется в результате сопереживания другим людям, эмоций, вызванных средствами  искусств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Способ выражения эмоций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эмоциональный язык» исторически изменчив и формируется в процессе социализации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моции способствуют  тому, что психическая деятельность и поведение направляются на эти события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моции  оказывают  влияние  на содержание  и  динамику  познавательных  процессов,  а  также  восприятие,  внимание,  воображение,  память,  мышление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оды и коррекция эмоциональной сферы дошкольника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менты игровой терап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сихогимнас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менты арттерапии (проектное рис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од беседы и постановки проблемных ситу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агностическая методика эмоционального развития дошкольников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одика «Секрет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Ь: изучение социометрического статуса и выявление межличностных отношений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овень Социально – эмоционального развития дошколь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ь: психолого-педагогическое наблюдение за детьми  в процессе свободной игровой  деятельности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оциальные  рол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арактер общения во многом зависит от социального поведения человека, его социальной роли. Даже в дошкольном детстве у ребенка уже много рол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 – сын или доч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анник детского сад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й-то дру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равственные ценности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Нрав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личная форма этического самосознания, область свободных и ответственных поступков личности, ее внутренних мотивов и побуждений творить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ОБР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следовать идеалам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СТИН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ОБР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РАСОТ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Человек самостоятельно формулирует нравственные обязанности и требует от себя их выполнения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Нравственным регулятором  поведения человека являетс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СОВЕ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нешняя регуляц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ленькие дети не обладают развитым пониманием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добра и з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них оценка поступка определяется его последствиями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добрением или наказанием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ни могут следовать только четко установленным правилам, чаще всего не понимая их су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этому им трудно приспосабливать эти правила даже к незначительно меняющимся обстоятельств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Собственная внутренняя оценка поступка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ети  учитывают  обстоятельства,  в рамках  которых  совершается  действие, а  справедливость  поступка,  его нравственный  статус  определяют  уже не  его  последствия,  а  намерения, лежащие  в  его  основ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6:53:54Z</dcterms:created>
  <dc:creator>N</dc:creator>
  <dc:description/>
  <dc:language>en-US</dc:language>
  <cp:lastModifiedBy>N</cp:lastModifiedBy>
  <dcterms:modified xsi:type="dcterms:W3CDTF">2007-04-03T19:33:41Z</dcterms:modified>
  <cp:revision>2</cp:revision>
  <dc:subject/>
  <dc:title>Коррекция эмоций</dc:title>
</cp:coreProperties>
</file>