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936-83D3-4B66-BEC6-1944E37D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F92-FEA0-475B-B085-1B712FCE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825-8EC3-4E9E-84D8-3E22B1D4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793-E49B-42F9-AA18-3198D1EF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9CC75-2F52-42BB-A036-DC95745F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D6359-9A9E-47E9-8BD8-A8FCCA46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29419-58DA-4005-9ACC-0008B336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41F3A-4ABB-4731-9DCA-F3D75A14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BCCEC-8180-464B-A275-C1453DE3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D7178-D49F-4786-AD33-A04454D3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E26E4-17F0-40BB-BE5E-70F25EB5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3BA-E170-4839-B5AF-E8496F9E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467F9-C471-43DD-8CEC-29CFD156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4E9BE-AC7A-4AA7-AA6B-576CBA12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85BE8-1BEB-4216-8835-EC2C2894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F499F-8A5C-4333-AB2F-78038A97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972D1-0067-42F6-931C-356EA01E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F611A-84B0-4A55-9B78-6F1C114F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8551A-DB4C-4014-8BA8-0502EF7E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A532A-9A04-43DA-A072-FCCF64A8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516AE-AEB3-40F9-91BF-86B0A0E2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6DCF0-9DF3-4064-B124-E6767E43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8D5-EC1D-4863-9508-8C51D16C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F6F99-7A72-4B35-8D49-BDBE5762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291FB-2C63-48D7-8510-A8DEC5FD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46999-6557-46B6-A583-2BA99DB5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EBAB3-FE64-44CA-8E68-8693582D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A5042-BA70-4B6F-8165-BDCE2D56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9A061-4298-43FB-910E-089CD8FF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2037C-6380-40BA-9A2E-194D3AD1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71B90-E874-4BE4-8192-845D5D29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5B840-3849-4794-B76C-D4D56891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ACC0A-A6F4-4D0A-ADB5-E8D6EF73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E4D-02ED-4591-B4B2-C54FC17F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C739C-645D-479C-B5B3-411E7945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4B964-B365-49D0-8BAC-651777D7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6E4C8-AA67-4CF4-96DD-2A71534C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1274D-547B-4636-9EA5-19229AB5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9614C-9F33-4102-8718-103C5781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47E7B-04BC-456C-B09E-D162CB02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BEA3F-7DC9-4516-B393-F560CC98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1DCE7-D40B-4612-8991-5F339269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3B6AE-D455-4D1B-B3AB-F6653267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58A-C6B6-48F6-818F-487403E7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ADE-CD47-4C78-B430-44158D00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84E-A15D-4D19-A66E-084503F9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31E-F672-4BAC-A77B-CAA887B8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533-5066-4289-B8CB-F8E74C62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55FD-69FD-45D1-A3BE-D9F722FB5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2795-C8F7-4E67-BB4C-C4D1F94E2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FF2D-18CB-42F5-B520-F3E0189F13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6138-74CA-40B8-BDC8-F4725A22DA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068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Vladimir Script"/>
              </a:rPr>
              <a:t>Коррекция эмоций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 rot="19701000">
            <a:off x="323640" y="404280"/>
            <a:ext cx="3384360" cy="1778040"/>
          </a:xfrm>
          <a:prstGeom prst="smileyFace">
            <a:avLst>
              <a:gd name="adj" fmla="val 9282"/>
            </a:avLst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Эмоциональные процесс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человека достоверность и очевидность и очевидность собственного мира выступает прежде всего  как эмоциональная реальность, как его переживания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 эмоциональным процессам или переживаниям относя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бственно эмо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ффек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а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есс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ув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Аффект и аффективные дет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ффект – сильное и относительно кратковременное эмоциональное пережи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ффективные дети –  дети, у которых в силу неудовлетворения каких-либо существенных для них потребностей возникают тяжелые эмоциональные переживания и связанные с ними формы поведения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ЧУВСТВА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1970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УВСТВА – устойчивое эмоциональное отношение чело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увства всегда субъективны и связаны с конкретным объектом (предметом, человеком, событием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одном чувстве нередко сливаются, переходят друг в друга различные положительные и отрицательные эмоции (любовь, печаль, радость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им объясняется такое свойство чувств как двойственность (амбивалентность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увства формируются по мере развития индивидуального созн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увство исключительной силы и стойкости , выражающееся в направленности помыслов человека на одну цель, называется стра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увства человека обусловлены его взаимоотношениями с другими людьми, они регулируются  общественными нормами, правилами, обычаями, традиция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Если в детстве ребенок чувствует себя неуспешным, то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него накапливается отрицательный опы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астает беспомощнос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ах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ваннос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щущение непризнанности друг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Это может сопровождаться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оянным повышенным стремлением к внешней похвал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обрени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сти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товностью соглашаться  с мнениями други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заниженная самооцен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может в будущем привести в недостаточному использованию человеком своего внутреннего потенциала, способностей и возможностей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вышенная самооцен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ставление ребенка о себе может быть нереалистичным, приукрашенным. Такие дети полагают, что они лучше других, считают, сто им все под силу. Завышенная самооценка может отрицательно влиять на восприятие ребенком  чувств, мнений, желаний друг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Став взрослыми, такие люди не будут располагать к общению, а их излишняя самоуверенность  может повлечь безответственные и даже опасные для них самих действия и поступ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Адекватная самооцен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ребенка с положительными представлениями о себе и адекватной самооценкой отсутствует страх контактов с другими людьми, боязнь неудачи, неуспеха и соответственно – стремление избежать принятие решения.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Такие люди свободно выражают собственную точку зрения, желания и чув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Игры и задания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иды эмоциональных состоя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мся понимать эмоции и чув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мся передавать эмоции и чув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го меняется настроени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туация и настро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упки и настро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моции в  сказк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вет и настро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рода и настро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грушки и эмо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Я и моя семь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я самооцен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бенок среди сверстни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ремся со своими страх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чь и эмоции (слово огорчает, утешает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сихогимнастика (радость, удивление, отвращение, печаль, страх, гне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веты родителя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Arial"/>
              </a:rPr>
              <a:t>эмоц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моции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посредственные переживания, отражающие значимость действующих  на человека  явлений и ситу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Эмоции способн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предвосхищать ситуацию или событие на основе представления человеком  о пережитом или воображаем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Эмоциональный опы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человека гораздо шире, чем опыт  его собственных переживаний. Он формируется в результате сопереживания другим людям, эмоций, вызванных средствами  искусств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Способ выражения эмоций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эмоциональный язык» исторически изменчив и формируется в процессе социализации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моции способствуют  тому, что психическая деятельность и поведение направляются на эти события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моции  оказывают  влияние  на содержание  и  динамику  познавательных  процессов,  а  также  восприятие,  внимание,  воображение,  память,  мышление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оды и коррекция эмоциональной сферы дошкольника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менты игровой терап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сихогимнас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менты арттерапии (проектное рис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од беседы и постановки проблемных ситу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агностическая методика эмоционального развития дошкольников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одика «Секрет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Ь: изучение социометрического статуса и выявление межличностных отношений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овень Социально – эмоционального развития дошколь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ь: психолого-педагогическое наблюдение за детьми  в процессе свободной игровой  деятельности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оциальные  рол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арактер общения во многом зависит от социального поведения человека, его социальной роли. Даже в дошкольном детстве у ребенка уже много рол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 – сын или доч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анник детского сад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й-то дру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равственные ценности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Нрав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личная форма этического самосознания, область свободных и ответственных поступков личности, ее внутренних мотивов и побуждений творить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ОБР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следовать идеалам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СТИН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ОБР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РАСОТ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Человек самостоятельно формулирует нравственные обязанности и требует от себя их выполнения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Нравственным регулятором  поведения человека являетс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СОВЕ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нешняя регуляц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ленькие дети не обладают развитым пониманием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добра и з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них оценка поступка определяется его последствиями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добрением или наказанием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ни могут следовать только четко установленным правилам, чаще всего не понимая их су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этому им трудно приспосабливать эти правила даже к незначительно меняющимся обстоятельств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Собственная внутренняя оценка поступка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ети  учитывают  обстоятельства,  в рамках  которых  совершается  действие, а  справедливость  поступка,  его нравственный  статус  определяют  уже не  его  последствия,  а  намерения, лежащие  в  его  основ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6:53:54Z</dcterms:created>
  <dc:creator>N</dc:creator>
  <dc:description/>
  <dc:language>en-US</dc:language>
  <cp:lastModifiedBy>N</cp:lastModifiedBy>
  <dcterms:modified xsi:type="dcterms:W3CDTF">2007-04-03T19:33:41Z</dcterms:modified>
  <cp:revision>2</cp:revision>
  <dc:subject/>
  <dc:title>Коррекция эмоций</dc:title>
</cp:coreProperties>
</file>