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E70B-AD2E-4067-9EC9-E3EF8589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CCF0-6059-444A-A31C-DDFA998B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BA89-DBBC-4A43-9053-A927F8EE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534B-928C-46BE-8EF4-107EE8F5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8E1C1-2E53-4662-9306-76683818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F6BA9-98B6-4154-A18A-CD7D244A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57788-C0AB-44E9-9F22-1F6AF408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94462-F006-4016-8ACA-9A42A5CA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00ADC-74FB-4778-9776-03A4E5DF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8430B-F5D0-4FF4-B880-4EC9ACF0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97CA8-E5DC-421E-B9F6-1BE94043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999D-135B-4FB4-AA7F-9D9F2784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76B55-8CC9-4812-B6F8-6698690A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F0921-6EA6-433B-8DC9-F842F52E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D9434-8A88-45A0-828B-951BDAB4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63DD7-6B92-497D-93D2-AFED59B7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7BC1B-97B0-4D02-9BB8-27FD6A99D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D5FD7-58B5-45CD-ACB5-E9147157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9E63B-DFB5-4948-AA41-F7244871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0D128-B34F-4759-8CF9-4C1A125A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70415-660D-4C1B-9958-67FAD01C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F2565-789E-40C9-928F-B2BDE9BB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7C92-865A-4FFB-8463-7A1B1A02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694F7-2DE8-4893-ADC7-985E8E6B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AC547-99E3-4EAB-AFA9-3987C1B5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CD272-1645-45A3-BEA5-CCB20A1F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D94D3-EAD0-4DDD-8BF0-9F8C1834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87B66-C39A-4728-87D9-84668034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E4C51-4F21-4147-AD9A-FA53436A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4462A-A613-4549-8998-0C6F65DE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FB85A-1C7E-4726-8317-A32E7CBA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AF157-BAA4-4483-A972-E51300C4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2F303-2E20-4CE2-913B-3E9EEB9E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37C7-6795-48AE-B0FE-6396C2BA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57343-B0E7-4FFB-9F74-8C125A95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A86D8-7EC9-417B-94E9-E45FD503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6FAC5-FAEA-4C49-9484-363B426D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EA0A8-7F6C-4771-9FAE-9900821B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B9362-D2B3-46B9-878D-89BBE31C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DC686-C2C3-459B-A2A2-441417BE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25A2D-CFC6-45E7-8548-F313E934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FC97A-D040-4546-9589-E2E53D24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64845-D625-411A-9132-97F77D10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150E-2CEA-45BC-A493-03245CC3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BCEC-C345-4FFE-81AD-5389101C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556F-9D4B-4F1F-B019-1A7C25C8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04E1-CB3D-4EC4-B2CB-2469EA62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C514-AFA8-422F-A392-4CCB1FC7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8990-8F57-44DE-8CD7-34E91823F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036F-F54A-44EC-8BC6-544C32622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F6EF-2F04-40C3-B149-91828B87DB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100C-07C6-44B6-A284-75D244FED5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068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Vladimir Script"/>
              </a:rPr>
              <a:t>Коррекция эмоций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 rot="19701000">
            <a:off x="323640" y="404280"/>
            <a:ext cx="3384360" cy="1778040"/>
          </a:xfrm>
          <a:prstGeom prst="smileyFace">
            <a:avLst>
              <a:gd name="adj" fmla="val 9282"/>
            </a:avLst>
          </a:prstGeom>
          <a:solidFill>
            <a:srgbClr val="00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Эмоциональные процесс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я человека достоверность и очевидность и очевидность собственного мира выступает прежде всего  как эмоциональная реальность, как его переживания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К эмоциональным процессам или переживаниям относя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бственно эмо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ффек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ра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ресс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ув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Аффект и аффективные дети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ффект – сильное и относительно кратковременное эмоциональное пережи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ффективные дети –  дети, у которых в силу неудовлетворения каких-либо существенных для них потребностей возникают тяжелые эмоциональные переживания и связанные с ними формы поведения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ЧУВСТВА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19700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УВСТВА – устойчивое эмоциональное отношение челове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увства всегда субъективны и связаны с конкретным объектом (предметом, человеком, событием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одном чувстве нередко сливаются, переходят друг в друга различные положительные и отрицательные эмоции (любовь, печаль, радость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им объясняется такое свойство чувств как двойственность (амбивалентность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увства формируются по мере развития индивидуального созн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увство исключительной силы и стойкости , выражающееся в направленности помыслов человека на одну цель, называется страсть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увства человека обусловлены его взаимоотношениями с другими людьми, они регулируются  общественными нормами, правилами, обычаями, традиция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Если в детстве ребенок чувствует себя неуспешным, то: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него накапливается отрицательный опыт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астает беспомощност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ах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ованност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щущение непризнанности други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Это может сопровождаться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оянным повышенным стремлением к внешней похвал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обрению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астию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отовностью соглашаться  с мнениями други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заниженная самооцен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может в будущем привести в недостаточному использованию человеком своего внутреннего потенциала, способностей и возможностей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Завышенная самооцен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дставление ребенка о себе может быть нереалистичным, приукрашенным. Такие дети полагают, что они лучше других, считают, сто им все под силу. Завышенная самооценка может отрицательно влиять на восприятие ребенком  чувств, мнений, желаний други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Став взрослыми, такие люди не будут располагать к общению, а их излишняя самоуверенность  может повлечь безответственные и даже опасные для них самих действия и поступ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Адекватная самооценк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ребенка с положительными представлениями о себе и адекватной самооценкой отсутствует страх контактов с другими людьми, боязнь неудачи, неуспеха и соответственно – стремление избежать принятие решения.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Такие люди свободно выражают собственную точку зрения, желания и чув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Игры и задания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иды эмоциональных состоя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имся понимать эмоции и чув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имся передавать эмоции и чув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го меняется настроени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туация и настро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тупки и настро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моции в  сказк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Цвет и настро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рода и настро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грушки и эмо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Я и моя семь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я самооцен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бенок среди сверстни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ремся со своими страх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чь и эмоции (слово огорчает, утешает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сихогимнастика (радость, удивление, отвращение, печаль, страх, гнев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веты родителя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7e7ff"/>
                </a:solidFill>
                <a:latin typeface="Arial"/>
              </a:rPr>
              <a:t>эмоци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моции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посредственные переживания, отражающие значимость действующих  на человека  явлений и ситуац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Эмоции способн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предвосхищать ситуацию или событие на основе представления человеком  о пережитом или воображаем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Эмоциональный опы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человека гораздо шире, чем опыт  его собственных переживаний. Он формируется в результате сопереживания другим людям, эмоций, вызванных средствами  искусств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Способ выражения эмоций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эмоциональный язык» исторически изменчив и формируется в процессе социализации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моции способствуют  тому, что психическая деятельность и поведение направляются на эти события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моции  оказывают  влияние  на содержание  и  динамику  познавательных  процессов,  а  также  восприятие,  внимание,  воображение,  память,  мышление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тоды и коррекция эмоциональной сферы дошкольника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лементы игровой терап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сихогимнас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лементы арттерапии (проектное рисова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тод беседы и постановки проблемных ситуа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иагностическая методика эмоционального развития дошкольников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тодика «Секрет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ЕЛЬ: изучение социометрического статуса и выявление межличностных отношений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овень Социально – эмоционального развития дошкольн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ель: психолого-педагогическое наблюдение за детьми  в процессе свободной игровой  деятельности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оциальные  рол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арактер общения во многом зависит от социального поведения человека, его социальной роли. Даже в дошкольном детстве у ребенка уже много роле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н – сын или доч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питанник детского сад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й-то дру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равственные ценности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Нравственност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 личная форма этического самосознания, область свободных и ответственных поступков личности, ее внутренних мотивов и побуждений творить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ДОБР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следовать идеалам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ИСТИНЫ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ДОБРА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КРАСОТ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Человек самостоятельно формулирует нравственные обязанности и требует от себя их выполнения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Нравственным регулятором  поведения человека являетс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СОВЕ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Внешняя регуляци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ленькие дети не обладают развитым пониманием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добра и з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них оценка поступка определяется его последствиями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одобрением или наказанием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ни могут следовать только четко установленным правилам, чаще всего не понимая их су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этому им трудно приспосабливать эти правила даже к незначительно меняющимся обстоятельств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Собственная внутренняя оценка поступка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ети  учитывают  обстоятельства,  в рамках  которых  совершается  действие, а  справедливость  поступка,  его нравственный  статус  определяют  уже не  его  последствия,  а  намерения, лежащие  в  его  основ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6:53:54Z</dcterms:created>
  <dc:creator>N</dc:creator>
  <dc:description/>
  <dc:language>en-US</dc:language>
  <cp:lastModifiedBy>N</cp:lastModifiedBy>
  <dcterms:modified xsi:type="dcterms:W3CDTF">2007-04-03T19:33:41Z</dcterms:modified>
  <cp:revision>2</cp:revision>
  <dc:subject/>
  <dc:title>Коррекция эмоций</dc:title>
</cp:coreProperties>
</file>