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CC5-7AEF-4284-A194-839140CC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554-D46F-415C-A7CF-2CE6926D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95C-00B7-4947-A2A4-6D83E0D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CCE-0CB8-41C6-972F-08943D17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3E4-22F1-400B-A448-8C1B0BCC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CDD-1B42-43DB-B321-4698EB5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FB2-4D18-4479-8A32-691EE73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12A-9B56-4634-BAB1-C001D19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5E3-250D-4B6E-B6DE-91AD9EB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C7F-3D10-4473-8908-94FD26DE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D2E-854E-4766-953B-30E903D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CBB-49C8-41FB-B8CF-986C56E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6AEC-6980-40A9-9CCF-93F514A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9CE5-180E-4BFB-83F5-AEEDB52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FB0-9065-486D-BAA3-1FA3149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DE7C-423C-4585-9B4E-C24FF47D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66C-1DAC-49C5-B315-E0EEF38A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C7F2-AFF1-4DC7-93D2-0E21D0F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1146-2CCB-4458-9CA2-33C7C062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D21A-4D79-40FE-8740-3751393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F303-AFC1-4871-BF6D-27E50CA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DB11-8958-4E48-880F-0D1046F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999-4152-4635-85A0-EA7D784B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0A64-A00F-41B5-B414-9DF210A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02A3-32A5-40D3-A29E-19314ED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3DCE-A80C-4556-99B9-62761E4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3BBD-67E7-4A54-AE43-D2A0BE6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B8E9-48EF-43A5-8CBA-15A644A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2183-5D46-4BFB-93D8-E6DD1E75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749A-A031-4A9C-BC02-9743259F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570C-7E79-46CE-95D6-A968EF8E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1AF7-62D9-4B8F-8F44-7CDC995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5829-9090-4C07-9E47-B8454FDB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B39-2B2D-40B4-B39D-6437D27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D8C7-F3D1-4A8A-BCEF-3D5B644B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F946-CA10-4C30-9970-819579E9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5666-65FA-48B8-8B0E-F1F9EE07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BD39-E134-4816-A34A-9A4A014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2D3E-54BE-4ECC-A004-4DC88C3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2BB4-7C32-4E54-A825-9E37FEF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4D19-0F56-418B-A515-D104573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4513-A6D2-48B6-AA0E-FE345A1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84FA-A848-4996-A85B-A5722BC2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D1A2-4366-4362-9962-AACAC29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AF7-F768-4AF2-81BF-3EC09887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364C-4BE4-4114-8BA4-5B888AF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D380-4292-412B-9C0F-D121B62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E7CF-017E-4442-A52A-CE95AF1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DC4C-DCFA-4CD3-A0DC-DC54D0E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108E-A627-40FA-8F24-1671DEB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9847-207D-4009-826D-0870A1C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817E-D973-4862-ADA8-864180A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058E-7D24-45B0-8AED-206A98F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8F54-DD1C-4A81-B3DE-6A0A719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DDE9-FA6A-4B2C-B4EC-9D157E9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CEF-CE34-4B86-9331-0A14E5D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A70E-1A94-40A8-809E-ACE9E31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490A-5FF3-4B18-B699-3193AF9B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A4A4-5A95-4A32-BF19-32F381A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45307-169F-43A7-A72A-E3E1134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2AB2-CC46-47B7-99C0-2719C80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6912-623B-4F0C-A396-45534B4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2C828-8629-4E82-B624-ADC5BAB2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A0AD-DB26-47D7-9F64-146689A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C602-D769-4AF9-AA24-5CCA198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A928-EC3C-4421-AC50-CA2ECD0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B33-FF42-4245-9D28-C29DAC3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B484-5A1B-4E21-9415-C773127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6F7D-5D33-4739-926E-C68420DC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5CD7-E2B5-418F-8B77-51755D90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749-6CB0-49A0-A5A1-1BEBEFB5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6FF-7F3B-460D-B061-E5AC8A4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0F0-99D8-4C9E-808B-C95BA51F9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2CDF-6783-43DE-A3B6-86ADB8D8F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D14-4B2F-4795-A392-DC3E8F183B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CD76-BB69-419C-BB79-989E220DD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E8A-291D-4897-8391-1550B9F321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69E9-5954-4C4D-B525-A93E232DEC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ак подготовить ребенка к школе.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Встреча с новыми людьм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сультация для родителей старших и подготовительных групп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нитель: учитель логопед ГБДОУ №11 Волкова О.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ммуникативная деятельность ребенка. Основные проблемы адаптации ребенка к школе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сципли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застенчивых де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. ТВ и компьюте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агрессив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общения с учител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а развития ответств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спешность обучения в школе во многом зависит от того, насколько хорошо он к ней подготовлен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чинать беспокоиться о подготовке ребенка к школе лишь с 5-6-летнего возраста часто бывает уже поздновато, хотя, безусловно, и в этом возрасте еще многое можно «подправит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ся работа с детьми дошкольного возраста должна носить очень непринужденный характер. Она должна быть организована увлекательно и интересно, проводиться в основном в игровой форме и вызывать у ребенка только положительные эмо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необходимых случаях коррекционная работа с ребенком должна быть дополнена лечением его у соответствующих специалистов (педиатра, детского психиатра, невропатолога, окулиста, отоларинголога и т.д.). При наличии выраженных речевых нарушений, не поддающихся исправлению собственными силами, необходимо обращение к логопе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окупность показателей готовности ребенка к школ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речевой функциональной системы ребе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е развитие интеллектуаль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ребенка эффективно работать и общаться в условиях регламентирован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речевой функциональной системы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База для овладения письмо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авильное произношение всех звуков реч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достаточным по объему словарным запасом при условии правильного понимания  значений усвоенных сл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мение грамматически правильно оформлять предложения, то есть в соответствии с законами грамматики соединять отдельные слова между собой для выражения законченной мысл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ладение связной речью, то есть умением логично и последовательно связывать отдельное предложение между собой для построения связного высказывания. Без этого невозможна передача достаточно больших речевых сообщ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440" y="2997000"/>
            <a:ext cx="381456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статочный уровень сформированности зрительно-пространственных представлени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звитая тонкая ручная моторик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вукопроизношение</a:t>
            </a:r>
            <a:br>
              <a:rPr sz="38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Ход становления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гласные - /а/,  /ы/, /э/, /о/, /у/, /и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ые ротовые - /п/,/б/, носовые - /м/, переднеязычные - /т/, /д/, /н/. При появлении зубов - /ф/, /в/, далее - /к/, /г/, /х/, далее - /й/ и может быть /л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3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Звук /с/ - ть – т - сь (к 2,5годам) - /с/ к 3 год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Звук /з/ - дь – д – зь - /з/ (к 2,5годам – 3 год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 – 5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/ш/ - ть – т – сь – с (к 3 годам) – шь - /ш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ж/ - дь – д – зь – з – жь - /ж/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л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- /л/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Звук /р/ - нет – й – дь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ль – л - рь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/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рме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5 – 6 год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является самостоятельное нормальное звукопроизно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Фонематическая под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е представления (дифференциация акустически близки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ые формы (выделение звука из ряда других звуков, на фоне слова; выделение звука из сл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формы (определение места звука в слове; позиционный анализ; определение последовательности звуков в слове; определение количества звуков в сло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нематический синтез (способность образовывать слова из данных звуков в ненарушенной и нарушенной последова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Лексическая систем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чественный рос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минативный словарь (существительных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икативный словарь (глаголы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рибутивный словарь (прилагательные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е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мматический строй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73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множественного числа существи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существительных с уменьшительно-ласкательными суффик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венные падежи (Д.п., В.п., Р.п., Т.п., П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лоняемые существи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требление форм глаго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е глаголов единственного и множественного чис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мужского и женского 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ноприставочные глаг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совершенного и несовершенного ви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ы – антони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имения «мой, моя, мое, мои»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и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агательные (согласование с существительны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тяжа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сительные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чия (образование от прилагательных, степени сравнения нареч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ги (на, под, в, к, от, с, со, из-под, из-за, за, у, около, между, через, до, по, на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имание сложных логико-грамматических констру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ложения (3-4 составные, распространен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сочиненные предложения с союзом «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едение однородных определение, дополнений, предложений с разделительным союзом «или, «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жноподчиненные предложения с союзом «поэтому», «потому что», «чтоб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ление предложений по опорным словам (запись графической схемы предло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емантическая сторона речи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(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екоторые виды упражнени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ное с ребенком рассматривание сюжетной картинки и последующие его ответы на вопросы по ее содержанию Целью этого вида работы является привлечение внимания ребенка к содержанию картинки и как бы наведение его на мысль о том, про что можно по этой картинке рассказать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ление рассказа-описания при рассматривании изображенного на картинке отдельного предмет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читанной взрослым сказки или рассказ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стоятельное завершение ребенком недочитанного Вами рассказа, прерванного на самом интересном 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сказ просмотренного мультфильма с использованием при необходимости наводящих вопросов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каз о событиях прошедшего дня, об интересной прогулке и пр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жнения в различении связного рассказа и простого набора никак не связанных между собою по смыслу пред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витие интеллектуальной деятельности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имание (концентрация, распределение, скорость, объе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ь (запечатление, удержание, воспроизведение; долгосрочная, кратковременная, механическая, логическа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ление (наглядно-действенное, наглядно-образное, словесно-логическо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8:05Z</dcterms:created>
  <dc:creator>Xopowyi</dc:creator>
  <dc:description/>
  <dc:language>en-US</dc:language>
  <cp:lastModifiedBy>ОЛЬГА</cp:lastModifiedBy>
  <dcterms:modified xsi:type="dcterms:W3CDTF">2012-05-29T19:06:53Z</dcterms:modified>
  <cp:revision>5</cp:revision>
  <dc:subject/>
  <dc:title>Как подготовить ребенка к школе. Встреча с новыми людьми</dc:title>
</cp:coreProperties>
</file>