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1F1-7F66-404B-8612-805137B0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551-D160-4F56-9631-B2CB976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C4B-E282-4B8E-BE83-1A675030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FBA-2EBC-4A73-A6F9-E10A997A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F2F-ACCF-4134-9B43-2632E429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9BF-79E6-4815-8C39-65B1F6D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9CD9-4291-4E40-A407-4C3C7A0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80E-5E8A-4AC3-BE0D-2D5966E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973-3263-4CDF-8912-ABE4B9B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961-608D-4E87-A1D7-33D8B4B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6019-3892-4A4F-A59C-3B831BF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26A-4EFE-4870-BCD2-58A5A22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AC2B-0EFD-4105-B10C-6EF72DF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FB9-B08D-4096-A002-AF5D402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AC4F-7001-47A9-BAD2-3F346B9A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45A-8337-43F7-93AD-07DFB3E0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EED-A1C7-41F4-8221-4F468CF6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EC8A-73D0-435A-BBE8-DEEB9829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A57E-B341-4DC9-9F13-89DF4256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A127-5EDD-429D-96D8-3B4E5E4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C78A-BB03-474D-8915-88EE6FC9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B6DA-A52D-4D72-8D8D-6D625A23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7BB-8557-4EA0-9C67-39EC104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EB5A-3B01-4B71-B657-A4C3791B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7D0B-65F5-47EF-B698-EAB5201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2223-7410-426E-9416-82447E2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6A13-FBE8-466D-BCD8-D104E64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399B-8FBB-4409-9078-FA41601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FAFC-718A-4FC0-9D42-5ED5AE69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F51E-C169-43B4-B710-FD412990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D69B-99C3-40E1-A5ED-45A15858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21ACA-6B71-47D3-85BB-603EFC3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6F9D-9F20-493D-A293-98DC7A4C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FED-5383-4FF9-872E-9819066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E2B3-D5A4-4F4D-A5F1-BD7C304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416D-62F9-4C1C-B00B-A9F090D2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F683-7E76-4901-8B0A-01762A33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3A17-FD13-4B7E-9627-B3FB699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95FB-A368-4F87-97E8-DA97742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B77B-47F9-4D1F-96FA-C155B85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9CE4-9323-4928-8AE5-13F32BA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F21C-FCD8-4CA9-9573-D6A5ABE4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E262-30B1-4325-9C41-8E6C4B1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1E75-E906-42EE-90DC-B064E0C0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028-A036-4845-85FE-B8ED82F7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0CC6-EBE4-4199-A02B-66EF79B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7192-6FE6-40B4-B32A-125423FB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8B0D-71AD-4D90-882F-762B87F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3F78-99AA-4E28-AD2B-EF1CDBB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87B6-C69D-4310-B8DC-071364B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612E-5506-4D7F-9672-29EA6AC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9DD0-2D4D-47BC-AF6A-57F8045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9FE1-7D78-4D59-9CA0-DBF2944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EDB4-B5F9-4E7E-849B-369DBDDC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9E2E-EB73-4B4A-91B5-5C39C4A8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645-71A5-4089-B930-738E8191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1413-2149-47F1-8474-80CD9341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C483-A9F0-432B-9AF4-BCFFA2D0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26DC-1D54-477C-B1B2-41560E7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3346-C755-4571-93D4-355BEF3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3751D-644B-46CE-8DCA-69F90ECE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5BBC-F277-49A6-ACCF-D62C7EC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078C-7D1E-49DC-B2B3-1DC9178A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98DB-B71F-4897-9097-1FB2D4A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C64DA-65AB-4640-9AE8-5BC55E0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86B1-246C-42D6-A027-7CD2512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5C2-29C9-4541-B9C9-B2A6F64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00E4-932F-4FAD-B32D-DAC821E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FA407-4969-4B7E-B37E-FD72C169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7900-137B-42D2-B97C-DBCB19CC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4C3-3678-4B5A-891E-9D0E6C5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641-5D6B-48A7-9965-B918818D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071-85E0-4754-BBED-64642E46D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789-BFD9-45C8-BE5D-A2D10110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0146-DEB1-4B1F-812B-0D4C5B35E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73C-4C9B-46DF-A6D3-18F5EC5762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118A-AAE4-4954-ADBF-F8B7CAFE90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FC24-51E2-490C-837C-CD43323880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ак подготовить ребенка к школе.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Встреча с новыми людьм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сультация для родителей старших и подготовительных групп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нитель: учитель логопед ГБДОУ №11 Волкова О.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ммуникативная деятельность ребенка. Основные проблемы адаптации ребенка к школе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сципли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застенчивых де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. ТВ и компьюте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агрессив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 с учител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развития ответств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спешность обучения в школе во многом зависит от того, насколько хорошо он к ней подготовлен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чинать беспокоиться о подготовке ребенка к школе лишь с 5-6-летнего возраста часто бывает уже поздновато, хотя, безусловно, и в этом возрасте еще многое можно «подправит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я работа с детьми дошкольного возраста должна носить очень непринужденный характер. Она должна быть организована увлекательно и интересно, проводиться в основном в игровой форме и вызывать у ребенка только положительные эмо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необходимых случаях коррекционная работа с ребенком должна быть дополнена лечением его у соответствующих специалистов (педиатра, детского психиатра, невропатолога, окулиста, отоларинголога и т.д.). При наличии выраженных речевых нарушений, не поддающихся исправлению собственными силами, необходимо обращение к логопе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окупность показателей готовности ребенка к шко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речевой функциональной системы ребе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интеллектуаль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ребенка эффективно работать и общаться в условиях регламентирован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речевой функциональной системы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База для овладения письмо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авильное произношение всех звуков реч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достаточным по объему словарным запасом при условии правильного понимания  значений усвоенных сл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мение грамматически правильно оформлять предложения, то есть в соответствии с законами грамматики соединять отдельные слова между собой для выражения законченной мысл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связной речью, то есть умением логично и последовательно связывать отдельное предложение между собой для построения связного высказывания. Без этого невозможна передача достаточно больших речевых сообщ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440" y="2997000"/>
            <a:ext cx="381456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статочный уровень сформированности зрительно-пространственных представлени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витая тонкая ручная моторик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вукопроизношение</a:t>
            </a:r>
            <a:br>
              <a:rPr sz="38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Ход становления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гласные - /а/,  /ы/, /э/, /о/, /у/, /и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е ротовые - /п/,/б/, носовые - /м/, переднеязычные - /т/, /д/, /н/. При появлении зубов - /ф/, /в/, далее - /к/, /г/, /х/, далее - /й/ и может быть /л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3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Звук /с/ - ть – т - сь (к 2,5годам) - /с/ к 3 год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Звук /з/ - дь – д – зь - /з/ (к 2,5годам – 3 год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 – 5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/ш/ - ть – т – сь – с (к 3 годам) – шь - /ш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ж/ - дь – д – зь – з – жь - /ж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л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- /л/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р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– л - рь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/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рме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5 – 6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является самостоятельное нормальное звукопроизно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Фонематическая под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е представления (дифференциация акустически близки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ые формы (выделение звука из ряда других звуков, на фоне слова; выделение звука из сл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формы (определение места звука в слове; позиционный анализ; определение последовательности звуков в слове; определение количества звуков в сло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синтез (способность образовывать слова из данных звуков в ненарушенной и нарушенной последова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Лексическая 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минативный словарь (существительных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икативный словарь (глаголы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рибутивный словарь (прилагательные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е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мматический строй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73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множественного числа существи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существительных с уменьшительно-ласкательными суффик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венные падежи (Д.п., В.п., Р.п., Т.п., П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лоняемые существи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ение форм глаго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глаголов единственного и множественного чис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мужского и женского 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оприставочные глаг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совершенного и несовершенного ви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– антони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имения «мой, моя, мое, мои»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и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ага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тяжа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си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чия (образование от прилагательных, степени сравнения нареч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ги (на, под, в, к, от, с, со, из-под, из-за, за, у, около, между, через, до, по, на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имание сложных логико-грамматических констру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жения (3-4 составные, распространен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сочиненные предложения с союзом «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едение однородных определение, дополнений, предложений с разделительным союзом «или, «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подчиненные предложения с союзом «поэтому», «потому что», «чтоб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ление предложений по опорным словам (запись графической схемы предло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емантическая сторона речи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(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екоторые виды упражнени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ое с ребенком рассматривание сюжетной картинки и последующие его ответы на вопросы по ее содержанию Целью этого вида работы является привлечение внимания ребенка к содержанию картинки и как бы наведение его на мысль о том, про что можно по этой картинке рассказать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ление рассказа-описания при рассматривании изображенного на картинке отдельного предмет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читанной взрослым сказки или рассказ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ое завершение ребенком недочитанного Вами рассказа, прерванного на самом интересном 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смотренного мультфильма с использованием при необходимости наводящих вопросов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каз о событиях прошедшего дня, об интересной прогулке и пр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жнения в различении связного рассказа и простого набора никак не связанных между собою по смыслу пред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витие интеллектуальной деятельности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имание (концентрация, распределение, скорость, объе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ь (запечатление, удержание, воспроизведение; долгосрочная, кратковременная, механическая, логическа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ление (наглядно-действенное, наглядно-образное, словесно-логическо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8:05Z</dcterms:created>
  <dc:creator>Xopowyi</dc:creator>
  <dc:description/>
  <dc:language>en-US</dc:language>
  <cp:lastModifiedBy>ОЛЬГА</cp:lastModifiedBy>
  <dcterms:modified xsi:type="dcterms:W3CDTF">2012-05-29T19:06:53Z</dcterms:modified>
  <cp:revision>5</cp:revision>
  <dc:subject/>
  <dc:title>Как подготовить ребенка к школе. Встреча с новыми людьми</dc:title>
</cp:coreProperties>
</file>