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E14-1FD5-4140-B39F-A38E308F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891-1EB3-4545-9A16-1A5FB5E7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96F-55B8-4D22-B780-4D0364BD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2F4-E4C3-4B72-A9EF-E48AB864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4980-8D34-4EEE-A029-292C675B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16E8-00A6-4AF6-B080-B042A61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63C9-3183-46EA-A851-524B070A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736F-C83B-4F0E-B1CD-B9C4E331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5814-8516-48FD-8293-BF74E816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1816-D86C-46BF-8B2F-53440C9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0EA3-7C9F-4FAE-9600-12E94793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54B-9B5A-4EDA-A8BA-83F90B33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1CCA-EEF7-4491-9026-1B45E1B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D3C3-788F-4390-AB59-B162023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3970-79E3-4A06-A289-C679331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D81A-C4FA-431A-B8C1-D77540BF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1F3A-36BF-4AA5-8614-05AEFE9C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5F26-AF9B-4B1E-A6A5-45C55283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8C9B-9213-4724-814D-1121E8D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C121-813F-4B78-AF4D-42AE1A6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AB0B-36B5-48F8-8ADD-BA0764C0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0DDD-CCF5-4320-94BC-D7CD0BDD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DD3-71A4-46B7-9EC5-A5AC9E63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1CD7-019D-4FE2-9762-413A0AEA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7887-A7D2-4402-8265-FDA5C42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0269-363F-4E94-B199-8437491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0ED7-2A4C-43A2-A92E-CFD602F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5EEA-BD54-4696-9D31-1ACAF219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128C-13D4-43B2-B2CF-C6A9E1BB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EF43-343F-41EC-AB74-4AEA7D7D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4278-AE3F-4D18-BB43-1BB4A440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BD18-CFD4-406F-9E10-F106C223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BB2E-5F6A-4F52-BDCE-17048F10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D1D-B075-4016-8B48-F2332058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D11A-E926-49F7-8A3D-70C3CA3B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A25A-9C47-470B-AD70-E059161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3D64-9A85-411F-BDC1-F8AF1A76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68DEA-BEDC-452B-9025-E5BDD93B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2D34-75B4-4A4F-8F72-FA1B98DE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AB7E-99C6-474E-9DAF-3C983AB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DB12-EDE0-4471-83B1-B5A088C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CFC1-04B8-4D75-ADF1-D5FA0C0F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DE69-7524-4699-BDDA-977D9A31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F8C2-CB69-46AC-9B2E-5AC712F7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52F-7DFD-4F70-A3F0-613AAF3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86C2-4994-4617-B0AA-1EC79F3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672A3-C77E-4ABE-9B16-D8F7810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C660C-6956-48AE-81D7-FD0A435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6004D-DFE8-432D-B9D5-589EB3D0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7D55-C52D-4622-9631-E4BED97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4C12-1441-467A-BD4B-F7952891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D690-F2E6-47F4-9FA8-089E104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FD4F0-9496-4E41-9FFC-06D9D011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E3BF-A87A-4953-8D23-DE509552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471E-8341-474F-9A3E-745021D3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5C6-8337-4090-8506-C70D33C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A25D-EF27-419D-8EF0-C55EF986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511C-F4D3-4EF6-A631-9AFE5058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54FA-3D1F-4E75-987D-32CFADA3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5737-8CAA-4848-92C0-56369139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6139-B561-4626-AB18-CFBA1B28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B320-B5BE-4A16-8FEE-C828C238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A93C-1E25-4FB2-8CA1-A1353707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5CA2-3789-49D7-8725-A8CFA65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F3112-7292-4A0F-9EFE-B4700BC7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2DFDF-C148-4EF0-9D52-BE3A5E8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089-C651-4D67-A778-BC26AC5B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63F2-D7A2-4BA6-A788-4932BEB7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23307-ECF1-4B4E-A36D-02ED0AAC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8F593-7F3A-49E7-A504-DD28BC17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F2C-0C84-4BBB-952A-00D1A65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635-27A7-4D49-B9AE-3A8187A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94BF-9F8B-4630-B9C7-79D11D7D5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F13B-8189-4526-8AF3-BA0D03CD4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97BE-F818-4032-B54F-54F8D4A764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3A6-10E5-4E71-A1F7-1AC03113CB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3151-B7C8-4075-A2BD-748DA22617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F403-3BD1-4912-A185-8E4178A472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Как подготовить ребенка к школе.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Встреча с новыми людьм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сультация для родителей старших и подготовительных групп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сполнитель: учитель логопед ГБДОУ №11 Волкова О.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ммуникативная деятельность ребенка. Основные проблемы адаптации ребенка к школе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исципли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застенчивых де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общения. ТВ и компьюте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агрессив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общения с учител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развития ответств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спешность обучения в школе во многом зависит от того, насколько хорошо он к ней подготовлен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чинать беспокоиться о подготовке ребенка к школе лишь с 5-6-летнего возраста часто бывает уже поздновато, хотя, безусловно, и в этом возрасте еще многое можно «подправит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ся работа с детьми дошкольного возраста должна носить очень непринужденный характер. Она должна быть организована увлекательно и интересно, проводиться в основном в игровой форме и вызывать у ребенка только положительные эмо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необходимых случаях коррекционная работа с ребенком должна быть дополнена лечением его у соответствующих специалистов (педиатра, детского психиатра, невропатолога, окулиста, отоларинголога и т.д.). При наличии выраженных речевых нарушений, не поддающихся исправлению собственными силами, необходимо обращение к логопе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окупность показателей готовности ребенка к школ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е развитие речевой функциональной системы ребен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е развитие интеллектуаль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ребенка эффективно работать и общаться в условиях регламентирован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витие речевой функциональной системы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База для овладения письмо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авильное произношение всех звуков реч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ладение достаточным по объему словарным запасом при условии правильного понимания  значений усвоенных сл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Умение грамматически правильно оформлять предложения, то есть в соответствии с законами грамматики соединять отдельные слова между собой для выражения законченной мысл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ладение связной речью, то есть умением логично и последовательно связывать отдельное предложение между собой для построения связного высказывания. Без этого невозможна передача достаточно больших речевых сообщен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0440" y="2997000"/>
            <a:ext cx="381456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остаточный уровень сформированности зрительно-пространственных представлений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звитая тонкая ручная моторик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вукопроизношение</a:t>
            </a:r>
            <a:br>
              <a:rPr sz="38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Ход становления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гласные - /а/,  /ы/, /э/, /о/, /у/, /и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ые ротовые - /п/,/б/, носовые - /м/, переднеязычные - /т/, /д/, /н/. При появлении зубов - /ф/, /в/, далее - /к/, /г/, /х/, далее - /й/ и может быть /л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3 год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Звук /с/ - ть – т - сь (к 2,5годам) - /с/ к 3 год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Звук /з/ - дь – д – зь - /з/ (к 2,5годам – 3 год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 – 5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/ш/ - ть – т – сь – с (к 3 годам) – шь - /ш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ж/ - дь – д – зь – з – жь - /ж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л/ - нет – й – дь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ль - /л/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р/ - нет – й – дь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ль – л - рь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/р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орме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5 – 6 год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является самостоятельное нормальное звукопроизно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Фонематическая подсистем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е представления (дифференциация акустически близки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й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ые формы (выделение звука из ряда других звуков, на фоне слова; выделение звука из сло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е формы (определение места звука в слове; позиционный анализ; определение последовательности звуков в слове; определение количества звуков в сло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й синтез (способность образовывать слова из данных звуков в ненарушенной и нарушенной последова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Лексическая систем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ичественный рос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чественный рос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минативный словарь (существительных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икативный словарь (глаголы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рибутивный словарь (прилагательные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е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рамматический строй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73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множественного числа существи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существительных с уменьшительно-ласкательными суффик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венные падежи (Д.п., В.п., Р.п., Т.п., П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клоняемые существи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требление форм глагол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глаголов единственного и множественного чис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мужского и женского 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ноприставочные глаг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совершенного и несовершенного ви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– антони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имения «мой, моя, мое, мои»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ительные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лагательные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тяжательные прилага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сительные прилага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ечия (образование от прилагательных, степени сравнения нареч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логи (на, под, в, к, от, с, со, из-под, из-за, за, у, около, между, через, до, по, на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нимание сложных логико-грамматических констру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ложения (3-4 составные, распространен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жносочиненные предложения с союзом «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едение однородных определение, дополнений, предложений с разделительным союзом «или, «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жноподчиненные предложения с союзом «поэтому», «потому что», «чтоб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ление предложений по опорным словам (запись графической схемы предлож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емантическая сторона речи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(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некоторые виды упражнений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ое с ребенком рассматривание сюжетной картинки и последующие его ответы на вопросы по ее содержанию Целью этого вида работы является привлечение внимания ребенка к содержанию картинки и как бы наведение его на мысль о том, про что можно по этой картинке рассказать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ление рассказа-описания при рассматривании изображенного на картинке отдельного предмет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сказ прочитанной взрослым сказки или рассказ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стоятельное завершение ребенком недочитанного Вами рассказа, прерванного на самом интересном ме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сказ просмотренного мультфильма с использованием при необходимости наводящих вопросов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каз о событиях прошедшего дня, об интересной прогулке и пр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жнения в различении связного рассказа и простого набора никак не связанных между собою по смыслу предлож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витие интеллектуальной деятельности реб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имание (концентрация, распределение, скорость, объем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ь (запечатление, удержание, воспроизведение; долгосрочная, кратковременная, механическая, логическая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ление (наглядно-действенное, наглядно-образное, словесно-логическо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8:05Z</dcterms:created>
  <dc:creator>Xopowyi</dc:creator>
  <dc:description/>
  <dc:language>en-US</dc:language>
  <cp:lastModifiedBy>ОЛЬГА</cp:lastModifiedBy>
  <dcterms:modified xsi:type="dcterms:W3CDTF">2012-05-29T19:06:53Z</dcterms:modified>
  <cp:revision>5</cp:revision>
  <dc:subject/>
  <dc:title>Как подготовить ребенка к школе. Встреча с новыми людьми</dc:title>
</cp:coreProperties>
</file>