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B67C-C16C-4E49-97B1-A7B97C4AFC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F688-176B-4692-805B-F58AECF577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A2F-D41F-44C3-A2FC-31614C9F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A52-68AA-4E72-898E-BE6B93CA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01E-4360-4FC7-AA98-8D57858B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B0F-01BA-4BFF-8B50-5BED06DA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754F-45BE-45D1-81A9-FA79332B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C886-4C79-433D-BFCD-4668D264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26D7-F216-4A8C-948B-7E67F761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058A-0CCE-4576-B36E-7535DACB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3D89-2FCF-4B23-8C60-AEE641CC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7F14-60C5-4953-B08B-76EB515D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97F9-B498-4760-A3C3-5AD25F2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E80-6A77-43ED-A303-6DE84443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B980-762A-4C32-B905-5606F508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2E3E-44AF-4660-8982-11EAEE6B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204D-7556-4A80-9CE3-D64789E5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98D5-1E17-4B5F-A265-7B63E037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12A6-18AD-4D53-AF21-4853E5DA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73E9A-730A-48EE-AEC8-27560997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9AED2-9C7F-4B24-AC26-04B24AD0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4BA0-07B0-4E41-A439-BB8B3D55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131E8-3443-4FCF-95AD-87C47464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0A3B-AA8F-4E14-A2F4-2DF6B099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846-4F23-4064-B925-B36DBC19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F53F-38D7-4A6F-9096-302E3DF5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B9E4-A235-4BE5-BF96-ADBB4276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DDD4-422C-461C-8F84-0AD264C0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BEC3-0E49-47D3-B28D-F677837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61D3-A57A-4CA1-A00D-6A7CADFC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68CC-BF5B-4EDD-9A55-2FF1EC28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693D-37A7-4239-90C4-20728502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7A9C6-B8BF-4BE8-B51B-3172C87E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DEBD-DB23-4963-8C3B-9BC2E816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59A6-8C59-4DCB-B34F-60168F61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BB4-2204-4C97-AAAA-5B17479C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0924-E2CF-4525-A8F9-6BC919B4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CD542-2E4F-4194-8795-AD3C0F0C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BE5F-BB92-4E12-9FE2-7753107E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4AD9-C0A7-4E71-BE4D-D52BF35E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6728A-751B-4630-98BD-6C40622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9ADC-ABA9-46A3-B6C7-57F3B1CB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BF39-D528-4079-B4EF-A5BDF594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0178-46D2-4862-9EA5-A582C81A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0E35C-122A-44D3-B14B-FA8AE734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FF3-BDBA-4689-A363-48809098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A12-71BD-41D2-AC82-8AA48DBB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5EA-4293-4567-893E-F661C0C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1B4-39F6-43C4-A258-3C2B179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35A-9B4E-4FE2-A51B-8852D06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E7FE-3ED2-4EA4-800B-E5E2A70E861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D5B7-293F-4AF4-B562-C28DBBFFF49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279C-E0C9-439E-961C-17A795ADAFF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E314-303B-4BE9-824E-E3BE7F3FDB3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36400" y="262080"/>
            <a:ext cx="7851960" cy="1530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707920"/>
            <a:ext cx="78548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CC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779400" y="1628640"/>
            <a:ext cx="7583400" cy="1368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1601640" y="6093000"/>
            <a:ext cx="5940720" cy="288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4"/>
          <a:stretch/>
        </p:blipFill>
        <p:spPr>
          <a:xfrm>
            <a:off x="1763640" y="2565360"/>
            <a:ext cx="5400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Бороться с детской агрессивностью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нужно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п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самая большая добродетель, какая только может быть у родител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ъясняйте ребёнку, почему его поведение, неправильно, но будьте предельно кратки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лечение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райтесь предложить вашему ребёнку что-нибудь более привлекательное, чем то, что он пытается дела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оропливость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пешите наказывать ребёнка – сделайте это только если поступок повторяет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да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Если вы похвалили ребёнка за хорошее поведение – это пробудет в нём желание ещё раз услышать ваши добрые сло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Оптимизмом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оспитывайте уверенность в ребёнке, поддерживайте его в неудачах – он будет чувствовать  себя личность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Monotype Corsiva"/>
              </a:rPr>
              <a:t>Правила родительского поведения, способствующего снижению детской агрессивност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 ребёнку осваивать конструктивные способы преодоления препятствий, разрешения проблем. Покажите , что есть более эффективные и безопасные  способы, чем физическое напад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 собственные агрессивные реакции на какие-то события не переносите на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 ему лучше узнать себя и других людей. Не исключено, что ребёнок ведёт себя агрессивно потому, что не видит другого способа самоутвердиться или воспринимает мир как враждебн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нижайте и не оскорбляйте ребёнка, особенно при посторонних, обеспечьте ему чувство защищён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причины собственных агрессивных поступков в детском возрасте. Возможно, вы сможете лучше понять своего ребёнка и помочь ем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чувствам и желаниям своего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оценивайте возможности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те идти на компромис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ребёнка просто за то, что он у вас есть, без каких-либо услов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Как научить ребёнка  «разряжаться»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ему возможность использовать переполняющую его энергию « в мирных целях». Ребенку следует предложить социально приемлемые методы для выражения подавленного гнев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ься одному в комнате и высказать всё, что накопилось, в адрес того, кто его разозли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ложно сдержаться, можно бить ногами и руками подушку, рвать газету, комкать бумагу, пинать консервную банку или мяч, бегать вокруг дома, бить по кровати, написать все слова, которые хочется высказать в гнев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коиться помогают глубокие вдохи или счет до десяти, перед тем, как что-то сказать или сделат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чувство гнева. Агрессия часто находит выражение в творчестве или играх ребен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Начните с себя: положите конец собственной агрессии, это непременно поможет вашим детя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ьте более оптимистичны с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ите за выражением своего лиц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ще улыбайтес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беждайте ребенка, что все будет хорош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31845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Методическое обеспеч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.Коннор «Детская агрессия и антисоциальное поведение детей и подростков»,изд .ОЛМА Медиа Групп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.Лютова, Г.Монина «Шпаргалка для родителей», изд. Реч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http://go.mail.ru/search_images?q=детские рисунки о семье&amp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go.mail.ru/search_images?rch=l&amp;type=all&amp;is=0&amp;q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knigi-psychologia.com/article_info.php?articles_id=68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psychologos.ru/articles/view/kakovy_prichiny_detskoy_agressivnost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babyblog.ru/user/Nadezhda/23441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Что такое агрессивность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агрессия» произошло от латинског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означает «нападение», «приступ». В психологическом словаре приведено следующее определение данного термина: «Агрессия — это мотивированное деструктивное поведение, противоречащее нормам и правилам существования людей в обществе, наносящее вред объектам нападения (одушевленным и неодушевленным), приносящее физический и моральный ущерб людям или вызывающее у них психологический дискомфорт (отрицательные переживания, состояние напряженности, страха, подавленности и т.п.)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но некоторым теориям, агрессия является неотъемлемой частью человеческой приро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Причины детской агрессив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о то или иное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болевание центральной нерв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это первая причина, о которой нужно подумать и исключить которую нужно в первую очередь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грессивность как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редство психологической защит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эта причина детской агрессивности, пожалуй, самая распространенная среди детей: «Лучшее средство защиты - это нападение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е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нарушения семейного воспита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иболее распространенными нарушениями являются чрезмерно строгое, запугивающее воспитание, вседозволенность или разные стили воспитания у разных членов семьи, направленные на одного и того же ребен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спровоцированная детская агрессивность 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рушенная исследовательская активность реб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учаи,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гда за агрессивность принимают что-то друго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наиболее часто за агрессивность принимают детское упрямство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Портрет агрессивного ребён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й ребенок часто ощущает себя отверженным, никому не нужным. Жестокость и безучастность родителей приводит к нарушению детско-родительских отношений и вселяет в душу ребенка уверенность, что его не любят. «Как стать любимым и нужным» — неразрешимая проблема, стоящая перед  ребёнком.  Вот он и ищет способы привлечения внимания взрослых и сверстников. К сожалению, эти поиски не всегда заканчиваются так, как хотелось бы нам и ребенку, но как сделать лучше — он не зна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е дети очень часто подозрительны и настороженны, любят перекладывать вину за затеянную ими ссору на други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дети часто не могут сами оценить свою агрессивность. Они не замечают, что вселяют в окружающих страх и беспокойств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мир агрессивных детей недостаточно богат, в палитре их чувств преобладают мрачные тона, количество реакций даже на стандартные ситуации очень ограниченно. Чаще всего это защитные реакц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615636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Агрессия ребёнка </a:t>
            </a:r>
            <a:br>
              <a:rPr sz="3600"/>
            </a:b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может быть направлена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436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ружающих людей вне семьи (на учителя, воспитателя, сверстников, одноклассник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лизких люд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ивотны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бя (выдёргивание волос,  откусывание  ногтей, отказ от еды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нешние объекты (разрушение предметов, порча имуществ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мволические и фантазийные объекты (рисунки, компьютерные игры агрессивного содержан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  <a:ea typeface="Times New Roman"/>
              </a:rPr>
              <a:t>Проявление агресс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55640" y="184428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аще всего агрессия проявляется в словесной форме (насмешки, ругательства) по отношению к более слабым, например, к одноклассникам. Не редки и дра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грессивное повед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рост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асто означает "быть взрослым и сильным". Зависимость подростков от мнения сверстников -- их особенность. В этом возрасте наблюдается самый большой процент детей с отклоняющимся поведение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            </a:t>
            </a: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Профилактика детской агресс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дите, чтобы агрессивное поведение ребёнка не поощрялось окружающими, чтобы он не получал видимой выгоды от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бесконтрольного просмотра телепередач, видеофильмов, т.к. даже некоторые мультфильмы имеют высокий уровень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чрезмерного увлечения играми на компьютере, компьютерной приставке, выбирайте видеоигры без элементов насилия,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йте ребёнку, что есть множество способов решения любых конфликтов (рассказы прикрепляйте собственным поведением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давайте своему ребёнку нереальных обеща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своему ребёнку каких бы то ни было услов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актичны, применяя меры воздействия к ребёнк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казывайте своего ребёнка за то, что позволяете делать себ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яйте своих требований по отношению к ребёнку в угоду чему-либ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шантажируйте ребёнка своими отношениями друг к друг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йтесь поделиться с ребёнком своими чувствами и слабостя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свои отношения с собственным ребёнком в зависимость от его учебных успех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  <a:ea typeface="Times New Roman"/>
              </a:rPr>
              <a:t>Критерии агрессив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бенок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теряет контроль над соб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орит, ругается со взрослы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отказывается выполнять правила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ециально раздражает люд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винит других в своих ошибк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ердится и отказывается сделать что-либ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завистлив, мстител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Monotype Corsiva"/>
              </a:rPr>
              <a:t>                </a:t>
            </a:r>
            <a:r>
              <a:rPr b="1" lang="ru-RU" sz="3200" spc="-1" strike="noStrike">
                <a:solidFill>
                  <a:srgbClr val="0b5395"/>
                </a:solidFill>
                <a:latin typeface="Monotype Corsiva"/>
              </a:rPr>
              <a:t>Если ребёнок агрессивен…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0920" y="1268280"/>
            <a:ext cx="6264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и принимайте ребёнка таким, каков он есть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ребёнок всегда подражает тому, за кем привык наблюдать поэтому ни вы, ни другие родные и близкие ребёнка не должны проявлять агрессию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ъявляя ребёнку требования, учитывайте не свои желания, а его возможност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ите конфликт, направляя интерес ребёнка в другое русло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ребёнка правильному общению со сверстниками и взрослым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йте кругозор ребёнк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йте ребёнка в самостоятельную деятельность, подчёркивая его значимость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уйте лёгкие проявления агрессивности ребёнка, не фиксируйте на этом внимание окружающих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6:38:19Z</dcterms:created>
  <dc:creator>User</dc:creator>
  <dc:description/>
  <dc:language>en-US</dc:language>
  <cp:lastModifiedBy>User</cp:lastModifiedBy>
  <dcterms:modified xsi:type="dcterms:W3CDTF">2013-02-25T08:20:11Z</dcterms:modified>
  <cp:revision>38</cp:revision>
  <dc:subject/>
  <dc:title>В помощь родителям!</dc:title>
</cp:coreProperties>
</file>