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png" ContentType="image/png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9F644-C8C1-4F68-BACC-F3B06E2F6B2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06DE2-8AFA-4E58-B490-AD507361ACB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46246-65B5-4B6A-A7CA-82E270DE0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F169B-DDC0-49C6-9D16-AE5E0C97F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29FE6-5FF1-49D2-A2E3-855801F15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5DEC1-1E4F-46F2-9555-4215DF671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5F874-0913-4EFB-B4BE-AEE474794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46100-43BC-4590-9AF6-89DA80A4A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3480F-0D03-4CF7-BDDB-2D5C5A01F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87B87-106B-4AE1-B31B-3B680E718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F759C-D057-4D0D-859C-EF3130017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D0D93-20D4-440A-B154-E291D7059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72FD2-3009-4BE9-A522-F5E3543B9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30676-DF19-4D9C-A478-87C5E103B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117F1-7150-4238-B770-70C9C3A61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45702-E3C3-4DBA-B097-20805FC59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FBC40-B985-4931-876C-7ECEBB24B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91E22-8EA0-4E26-A026-336A345F6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9C177-D933-48CF-A4C7-E604159EA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7365E2-7E9C-45C8-8C03-748DB44ED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AA5F55-3539-45B9-A070-4DDD404AB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404335-B16D-4ACC-A3CF-CD9EBBA9A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895538-6595-432C-AB75-6F96F775F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E68E4A-152F-48F3-95DC-3EAF0E4BF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212AA-FB82-4DC0-9F20-B48D81ACF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ECFE39-7848-4090-A350-9CE0FF30D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A3144D-0718-486F-8FCB-408B3DFF7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D9E6DA-BC1D-4CBB-9A99-64DC123C3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EB4BE6-576A-4DC3-B5E2-5028DCA7D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BB7D7B-0B17-4DFA-90FD-90FD7CB74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35553C-9E42-4744-BC55-3A6AE895F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C4B840-FEFE-4A7A-93BF-643DEFA1C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AA719D-0132-4109-830A-05AF3E087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2743C6-E066-40E7-8F5A-CDA14E171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C12821-E5EB-48A6-AD7A-7417C0479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EB6BD-00E2-49AE-A094-E6D812171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30162B-1047-4E91-BE0C-8630A3252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28454D-F896-4890-8672-6D220C819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CCB5A0-0EA6-4F65-A67A-5BE8F528D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656482-320A-427B-B3EB-DA73FECED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A56FAA-5B92-41C6-8F83-9B9E105E4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D999E5-F6FE-4C56-B94D-56C7EA353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C4B33A-E600-4129-8633-EAF81C0F1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5F75D5-A334-49C5-AA48-96FD1592C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6A59F3-C12C-474D-8D4B-24498F266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FF0D4-3369-4118-B727-A5F267B4B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AAA1A-BB58-425C-B987-F1EC0DA72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9F641-42A4-4C94-87EB-00F1EE235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842AB-BCA3-40F5-BB1F-B1F2FECBF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E971A-2DF4-4D4B-B4C8-6AE852E72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df3d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9C9F9-82C6-4BDC-BBA4-167B8437F66B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df3d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5C148-B0BF-40D9-AA54-9A2FBD32970E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df3d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D6C8C-25EC-495C-9431-EE2AAE616849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df3d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54" name="Freeform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57" name="Freeform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59" name="Snip and Round Single Corner Rectangle 8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0" name="Right Triangle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1" name="Freeform 9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2" name="Freeform 10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7CE61-2654-44EA-B84D-40C74487D29B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wmf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Заголовок 1" descr=""/>
          <p:cNvPicPr/>
          <p:nvPr/>
        </p:nvPicPr>
        <p:blipFill>
          <a:blip r:embed="rId1"/>
          <a:stretch/>
        </p:blipFill>
        <p:spPr>
          <a:xfrm>
            <a:off x="536400" y="262080"/>
            <a:ext cx="7851960" cy="1530360"/>
          </a:xfrm>
          <a:prstGeom prst="rect">
            <a:avLst/>
          </a:prstGeom>
          <a:ln w="0">
            <a:noFill/>
          </a:ln>
        </p:spPr>
      </p:pic>
      <p:sp>
        <p:nvSpPr>
          <p:cNvPr id="212" name="PlaceHolder 1"/>
          <p:cNvSpPr>
            <a:spLocks noGrp="1"/>
          </p:cNvSpPr>
          <p:nvPr>
            <p:ph type="subTitle"/>
          </p:nvPr>
        </p:nvSpPr>
        <p:spPr>
          <a:xfrm>
            <a:off x="533160" y="2707920"/>
            <a:ext cx="7854840" cy="38163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nstantia"/>
              </a:rPr>
              <a:t>CC</a:t>
            </a: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13" name="Picture 5" descr=""/>
          <p:cNvPicPr/>
          <p:nvPr/>
        </p:nvPicPr>
        <p:blipFill>
          <a:blip r:embed="rId2"/>
          <a:stretch/>
        </p:blipFill>
        <p:spPr>
          <a:xfrm>
            <a:off x="779400" y="1628640"/>
            <a:ext cx="7583400" cy="136872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7" descr=""/>
          <p:cNvPicPr/>
          <p:nvPr/>
        </p:nvPicPr>
        <p:blipFill>
          <a:blip r:embed="rId3"/>
          <a:stretch/>
        </p:blipFill>
        <p:spPr>
          <a:xfrm>
            <a:off x="1601640" y="6093000"/>
            <a:ext cx="5940720" cy="28872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8" descr=""/>
          <p:cNvPicPr/>
          <p:nvPr/>
        </p:nvPicPr>
        <p:blipFill>
          <a:blip r:embed="rId4"/>
          <a:stretch/>
        </p:blipFill>
        <p:spPr>
          <a:xfrm>
            <a:off x="1763640" y="2565360"/>
            <a:ext cx="5400720" cy="32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297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4617b"/>
                </a:solidFill>
                <a:latin typeface="Monotype Corsiva"/>
              </a:rPr>
              <a:t>Бороться с детской агрессивностью </a:t>
            </a:r>
            <a:br>
              <a:rPr sz="3600"/>
            </a:br>
            <a:r>
              <a:rPr b="1" lang="ru-RU" sz="3600" spc="-1" strike="noStrike">
                <a:solidFill>
                  <a:srgbClr val="04617b"/>
                </a:solidFill>
                <a:latin typeface="Monotype Corsiva"/>
              </a:rPr>
              <a:t>нужно…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57200" y="1988640"/>
            <a:ext cx="8229600" cy="433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 algn="just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ерпением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Это самая большая добродетель, какая только может быть у родителей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бъяснением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Объясняйте ребёнку, почему его поведение, неправильно, но будьте предельно кратким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твлечением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старайтесь предложить вашему ребёнку что-нибудь более привлекательное, чем то, что он пытается делать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еторопливостью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е спешите наказывать ребёнка – сделайте это только если поступок повторяется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аградами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Если вы похвалили ребёнка за хорошее поведение – это пробудет в нём желание ещё раз услышать ваши добрые слова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onstantia"/>
              </a:rPr>
              <a:t>Оптимизмом</a:t>
            </a:r>
            <a:r>
              <a:rPr b="0" lang="ru-RU" sz="2000" spc="-1" strike="noStrike">
                <a:solidFill>
                  <a:srgbClr val="c00000"/>
                </a:solidFill>
                <a:latin typeface="Constantia"/>
              </a:rPr>
              <a:t>.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Воспитывайте уверенность в ребёнке, поддерживайте его в неудачах – он будет чувствовать  себя личностью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4617b"/>
                </a:solidFill>
                <a:latin typeface="Monotype Corsiva"/>
              </a:rPr>
              <a:t>Правила родительского поведения, способствующего снижению детской агрессивности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7200" y="119664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огайте ребёнку осваивать конструктивные способы преодоления препятствий, разрешения проблем. Покажите , что есть более эффективные и безопасные  способы, чем физическое нападение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ои собственные агрессивные реакции на какие-то события не переносите на ребёнка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огайте ему лучше узнать себя и других людей. Не исключено, что ребёнок ведёт себя агрессивно потому, что не видит другого способа самоутвердиться или воспринимает мир как враждебный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унижайте и не оскорбляйте ребёнка, особенно при посторонних, обеспечьте ему чувство защищённости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помните причины собственных агрессивных поступков в детском возрасте. Возможно, вы сможете лучше понять своего ребёнка и помочь ему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дьте внимательны к чувствам и желаниям своего ребёнка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декватно оценивайте возможности ребёнка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йте идти на компромисс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юбите ребёнка просто за то, что он у вас есть, без каких-либо условий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4617b"/>
                </a:solidFill>
                <a:latin typeface="Monotype Corsiva"/>
              </a:rPr>
              <a:t>Как научить ребёнка  «разряжаться»?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34136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ть ему возможность использовать переполняющую его энергию « в мирных целях». Ребенку следует предложить социально приемлемые методы для выражения подавленного гнева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таться одному в комнате и высказать всё, что накопилось, в адрес того, кто его разозлил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гда сложно сдержаться, можно бить ногами и руками подушку, рвать газету, комкать бумагу, пинать консервную банку или мяч, бегать вокруг дома, бить по кровати, написать все слова, которые хочется высказать в гневе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покоиться помогают глубокие вдохи или счет до десяти, перед тем, как что-то сказать или сделать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исовать чувство гнева. Агрессия часто находит выражение в творчестве или играх ребенка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5745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Уважаемые родители!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395280" y="98064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83763"/>
                </a:solidFill>
                <a:latin typeface="Constantia"/>
              </a:rPr>
              <a:t>Начните с себя: положите конец собственной агрессии, это непременно поможет вашим детям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удьте более оптимистичны сами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ледите за выражением своего лица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Чаще улыбайтесь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беждайте ребенка, что все будет хорошо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0" name="Picture 5" descr=""/>
          <p:cNvPicPr/>
          <p:nvPr/>
        </p:nvPicPr>
        <p:blipFill>
          <a:blip r:embed="rId1"/>
          <a:stretch/>
        </p:blipFill>
        <p:spPr>
          <a:xfrm>
            <a:off x="3492360" y="4581360"/>
            <a:ext cx="3184560" cy="18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4617b"/>
                </a:solidFill>
                <a:latin typeface="Monotype Corsiva"/>
              </a:rPr>
              <a:t>Методическое обеспечение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844640"/>
            <a:ext cx="8229600" cy="44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Д.Коннор «Детская агрессия и антисоциальное поведение детей и подростков»,изд .ОЛМА Медиа Групп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Е.Лютова, Г.Монина «Шпаргалка для родителей», изд. Речь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http://go.mail.ru/search_images?q=детские рисунки о семье&amp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http://go.mail.ru/search_images?rch=l&amp;type=all&amp;is=0&amp;q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http://www.knigi-psychologia.com/article_info.php?articles_id=683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http://www.psychologos.ru/articles/view/kakovy_prichiny_detskoy_agressivnosti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http://www.babyblog.ru/user/Nadezhda/234415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1509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4617b"/>
                </a:solidFill>
                <a:latin typeface="Monotype Corsiva"/>
              </a:rPr>
              <a:t>Что такое агрессивность?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915920"/>
            <a:ext cx="8229600" cy="44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во «агрессия» произошло от латинского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gressio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что означает «нападение», «приступ». В психологическом словаре приведено следующее определение данного термина: «Агрессия — это мотивированное деструктивное поведение, противоречащее нормам и правилам существования людей в обществе, наносящее вред объектам нападения (одушевленным и неодушевленным), приносящее физический и моральный ущерб людям или вызывающее у них психологический дискомфорт (отрицательные переживания, состояние напряженности, страха, подавленности и т.п.)»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Согласно некоторым теориям, агрессия является неотъемлемой частью человеческой природы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4617b"/>
                </a:solidFill>
                <a:latin typeface="Monotype Corsiva"/>
              </a:rPr>
              <a:t>Причины детской агрессивности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125360"/>
            <a:ext cx="8229600" cy="519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 algn="just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Это то или иное </a:t>
            </a: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заболевание центральной нервной системы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(это первая причина, о которой нужно подумать и исключить которую нужно в первую очередь)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 algn="just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Агрессивность как </a:t>
            </a: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средство психологической защиты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(эта причина детской агрессивности, пожалуй, самая распространенная среди детей: «Лучшее средство защиты - это нападение»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 algn="just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Различные</a:t>
            </a: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 нарушения семейного воспитания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наиболее распространенными нарушениями являются чрезмерно строгое, запугивающее воспитание, вседозволенность или разные стили воспитания у разных членов семьи, направленные на одного и того же ребенка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 algn="just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Неспровоцированная детская агрессивность - </a:t>
            </a: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нарушенная исследовательская активность ребенка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 algn="just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Случаи, </a:t>
            </a: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когда за агрессивность принимают что-то другое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(наиболее часто за агрессивность принимают детское упрямство)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 algn="just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4617b"/>
                </a:solidFill>
                <a:latin typeface="Monotype Corsiva"/>
              </a:rPr>
              <a:t>Портрет агрессивного ребёнка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125360"/>
            <a:ext cx="8229600" cy="519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грессивный ребенок часто ощущает себя отверженным, никому не нужным. Жестокость и безучастность родителей приводит к нарушению детско-родительских отношений и вселяет в душу ребенка уверенность, что его не любят. «Как стать любимым и нужным» — неразрешимая проблема, стоящая перед  ребёнком.  Вот он и ищет способы привлечения внимания взрослых и сверстников. К сожалению, эти поиски не всегда заканчиваются так, как хотелось бы нам и ребенку, но как сделать лучше — он не знает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грессивные дети очень часто подозрительны и настороженны, любят перекладывать вину за затеянную ими ссору на других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ие дети часто не могут сами оценить свою агрессивность. Они не замечают, что вселяют в окружающих страх и беспокойство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моциональный мир агрессивных детей недостаточно богат, в палитре их чувств преобладают мрачные тона, количество реакций даже на стандартные ситуации очень ограниченно. Чаще всего это защитные реакции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-360" y="115920"/>
            <a:ext cx="6156360" cy="2449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marL="2728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b5395"/>
                </a:solidFill>
                <a:latin typeface="Monotype Corsiva"/>
              </a:rPr>
              <a:t>Агрессия ребёнка </a:t>
            </a:r>
            <a:br>
              <a:rPr sz="3600"/>
            </a:br>
            <a:r>
              <a:rPr b="1" lang="ru-RU" sz="3600" spc="-1" strike="noStrike">
                <a:solidFill>
                  <a:srgbClr val="0b5395"/>
                </a:solidFill>
                <a:latin typeface="Monotype Corsiva"/>
              </a:rPr>
              <a:t>может быть направлена:</a:t>
            </a:r>
            <a:br>
              <a:rPr sz="3600"/>
            </a:b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4360" y="2420640"/>
            <a:ext cx="822960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окружающих людей вне семьи (на учителя, воспитателя, сверстников, одноклассников)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близких людей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животных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себя (выдёргивание волос,  откусывание  ногтей, отказ от еды)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внешние объекты (разрушение предметов, порча имущества)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символические и фантазийные объекты (рисунки, компьютерные игры агрессивного содержания)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4617b"/>
                </a:solidFill>
                <a:latin typeface="Monotype Corsiva"/>
                <a:ea typeface="Times New Roman"/>
              </a:rPr>
              <a:t>Проявление агрессии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755640" y="1844280"/>
            <a:ext cx="8229600" cy="433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младших школьников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чаще всего агрессия проявляется в словесной форме (насмешки, ругательства) по отношению к более слабым, например, к одноклассникам. Не редки и драки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Агрессивное поведение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дростков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часто означает "быть взрослым и сильным". Зависимость подростков от мнения сверстников -- их особенность. В этом возрасте наблюдается самый большой процент детей с отклоняющимся поведением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b5395"/>
                </a:solidFill>
                <a:latin typeface="Monotype Corsiva"/>
              </a:rPr>
              <a:t>            </a:t>
            </a:r>
            <a:r>
              <a:rPr b="1" lang="ru-RU" sz="3600" spc="-1" strike="noStrike">
                <a:solidFill>
                  <a:srgbClr val="0b5395"/>
                </a:solidFill>
                <a:latin typeface="Monotype Corsiva"/>
              </a:rPr>
              <a:t>Профилактика детской агрессии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907920"/>
            <a:ext cx="8229600" cy="541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следите, чтобы агрессивное поведение ребёнка не поощрялось окружающими, чтобы он не получал видимой выгоды от агрессии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допускайте бесконтрольного просмотра телепередач, видеофильмов, т.к. даже некоторые мультфильмы имеют высокий уровень агрессии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допускайте чрезмерного увлечения играми на компьютере, компьютерной приставке, выбирайте видеоигры без элементов насилия, агрессии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ъясняйте ребёнку, что есть множество способов решения любых конфликтов (рассказы прикрепляйте собственным поведением)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райтесь давайте своему ребёнку нереальных обещаний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ставьте своему ребёнку каких бы то ни было условий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дьте тактичны, применяя меры воздействия к ребёнку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наказывайте своего ребёнка за то, что позволяете делать себе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изменяйте своих требований по отношению к ребёнку в угоду чему-либо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шантажируйте ребёнка своими отношениями друг к другу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бойтесь поделиться с ребёнком своими чувствами и слабостями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ставьте свои отношения с собственным ребёнком в зависимость от его учебных успехов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4617b"/>
                </a:solidFill>
                <a:latin typeface="Monotype Corsiva"/>
                <a:ea typeface="Times New Roman"/>
              </a:rPr>
              <a:t>Критерии агрессивности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148392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ебенок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сто теряет контроль над собой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сто спорит, ругается со взрослыми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сто отказывается выполнять правила поведения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сто специально раздражает людей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сто винит других в своих ошибках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сто сердится и отказывается сделать что-либо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сто завистлив, мстителен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увствителен, очень быстро реагирует на различные действия окружающих (детей и взрослых), которые нередко раздражают его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7704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b5395"/>
                </a:solidFill>
                <a:latin typeface="Monotype Corsiva"/>
              </a:rPr>
              <a:t>                </a:t>
            </a:r>
            <a:r>
              <a:rPr b="1" lang="ru-RU" sz="3200" spc="-1" strike="noStrike">
                <a:solidFill>
                  <a:srgbClr val="0b5395"/>
                </a:solidFill>
                <a:latin typeface="Monotype Corsiva"/>
              </a:rPr>
              <a:t>Если ребёнок агрессивен…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10920" y="1268280"/>
            <a:ext cx="626436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10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юбите и принимайте ребёнка таким, каков он есть.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10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ните, что ребёнок всегда подражает тому, за кем привык наблюдать поэтому ни вы, ни другие родные и близкие ребёнка не должны проявлять агрессию.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10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ъявляя ребёнку требования, учитывайте не свои желания, а его возможности.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10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асите конфликт, направляя интерес ребёнка в другое русло.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10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 ребёнка правильному общению со сверстниками и взрослыми.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10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ширяйте кругозор ребёнка.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10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ключайте ребёнка в самостоятельную деятельность, подчёркивая его значимость.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10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норируйте лёгкие проявления агрессивности ребёнка, не фиксируйте на этом внимание окружающих.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47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47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5T06:38:19Z</dcterms:created>
  <dc:creator>User</dc:creator>
  <dc:description/>
  <dc:language>en-US</dc:language>
  <cp:lastModifiedBy>User</cp:lastModifiedBy>
  <dcterms:modified xsi:type="dcterms:W3CDTF">2013-02-25T08:20:11Z</dcterms:modified>
  <cp:revision>38</cp:revision>
  <dc:subject/>
  <dc:title>В помощь родителям!</dc:title>
</cp:coreProperties>
</file>