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D577-39C6-4333-B80E-5B7150AE3C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4A49-4ED6-4661-84B1-E59B27A9DD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742-771B-4941-87D2-DAD43E01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D1B-FF1C-426E-9FA4-FD464284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3C5-680F-414B-8E7C-2F88599B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659-9502-4B23-B053-E07474DE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21B7-8045-4592-9AE2-73A5FE5E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C612-783A-4838-BE63-C25B5D6E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6BC2-3B77-45E8-AABB-3AECF48A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4563-6B6D-4783-AF07-A9697885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20CD-5489-433D-8CCC-D6539AE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9453-1A18-442E-B323-9C1E3B76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8857-2869-4927-A8F1-2C15DE8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4E7-0B9D-4341-91C4-1943F7C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D23F-E386-4A46-83C2-739BAC0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55FF-0D13-4208-B975-A6A61D3E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0193-100F-43B0-BEBB-9F94196D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6D5A-E1F1-4E71-85E4-1A07D55E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0DC0-E775-433F-AD7F-6D504068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F3B83-7293-414C-9031-C8C48FCB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AC57-F484-4096-9CAD-D855A036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909B-FC3D-4625-A7D4-453DF1F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5122-62E9-4FD6-9E8E-CAC46086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CFA9-A949-4B8C-B29B-C1A43F3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7FB-4A75-4C81-B79F-E23A5C00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3F78-3357-4F86-9668-F1AE44AA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5DB7-BFBA-47E1-9A5E-053D14E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B306-CC61-4FCF-8E18-D10C1E56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1006-D959-4FE7-84DE-F8C7196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5BB1-E2AE-4781-B929-E8554556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B2DF-6834-4CFC-ABDD-197F5C94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380E-AD0A-4874-A20F-D117296C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52A1-F873-44AC-9584-5C7FE6B3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729C-9B10-450C-8D51-F1693267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FBE36-536B-4FA9-AF1B-D3F3FE78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F28-BA47-4807-86AE-CAE58359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F0B2-CC9E-4FFD-A539-CB90ABFE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6CDC-CC25-4AAA-90D5-F268F592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8E5E-F15E-4ADE-9E30-EA78A675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5DF0B-CCD2-4FED-A51D-A1AF6C6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1970-B041-4563-9892-9F7BADC4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AA01-153F-4857-A2CA-14C8357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53B7-857A-460D-9C28-96734940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858A8-DB62-40CE-8B97-4D681270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12B5-9290-46B2-BB1B-CF4E6290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99B-47FD-4D9B-8BA3-4294D915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F21-FE39-4FA6-AE04-9A72A36F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A89-0EB5-4B7D-BA6B-F8783E6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B70-4CC4-4B67-B915-A3D6268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563-5DD7-4559-AC19-9AAF476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7ECA-03D4-4A04-BC39-ECF3152E1D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70D1-8DC1-41FC-8838-12BFC58C89E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E22B-C0FA-4F77-A526-05F2D8996BB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49F9-446A-4B13-83E7-B5A8A159490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36400" y="262080"/>
            <a:ext cx="7851960" cy="153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707920"/>
            <a:ext cx="78548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C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779400" y="1628640"/>
            <a:ext cx="7583400" cy="136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1601640" y="6093000"/>
            <a:ext cx="5940720" cy="28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4"/>
          <a:stretch/>
        </p:blipFill>
        <p:spPr>
          <a:xfrm>
            <a:off x="1763640" y="2565360"/>
            <a:ext cx="5400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Бороться с детской агрессивностью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нужно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п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самая большая добродетель, какая только может быть у родител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яйте ребёнку, почему его поведение, неправильно, но будьте предельно кратки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лечение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райтесь предложить вашему ребёнку что-нибудь более привлекательное, чем то, что он пытается дела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оропливость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ешите наказывать ребёнка – сделайте это только если поступок повторяе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Если вы похвалили ребёнка за хорошее поведение – это пробудет в нём желание ещё раз услышать ваши добрые сло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Оптимизмом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оспитывайте уверенность в ребёнке, поддерживайте его в неудачах – он будет чувствовать  себя личност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Monotype Corsiva"/>
              </a:rPr>
              <a:t>Правила родительского поведения, способствующего снижению детской агрессив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ребёнку осваивать конструктивные способы преодоления препятствий, разрешения проблем. Покажите , что есть более эффективные и безопасные  способы, чем физическое напа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собственные агрессивные реакции на какие-то события не переносите на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ему лучше узнать себя и других людей. Не исключено, что ребёнок ведёт себя агрессивно потому, что не видит другого способа самоутвердиться или воспринимает мир как враждебн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и не оскорбляйте ребёнка, особенно при посторонних, обеспечьте ему чувство защищён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причины собственных агрессивных поступков в детском возрасте. Возможно, вы сможете лучше понять своего ребёнка и помочь ем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чувствам и желаниям своего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оценивайте возможности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те идти на компромис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ребёнка просто за то, что он у вас есть, без каких-либ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Как научить ребёнка  «разряжаться»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ему возможность использовать переполняющую его энергию « в мирных целях». Ребенку следует предложить социально приемлемые методы для выражения подавленного гне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ься одному в комнате и высказать всё, что накопилось, в адрес того, кто его разозли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ложно сдержаться, можно бить ногами и руками подушку, рвать газету, комкать бумагу, пинать консервную банку или мяч, бегать вокруг дома, бить по кровати, написать все слова, которые хочется высказать в гнев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коиться помогают глубокие вдохи или счет до десяти, перед тем, как что-то сказать или сдела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чувство гнева. Агрессия часто находит выражение в творчестве или играх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Начните с себя: положите конец собственной агрессии, это непременно поможет вашим детя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те более оптимистичны с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ите за выражением своего лиц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ще улыбайтес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беждайте ребенка, что все будет хорош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3184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Методическое обеспеч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.Коннор «Детская агрессия и антисоциальное поведение детей и подростков»,изд .ОЛМА Медиа Групп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.Лютова, Г.Монина «Шпаргалка для родителей», изд. Реч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http://go.mail.ru/search_images?q=детские рисунки о семье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go.mail.ru/search_images?rch=l&amp;type=all&amp;is=0&amp;q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knigi-psychologia.com/article_info.php?articles_id=68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psychologos.ru/articles/view/kakovy_prichiny_detskoy_agressivnos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babyblog.ru/user/Nadezhda/23441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Что такое агрессивность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агрессия» произошло от латинског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значает «нападение», «приступ». В психологическом словаре приведено следующее определение данного термина: «Агрессия — это мотивированное деструктивное поведение, противоречащее нормам и правилам существования людей в обществе, наносящее вред объектам нападения (одушевленным и неодушевленным), приносящее физический и моральный ущерб людям или вызывающее у них психологический дискомфорт (отрицательные переживания, состояние напряженности, страха, подавленности и т.п.)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но некоторым теориям, агрессия является неотъемлемой частью человеческой приро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ричины детской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о то или ино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болевание центральной нерв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о первая причина, о которой нужно подумать и исключить которую нужно в первую очередь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грессивность как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редство психологической защи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а причина детской агрессивности, пожалуй, самая распространенная среди детей: «Лучшее средство защиты - это нападение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нарушения семейного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более распространенными нарушениями являются чрезмерно строгое, запугивающее воспитание, вседозволенность или разные стили воспитания у разных членов семьи, направленные на одного и того же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спровоцированная детская агрессивность 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рушенная исследовательская активность реб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учаи,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гда за агрессивность принимают что-то друго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наиболее часто за агрессивность принимают детское упрямств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ортрет агрессивного ребён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й ребенок часто ощущает себя отверженным, никому не нужным. Жестокость и безучастность родителей приводит к нарушению детско-родительских отношений и вселяет в душу ребенка уверенность, что его не любят. «Как стать любимым и нужным» — неразрешимая проблема, стоящая перед  ребёнком.  Вот он и ищет способы привлечения внимания взрослых и сверстников. К сожалению, эти поиски не всегда заканчиваются так, как хотелось бы нам и ребенку, но как сделать лучше — он не зна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е дети очень часто подозрительны и настороженны, любят перекладывать вину за затеянную ими ссору на други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дети часто не могут сами оценить свою агрессивность. Они не замечают, что вселяют в окружающих страх и беспокойств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мир агрессивных детей недостаточно богат, в палитре их чувств преобладают мрачные тона, количество реакций даже на стандартные ситуации очень ограниченно. Чаще всего это защитные реак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615636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Агрессия ребёнка </a:t>
            </a:r>
            <a:br>
              <a:rPr sz="3600"/>
            </a:b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может быть направлена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436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ружающих людей вне семьи (на учителя, воспитателя, сверстников, одноклассник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лизких люд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вотны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(выдёргивание волос,  откусывание  ногтей, отказ от еды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нешние объекты (разрушение предметов, порча имуществ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мволические и фантазийные объекты (рисунки, компьютерные игры агрессивного содержа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Проявление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55640" y="184428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ще всего агрессия проявляется в словесной форме (насмешки, ругательства) по отношению к более слабым, например, к одноклассникам. Не редки и дра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рессивное пове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рост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сто означает "быть взрослым и сильным". Зависимость подростков от мнения сверстников -- их особенность. В этом возрасте наблюдается самый большой процент детей с отклоняющимся поведени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            </a:t>
            </a: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Профилактика детской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, чтобы агрессивное поведение ребёнка не поощрялось окружающими, чтобы он не получал видимой выгоды от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бесконтрольного просмотра телепередач, видеофильмов, т.к. даже некоторые мультфильмы имеют высокий уровень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чрезмерного увлечения играми на компьютере, компьютерной приставке, выбирайте видеоигры без элементов насилия,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йте ребёнку, что есть множество способов решения любых конфликтов (рассказы прикрепляйте собственным поведением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давайте своему ребёнку нереальных обещ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ему ребёнку каких бы то ни был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актичны, применяя меры воздействия к ребён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казывайте своего ребёнка за то, что позволяете делать себ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яйте своих требований по отношению к ребёнку в угоду чему-либ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шантажируйте ребёнка своими отношениями друг к друг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поделиться с ребёнком своими чувствами и слабост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и отношения с собственным ребёнком в зависимость от его учебных успех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Критерии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ено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теряет контроль над соб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орит, ругается со взрослы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отказывается выполнять правила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ециально раздражает люд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винит других в своих ошиб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ердится и отказывается сделать что-либ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завистлив, мстител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                </a:t>
            </a: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Если ребёнок агрессивен…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0920" y="1268280"/>
            <a:ext cx="626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и принимайте ребёнка таким, каков он е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ребёнок всегда подражает тому, за кем привык наблюдать поэтому ни вы, ни другие родные и близкие ребёнка не должны проявлять агрессию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ляя ребёнку требования, учитывайте не свои желания, а его возмож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ите конфликт, направляя интерес ребёнка в другое русло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ребёнка правильному общению со сверстниками и взрослым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йте кругозор ребёнк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йте ребёнка в самостоятельную деятельность, подчёркивая его значимо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уйте лёгкие проявления агрессивности ребёнка, не фиксируйте на этом внимание окружающих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6:38:19Z</dcterms:created>
  <dc:creator>User</dc:creator>
  <dc:description/>
  <dc:language>en-US</dc:language>
  <cp:lastModifiedBy>User</cp:lastModifiedBy>
  <dcterms:modified xsi:type="dcterms:W3CDTF">2013-02-25T08:20:11Z</dcterms:modified>
  <cp:revision>38</cp:revision>
  <dc:subject/>
  <dc:title>В помощь родителям!</dc:title>
</cp:coreProperties>
</file>