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DDCA-9FD9-476F-8966-7BE83B5D5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EAD8-FCD8-4CB9-9AE6-1D0C665A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412D-28C8-46F6-B54F-9280D8F5A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5A85-B5D0-42AA-B50E-F4033B2F8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C56C-A17C-4217-8634-99CD5A61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6FD7-2891-4ED4-BD26-79C06F4B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BBE9-C5AA-4E69-B2AE-99683A6B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D6F7-BE80-4B4C-8174-632C9E37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F219-3A52-4B4D-8700-36D192A9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302A-36A6-4568-94B7-0DE90723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5B9A-038D-4B12-B44B-12FA9977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1D24-359B-44D7-BFAF-D246592E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B730-C789-4362-A4F8-FB4069BB8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384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5050"/>
                </a:solidFill>
                <a:latin typeface="Arial"/>
              </a:rPr>
              <a:t>Работу выполнила ученица 6  класса Смирнова Анже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042920" y="476280"/>
            <a:ext cx="5834160" cy="231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еферат на тему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стория возникновения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азличных чисел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77080" y="1844640"/>
            <a:ext cx="18302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99ff"/>
                </a:solidFill>
                <a:latin typeface="Arial"/>
              </a:rPr>
              <a:t>Существует версия, согласно которой слово рациональное произошло латинского слова </a:t>
            </a:r>
            <a:r>
              <a:rPr b="0" lang="en-US" sz="3200" spc="-1" strike="noStrike">
                <a:solidFill>
                  <a:srgbClr val="6699ff"/>
                </a:solidFill>
                <a:latin typeface="Arial"/>
              </a:rPr>
              <a:t>ratio</a:t>
            </a:r>
            <a:r>
              <a:rPr b="0" lang="ru-RU" sz="3200" spc="-1" strike="noStrike">
                <a:solidFill>
                  <a:srgbClr val="6699ff"/>
                </a:solidFill>
                <a:latin typeface="Arial"/>
              </a:rPr>
              <a:t>, означающее (разум). Математики Древней Греции неожиданно обнаружили что для решения такой практический важной задачей, как измерение длин отрезков, не хватает не только целых, но дробных чисел. </a:t>
            </a:r>
            <a:r>
              <a:rPr b="0" lang="ru-RU" sz="3200" spc="-1" strike="noStrike">
                <a:solidFill>
                  <a:srgbClr val="6699ff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6699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258920" y="620640"/>
            <a:ext cx="5761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циональное числ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Эти новые числа называли иррациональными т.е. неразумными, непонятными. А для противопоставления привычными, хорошими т.е. рациональными. Например, числа есть положи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692360" y="476280"/>
            <a:ext cx="511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овые числ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Arial"/>
              </a:rPr>
              <a:t>Если перед положительной дробью поставить знак минус то получиться новое число. Одно из двух положительных чисел положительно, а другое отрицатель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187280" y="549360"/>
            <a:ext cx="648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оложительные дроб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Исключением является 0 противоположение самому себе Рациональные числа есть: а) положительная дробь б) отрицательная дробь г) число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979640" y="476280"/>
            <a:ext cx="4537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сключе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07:24:55Z</dcterms:created>
  <dc:creator>Рабочее место №7</dc:creator>
  <dc:description/>
  <dc:language>en-US</dc:language>
  <cp:lastModifiedBy>Рабочее место №7</cp:lastModifiedBy>
  <dcterms:modified xsi:type="dcterms:W3CDTF">2009-01-31T10:03:16Z</dcterms:modified>
  <cp:revision>4</cp:revision>
  <dc:subject/>
  <dc:title>Реферат на тему история возникновения чисел.</dc:title>
</cp:coreProperties>
</file>