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38D-3614-4966-9257-8D816DF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98A-0D9D-4FF9-9D0B-886C6469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D1A-0CB0-4CA7-ABFB-FF76B33C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219-27E2-49A5-999D-D7F7271D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B47-BBA1-48F6-AA2C-1404469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F3C-8660-4D2B-8D00-05BBAB4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E20-7861-40D3-8471-082D7B74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CFE-411D-4A97-8AB0-44756E8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640-DD93-4D14-BA1C-E206F954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74A-C834-42C4-BD82-B077B59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FE8-1056-4120-98E1-BE1CCA5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FDC-84AB-4107-8E97-DA1D55A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097-0D74-43FA-8521-D1DAFFA00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3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5050"/>
                </a:solidFill>
                <a:latin typeface="Arial"/>
              </a:rPr>
              <a:t>Работу выполнила ученица 6  класса Смирнова Анж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76280"/>
            <a:ext cx="583416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ферат на тем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возникновени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личных чисел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77080" y="1844640"/>
            <a:ext cx="183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Существует версия, согласно которой слово рациональное произошло латинского слова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ratio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, означающее (разум). Математики Древней Греции неожиданно обнаружили что для решения такой практический важной задачей, как измерение длин отрезков, не хватает не только целых, но дробных чисел.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620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циональ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и новые числа называли иррациональными т.е. неразумными, непонятными. А для противопоставления привычными, хорошими т.е. рациональными. Например, числа есть полож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476280"/>
            <a:ext cx="511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вые чис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Если перед положительной дробью поставить знак минус то получиться новое число. Одно из двух положительных чисел положительно, а другое отрицате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549360"/>
            <a:ext cx="64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ложительные дроб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Исключением является 0 противоположение самому себе Рациональные числа есть: а) положительная дробь б) отрицательная дробь г) число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47628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клю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55Z</dcterms:created>
  <dc:creator>Рабочее место №7</dc:creator>
  <dc:description/>
  <dc:language>en-US</dc:language>
  <cp:lastModifiedBy>Рабочее место №7</cp:lastModifiedBy>
  <dcterms:modified xsi:type="dcterms:W3CDTF">2009-01-31T10:03:16Z</dcterms:modified>
  <cp:revision>4</cp:revision>
  <dc:subject/>
  <dc:title>Реферат на тему история возникновения чисел.</dc:title>
</cp:coreProperties>
</file>