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505-97B0-4343-AF99-A0E2D725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70C-1EEE-4C0D-A5E6-CC3ABA5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B0A-D33D-46C1-9BDC-D8AED49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0C0-7BDC-4B10-8AD9-215B04DD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532-7992-4367-A1C9-51789E2D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0CC-F8D8-4177-98ED-960B4DD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217-1E01-4155-A437-5D201569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F14-3DDE-4C9A-AD8F-CE9E2AA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324-53FC-4919-81D7-38CF1BB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E60-5A14-41DB-9A53-5EBBBA04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9B3-F9DC-4F23-AD91-F3BF342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604-FA20-4C4D-8BD1-BFE8E30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1028-AA87-403F-83E5-223B1D2C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3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5050"/>
                </a:solidFill>
                <a:latin typeface="Arial"/>
              </a:rPr>
              <a:t>Работу выполнила ученица 6  класса Смирнова Анж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76280"/>
            <a:ext cx="583416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ферат на тем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возникновени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личных чисел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77080" y="1844640"/>
            <a:ext cx="183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Существует версия, согласно которой слово рациональное произошло латинского слова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ratio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, означающее (разум). Математики Древней Греции неожиданно обнаружили что для решения такой практический важной задачей, как измерение длин отрезков, не хватает не только целых, но дробных чисел.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6699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620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циональ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и новые числа называли иррациональными т.е. неразумными, непонятными. А для противопоставления привычными, хорошими т.е. рациональными. Например, числа есть полож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476280"/>
            <a:ext cx="511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вые чис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Если перед положительной дробью поставить знак минус то получиться новое число. Одно из двух положительных чисел положительно, а другое отрицате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549360"/>
            <a:ext cx="64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ложительные дроб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Исключением является 0 противоположение самому себе Рациональные числа есть: а) положительная дробь б) отрицательная дробь г) число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47628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клю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55Z</dcterms:created>
  <dc:creator>Рабочее место №7</dc:creator>
  <dc:description/>
  <dc:language>en-US</dc:language>
  <cp:lastModifiedBy>Рабочее место №7</cp:lastModifiedBy>
  <dcterms:modified xsi:type="dcterms:W3CDTF">2009-01-31T10:03:16Z</dcterms:modified>
  <cp:revision>4</cp:revision>
  <dc:subject/>
  <dc:title>Реферат на тему история возникновения чисел.</dc:title>
</cp:coreProperties>
</file>