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771-10B5-4398-81A4-3B0B2635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366-5A06-4925-80A9-B13B8A10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B0D-65B6-4CFE-BFF9-D172C3E1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81E-208A-45C0-8DF8-636E878C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ADE-59BC-4CED-9EAC-90196932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D530-DCA2-42C7-83EB-0ADE3A7B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293-4AA7-4C47-BE3D-4DBEF1CA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1FD-91A9-43A8-8F99-C29E9B69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F63-59F0-48F5-8BF6-5EED0754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A23-828D-48F4-9B93-6467B52E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CA5-221F-40D6-878C-04CF4F9F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F9A-8295-4725-AE0B-CC726822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D04928-D925-47A6-8383-8CB844614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4653000"/>
            <a:ext cx="79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одготовила: педагог-психолог МБДОУ «ЦРР детский сад № 3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Тимохина Светла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332000" y="1484280"/>
            <a:ext cx="6551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пользование цветотерапи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коррекции дошкольников  с ЗП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Основные диагностические признаки ЗП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релость эмоционально-волевой сфер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ушение интеллектуальной работоспособ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нцефалопатические расстрой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ушения предпосылок интеллект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Особенности эмоционально-волевой сферы детей с ЗП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ая незрелость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орможенность психических процессов, повышенная возбудим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развитой самооценки, устойчивости и крит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зкая потребность в общении сочетается с дезадаптивными формами взаимо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ая незрелость приводит детей к зависимости от более волевых членов коллектива, подчинённости 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042920" y="141300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.С. Выготск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одчеркивал, что эмоциональная сторона личности ребенка имеет не меньше значение, чем другие стороны, и составляет предмет и заботу воспитания в такой же мере, как ум и вол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66384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Технология психологического обследования ребенка с отклоняющимся развитием 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(Н. Я. Семаго, М. М. Семаго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3068280"/>
            <a:ext cx="7920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психологического анамне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ое обсле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претация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ое за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Этапы об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а или проективная методика для установления контакта с ребёнком, определение зоны его информирова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воспри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вним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 пам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мыш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Исследование звуковой и смысловой стороны речев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Исследование особенностей эмоционально-волев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Общие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 Психолого-педагогические рекоменд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Этапы обслед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36720" y="907560"/>
            <a:ext cx="4606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Цветотерап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в коррекции эмоциональной сферы дет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с ЗП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55680" cy="2038320"/>
          </a:xfrm>
          <a:prstGeom prst="rect">
            <a:avLst/>
          </a:prstGeom>
          <a:ln cap="rnd" w="57240">
            <a:solidFill>
              <a:srgbClr val="0000ff"/>
            </a:solidFill>
            <a:custDash>
              <a:ds d="100000" sp="1000"/>
            </a:custDash>
            <a:round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2880000" cy="2108160"/>
          </a:xfrm>
          <a:prstGeom prst="rect">
            <a:avLst/>
          </a:prstGeom>
          <a:ln cap="rnd" w="57240">
            <a:solidFill>
              <a:srgbClr val="3333cc"/>
            </a:solidFill>
            <a:custDash>
              <a:ds d="100000" sp="1000"/>
            </a:custDash>
            <a:round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1594080" cy="2089080"/>
          </a:xfrm>
          <a:prstGeom prst="rect">
            <a:avLst/>
          </a:prstGeom>
          <a:ln cap="rnd" w="57240">
            <a:solidFill>
              <a:srgbClr val="3333cc"/>
            </a:solidFill>
            <a:custDash>
              <a:ds d="100000" sp="1000"/>
            </a:custDash>
            <a:round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три, как схо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шев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адуги уб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 радуга и жизн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и то ж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В. Г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Цветотерпия – лечение цве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8920" y="1413000"/>
            <a:ext cx="40546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отерапия основана на влиянии фотонов света различной длины волны на мозг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tsveto1610"/>
          <p:cNvPicPr/>
          <p:nvPr/>
        </p:nvPicPr>
        <p:blipFill>
          <a:blip r:embed="rId1"/>
          <a:stretch/>
        </p:blipFill>
        <p:spPr>
          <a:xfrm>
            <a:off x="468360" y="1484280"/>
            <a:ext cx="2286000" cy="161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f_18932708"/>
          <p:cNvPicPr/>
          <p:nvPr/>
        </p:nvPicPr>
        <p:blipFill>
          <a:blip r:embed="rId2"/>
          <a:stretch/>
        </p:blipFill>
        <p:spPr>
          <a:xfrm>
            <a:off x="1763640" y="2924280"/>
            <a:ext cx="3025800" cy="2027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История цветотерап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140989_view"/>
          <p:cNvPicPr/>
          <p:nvPr/>
        </p:nvPicPr>
        <p:blipFill>
          <a:blip r:embed="rId1"/>
          <a:stretch/>
        </p:blipFill>
        <p:spPr>
          <a:xfrm>
            <a:off x="826920" y="242100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4716360" y="2421000"/>
            <a:ext cx="3959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ветотерап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дилас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древн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Понятие о ЗП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ПР у детей - это времен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тойкое и обратим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ическое недоразви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Ученые считаю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40000" y="1267920"/>
            <a:ext cx="4824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ременные ученые считаю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ветотерап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яется одним из самых перспектив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ов лечения и оздоровл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Bioptron-kompakt3_cvetoterap-500x500"/>
          <p:cNvPicPr/>
          <p:nvPr/>
        </p:nvPicPr>
        <p:blipFill>
          <a:blip r:embed="rId1"/>
          <a:stretch/>
        </p:blipFill>
        <p:spPr>
          <a:xfrm>
            <a:off x="250920" y="2060640"/>
            <a:ext cx="4105080" cy="2855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971640" y="33336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Цветотерапию изучают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11280" y="1484280"/>
            <a:ext cx="47512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Физика цве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Психофизика цве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Психология цвета.</a:t>
            </a:r>
            <a:br>
              <a:rPr sz="4000"/>
            </a:b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2519280" cy="1341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651640" y="2708280"/>
            <a:ext cx="1539720" cy="1728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940360" y="4221000"/>
            <a:ext cx="2657520" cy="17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Цвет – пища для моз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76360" y="3644640"/>
            <a:ext cx="3824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ш мозг, полагают ученые, воспринимает цвет точно так же, как желудок ед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1"/>
          <p:cNvPicPr/>
          <p:nvPr/>
        </p:nvPicPr>
        <p:blipFill>
          <a:blip r:embed="rId1"/>
          <a:stretch/>
        </p:blipFill>
        <p:spPr>
          <a:xfrm>
            <a:off x="468360" y="1413000"/>
            <a:ext cx="2374920" cy="225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e761327e6968_3"/>
          <p:cNvPicPr/>
          <p:nvPr/>
        </p:nvPicPr>
        <p:blipFill>
          <a:blip r:embed="rId2"/>
          <a:stretch/>
        </p:blipFill>
        <p:spPr>
          <a:xfrm>
            <a:off x="2050920" y="2924280"/>
            <a:ext cx="2787840" cy="239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364000" y="1413000"/>
            <a:ext cx="331164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ечатления – «пища» для душ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а                Г.И. Гурджиев     (религиозный психо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395280" y="549360"/>
            <a:ext cx="590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ЦВЕТОТЕРАП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основных направлениях психолого-педагогическо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75223779_139"/>
          <p:cNvPicPr/>
          <p:nvPr/>
        </p:nvPicPr>
        <p:blipFill>
          <a:blip r:embed="rId1"/>
          <a:stretch/>
        </p:blipFill>
        <p:spPr>
          <a:xfrm>
            <a:off x="5148360" y="3284640"/>
            <a:ext cx="3313080" cy="2278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826920" y="4005360"/>
            <a:ext cx="40323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Цвет есть жизнь," 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верждал английский  философ и естествоиспытател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. Бэк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Цветотерапия в психологической профилактике  и просвещ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859280" y="1989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826920" y="1989000"/>
            <a:ext cx="7632720" cy="1008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нары-практикумы д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ов и род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826920" y="3284640"/>
            <a:ext cx="7705800" cy="8650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2077560" y="335772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ки, информационные лис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4"/>
          <p:cNvSpPr/>
          <p:nvPr/>
        </p:nvSpPr>
        <p:spPr>
          <a:xfrm>
            <a:off x="971640" y="4508640"/>
            <a:ext cx="7559640" cy="1152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нинги с использовани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йных технолог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Цветотерапия 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в психологической диагнос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348000" y="3645000"/>
            <a:ext cx="2521080" cy="23032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азноцвет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ички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рлов В.В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лецкая Л.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250920" y="3573360"/>
            <a:ext cx="2881080" cy="2232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оциональ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Э. Т. Дорофее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3276720" y="1557360"/>
            <a:ext cx="2592360" cy="1800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Домики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.А. Орехо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971640" y="1773360"/>
            <a:ext cx="2016000" cy="1296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ш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43564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56360" y="1700280"/>
            <a:ext cx="2305080" cy="1728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ов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ир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Э. Бресла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6084720" y="3645000"/>
            <a:ext cx="2735280" cy="2160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моциональ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опис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А.Н.Лутошки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Цветотерапия в психологическом консультир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324000" y="2852640"/>
            <a:ext cx="8569080" cy="10796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торой этап – «Сбор информаци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324000" y="1700280"/>
            <a:ext cx="8569080" cy="936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этап – «Приветствие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24000" y="4149720"/>
            <a:ext cx="8569080" cy="1224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тий этап – «Стратегически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Цветотерапия в развивающей и коррекционной рабо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979640" y="2349360"/>
            <a:ext cx="5545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Цвет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продукт света, вызывающий эмоции"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 В. Ге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Учение о цвет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й цве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страхов, инертности, апат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5596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419400"/>
            <a:ext cx="82296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Оранжевы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застенчивости, замкнутости, скованности дви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26160" cy="43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чины возникновения ЗПР 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М.С. Певзнер и Т.А. Власова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Неблагоприятное течение берем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атология 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Социальные фак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Наследственные ф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-675000"/>
            <a:ext cx="856908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Желты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гиперактивности, формировании самоконтроля, повышении самооце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6624720" cy="41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419400"/>
            <a:ext cx="82296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Зелены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возбудимости, тревожности, гипер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335640" cy="42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19400"/>
            <a:ext cx="82296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Голубо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тревожности, агрессивности, повышенной возбуд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481320"/>
            <a:ext cx="8229600" cy="26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ини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невротических реакций, беспокойства, возбудимости, аг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832360" cy="42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1395720"/>
            <a:ext cx="86868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66cc"/>
                </a:solidFill>
                <a:latin typeface="Arial"/>
              </a:rPr>
              <a:t>Розовы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неусидчивости, неумении концентрировать внимание, переутомлении, невротических реакц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771640" y="2903400"/>
            <a:ext cx="3745080" cy="34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62" name="WordArt 3"/>
          <p:cNvSpPr txBox="1"/>
          <p:nvPr/>
        </p:nvSpPr>
        <p:spPr>
          <a:xfrm>
            <a:off x="3059280" y="2060640"/>
            <a:ext cx="32446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ТЕРАП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Line 4"/>
          <p:cNvSpPr/>
          <p:nvPr/>
        </p:nvSpPr>
        <p:spPr>
          <a:xfrm flipH="1">
            <a:off x="2771640" y="263700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6300720" y="263700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1116000" y="3357720"/>
            <a:ext cx="3672000" cy="1150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5292720" y="3284640"/>
            <a:ext cx="3382920" cy="1081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рупп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3203640" y="836640"/>
            <a:ext cx="32446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ТЕРАП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4788000" y="1341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5"/>
          <p:cNvSpPr/>
          <p:nvPr/>
        </p:nvSpPr>
        <p:spPr>
          <a:xfrm>
            <a:off x="1476360" y="1916280"/>
            <a:ext cx="6769080" cy="934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рекция эмоциональной сфе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85928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1403280" y="3500280"/>
            <a:ext cx="7128000" cy="1150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познавательных проце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348000" y="2349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ВЕТОТЕРАП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 flipH="1" flipV="1">
            <a:off x="2555640" y="285264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 flipH="1">
            <a:off x="2916000" y="386064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15"/>
          <p:cNvSpPr/>
          <p:nvPr/>
        </p:nvSpPr>
        <p:spPr>
          <a:xfrm>
            <a:off x="468360" y="1700280"/>
            <a:ext cx="2951280" cy="1224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6"/>
          <p:cNvSpPr/>
          <p:nvPr/>
        </p:nvSpPr>
        <p:spPr>
          <a:xfrm>
            <a:off x="468360" y="4221000"/>
            <a:ext cx="2879640" cy="1297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т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8"/>
          <p:cNvSpPr/>
          <p:nvPr/>
        </p:nvSpPr>
        <p:spPr>
          <a:xfrm>
            <a:off x="6156360" y="4221000"/>
            <a:ext cx="2808360" cy="1224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20"/>
          <p:cNvSpPr/>
          <p:nvPr/>
        </p:nvSpPr>
        <p:spPr>
          <a:xfrm>
            <a:off x="6156360" y="1700280"/>
            <a:ext cx="2809800" cy="1297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 flipV="1">
            <a:off x="6300720" y="270792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4"/>
          <p:cNvSpPr/>
          <p:nvPr/>
        </p:nvSpPr>
        <p:spPr>
          <a:xfrm>
            <a:off x="6300720" y="3860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WordArt 25"/>
          <p:cNvSpPr txBox="1"/>
          <p:nvPr/>
        </p:nvSpPr>
        <p:spPr>
          <a:xfrm>
            <a:off x="3132000" y="3429000"/>
            <a:ext cx="3245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ТЕРАП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324000" y="404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оррекция эмоциональной сф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7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85" name="Line 28"/>
          <p:cNvSpPr/>
          <p:nvPr/>
        </p:nvSpPr>
        <p:spPr>
          <a:xfrm flipV="1">
            <a:off x="485928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29"/>
          <p:cNvSpPr/>
          <p:nvPr/>
        </p:nvSpPr>
        <p:spPr>
          <a:xfrm>
            <a:off x="3203640" y="1125360"/>
            <a:ext cx="3168720" cy="1582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ветомедит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32"/>
          <p:cNvSpPr/>
          <p:nvPr/>
        </p:nvSpPr>
        <p:spPr>
          <a:xfrm>
            <a:off x="3276720" y="4508640"/>
            <a:ext cx="2950920" cy="1514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ьер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вающ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5928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24000" y="333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Развитие познавательных проце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91" name="WordArt 6"/>
          <p:cNvSpPr txBox="1"/>
          <p:nvPr/>
        </p:nvSpPr>
        <p:spPr>
          <a:xfrm>
            <a:off x="3132000" y="2997360"/>
            <a:ext cx="3245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ТЕРАП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 flipV="1">
            <a:off x="2627280" y="2349000"/>
            <a:ext cx="504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 flipV="1">
            <a:off x="4716360" y="234900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6372360" y="234900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 flipH="1">
            <a:off x="3419640" y="3500280"/>
            <a:ext cx="288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900000" y="1268280"/>
            <a:ext cx="2592360" cy="1079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564000" y="1268280"/>
            <a:ext cx="2376360" cy="1008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их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17"/>
          <p:cNvSpPr/>
          <p:nvPr/>
        </p:nvSpPr>
        <p:spPr>
          <a:xfrm>
            <a:off x="6084720" y="1197000"/>
            <a:ext cx="2303640" cy="1081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19"/>
          <p:cNvSpPr/>
          <p:nvPr/>
        </p:nvSpPr>
        <p:spPr>
          <a:xfrm>
            <a:off x="1116000" y="4005360"/>
            <a:ext cx="3095640" cy="1368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116000" y="4221000"/>
            <a:ext cx="32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23"/>
          <p:cNvSpPr/>
          <p:nvPr/>
        </p:nvSpPr>
        <p:spPr>
          <a:xfrm>
            <a:off x="5003640" y="4005360"/>
            <a:ext cx="3168720" cy="1368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5867280" y="3429000"/>
            <a:ext cx="287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5435640" y="422100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овицы и погово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05" name="WordArt 22"/>
          <p:cNvSpPr txBox="1"/>
          <p:nvPr/>
        </p:nvSpPr>
        <p:spPr>
          <a:xfrm>
            <a:off x="3132000" y="2997360"/>
            <a:ext cx="3245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ТЕРАП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cxnSp>
        <p:nvCxnSpPr>
          <p:cNvPr id="206" name="AutoShape 25"/>
          <p:cNvCxnSpPr/>
          <p:nvPr/>
        </p:nvCxnSpPr>
        <p:spPr>
          <a:xfrm flipH="1">
            <a:off x="2699640" y="3500280"/>
            <a:ext cx="4323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Line 26"/>
          <p:cNvSpPr/>
          <p:nvPr/>
        </p:nvSpPr>
        <p:spPr>
          <a:xfrm>
            <a:off x="485928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6300720" y="342900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8"/>
          <p:cNvSpPr/>
          <p:nvPr/>
        </p:nvSpPr>
        <p:spPr>
          <a:xfrm flipH="1" flipV="1">
            <a:off x="2700000" y="242064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9"/>
          <p:cNvSpPr/>
          <p:nvPr/>
        </p:nvSpPr>
        <p:spPr>
          <a:xfrm flipV="1">
            <a:off x="4716360" y="2276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0"/>
          <p:cNvSpPr/>
          <p:nvPr/>
        </p:nvSpPr>
        <p:spPr>
          <a:xfrm flipV="1">
            <a:off x="6300720" y="2349360"/>
            <a:ext cx="358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1"/>
          <p:cNvSpPr/>
          <p:nvPr/>
        </p:nvSpPr>
        <p:spPr>
          <a:xfrm>
            <a:off x="611280" y="1413000"/>
            <a:ext cx="2663640" cy="107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сихо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32"/>
          <p:cNvSpPr/>
          <p:nvPr/>
        </p:nvSpPr>
        <p:spPr>
          <a:xfrm>
            <a:off x="3492360" y="1268280"/>
            <a:ext cx="2160720" cy="936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т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val 33"/>
          <p:cNvSpPr/>
          <p:nvPr/>
        </p:nvSpPr>
        <p:spPr>
          <a:xfrm>
            <a:off x="6012000" y="1268280"/>
            <a:ext cx="2665440" cy="1150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val 34"/>
          <p:cNvSpPr/>
          <p:nvPr/>
        </p:nvSpPr>
        <p:spPr>
          <a:xfrm>
            <a:off x="6300720" y="3933720"/>
            <a:ext cx="2664000" cy="1008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 по ИЗ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35"/>
          <p:cNvSpPr/>
          <p:nvPr/>
        </p:nvSpPr>
        <p:spPr>
          <a:xfrm>
            <a:off x="3635280" y="4149720"/>
            <a:ext cx="2376720" cy="1008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оп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36"/>
          <p:cNvSpPr/>
          <p:nvPr/>
        </p:nvSpPr>
        <p:spPr>
          <a:xfrm>
            <a:off x="539640" y="4005360"/>
            <a:ext cx="2808360" cy="107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1258920" y="404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Могут использовать в ДОУ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лассификация К.С. Лебединской (1980)</a:t>
            </a:r>
            <a:r>
              <a:rPr b="1" lang="ar-SA" sz="3600" spc="-1" strike="noStrike">
                <a:solidFill>
                  <a:srgbClr val="0099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ЗПР конституциональн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адержка психического развития соматогенного генез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Задержка психического развития психогенного гене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Задержка церебрально-органического гене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7"/>
          <p:cNvSpPr/>
          <p:nvPr/>
        </p:nvSpPr>
        <p:spPr>
          <a:xfrm>
            <a:off x="755640" y="69228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5870520" y="4581360"/>
            <a:ext cx="21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отерап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620000" y="4581360"/>
            <a:ext cx="18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руппов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отерап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7" descr="P1030488"/>
          <p:cNvPicPr/>
          <p:nvPr/>
        </p:nvPicPr>
        <p:blipFill>
          <a:blip r:embed="rId2"/>
          <a:stretch/>
        </p:blipFill>
        <p:spPr>
          <a:xfrm>
            <a:off x="5003640" y="1916280"/>
            <a:ext cx="3529080" cy="2538360"/>
          </a:xfrm>
          <a:prstGeom prst="rect">
            <a:avLst/>
          </a:prstGeom>
          <a:ln w="0">
            <a:noFill/>
          </a:ln>
        </p:spPr>
      </p:pic>
      <p:sp>
        <p:nvSpPr>
          <p:cNvPr id="224" name="WordArt 19"/>
          <p:cNvSpPr txBox="1"/>
          <p:nvPr/>
        </p:nvSpPr>
        <p:spPr>
          <a:xfrm>
            <a:off x="1116000" y="47628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нашем детском сад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5" name="Picture 21" descr="DSC00993"/>
          <p:cNvPicPr/>
          <p:nvPr/>
        </p:nvPicPr>
        <p:blipFill>
          <a:blip r:embed="rId3"/>
          <a:stretch/>
        </p:blipFill>
        <p:spPr>
          <a:xfrm>
            <a:off x="971640" y="1916280"/>
            <a:ext cx="3349440" cy="25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DSC00704"/>
          <p:cNvPicPr/>
          <p:nvPr/>
        </p:nvPicPr>
        <p:blipFill>
          <a:blip r:embed="rId2"/>
          <a:stretch/>
        </p:blipFill>
        <p:spPr>
          <a:xfrm rot="657000">
            <a:off x="5724360" y="1700280"/>
            <a:ext cx="2953080" cy="22827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 rot="442200">
            <a:off x="6011640" y="3933360"/>
            <a:ext cx="17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терап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 rot="625800">
            <a:off x="5148000" y="6021000"/>
            <a:ext cx="19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котерап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10" descr="DSC00774"/>
          <p:cNvPicPr/>
          <p:nvPr/>
        </p:nvPicPr>
        <p:blipFill>
          <a:blip r:embed="rId3"/>
          <a:srcRect l="6880" t="0" r="0" b="-699"/>
          <a:stretch/>
        </p:blipFill>
        <p:spPr>
          <a:xfrm rot="21073200">
            <a:off x="1476360" y="4076280"/>
            <a:ext cx="2448000" cy="1868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DSC00846"/>
          <p:cNvPicPr/>
          <p:nvPr/>
        </p:nvPicPr>
        <p:blipFill>
          <a:blip r:embed="rId4"/>
          <a:srcRect l="10313" t="13759" r="-988" b="9328"/>
          <a:stretch/>
        </p:blipFill>
        <p:spPr>
          <a:xfrm rot="600600">
            <a:off x="4788000" y="4292640"/>
            <a:ext cx="2808360" cy="1787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2"/>
          <p:cNvSpPr/>
          <p:nvPr/>
        </p:nvSpPr>
        <p:spPr>
          <a:xfrm rot="21157800">
            <a:off x="2127600" y="587700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лаксац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WordArt 14"/>
          <p:cNvSpPr txBox="1"/>
          <p:nvPr/>
        </p:nvSpPr>
        <p:spPr>
          <a:xfrm>
            <a:off x="1116000" y="47628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нашем детском сад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Text Box 16"/>
          <p:cNvSpPr/>
          <p:nvPr/>
        </p:nvSpPr>
        <p:spPr>
          <a:xfrm rot="21154200">
            <a:off x="1335600" y="37159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т-терап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3276720" y="263700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Цветотерапия чер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19" descr="DSC00998"/>
          <p:cNvPicPr/>
          <p:nvPr/>
        </p:nvPicPr>
        <p:blipFill>
          <a:blip r:embed="rId5"/>
          <a:stretch/>
        </p:blipFill>
        <p:spPr>
          <a:xfrm rot="21177000">
            <a:off x="610920" y="1773360"/>
            <a:ext cx="252072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38" name="WordArt 5"/>
          <p:cNvSpPr txBox="1"/>
          <p:nvPr/>
        </p:nvSpPr>
        <p:spPr>
          <a:xfrm>
            <a:off x="1116000" y="47628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нашем детском сад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3710880" y="1989000"/>
            <a:ext cx="175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Каби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едагог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сихол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8" descr="DSC00885"/>
          <p:cNvPicPr/>
          <p:nvPr/>
        </p:nvPicPr>
        <p:blipFill>
          <a:blip r:embed="rId2"/>
          <a:stretch/>
        </p:blipFill>
        <p:spPr>
          <a:xfrm>
            <a:off x="2627280" y="3645000"/>
            <a:ext cx="1565280" cy="208908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pic>
        <p:nvPicPr>
          <p:cNvPr id="241" name="Picture 9" descr="DSC00893"/>
          <p:cNvPicPr/>
          <p:nvPr/>
        </p:nvPicPr>
        <p:blipFill>
          <a:blip r:embed="rId3"/>
          <a:stretch/>
        </p:blipFill>
        <p:spPr>
          <a:xfrm>
            <a:off x="6156360" y="1700280"/>
            <a:ext cx="1908000" cy="1431720"/>
          </a:xfrm>
          <a:prstGeom prst="rect">
            <a:avLst/>
          </a:prstGeom>
          <a:ln w="57240">
            <a:solidFill>
              <a:srgbClr val="bb052c"/>
            </a:solidFill>
            <a:miter/>
          </a:ln>
        </p:spPr>
      </p:pic>
      <p:pic>
        <p:nvPicPr>
          <p:cNvPr id="242" name="Picture 10" descr="DSC00891"/>
          <p:cNvPicPr/>
          <p:nvPr/>
        </p:nvPicPr>
        <p:blipFill>
          <a:blip r:embed="rId4"/>
          <a:stretch/>
        </p:blipFill>
        <p:spPr>
          <a:xfrm>
            <a:off x="5364000" y="3573360"/>
            <a:ext cx="1729080" cy="216072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  <p:pic>
        <p:nvPicPr>
          <p:cNvPr id="243" name="Picture 11" descr="DSC00982"/>
          <p:cNvPicPr/>
          <p:nvPr/>
        </p:nvPicPr>
        <p:blipFill>
          <a:blip r:embed="rId5"/>
          <a:stretch/>
        </p:blipFill>
        <p:spPr>
          <a:xfrm>
            <a:off x="1187280" y="1700280"/>
            <a:ext cx="2310120" cy="154944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1116000" y="47628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нашем детском сад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3635280" y="1844640"/>
            <a:ext cx="18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б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DSC00983"/>
          <p:cNvPicPr/>
          <p:nvPr/>
        </p:nvPicPr>
        <p:blipFill>
          <a:blip r:embed="rId2"/>
          <a:stretch/>
        </p:blipFill>
        <p:spPr>
          <a:xfrm rot="20867400">
            <a:off x="755640" y="1628640"/>
            <a:ext cx="2344680" cy="175896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248" name="Picture 12" descr="DSC00985"/>
          <p:cNvPicPr/>
          <p:nvPr/>
        </p:nvPicPr>
        <p:blipFill>
          <a:blip r:embed="rId3"/>
          <a:stretch/>
        </p:blipFill>
        <p:spPr>
          <a:xfrm rot="20222400">
            <a:off x="394920" y="4149720"/>
            <a:ext cx="1839960" cy="138096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249" name="Picture 13" descr="DSC00986"/>
          <p:cNvPicPr/>
          <p:nvPr/>
        </p:nvPicPr>
        <p:blipFill>
          <a:blip r:embed="rId4"/>
          <a:stretch/>
        </p:blipFill>
        <p:spPr>
          <a:xfrm rot="20938200">
            <a:off x="2771280" y="3573000"/>
            <a:ext cx="1393920" cy="194472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250" name="Text Box 14"/>
          <p:cNvSpPr/>
          <p:nvPr/>
        </p:nvSpPr>
        <p:spPr>
          <a:xfrm>
            <a:off x="971640" y="198900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7" descr="DSC00990"/>
          <p:cNvPicPr/>
          <p:nvPr/>
        </p:nvPicPr>
        <p:blipFill>
          <a:blip r:embed="rId5"/>
          <a:stretch/>
        </p:blipFill>
        <p:spPr>
          <a:xfrm rot="1167000">
            <a:off x="5940360" y="1700280"/>
            <a:ext cx="2268720" cy="17017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252" name="Picture 18" descr="DSC00991"/>
          <p:cNvPicPr/>
          <p:nvPr/>
        </p:nvPicPr>
        <p:blipFill>
          <a:blip r:embed="rId6"/>
          <a:stretch/>
        </p:blipFill>
        <p:spPr>
          <a:xfrm rot="1485000">
            <a:off x="7235640" y="4292640"/>
            <a:ext cx="1625400" cy="121932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pic>
        <p:nvPicPr>
          <p:cNvPr id="253" name="Picture 19" descr="DSC00992"/>
          <p:cNvPicPr/>
          <p:nvPr/>
        </p:nvPicPr>
        <p:blipFill>
          <a:blip r:embed="rId7"/>
          <a:stretch/>
        </p:blipFill>
        <p:spPr>
          <a:xfrm rot="288000">
            <a:off x="4716360" y="3789360"/>
            <a:ext cx="2124000" cy="1593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55" name="WordArt 5"/>
          <p:cNvSpPr txBox="1"/>
          <p:nvPr/>
        </p:nvSpPr>
        <p:spPr>
          <a:xfrm>
            <a:off x="1116000" y="328464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6" name="Picture 6" descr="ace885cd32fb"/>
          <p:cNvPicPr/>
          <p:nvPr/>
        </p:nvPicPr>
        <p:blipFill>
          <a:blip r:embed="rId2"/>
          <a:stretch/>
        </p:blipFill>
        <p:spPr>
          <a:xfrm>
            <a:off x="5003640" y="404640"/>
            <a:ext cx="344988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ПР конституционального происх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Обуслов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ется наследствен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явления: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ты эмоционально-личностной незрел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 аффективные вспы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гно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прият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ПР соматогенного ге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Обуслов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несенные в раннем детстве заболе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явлен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веренность, роб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ынициат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приз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гно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ПР психогенного ге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Обуслов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лагоприятные условия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явления: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ая работоспособ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азвитость произвольной регуля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гно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возможности перестройки стиля семейного восп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ПР церебрально-органического 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генез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6840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Обуслов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бые и стойкие локальные нарушения созревания мозговых струк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гно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о в зависимости от глубины повреждения и возрастной дина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3613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ПР церебрально-органического 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ге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816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Проявления: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вариант: преобладание черт незрелости эмоциональной сферы по типу органического инфантилиз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вариант: доминирование симптомов поврежденности, низкий уровень овладения всеми видами произвольной деятельности задержка формирования предметно-манипулятивной, речевой, игровой, продуктивной и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WORK</cp:lastModifiedBy>
  <dcterms:modified xsi:type="dcterms:W3CDTF">2012-04-24T16:41:04Z</dcterms:modified>
  <cp:revision>115</cp:revision>
  <dc:subject/>
  <dc:title>Использование цветотерапии в коррекции дошкольников с ЗПР</dc:title>
</cp:coreProperties>
</file>