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80AB-8EF0-4001-BF21-8A49611E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B17C-51BA-46D8-AB9A-0635CB4D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E1BC-2575-42B2-8478-F788663B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4F4-6689-4915-92B3-7C42B29A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7C12-48FB-4C20-8068-6BCB39ED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58DB-54F5-4249-9CF6-3E3B8D9F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D3A1-AFAC-4CA2-B205-DCFAF613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956B-5252-4B06-9E6D-D87980F1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FC0A-373B-408C-AACB-D6D95F61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311A-F5FD-4DAB-B0E6-78EA69A6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206E-3730-4F8B-A10A-DADEF1A1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0E7A-6E0A-461B-B437-815E9092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4A5418-F5BC-4054-9B03-0CAE438411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560" y="4653000"/>
            <a:ext cx="799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одготовила: педагог-психолог МБДОУ «ЦРР детский сад № 3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                     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Тимохина Светла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332000" y="1484280"/>
            <a:ext cx="6551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пользование цветотерапи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коррекции дошкольников  с ЗП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Основные диагностические признаки ЗПР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зрелость эмоционально-волевой сфер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рушение интеллектуальной работоспособн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нцефалопатические расстрой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рушения предпосылок интеллект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Особенности эмоционально-волевой сферы детей с ЗП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оциональная незрелость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орможенность психических процессов, повышенная возбудим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развитой самооценки, устойчивости и крит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зкая потребность в общении сочетается с дезадаптивными формами взаимо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ая незрелость приводит детей к зависимости от более волевых членов коллектива, подчинённости 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042920" y="141300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.С. Выготски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одчеркивал, что эмоциональная сторона личности ребенка имеет не меньше значение, чем другие стороны, и составляет предмет и заботу воспитания в такой же мере, как ум и вол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66384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Технология психологического обследования ребенка с отклоняющимся развитием 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(Н. Я. Семаго, М. М. Семаго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640" y="3068280"/>
            <a:ext cx="7920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 психологического анамне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ческое обслед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претация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ческое заклю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Этапы об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еда или проективная методика для установления контакта с ребёнком, определение зоны его информирова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восприя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вним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 пам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мыш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Исследование звуковой и смысловой стороны речевой 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Исследование особенностей эмоционально-волевой 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Общие вы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. Психолого-педагогические рекоменд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Этапы обслед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36720" y="907560"/>
            <a:ext cx="46069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Цветотерап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в коррекции эмоциональной сферы дет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с ЗП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055680" cy="2038320"/>
          </a:xfrm>
          <a:prstGeom prst="rect">
            <a:avLst/>
          </a:prstGeom>
          <a:ln cap="rnd" w="57240">
            <a:solidFill>
              <a:srgbClr val="0000ff"/>
            </a:solidFill>
            <a:custDash>
              <a:ds d="100000" sp="1000"/>
            </a:custDash>
            <a:round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2880000" cy="2108160"/>
          </a:xfrm>
          <a:prstGeom prst="rect">
            <a:avLst/>
          </a:prstGeom>
          <a:ln cap="rnd" w="57240">
            <a:solidFill>
              <a:srgbClr val="3333cc"/>
            </a:solidFill>
            <a:custDash>
              <a:ds d="100000" sp="1000"/>
            </a:custDash>
            <a:round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492360" y="3357720"/>
            <a:ext cx="1594080" cy="2089080"/>
          </a:xfrm>
          <a:prstGeom prst="rect">
            <a:avLst/>
          </a:prstGeom>
          <a:ln cap="rnd" w="57240">
            <a:solidFill>
              <a:srgbClr val="3333cc"/>
            </a:solidFill>
            <a:custDash>
              <a:ds d="100000" sp="1000"/>
            </a:custDash>
            <a:round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8227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отри, как схо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шевны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радуги убр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 радуга и жизн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 и то ж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В. Г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Цветотерпия – лечение цве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58920" y="1413000"/>
            <a:ext cx="40546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отерапия основана на влиянии фотонов света различной длины волны на мозг чело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tsveto1610"/>
          <p:cNvPicPr/>
          <p:nvPr/>
        </p:nvPicPr>
        <p:blipFill>
          <a:blip r:embed="rId1"/>
          <a:stretch/>
        </p:blipFill>
        <p:spPr>
          <a:xfrm>
            <a:off x="468360" y="1484280"/>
            <a:ext cx="2286000" cy="1619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f_18932708"/>
          <p:cNvPicPr/>
          <p:nvPr/>
        </p:nvPicPr>
        <p:blipFill>
          <a:blip r:embed="rId2"/>
          <a:stretch/>
        </p:blipFill>
        <p:spPr>
          <a:xfrm>
            <a:off x="1763640" y="2924280"/>
            <a:ext cx="3025800" cy="2027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3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История цветотерап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140989_view"/>
          <p:cNvPicPr/>
          <p:nvPr/>
        </p:nvPicPr>
        <p:blipFill>
          <a:blip r:embed="rId1"/>
          <a:stretch/>
        </p:blipFill>
        <p:spPr>
          <a:xfrm>
            <a:off x="826920" y="2421000"/>
            <a:ext cx="3600720" cy="2700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4716360" y="2421000"/>
            <a:ext cx="39592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ветотерап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дилас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древност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Понятие о ЗП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ПР у детей - это временн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тойкое и обратим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ическое недоразви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Ученые считаю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40000" y="1267920"/>
            <a:ext cx="48243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ременные ученые считают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ветотерап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вляется одним из самых перспектив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ов лечения и оздоровл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Bioptron-kompakt3_cvetoterap-500x500"/>
          <p:cNvPicPr/>
          <p:nvPr/>
        </p:nvPicPr>
        <p:blipFill>
          <a:blip r:embed="rId1"/>
          <a:stretch/>
        </p:blipFill>
        <p:spPr>
          <a:xfrm>
            <a:off x="250920" y="2060640"/>
            <a:ext cx="4105080" cy="2855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971640" y="33336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Цветотерапию изучают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11280" y="1484280"/>
            <a:ext cx="47512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Физика цвет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Психофизика цвет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Психология цвета.</a:t>
            </a:r>
            <a:br>
              <a:rPr sz="4000"/>
            </a:b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651640" y="1197000"/>
            <a:ext cx="2519280" cy="1341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651640" y="2708280"/>
            <a:ext cx="1539720" cy="1728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940360" y="4221000"/>
            <a:ext cx="2657520" cy="17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Цвет – пища для моз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76360" y="3644640"/>
            <a:ext cx="3824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ш мозг, полагают ученые, воспринимает цвет точно так же, как желудок еду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1"/>
          <p:cNvPicPr/>
          <p:nvPr/>
        </p:nvPicPr>
        <p:blipFill>
          <a:blip r:embed="rId1"/>
          <a:stretch/>
        </p:blipFill>
        <p:spPr>
          <a:xfrm>
            <a:off x="468360" y="1413000"/>
            <a:ext cx="2374920" cy="2257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e761327e6968_3"/>
          <p:cNvPicPr/>
          <p:nvPr/>
        </p:nvPicPr>
        <p:blipFill>
          <a:blip r:embed="rId2"/>
          <a:stretch/>
        </p:blipFill>
        <p:spPr>
          <a:xfrm>
            <a:off x="2050920" y="2924280"/>
            <a:ext cx="2787840" cy="2394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5364000" y="1413000"/>
            <a:ext cx="331164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ечатления – «пища» для душ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а                Г.И. Гурджиев     (религиозный психо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3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5"/>
          <p:cNvSpPr/>
          <p:nvPr/>
        </p:nvSpPr>
        <p:spPr>
          <a:xfrm>
            <a:off x="395280" y="549360"/>
            <a:ext cx="5904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ЦВЕТОТЕРАП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основных направлениях психолого-педагогической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6" descr="75223779_139"/>
          <p:cNvPicPr/>
          <p:nvPr/>
        </p:nvPicPr>
        <p:blipFill>
          <a:blip r:embed="rId1"/>
          <a:stretch/>
        </p:blipFill>
        <p:spPr>
          <a:xfrm>
            <a:off x="5148360" y="3284640"/>
            <a:ext cx="3313080" cy="22780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826920" y="4005360"/>
            <a:ext cx="40323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"Цвет есть жизнь," 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тверждал английский  философ и естествоиспытатель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. Бэк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2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Цветотерапия в психологической профилактике  и просвещ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859280" y="198900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826920" y="1989000"/>
            <a:ext cx="7632720" cy="1008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инары-практикумы д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ов и род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826920" y="3284640"/>
            <a:ext cx="7705800" cy="8650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2077560" y="3357720"/>
            <a:ext cx="54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ки, информационные лис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4"/>
          <p:cNvSpPr/>
          <p:nvPr/>
        </p:nvSpPr>
        <p:spPr>
          <a:xfrm>
            <a:off x="971640" y="4508640"/>
            <a:ext cx="7559640" cy="1152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нинги с использовани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медийных технолог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Цветотерапия 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в психологической диагност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3348000" y="3645000"/>
            <a:ext cx="2521080" cy="23032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Разноцвет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нички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Орлов В.В.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лецкая Л.В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250920" y="3573360"/>
            <a:ext cx="2881080" cy="2232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и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моциональ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оя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Э. Т. Дорофеев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3276720" y="1557360"/>
            <a:ext cx="2592360" cy="1800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Домики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О.А. Орехов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971640" y="1773360"/>
            <a:ext cx="2016000" cy="12967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ш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5435640" y="1916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156360" y="1700280"/>
            <a:ext cx="2305080" cy="17287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ветов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иров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Э. Бресла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6084720" y="3645000"/>
            <a:ext cx="2735280" cy="2160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Эмоциональ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ветопис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А.Н.Лутошки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Цветотерапия в психологическом консультиров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324000" y="2852640"/>
            <a:ext cx="8569080" cy="107964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торой этап – «Сбор информаци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324000" y="1700280"/>
            <a:ext cx="8569080" cy="9367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этап – «Приветствие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324000" y="4149720"/>
            <a:ext cx="8569080" cy="1224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тий этап – «Стратегический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Цветотерапия в развивающей и коррекционной рабо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979640" y="2349360"/>
            <a:ext cx="5545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Цвет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продукт света, вызывающий эмоции"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 В. Гет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Учение о цвете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8040"/>
            <a:ext cx="82296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асный цвет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уется при коррекции страхов, инертности, апат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55964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419400"/>
            <a:ext cx="82296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Оранжевый цв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уется при коррекции застенчивости, замкнутости, скованности дви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626160" cy="43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чины возникновения ЗПР 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М.С. Певзнер и Т.А. Власова)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Неблагоприятное течение берем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Патология 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Социальные факт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Наследственные фак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-675000"/>
            <a:ext cx="856908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Желтый цв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уется при коррекции гиперактивности, формировании самоконтроля, повышении самооце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403280" y="2205000"/>
            <a:ext cx="6624720" cy="41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419400"/>
            <a:ext cx="82296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Зеленый цв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уется при коррекции возбудимости, тревожности, гипера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6335640" cy="42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419400"/>
            <a:ext cx="82296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99ff"/>
                </a:solidFill>
                <a:latin typeface="Arial"/>
              </a:rPr>
              <a:t>Голубой цв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уется при коррекции тревожности, агрессивности, повышенной возбуд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481320"/>
            <a:ext cx="8229600" cy="26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иний цв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уется при коррекции невротических реакций, беспокойства, возбудимости, агре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5832360" cy="42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1395720"/>
            <a:ext cx="868680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66cc"/>
                </a:solidFill>
                <a:latin typeface="Arial"/>
              </a:rPr>
              <a:t>Розовый цв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уется при коррекции неусидчивости, неумении концентрировать внимание, переутомлении, невротических реакц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2771640" y="2903400"/>
            <a:ext cx="3745080" cy="347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62" name="WordArt 3"/>
          <p:cNvSpPr txBox="1"/>
          <p:nvPr/>
        </p:nvSpPr>
        <p:spPr>
          <a:xfrm>
            <a:off x="3059280" y="2060640"/>
            <a:ext cx="32446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ОТЕРАП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Line 4"/>
          <p:cNvSpPr/>
          <p:nvPr/>
        </p:nvSpPr>
        <p:spPr>
          <a:xfrm flipH="1">
            <a:off x="2771640" y="2637000"/>
            <a:ext cx="432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6300720" y="263700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1116000" y="3357720"/>
            <a:ext cx="3672000" cy="1150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5292720" y="3284640"/>
            <a:ext cx="3382920" cy="1081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руппо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3"/>
          <p:cNvSpPr txBox="1"/>
          <p:nvPr/>
        </p:nvSpPr>
        <p:spPr>
          <a:xfrm>
            <a:off x="3203640" y="836640"/>
            <a:ext cx="32446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ОТЕРАП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4788000" y="1341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5"/>
          <p:cNvSpPr/>
          <p:nvPr/>
        </p:nvSpPr>
        <p:spPr>
          <a:xfrm>
            <a:off x="1476360" y="1916280"/>
            <a:ext cx="6769080" cy="934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рекция эмоциональной сфе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4859280" y="285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1403280" y="3500280"/>
            <a:ext cx="7128000" cy="1150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е познавательных процес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3348000" y="2349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ВЕТОТЕРАП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 flipH="1" flipV="1">
            <a:off x="2555640" y="2852640"/>
            <a:ext cx="647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 flipH="1">
            <a:off x="2916000" y="386064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15"/>
          <p:cNvSpPr/>
          <p:nvPr/>
        </p:nvSpPr>
        <p:spPr>
          <a:xfrm>
            <a:off x="468360" y="1700280"/>
            <a:ext cx="2951280" cy="1224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зыкотерап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16"/>
          <p:cNvSpPr/>
          <p:nvPr/>
        </p:nvSpPr>
        <p:spPr>
          <a:xfrm>
            <a:off x="468360" y="4221000"/>
            <a:ext cx="2879640" cy="1297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тотерап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8"/>
          <p:cNvSpPr/>
          <p:nvPr/>
        </p:nvSpPr>
        <p:spPr>
          <a:xfrm>
            <a:off x="6156360" y="4221000"/>
            <a:ext cx="2808360" cy="1224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отерап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20"/>
          <p:cNvSpPr/>
          <p:nvPr/>
        </p:nvSpPr>
        <p:spPr>
          <a:xfrm>
            <a:off x="6156360" y="1700280"/>
            <a:ext cx="2809800" cy="1297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отерап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 flipV="1">
            <a:off x="6300720" y="270792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4"/>
          <p:cNvSpPr/>
          <p:nvPr/>
        </p:nvSpPr>
        <p:spPr>
          <a:xfrm>
            <a:off x="6300720" y="3860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WordArt 25"/>
          <p:cNvSpPr txBox="1"/>
          <p:nvPr/>
        </p:nvSpPr>
        <p:spPr>
          <a:xfrm>
            <a:off x="3132000" y="3429000"/>
            <a:ext cx="32450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ОТЕРАП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324000" y="404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оррекция эмоциональной сфе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27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85" name="Line 28"/>
          <p:cNvSpPr/>
          <p:nvPr/>
        </p:nvSpPr>
        <p:spPr>
          <a:xfrm flipV="1">
            <a:off x="4859280" y="2492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29"/>
          <p:cNvSpPr/>
          <p:nvPr/>
        </p:nvSpPr>
        <p:spPr>
          <a:xfrm>
            <a:off x="3203640" y="1125360"/>
            <a:ext cx="3168720" cy="1582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ветомедит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32"/>
          <p:cNvSpPr/>
          <p:nvPr/>
        </p:nvSpPr>
        <p:spPr>
          <a:xfrm>
            <a:off x="3276720" y="4508640"/>
            <a:ext cx="2950920" cy="1514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ьер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вающ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59280" y="3933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324000" y="33336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Развитие познавательных проце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91" name="WordArt 6"/>
          <p:cNvSpPr txBox="1"/>
          <p:nvPr/>
        </p:nvSpPr>
        <p:spPr>
          <a:xfrm>
            <a:off x="3132000" y="2997360"/>
            <a:ext cx="32450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ОТЕРАП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Line 7"/>
          <p:cNvSpPr/>
          <p:nvPr/>
        </p:nvSpPr>
        <p:spPr>
          <a:xfrm flipH="1" flipV="1">
            <a:off x="2627280" y="2349000"/>
            <a:ext cx="50472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8"/>
          <p:cNvSpPr/>
          <p:nvPr/>
        </p:nvSpPr>
        <p:spPr>
          <a:xfrm flipV="1">
            <a:off x="4716360" y="234900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9"/>
          <p:cNvSpPr/>
          <p:nvPr/>
        </p:nvSpPr>
        <p:spPr>
          <a:xfrm flipV="1">
            <a:off x="6372360" y="234900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 flipH="1">
            <a:off x="3419640" y="3500280"/>
            <a:ext cx="288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900000" y="1268280"/>
            <a:ext cx="2592360" cy="10796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15"/>
          <p:cNvSpPr/>
          <p:nvPr/>
        </p:nvSpPr>
        <p:spPr>
          <a:xfrm>
            <a:off x="3564000" y="1268280"/>
            <a:ext cx="2376360" cy="1008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их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Oval 17"/>
          <p:cNvSpPr/>
          <p:nvPr/>
        </p:nvSpPr>
        <p:spPr>
          <a:xfrm>
            <a:off x="6084720" y="1197000"/>
            <a:ext cx="2303640" cy="1081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еш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Oval 19"/>
          <p:cNvSpPr/>
          <p:nvPr/>
        </p:nvSpPr>
        <p:spPr>
          <a:xfrm>
            <a:off x="1116000" y="4005360"/>
            <a:ext cx="3095640" cy="1368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116000" y="4221000"/>
            <a:ext cx="328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дактическ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Oval 23"/>
          <p:cNvSpPr/>
          <p:nvPr/>
        </p:nvSpPr>
        <p:spPr>
          <a:xfrm>
            <a:off x="5003640" y="4005360"/>
            <a:ext cx="3168720" cy="1368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5867280" y="3429000"/>
            <a:ext cx="287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5435640" y="4221000"/>
            <a:ext cx="23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овицы и поговор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05" name="WordArt 22"/>
          <p:cNvSpPr txBox="1"/>
          <p:nvPr/>
        </p:nvSpPr>
        <p:spPr>
          <a:xfrm>
            <a:off x="3132000" y="2997360"/>
            <a:ext cx="32450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ОТЕРАП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cxnSp>
        <p:nvCxnSpPr>
          <p:cNvPr id="206" name="AutoShape 25"/>
          <p:cNvCxnSpPr/>
          <p:nvPr/>
        </p:nvCxnSpPr>
        <p:spPr>
          <a:xfrm flipH="1">
            <a:off x="2699640" y="3500280"/>
            <a:ext cx="4323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Line 26"/>
          <p:cNvSpPr/>
          <p:nvPr/>
        </p:nvSpPr>
        <p:spPr>
          <a:xfrm>
            <a:off x="485928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7"/>
          <p:cNvSpPr/>
          <p:nvPr/>
        </p:nvSpPr>
        <p:spPr>
          <a:xfrm>
            <a:off x="6300720" y="3429000"/>
            <a:ext cx="358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8"/>
          <p:cNvSpPr/>
          <p:nvPr/>
        </p:nvSpPr>
        <p:spPr>
          <a:xfrm flipH="1" flipV="1">
            <a:off x="2700000" y="2420640"/>
            <a:ext cx="358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9"/>
          <p:cNvSpPr/>
          <p:nvPr/>
        </p:nvSpPr>
        <p:spPr>
          <a:xfrm flipV="1">
            <a:off x="4716360" y="2276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30"/>
          <p:cNvSpPr/>
          <p:nvPr/>
        </p:nvSpPr>
        <p:spPr>
          <a:xfrm flipV="1">
            <a:off x="6300720" y="2349360"/>
            <a:ext cx="3589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1"/>
          <p:cNvSpPr/>
          <p:nvPr/>
        </p:nvSpPr>
        <p:spPr>
          <a:xfrm>
            <a:off x="611280" y="1413000"/>
            <a:ext cx="2663640" cy="107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сихол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32"/>
          <p:cNvSpPr/>
          <p:nvPr/>
        </p:nvSpPr>
        <p:spPr>
          <a:xfrm>
            <a:off x="3492360" y="1268280"/>
            <a:ext cx="2160720" cy="936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т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val 33"/>
          <p:cNvSpPr/>
          <p:nvPr/>
        </p:nvSpPr>
        <p:spPr>
          <a:xfrm>
            <a:off x="6012000" y="1268280"/>
            <a:ext cx="2665440" cy="1150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ль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val 34"/>
          <p:cNvSpPr/>
          <p:nvPr/>
        </p:nvSpPr>
        <p:spPr>
          <a:xfrm>
            <a:off x="6300720" y="3933720"/>
            <a:ext cx="2664000" cy="1008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 по ИЗ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35"/>
          <p:cNvSpPr/>
          <p:nvPr/>
        </p:nvSpPr>
        <p:spPr>
          <a:xfrm>
            <a:off x="3635280" y="4149720"/>
            <a:ext cx="2376720" cy="1008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опе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36"/>
          <p:cNvSpPr/>
          <p:nvPr/>
        </p:nvSpPr>
        <p:spPr>
          <a:xfrm>
            <a:off x="539640" y="4005360"/>
            <a:ext cx="2808360" cy="107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ицин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с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37"/>
          <p:cNvSpPr/>
          <p:nvPr/>
        </p:nvSpPr>
        <p:spPr>
          <a:xfrm>
            <a:off x="1258920" y="4046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Могут использовать в ДОУ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лассификация К.С. Лебединской (1980)</a:t>
            </a:r>
            <a:r>
              <a:rPr b="1" lang="ar-SA" sz="3600" spc="-1" strike="noStrike">
                <a:solidFill>
                  <a:srgbClr val="009900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ЗПР конституционального происхо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Задержка психического развития соматогенного генез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Задержка психического развития психогенного гене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Задержка церебрально-органического гене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7"/>
          <p:cNvSpPr/>
          <p:nvPr/>
        </p:nvSpPr>
        <p:spPr>
          <a:xfrm>
            <a:off x="755640" y="69228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5870520" y="4581360"/>
            <a:ext cx="21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ветотерап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620000" y="4581360"/>
            <a:ext cx="18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руппов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ветотерап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7" descr="P1030488"/>
          <p:cNvPicPr/>
          <p:nvPr/>
        </p:nvPicPr>
        <p:blipFill>
          <a:blip r:embed="rId2"/>
          <a:stretch/>
        </p:blipFill>
        <p:spPr>
          <a:xfrm>
            <a:off x="5003640" y="1916280"/>
            <a:ext cx="3529080" cy="2538360"/>
          </a:xfrm>
          <a:prstGeom prst="rect">
            <a:avLst/>
          </a:prstGeom>
          <a:ln w="0">
            <a:noFill/>
          </a:ln>
        </p:spPr>
      </p:pic>
      <p:sp>
        <p:nvSpPr>
          <p:cNvPr id="224" name="WordArt 19"/>
          <p:cNvSpPr txBox="1"/>
          <p:nvPr/>
        </p:nvSpPr>
        <p:spPr>
          <a:xfrm>
            <a:off x="1116000" y="476280"/>
            <a:ext cx="727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нашем детском сад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5" name="Picture 21" descr="DSC00993"/>
          <p:cNvPicPr/>
          <p:nvPr/>
        </p:nvPicPr>
        <p:blipFill>
          <a:blip r:embed="rId3"/>
          <a:stretch/>
        </p:blipFill>
        <p:spPr>
          <a:xfrm>
            <a:off x="971640" y="1916280"/>
            <a:ext cx="3349440" cy="25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0" y="630864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DSC00704"/>
          <p:cNvPicPr/>
          <p:nvPr/>
        </p:nvPicPr>
        <p:blipFill>
          <a:blip r:embed="rId2"/>
          <a:stretch/>
        </p:blipFill>
        <p:spPr>
          <a:xfrm rot="657000">
            <a:off x="5724360" y="1700280"/>
            <a:ext cx="2953080" cy="22827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 rot="442200">
            <a:off x="6011640" y="3933360"/>
            <a:ext cx="17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терап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 rot="625800">
            <a:off x="5148000" y="6021000"/>
            <a:ext cx="19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зкотерап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10" descr="DSC00774"/>
          <p:cNvPicPr/>
          <p:nvPr/>
        </p:nvPicPr>
        <p:blipFill>
          <a:blip r:embed="rId3"/>
          <a:srcRect l="6880" t="0" r="0" b="-699"/>
          <a:stretch/>
        </p:blipFill>
        <p:spPr>
          <a:xfrm rot="21073200">
            <a:off x="1476360" y="4076280"/>
            <a:ext cx="2448000" cy="1868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DSC00846"/>
          <p:cNvPicPr/>
          <p:nvPr/>
        </p:nvPicPr>
        <p:blipFill>
          <a:blip r:embed="rId4"/>
          <a:srcRect l="10313" t="13759" r="-988" b="9328"/>
          <a:stretch/>
        </p:blipFill>
        <p:spPr>
          <a:xfrm rot="600600">
            <a:off x="4788000" y="4292640"/>
            <a:ext cx="2808360" cy="17874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2"/>
          <p:cNvSpPr/>
          <p:nvPr/>
        </p:nvSpPr>
        <p:spPr>
          <a:xfrm rot="21157800">
            <a:off x="2127600" y="587700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лаксац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WordArt 14"/>
          <p:cNvSpPr txBox="1"/>
          <p:nvPr/>
        </p:nvSpPr>
        <p:spPr>
          <a:xfrm>
            <a:off x="1116000" y="476280"/>
            <a:ext cx="727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нашем детском сад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4" name="Text Box 16"/>
          <p:cNvSpPr/>
          <p:nvPr/>
        </p:nvSpPr>
        <p:spPr>
          <a:xfrm rot="21154200">
            <a:off x="1335600" y="371592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т-терап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3276720" y="2637000"/>
            <a:ext cx="23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Цветотерапия чер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19" descr="DSC00998"/>
          <p:cNvPicPr/>
          <p:nvPr/>
        </p:nvPicPr>
        <p:blipFill>
          <a:blip r:embed="rId5"/>
          <a:stretch/>
        </p:blipFill>
        <p:spPr>
          <a:xfrm rot="21177000">
            <a:off x="610920" y="1773360"/>
            <a:ext cx="2520720" cy="18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38" name="WordArt 5"/>
          <p:cNvSpPr txBox="1"/>
          <p:nvPr/>
        </p:nvSpPr>
        <p:spPr>
          <a:xfrm>
            <a:off x="1116000" y="476280"/>
            <a:ext cx="727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нашем детском сад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3710880" y="1989000"/>
            <a:ext cx="175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Каби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едагог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сихол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8" descr="DSC00885"/>
          <p:cNvPicPr/>
          <p:nvPr/>
        </p:nvPicPr>
        <p:blipFill>
          <a:blip r:embed="rId2"/>
          <a:stretch/>
        </p:blipFill>
        <p:spPr>
          <a:xfrm>
            <a:off x="2627280" y="3645000"/>
            <a:ext cx="1565280" cy="208908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  <p:pic>
        <p:nvPicPr>
          <p:cNvPr id="241" name="Picture 9" descr="DSC00893"/>
          <p:cNvPicPr/>
          <p:nvPr/>
        </p:nvPicPr>
        <p:blipFill>
          <a:blip r:embed="rId3"/>
          <a:stretch/>
        </p:blipFill>
        <p:spPr>
          <a:xfrm>
            <a:off x="6156360" y="1700280"/>
            <a:ext cx="1908000" cy="1431720"/>
          </a:xfrm>
          <a:prstGeom prst="rect">
            <a:avLst/>
          </a:prstGeom>
          <a:ln w="57240">
            <a:solidFill>
              <a:srgbClr val="bb052c"/>
            </a:solidFill>
            <a:miter/>
          </a:ln>
        </p:spPr>
      </p:pic>
      <p:pic>
        <p:nvPicPr>
          <p:cNvPr id="242" name="Picture 10" descr="DSC00891"/>
          <p:cNvPicPr/>
          <p:nvPr/>
        </p:nvPicPr>
        <p:blipFill>
          <a:blip r:embed="rId4"/>
          <a:stretch/>
        </p:blipFill>
        <p:spPr>
          <a:xfrm>
            <a:off x="5364000" y="3573360"/>
            <a:ext cx="1729080" cy="2160720"/>
          </a:xfrm>
          <a:prstGeom prst="rect">
            <a:avLst/>
          </a:prstGeom>
          <a:ln w="57240">
            <a:solidFill>
              <a:srgbClr val="3333cc"/>
            </a:solidFill>
            <a:miter/>
          </a:ln>
        </p:spPr>
      </p:pic>
      <p:pic>
        <p:nvPicPr>
          <p:cNvPr id="243" name="Picture 11" descr="DSC00982"/>
          <p:cNvPicPr/>
          <p:nvPr/>
        </p:nvPicPr>
        <p:blipFill>
          <a:blip r:embed="rId5"/>
          <a:stretch/>
        </p:blipFill>
        <p:spPr>
          <a:xfrm>
            <a:off x="1187280" y="1700280"/>
            <a:ext cx="2310120" cy="1549440"/>
          </a:xfrm>
          <a:prstGeom prst="rect">
            <a:avLst/>
          </a:prstGeom>
          <a:ln w="19080">
            <a:solidFill>
              <a:srgbClr val="808080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4"/>
          <p:cNvSpPr txBox="1"/>
          <p:nvPr/>
        </p:nvSpPr>
        <p:spPr>
          <a:xfrm>
            <a:off x="1116000" y="476280"/>
            <a:ext cx="727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нашем детском сад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3635280" y="1844640"/>
            <a:ext cx="18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або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де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1" descr="DSC00983"/>
          <p:cNvPicPr/>
          <p:nvPr/>
        </p:nvPicPr>
        <p:blipFill>
          <a:blip r:embed="rId2"/>
          <a:stretch/>
        </p:blipFill>
        <p:spPr>
          <a:xfrm rot="20867400">
            <a:off x="755640" y="1628640"/>
            <a:ext cx="2344680" cy="175896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248" name="Picture 12" descr="DSC00985"/>
          <p:cNvPicPr/>
          <p:nvPr/>
        </p:nvPicPr>
        <p:blipFill>
          <a:blip r:embed="rId3"/>
          <a:stretch/>
        </p:blipFill>
        <p:spPr>
          <a:xfrm rot="20222400">
            <a:off x="394920" y="4149720"/>
            <a:ext cx="1839960" cy="138096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249" name="Picture 13" descr="DSC00986"/>
          <p:cNvPicPr/>
          <p:nvPr/>
        </p:nvPicPr>
        <p:blipFill>
          <a:blip r:embed="rId4"/>
          <a:stretch/>
        </p:blipFill>
        <p:spPr>
          <a:xfrm rot="20938200">
            <a:off x="2771280" y="3573000"/>
            <a:ext cx="1393920" cy="194472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250" name="Text Box 14"/>
          <p:cNvSpPr/>
          <p:nvPr/>
        </p:nvSpPr>
        <p:spPr>
          <a:xfrm>
            <a:off x="971640" y="1989000"/>
            <a:ext cx="187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17" descr="DSC00990"/>
          <p:cNvPicPr/>
          <p:nvPr/>
        </p:nvPicPr>
        <p:blipFill>
          <a:blip r:embed="rId5"/>
          <a:stretch/>
        </p:blipFill>
        <p:spPr>
          <a:xfrm rot="1167000">
            <a:off x="5940360" y="1700280"/>
            <a:ext cx="2268720" cy="17017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252" name="Picture 18" descr="DSC00991"/>
          <p:cNvPicPr/>
          <p:nvPr/>
        </p:nvPicPr>
        <p:blipFill>
          <a:blip r:embed="rId6"/>
          <a:stretch/>
        </p:blipFill>
        <p:spPr>
          <a:xfrm rot="1485000">
            <a:off x="7235640" y="4292640"/>
            <a:ext cx="1625400" cy="121932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  <p:pic>
        <p:nvPicPr>
          <p:cNvPr id="253" name="Picture 19" descr="DSC00992"/>
          <p:cNvPicPr/>
          <p:nvPr/>
        </p:nvPicPr>
        <p:blipFill>
          <a:blip r:embed="rId7"/>
          <a:stretch/>
        </p:blipFill>
        <p:spPr>
          <a:xfrm rot="288000">
            <a:off x="4716360" y="3789360"/>
            <a:ext cx="2124000" cy="1593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55" name="WordArt 5"/>
          <p:cNvSpPr txBox="1"/>
          <p:nvPr/>
        </p:nvSpPr>
        <p:spPr>
          <a:xfrm>
            <a:off x="1116000" y="3284640"/>
            <a:ext cx="727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6" name="Picture 6" descr="ace885cd32fb"/>
          <p:cNvPicPr/>
          <p:nvPr/>
        </p:nvPicPr>
        <p:blipFill>
          <a:blip r:embed="rId2"/>
          <a:stretch/>
        </p:blipFill>
        <p:spPr>
          <a:xfrm>
            <a:off x="5003640" y="404640"/>
            <a:ext cx="3449880" cy="25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ЗПР конституционального происх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Обусловлен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яется наследствен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Проявления: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ты эмоционально-личностной незрел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 аффективные вспы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Прогно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прият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ЗПР соматогенного ген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Обусловлен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несенные в раннем детстве заболе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Проявлени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уверенность, роб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ынициатив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приз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Прогно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ЗПР психогенного ген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Обусловлен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благоприятные условия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Проявления: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ая работоспособ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азвитость произвольной регуля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Прогно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висимости от возможности перестройки стиля семейного воспит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ЗПР церебрально-органического 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генез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8560" y="1699920"/>
            <a:ext cx="6840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Обусловлен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бые и стойкие локальные нарушения созревания мозговых струк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Прогно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о в зависимости от глубины повреждения и возрастной динам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3613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ЗПР церебрально-органического 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ген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816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3333cc"/>
                </a:solidFill>
                <a:uFillTx/>
                <a:latin typeface="Arial"/>
              </a:rPr>
              <a:t>Проявления: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вариант: преобладание черт незрелости эмоциональной сферы по типу органического инфантилиз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вариант: доминирование симптомов поврежденности, низкий уровень овладения всеми видами произвольной деятельности задержка формирования предметно-манипулятивной, речевой, игровой, продуктивной и 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WORK</cp:lastModifiedBy>
  <dcterms:modified xsi:type="dcterms:W3CDTF">2012-04-24T16:41:04Z</dcterms:modified>
  <cp:revision>115</cp:revision>
  <dc:subject/>
  <dc:title>Использование цветотерапии в коррекции дошкольников с ЗПР</dc:title>
</cp:coreProperties>
</file>