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A3D-F91D-4A69-8B10-7491F79D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D7B-CB4E-4D12-A60C-9DC96D20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3D7-7FA7-472C-B713-63A01AF6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189-D084-4B9D-975D-35AD092D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F23-06D3-47D4-9243-2830BB96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07E-C851-41D1-8E22-EC13CDEB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1FC-8693-497C-84FB-10ABC5C3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830-1AF2-4E9B-AC27-839B98B3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3CC-7D26-4AD2-9445-4051AE86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30B-29E3-4BA6-82C7-40D535ED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21E-011E-427A-9D44-C19D353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968-1E92-4D6A-AC52-424AECA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155245-DB59-4683-B059-083C97102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465300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дготовила: педагог-психолог МБДОУ «ЦРР детский сад № 3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Тимохин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332000" y="1484280"/>
            <a:ext cx="655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пользование цветотерап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коррекции дошкольников  с ЗП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Основные диагностические признаки ЗП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релость эмоционально-волевой сфе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ушение интеллектуальной работоспособ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нцефалопатические расстрой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ушения предпосылок интеллект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Особенности эмоционально-волевой сферы детей с З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ая незрелость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орможенность психических процессов, повышенная возбуди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развитой самооценки, устойчивости и крит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ая потребность в общении сочетается с дезадаптивными формами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незрелость приводит детей к зависимости от более волевых членов коллектива, подчинённости 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042920" y="141300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.С. Выготск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дчеркивал, что эмоциональная сторона личности ребенка имеет не меньше значение, чем другие стороны, и составляет предмет и заботу воспитания в такой же мере, как ум и в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6638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Технология психологического обследования ребенка с отклоняющимся развитием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(Н. Я. Семаго, М. М. Семаг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3068280"/>
            <a:ext cx="7920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психологического анамн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ое об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претация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ое 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Этапы об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а или проективная методика для установления контакта с ребёнком, определение зоны его информирова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вос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вни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Исследование звуковой и смысловой стороны речев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Исследование особенностей эмоционально-волев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Общи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Психолого-педагогические рекоменд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Этапы об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36720" y="907560"/>
            <a:ext cx="4606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ап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в коррекции эмоциональной сферы дет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с ЗП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55680" cy="2038320"/>
          </a:xfrm>
          <a:prstGeom prst="rect">
            <a:avLst/>
          </a:prstGeom>
          <a:ln cap="rnd" w="57240">
            <a:solidFill>
              <a:srgbClr val="0000ff"/>
            </a:solidFill>
            <a:custDash>
              <a:ds d="100000" sp="1000"/>
            </a:custDash>
            <a:round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2880000" cy="2108160"/>
          </a:xfrm>
          <a:prstGeom prst="rect">
            <a:avLst/>
          </a:prstGeom>
          <a:ln cap="rnd" w="57240">
            <a:solidFill>
              <a:srgbClr val="3333cc"/>
            </a:solidFill>
            <a:custDash>
              <a:ds d="100000" sp="1000"/>
            </a:custDash>
            <a:round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1594080" cy="2089080"/>
          </a:xfrm>
          <a:prstGeom prst="rect">
            <a:avLst/>
          </a:prstGeom>
          <a:ln cap="rnd" w="57240">
            <a:solidFill>
              <a:srgbClr val="3333cc"/>
            </a:solidFill>
            <a:custDash>
              <a:ds d="100000" sp="1000"/>
            </a:custDash>
            <a:round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и, как сх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шев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дуги уб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 радуга и жизн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и то ж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В. Г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пия – лечение ц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40546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терапия основана на влиянии фотонов света различной длины волны на мозг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tsveto1610"/>
          <p:cNvPicPr/>
          <p:nvPr/>
        </p:nvPicPr>
        <p:blipFill>
          <a:blip r:embed="rId1"/>
          <a:stretch/>
        </p:blipFill>
        <p:spPr>
          <a:xfrm>
            <a:off x="468360" y="1484280"/>
            <a:ext cx="2286000" cy="161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_18932708"/>
          <p:cNvPicPr/>
          <p:nvPr/>
        </p:nvPicPr>
        <p:blipFill>
          <a:blip r:embed="rId2"/>
          <a:stretch/>
        </p:blipFill>
        <p:spPr>
          <a:xfrm>
            <a:off x="1763640" y="2924280"/>
            <a:ext cx="3025800" cy="202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История цветотерап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40989_view"/>
          <p:cNvPicPr/>
          <p:nvPr/>
        </p:nvPicPr>
        <p:blipFill>
          <a:blip r:embed="rId1"/>
          <a:stretch/>
        </p:blipFill>
        <p:spPr>
          <a:xfrm>
            <a:off x="826920" y="242100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4716360" y="2421000"/>
            <a:ext cx="3959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ветотерап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илас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древ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нятие о ЗП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ПР у детей - это времен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тойкое и обрати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ическое недо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Ученые считаю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40000" y="1267920"/>
            <a:ext cx="482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ые ученые считаю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ветотера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ется одним из самых перспект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ов лечения и оздоровл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Bioptron-kompakt3_cvetoterap-500x500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2855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71640" y="3333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апию изучаю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11280" y="1484280"/>
            <a:ext cx="47512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Физика цве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сихофизика цве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сихология цвета.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519280" cy="1341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1539720" cy="1728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940360" y="4221000"/>
            <a:ext cx="2657520" cy="17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 – пища для моз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76360" y="3644640"/>
            <a:ext cx="3824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мозг, полагают ученые, воспринимает цвет точно так же, как желудок е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"/>
          <p:cNvPicPr/>
          <p:nvPr/>
        </p:nvPicPr>
        <p:blipFill>
          <a:blip r:embed="rId1"/>
          <a:stretch/>
        </p:blipFill>
        <p:spPr>
          <a:xfrm>
            <a:off x="468360" y="1413000"/>
            <a:ext cx="2374920" cy="225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e761327e6968_3"/>
          <p:cNvPicPr/>
          <p:nvPr/>
        </p:nvPicPr>
        <p:blipFill>
          <a:blip r:embed="rId2"/>
          <a:stretch/>
        </p:blipFill>
        <p:spPr>
          <a:xfrm>
            <a:off x="2050920" y="2924280"/>
            <a:ext cx="2787840" cy="239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364000" y="1413000"/>
            <a:ext cx="331164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чатления – «пища» для душ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а                Г.И. Гурджиев     (религиозный психо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395280" y="549360"/>
            <a:ext cx="590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ЦВЕТОТЕРАП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сновных направлениях психолого-педагогическ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75223779_139"/>
          <p:cNvPicPr/>
          <p:nvPr/>
        </p:nvPicPr>
        <p:blipFill>
          <a:blip r:embed="rId1"/>
          <a:stretch/>
        </p:blipFill>
        <p:spPr>
          <a:xfrm>
            <a:off x="5148360" y="3284640"/>
            <a:ext cx="3313080" cy="227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826920" y="4005360"/>
            <a:ext cx="40323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Цвет есть жизнь," 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верждал английский  философ и естествоиспытател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. Бэк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ветотерапия в психологической профилактике  и просвещ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989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826920" y="1989000"/>
            <a:ext cx="7632720" cy="1008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нары-практикумы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ов и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826920" y="3284640"/>
            <a:ext cx="7705800" cy="865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077560" y="335772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ки, информационные лис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4"/>
          <p:cNvSpPr/>
          <p:nvPr/>
        </p:nvSpPr>
        <p:spPr>
          <a:xfrm>
            <a:off x="971640" y="4508640"/>
            <a:ext cx="7559640" cy="1152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инги с использова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йных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ветотерапия 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в психологической диагнос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348000" y="3645000"/>
            <a:ext cx="2521080" cy="23032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ноцвет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ч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рлов В.В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ецкая Л.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250920" y="3573360"/>
            <a:ext cx="2881080" cy="2232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. Т. Дорофее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276720" y="1557360"/>
            <a:ext cx="2592360" cy="180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оми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.А. Орех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971640" y="1773360"/>
            <a:ext cx="2016000" cy="129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ш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43564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56360" y="1700280"/>
            <a:ext cx="2305080" cy="1728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Э. Бресла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6084720" y="3645000"/>
            <a:ext cx="2735280" cy="216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моциона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пис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.Н.Лутош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ветотерапия в психологическом консультир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24000" y="2852640"/>
            <a:ext cx="8569080" cy="1079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ой этап – «Сбор информаци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324000" y="1700280"/>
            <a:ext cx="8569080" cy="93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этап – «Приветствие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24000" y="414972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 этап – «Стратегически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апия в развивающей и коррекционной рабо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979640" y="2349360"/>
            <a:ext cx="5545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Цвет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продукт света, вызывающий эмоции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В. Ге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чение о цвет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й цве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страхов, инертности, апа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559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ранжев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застенчивости, замкнутости, скованности дв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6160" cy="43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чины возникновения ЗПР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.С. Певзнер и Т.А. Власов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еблагоприятное течение берем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атология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Социальные фа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аследственны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-675000"/>
            <a:ext cx="856908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Желт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гиперактивности, формировании самоконтроля, повышении самооце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62472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Зелен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возбудимости, тревожности, гипер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335640" cy="42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Голубо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тревожности, агрессивности, повышенной возбуд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481320"/>
            <a:ext cx="822960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ини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невротических реакций, беспокойства, возбудимости, а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832360" cy="42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395720"/>
            <a:ext cx="86868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66cc"/>
                </a:solidFill>
                <a:latin typeface="Arial"/>
              </a:rPr>
              <a:t>Розов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неусидчивости, неумении концентрировать внимание, переутомлении, невротических реак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771640" y="2903400"/>
            <a:ext cx="3745080" cy="34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62" name="WordArt 3"/>
          <p:cNvSpPr txBox="1"/>
          <p:nvPr/>
        </p:nvSpPr>
        <p:spPr>
          <a:xfrm>
            <a:off x="3059280" y="2060640"/>
            <a:ext cx="3244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Line 4"/>
          <p:cNvSpPr/>
          <p:nvPr/>
        </p:nvSpPr>
        <p:spPr>
          <a:xfrm flipH="1">
            <a:off x="2771640" y="263700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6300720" y="263700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1116000" y="3357720"/>
            <a:ext cx="367200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5292720" y="3284640"/>
            <a:ext cx="3382920" cy="10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рупп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3203640" y="836640"/>
            <a:ext cx="3244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4788000" y="1341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1476360" y="1916280"/>
            <a:ext cx="676908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кция эмоциональной сф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85928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1403280" y="3500280"/>
            <a:ext cx="712800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ых проце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348000" y="2349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ОТЕРА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H="1" flipV="1">
            <a:off x="2555640" y="285264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2916000" y="386064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468360" y="1700280"/>
            <a:ext cx="2951280" cy="1224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468360" y="4221000"/>
            <a:ext cx="2879640" cy="1297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6156360" y="4221000"/>
            <a:ext cx="2808360" cy="1224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6156360" y="1700280"/>
            <a:ext cx="2809800" cy="1297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6300720" y="270792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6300720" y="3860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WordArt 25"/>
          <p:cNvSpPr txBox="1"/>
          <p:nvPr/>
        </p:nvSpPr>
        <p:spPr>
          <a:xfrm>
            <a:off x="3132000" y="3429000"/>
            <a:ext cx="3245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324000" y="404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оррекция эмоциональной 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7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85" name="Line 28"/>
          <p:cNvSpPr/>
          <p:nvPr/>
        </p:nvSpPr>
        <p:spPr>
          <a:xfrm flipV="1">
            <a:off x="485928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29"/>
          <p:cNvSpPr/>
          <p:nvPr/>
        </p:nvSpPr>
        <p:spPr>
          <a:xfrm>
            <a:off x="3203640" y="1125360"/>
            <a:ext cx="3168720" cy="1582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ветомеди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32"/>
          <p:cNvSpPr/>
          <p:nvPr/>
        </p:nvSpPr>
        <p:spPr>
          <a:xfrm>
            <a:off x="3276720" y="4508640"/>
            <a:ext cx="2950920" cy="1514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ьер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ющ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4000" y="333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азвитие познавательных проце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91" name="WordArt 6"/>
          <p:cNvSpPr txBox="1"/>
          <p:nvPr/>
        </p:nvSpPr>
        <p:spPr>
          <a:xfrm>
            <a:off x="3132000" y="2997360"/>
            <a:ext cx="3245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 flipV="1">
            <a:off x="2627280" y="2349000"/>
            <a:ext cx="504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 flipV="1">
            <a:off x="4716360" y="2349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6372360" y="234900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3419640" y="3500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900000" y="1268280"/>
            <a:ext cx="2592360" cy="1079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564000" y="1268280"/>
            <a:ext cx="2376360" cy="1008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6084720" y="1197000"/>
            <a:ext cx="2303640" cy="10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9"/>
          <p:cNvSpPr/>
          <p:nvPr/>
        </p:nvSpPr>
        <p:spPr>
          <a:xfrm>
            <a:off x="1116000" y="4005360"/>
            <a:ext cx="3095640" cy="1368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116000" y="4221000"/>
            <a:ext cx="32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23"/>
          <p:cNvSpPr/>
          <p:nvPr/>
        </p:nvSpPr>
        <p:spPr>
          <a:xfrm>
            <a:off x="5003640" y="4005360"/>
            <a:ext cx="3168720" cy="1368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5867280" y="342900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435640" y="422100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овицы и погово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05" name="WordArt 22"/>
          <p:cNvSpPr txBox="1"/>
          <p:nvPr/>
        </p:nvSpPr>
        <p:spPr>
          <a:xfrm>
            <a:off x="3132000" y="2997360"/>
            <a:ext cx="3245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cxnSp>
        <p:nvCxnSpPr>
          <p:cNvPr id="206" name="AutoShape 25"/>
          <p:cNvCxnSpPr/>
          <p:nvPr/>
        </p:nvCxnSpPr>
        <p:spPr>
          <a:xfrm flipH="1">
            <a:off x="2699640" y="3500280"/>
            <a:ext cx="43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Line 26"/>
          <p:cNvSpPr/>
          <p:nvPr/>
        </p:nvSpPr>
        <p:spPr>
          <a:xfrm>
            <a:off x="485928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00720" y="342900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 flipH="1" flipV="1">
            <a:off x="2700000" y="242064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 flipV="1">
            <a:off x="4716360" y="22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 flipV="1">
            <a:off x="6300720" y="234936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1"/>
          <p:cNvSpPr/>
          <p:nvPr/>
        </p:nvSpPr>
        <p:spPr>
          <a:xfrm>
            <a:off x="611280" y="1413000"/>
            <a:ext cx="2663640" cy="10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32"/>
          <p:cNvSpPr/>
          <p:nvPr/>
        </p:nvSpPr>
        <p:spPr>
          <a:xfrm>
            <a:off x="3492360" y="1268280"/>
            <a:ext cx="2160720" cy="936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33"/>
          <p:cNvSpPr/>
          <p:nvPr/>
        </p:nvSpPr>
        <p:spPr>
          <a:xfrm>
            <a:off x="6012000" y="1268280"/>
            <a:ext cx="266544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6300720" y="3933720"/>
            <a:ext cx="2664000" cy="1008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 по ИЗ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35"/>
          <p:cNvSpPr/>
          <p:nvPr/>
        </p:nvSpPr>
        <p:spPr>
          <a:xfrm>
            <a:off x="3635280" y="4149720"/>
            <a:ext cx="2376720" cy="1008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оп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36"/>
          <p:cNvSpPr/>
          <p:nvPr/>
        </p:nvSpPr>
        <p:spPr>
          <a:xfrm>
            <a:off x="539640" y="4005360"/>
            <a:ext cx="2808360" cy="10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258920" y="40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огут использовать в ДОУ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лассификация К.С. Лебединской (1980)</a:t>
            </a:r>
            <a:r>
              <a:rPr b="1" lang="ar-SA" sz="3600" spc="-1" strike="noStrike">
                <a:solidFill>
                  <a:srgbClr val="0099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ЗПР конституциональн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адержка психического развития соматогенного генез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держка психического развития психогенного ген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Задержка церебрально-органического ген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755640" y="692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870520" y="458136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отера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620000" y="4581360"/>
            <a:ext cx="18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рупп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отера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7" descr="P1030488"/>
          <p:cNvPicPr/>
          <p:nvPr/>
        </p:nvPicPr>
        <p:blipFill>
          <a:blip r:embed="rId2"/>
          <a:stretch/>
        </p:blipFill>
        <p:spPr>
          <a:xfrm>
            <a:off x="5003640" y="1916280"/>
            <a:ext cx="3529080" cy="2538360"/>
          </a:xfrm>
          <a:prstGeom prst="rect">
            <a:avLst/>
          </a:prstGeom>
          <a:ln w="0">
            <a:noFill/>
          </a:ln>
        </p:spPr>
      </p:pic>
      <p:sp>
        <p:nvSpPr>
          <p:cNvPr id="224" name="WordArt 19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5" name="Picture 21" descr="DSC00993"/>
          <p:cNvPicPr/>
          <p:nvPr/>
        </p:nvPicPr>
        <p:blipFill>
          <a:blip r:embed="rId3"/>
          <a:stretch/>
        </p:blipFill>
        <p:spPr>
          <a:xfrm>
            <a:off x="971640" y="1916280"/>
            <a:ext cx="3349440" cy="25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DSC00704"/>
          <p:cNvPicPr/>
          <p:nvPr/>
        </p:nvPicPr>
        <p:blipFill>
          <a:blip r:embed="rId2"/>
          <a:stretch/>
        </p:blipFill>
        <p:spPr>
          <a:xfrm rot="657000">
            <a:off x="5724360" y="1700280"/>
            <a:ext cx="2953080" cy="22827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 rot="442200">
            <a:off x="6011640" y="3933360"/>
            <a:ext cx="17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терап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 rot="625800">
            <a:off x="5148000" y="6021000"/>
            <a:ext cx="19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котерап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0" descr="DSC00774"/>
          <p:cNvPicPr/>
          <p:nvPr/>
        </p:nvPicPr>
        <p:blipFill>
          <a:blip r:embed="rId3"/>
          <a:srcRect l="6880" t="0" r="0" b="-699"/>
          <a:stretch/>
        </p:blipFill>
        <p:spPr>
          <a:xfrm rot="21073200">
            <a:off x="1476360" y="4076280"/>
            <a:ext cx="2448000" cy="1868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DSC00846"/>
          <p:cNvPicPr/>
          <p:nvPr/>
        </p:nvPicPr>
        <p:blipFill>
          <a:blip r:embed="rId4"/>
          <a:srcRect l="10313" t="13759" r="-988" b="9328"/>
          <a:stretch/>
        </p:blipFill>
        <p:spPr>
          <a:xfrm rot="600600">
            <a:off x="4788000" y="4292640"/>
            <a:ext cx="2808360" cy="1787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2"/>
          <p:cNvSpPr/>
          <p:nvPr/>
        </p:nvSpPr>
        <p:spPr>
          <a:xfrm rot="21157800">
            <a:off x="2127600" y="58770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акса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WordArt 14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Text Box 16"/>
          <p:cNvSpPr/>
          <p:nvPr/>
        </p:nvSpPr>
        <p:spPr>
          <a:xfrm rot="21154200">
            <a:off x="1335600" y="37159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т-терап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3276720" y="26370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Цветотерапия чер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19" descr="DSC00998"/>
          <p:cNvPicPr/>
          <p:nvPr/>
        </p:nvPicPr>
        <p:blipFill>
          <a:blip r:embed="rId5"/>
          <a:stretch/>
        </p:blipFill>
        <p:spPr>
          <a:xfrm rot="21177000">
            <a:off x="610920" y="1773360"/>
            <a:ext cx="252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710880" y="1989000"/>
            <a:ext cx="175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аби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едагог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сихо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8" descr="DSC00885"/>
          <p:cNvPicPr/>
          <p:nvPr/>
        </p:nvPicPr>
        <p:blipFill>
          <a:blip r:embed="rId2"/>
          <a:stretch/>
        </p:blipFill>
        <p:spPr>
          <a:xfrm>
            <a:off x="2627280" y="3645000"/>
            <a:ext cx="1565280" cy="20890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241" name="Picture 9" descr="DSC00893"/>
          <p:cNvPicPr/>
          <p:nvPr/>
        </p:nvPicPr>
        <p:blipFill>
          <a:blip r:embed="rId3"/>
          <a:stretch/>
        </p:blipFill>
        <p:spPr>
          <a:xfrm>
            <a:off x="6156360" y="1700280"/>
            <a:ext cx="1908000" cy="1431720"/>
          </a:xfrm>
          <a:prstGeom prst="rect">
            <a:avLst/>
          </a:prstGeom>
          <a:ln w="57240">
            <a:solidFill>
              <a:srgbClr val="bb052c"/>
            </a:solidFill>
            <a:miter/>
          </a:ln>
        </p:spPr>
      </p:pic>
      <p:pic>
        <p:nvPicPr>
          <p:cNvPr id="242" name="Picture 10" descr="DSC00891"/>
          <p:cNvPicPr/>
          <p:nvPr/>
        </p:nvPicPr>
        <p:blipFill>
          <a:blip r:embed="rId4"/>
          <a:stretch/>
        </p:blipFill>
        <p:spPr>
          <a:xfrm>
            <a:off x="5364000" y="3573360"/>
            <a:ext cx="1729080" cy="216072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pic>
        <p:nvPicPr>
          <p:cNvPr id="243" name="Picture 11" descr="DSC00982"/>
          <p:cNvPicPr/>
          <p:nvPr/>
        </p:nvPicPr>
        <p:blipFill>
          <a:blip r:embed="rId5"/>
          <a:stretch/>
        </p:blipFill>
        <p:spPr>
          <a:xfrm>
            <a:off x="1187280" y="1700280"/>
            <a:ext cx="2310120" cy="154944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3635280" y="1844640"/>
            <a:ext cx="18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б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DSC00983"/>
          <p:cNvPicPr/>
          <p:nvPr/>
        </p:nvPicPr>
        <p:blipFill>
          <a:blip r:embed="rId2"/>
          <a:stretch/>
        </p:blipFill>
        <p:spPr>
          <a:xfrm rot="20867400">
            <a:off x="755640" y="1628640"/>
            <a:ext cx="2344680" cy="175896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248" name="Picture 12" descr="DSC00985"/>
          <p:cNvPicPr/>
          <p:nvPr/>
        </p:nvPicPr>
        <p:blipFill>
          <a:blip r:embed="rId3"/>
          <a:stretch/>
        </p:blipFill>
        <p:spPr>
          <a:xfrm rot="20222400">
            <a:off x="394920" y="4149720"/>
            <a:ext cx="1839960" cy="138096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249" name="Picture 13" descr="DSC00986"/>
          <p:cNvPicPr/>
          <p:nvPr/>
        </p:nvPicPr>
        <p:blipFill>
          <a:blip r:embed="rId4"/>
          <a:stretch/>
        </p:blipFill>
        <p:spPr>
          <a:xfrm rot="20938200">
            <a:off x="2771280" y="3573000"/>
            <a:ext cx="1393920" cy="194472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250" name="Text Box 14"/>
          <p:cNvSpPr/>
          <p:nvPr/>
        </p:nvSpPr>
        <p:spPr>
          <a:xfrm>
            <a:off x="971640" y="198900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DSC00990"/>
          <p:cNvPicPr/>
          <p:nvPr/>
        </p:nvPicPr>
        <p:blipFill>
          <a:blip r:embed="rId5"/>
          <a:stretch/>
        </p:blipFill>
        <p:spPr>
          <a:xfrm rot="1167000">
            <a:off x="5940360" y="1700280"/>
            <a:ext cx="2268720" cy="1701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252" name="Picture 18" descr="DSC00991"/>
          <p:cNvPicPr/>
          <p:nvPr/>
        </p:nvPicPr>
        <p:blipFill>
          <a:blip r:embed="rId6"/>
          <a:stretch/>
        </p:blipFill>
        <p:spPr>
          <a:xfrm rot="1485000">
            <a:off x="7235640" y="4292640"/>
            <a:ext cx="1625400" cy="12193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253" name="Picture 19" descr="DSC00992"/>
          <p:cNvPicPr/>
          <p:nvPr/>
        </p:nvPicPr>
        <p:blipFill>
          <a:blip r:embed="rId7"/>
          <a:stretch/>
        </p:blipFill>
        <p:spPr>
          <a:xfrm rot="288000">
            <a:off x="4716360" y="3789360"/>
            <a:ext cx="2124000" cy="1593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5"/>
          <p:cNvSpPr txBox="1"/>
          <p:nvPr/>
        </p:nvSpPr>
        <p:spPr>
          <a:xfrm>
            <a:off x="1116000" y="328464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6" name="Picture 6" descr="ace885cd32fb"/>
          <p:cNvPicPr/>
          <p:nvPr/>
        </p:nvPicPr>
        <p:blipFill>
          <a:blip r:embed="rId2"/>
          <a:stretch/>
        </p:blipFill>
        <p:spPr>
          <a:xfrm>
            <a:off x="5003640" y="404640"/>
            <a:ext cx="344988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конституционального происх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ется наследствен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ты эмоционально-личностной незрел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аффективные вспы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прият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соматогенного 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несенные в раннем детств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веренность, роб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ынициа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риз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психогенного 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лагоприятные условия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работоспособ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азвитость произвольной регуля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возможности перестройки стиля семейного вос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церебрально-органического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енез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6840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бые и стойкие локальные нарушения созревания мозговых струк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 в зависимости от глубины повреждения и возрастной дина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1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церебрально-органического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вариант: преобладание черт незрелости эмоциональной сферы по типу органического инфантил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вариант: доминирование симптомов поврежденности, низкий уровень овладения всеми видами произвольной деятельности задержка формирования предметно-манипулятивной, речевой, игровой, продуктивной 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WORK</cp:lastModifiedBy>
  <dcterms:modified xsi:type="dcterms:W3CDTF">2012-04-24T16:41:04Z</dcterms:modified>
  <cp:revision>115</cp:revision>
  <dc:subject/>
  <dc:title>Использование цветотерапии в коррекции дошкольников с ЗПР</dc:title>
</cp:coreProperties>
</file>