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8715-B84F-48C8-896C-37F75F30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22B-FAC6-42A8-9E17-ACFF7725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A2A1-9F81-49CC-AEA1-3E4BD4AA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76E0-83BC-4D82-9DEC-76A53E88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087CE-A4E6-44C6-8137-D9416995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49E81-422C-4EF7-A7A1-73C3DB80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6ABCE-EF50-4A28-94C4-30301062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FD634-CEFA-4ABC-9B4D-5032E695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3682F-E96C-4D6D-B212-063B0286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0E1BA-5DE6-485F-A89F-205572A7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1C716-EFB1-49B0-BF58-BDFDE74E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EA9-6571-46BE-9AA4-0E83C1CD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C4220-F393-4D0A-9238-2649DA93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5F5F2-FEDE-4044-A55A-43A5D53C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6643D-E7CC-49AF-8677-A4BAB48B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E3CED-C630-4AC2-8C82-B9EC8CA0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AE191-8571-4B61-8AAA-D644F7C2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5288-1063-46B7-AF91-A095BF89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2109-6BEB-47C3-A15B-3D38A102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3E1-3480-4FE1-BBDC-BE8E2FB3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887-4EAD-4467-89BC-1E129D6D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06F6-F9F5-4FD9-A1B3-1652CD40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FA1F-95E9-4C36-9505-624A4677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A30B-6E40-48CC-A76D-0F71EFA0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3397-08A1-4D64-B438-1A7C018D4F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A018-ABE0-4006-94ED-2CBD753CE8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0" y="1628640"/>
            <a:ext cx="8820000" cy="41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нтеллектуальный мараф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66"/>
                </a:solidFill>
                <a:latin typeface="Arial"/>
              </a:rPr>
              <a:t>Конкурс« </a:t>
            </a:r>
            <a:r>
              <a:rPr b="1" i="1" lang="en-US" sz="4400" spc="-1" strike="noStrike">
                <a:solidFill>
                  <a:srgbClr val="99ff66"/>
                </a:solidFill>
                <a:latin typeface="Arial"/>
              </a:rPr>
              <a:t>Математическая карусель</a:t>
            </a:r>
            <a:r>
              <a:rPr b="1" i="1" lang="en-US" sz="4000" spc="-1" strike="noStrike">
                <a:solidFill>
                  <a:srgbClr val="99ff66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66"/>
                </a:solidFill>
                <a:latin typeface="Arial"/>
              </a:rPr>
              <a:t>Капитаны команд получают задания в конверт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66"/>
                </a:solidFill>
                <a:latin typeface="Arial"/>
              </a:rPr>
              <a:t>Каждой команде дается пословица, через 5 мин ее нужно изобразить в лицах и объяснить ее суть, а зрителям -отгадать е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ff33"/>
                </a:solidFill>
                <a:latin typeface="Arial"/>
              </a:rPr>
              <a:t>Конкурс«Угадай-ка!»</a:t>
            </a: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484360" y="3860640"/>
          <a:ext cx="1871640" cy="517680"/>
        </p:xfrm>
        <a:graphic>
          <a:graphicData uri="http://schemas.openxmlformats.org/drawingml/2006/table">
            <a:tbl>
              <a:tblPr/>
              <a:tblGrid>
                <a:gridCol w="468360"/>
                <a:gridCol w="468360"/>
                <a:gridCol w="466560"/>
                <a:gridCol w="46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484360" y="4365720"/>
          <a:ext cx="2374920" cy="517320"/>
        </p:xfrm>
        <a:graphic>
          <a:graphicData uri="http://schemas.openxmlformats.org/drawingml/2006/table">
            <a:tbl>
              <a:tblPr/>
              <a:tblGrid>
                <a:gridCol w="474480"/>
                <a:gridCol w="474840"/>
                <a:gridCol w="476280"/>
                <a:gridCol w="474480"/>
                <a:gridCol w="474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484360" y="4869000"/>
          <a:ext cx="3322800" cy="517320"/>
        </p:xfrm>
        <a:graphic>
          <a:graphicData uri="http://schemas.openxmlformats.org/drawingml/2006/table">
            <a:tbl>
              <a:tblPr/>
              <a:tblGrid>
                <a:gridCol w="473040"/>
                <a:gridCol w="477720"/>
                <a:gridCol w="473400"/>
                <a:gridCol w="474480"/>
                <a:gridCol w="473040"/>
                <a:gridCol w="477720"/>
                <a:gridCol w="473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484360" y="5373720"/>
          <a:ext cx="4248000" cy="517320"/>
        </p:xfrm>
        <a:graphic>
          <a:graphicData uri="http://schemas.openxmlformats.org/drawingml/2006/table">
            <a:tbl>
              <a:tblPr/>
              <a:tblGrid>
                <a:gridCol w="471600"/>
                <a:gridCol w="471240"/>
                <a:gridCol w="473040"/>
                <a:gridCol w="471600"/>
                <a:gridCol w="473040"/>
                <a:gridCol w="471600"/>
                <a:gridCol w="473040"/>
                <a:gridCol w="471600"/>
                <a:gridCol w="471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900000" y="1700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Придумать математические слова с буквой «Д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700360" y="3213000"/>
          <a:ext cx="2233440" cy="517680"/>
        </p:xfrm>
        <a:graphic>
          <a:graphicData uri="http://schemas.openxmlformats.org/drawingml/2006/table">
            <a:tbl>
              <a:tblPr/>
              <a:tblGrid>
                <a:gridCol w="558720"/>
                <a:gridCol w="558720"/>
                <a:gridCol w="557280"/>
                <a:gridCol w="55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700360" y="3716280"/>
          <a:ext cx="2808360" cy="517320"/>
        </p:xfrm>
        <a:graphic>
          <a:graphicData uri="http://schemas.openxmlformats.org/drawingml/2006/table">
            <a:tbl>
              <a:tblPr/>
              <a:tblGrid>
                <a:gridCol w="560160"/>
                <a:gridCol w="563760"/>
                <a:gridCol w="560520"/>
                <a:gridCol w="563400"/>
                <a:gridCol w="560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700360" y="4221000"/>
          <a:ext cx="4033800" cy="517680"/>
        </p:xfrm>
        <a:graphic>
          <a:graphicData uri="http://schemas.openxmlformats.org/drawingml/2006/table">
            <a:tbl>
              <a:tblPr/>
              <a:tblGrid>
                <a:gridCol w="566640"/>
                <a:gridCol w="568440"/>
                <a:gridCol w="566640"/>
                <a:gridCol w="566640"/>
                <a:gridCol w="567000"/>
                <a:gridCol w="568080"/>
                <a:gridCol w="63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2700360" y="4724280"/>
          <a:ext cx="5113440" cy="517680"/>
        </p:xfrm>
        <a:graphic>
          <a:graphicData uri="http://schemas.openxmlformats.org/drawingml/2006/table">
            <a:tbl>
              <a:tblPr/>
              <a:tblGrid>
                <a:gridCol w="566640"/>
                <a:gridCol w="568440"/>
                <a:gridCol w="569520"/>
                <a:gridCol w="568440"/>
                <a:gridCol w="567000"/>
                <a:gridCol w="568440"/>
                <a:gridCol w="569520"/>
                <a:gridCol w="568440"/>
                <a:gridCol w="567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843280" y="1773360"/>
            <a:ext cx="561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40000" y="119700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ccff33"/>
                </a:solidFill>
                <a:latin typeface="Arial"/>
              </a:rPr>
              <a:t>«Игра со зрителями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Задание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Какое самое большое число можно написать четырьмя единицам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Ответ:11</a:t>
            </a:r>
            <a:r>
              <a:rPr b="0" i="1" lang="en-US" sz="2000" spc="-1" strike="noStrike" baseline="40000">
                <a:solidFill>
                  <a:srgbClr val="ffff00"/>
                </a:solidFill>
                <a:latin typeface="Arial"/>
              </a:rPr>
              <a:t>11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(250 миллиардов единиц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Задание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Два числа, произведение которых равно 1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Ответ: Взаимно обрат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Задание 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Квадрат и ромб имеют одинаковые стороны. Площадь какой фигуры больш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Ответ: Площадь квадр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Задание 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Экипаж, запряженный тройкой лошадей, проехал за 1ч 15км. С какой скоростью ехала каждая лошад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Ответ:  15 км/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Конкурс«Волшебный сундучок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33"/>
                </a:solidFill>
                <a:latin typeface="Arial"/>
              </a:rPr>
              <a:t>То, что лежит в этом волшебном  сундучке, изобрел очень талантливый юноша, который придумал гончарный круг, первую в мире пи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33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ccff33"/>
                </a:solidFill>
                <a:latin typeface="Arial"/>
              </a:rPr>
              <a:t>Под пеплом Помпеи археологи обнаружили много таких предметов, изготовленных из бронзы. В нашей стране это было обнаружено при раскопках в Нижнем Новгороде. В  Древней Греции умение пользоваться этим предметом считалось верхом мастерства, а уж умение и высокого положения в обществе.  Этот предмет незаменим в архитектуре и строительстве. За многие сотни лет конструкция его не изменилась. В настоящее время им умеет  пользоваться любой школьн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33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ccff33"/>
                </a:solidFill>
                <a:latin typeface="Arial"/>
              </a:rPr>
              <a:t>Вопрос: Что лежит в волшебном сундучк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ff33"/>
                </a:solidFill>
                <a:latin typeface="Arial"/>
              </a:rPr>
              <a:t>                                                                                       </a:t>
            </a:r>
            <a:r>
              <a:rPr b="0" i="1" lang="en-US" sz="2400" spc="-1" strike="noStrike">
                <a:solidFill>
                  <a:srgbClr val="ccff33"/>
                </a:solidFill>
                <a:latin typeface="Arial"/>
              </a:rPr>
              <a:t>Циркул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99ff33"/>
                </a:solidFill>
                <a:latin typeface="Arial"/>
              </a:rPr>
              <a:t>«Обгонялки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2.Какие два целых числа, если их сложить, дают больше, чем если их перемножить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                                      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Ответ: (1+2)</a:t>
            </a:r>
            <a:r>
              <a:rPr b="1" i="1" lang="en-US" sz="2000" spc="-1" strike="noStrike">
                <a:solidFill>
                  <a:srgbClr val="99ff33"/>
                </a:solidFill>
                <a:latin typeface="Arial"/>
              </a:rPr>
              <a:t>&gt;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(1</a:t>
            </a:r>
            <a:r>
              <a:rPr b="1" i="1" lang="en-US" sz="2000" spc="-1" strike="noStrike">
                <a:solidFill>
                  <a:srgbClr val="99ff33"/>
                </a:solidFill>
                <a:latin typeface="Arial"/>
              </a:rPr>
              <a:t>·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3.Можно ли между цифрами 5 и 6 поставить какой- либо знак, чтобы получилось число, большее 5 и меньше 6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                                      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Ответ: запят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4.Кого называют « Коперником геометрии»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                                  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Ответ: Лобачевск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5. Назовите единицу массы драгоценных камне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                                      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Ответ: Кар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6. Площадь квадрата 49 см</a:t>
            </a:r>
            <a:r>
              <a:rPr b="1" i="1" lang="en-US" sz="2000" spc="-1" strike="noStrike">
                <a:solidFill>
                  <a:srgbClr val="99ff33"/>
                </a:solidFill>
                <a:latin typeface="Arial"/>
              </a:rPr>
              <a:t>²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. Каков его периметр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                                                     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Ответ:28 с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1.Применяя знаки действий, напишите число 1 тремя двойкам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                                 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Ответ: 2</a:t>
            </a:r>
            <a:r>
              <a:rPr b="1" i="1" lang="en-US" sz="20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(2:2)=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« Математическая игра»</a:t>
            </a:r>
            <a:br>
              <a:rPr sz="4000"/>
            </a:b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Кто первый скажет сто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ff33"/>
                </a:solidFill>
                <a:latin typeface="Arial"/>
              </a:rPr>
              <a:t>Два учащихся  поочередно  называют произвольные числа, не превышающие 10. Эти числа складывают одно за другим, и побеждает тот, кто первым достигнет 100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Конкурс капитан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Сколько нулей в конце записи произведения всех натуральных чисел от 1 до 30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 6 нулей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280" y="1197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Без математики мир невозможе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н бесполезен, не нужен и пус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Мир для людей и для разума создан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Что же за разум без точных наук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ОПРОСЫ ДЛЯ 1-Й КОМ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)Направленный отрез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Вектор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)Что больше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:(с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s 180º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²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или 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s 180º)³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(с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s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º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²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3)Отношение прилежащего катета к гипотенуз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Косину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4)Самая большая хорда в кру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Диаметр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0"/>
            <a:ext cx="712800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курс"Слабое звено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5)Предложение, принимаемое без доказатель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Аксиом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6)График обратной пропорциона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Гипербол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7)Часть окруж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Дуг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8)Точка пересечения диаметров окруж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Центр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9)Чему равна сумма смежных уг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180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º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0)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от 1000 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10 р.)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ПРОСЫ ДЛЯ 2-Й КОМАН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)Правило ,схема выполнения действ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Алгорит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)Третья степень чис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Куб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)Разделите 100 на полови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2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4)Независимая переменн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Аргумен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)Тень, отбрасываемая фигур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Проекц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6)Сотая часть чис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Процен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7)Правильный четырехуголь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Квадра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)Что больше 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n 90º)²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или 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n 0º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³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n 90º)²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9)Точка пересечения осей координа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Начало координа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0)Отношение противолежащего катета к гипотенуз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Сину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МИЛЯ.                         САЖ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ОКОТЬ.                     ЯР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ФУТ.                             МЕТ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)Какая мера длины была введена указом короля Генриха І в начале хІІ ве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Ярд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)Какая мера длины была распространена на Руси с 11 века? Это –расстояние от конца вытянутого среднего пальца или сжатого кулака до локтевого  сгиб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Локот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55640" y="0"/>
            <a:ext cx="7848720" cy="16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курс"Меры длины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)В честь какой меры длины была отчеканена медаль со словами «На все времена. Всем народам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Метр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)Какая мера длины произошла от римской меры «двойной шаг»? Она использовалась для измерения больших расстоя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Миля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5) Какая английская мера длины используется для измерения небольших расстояний, там где нужна большая точнос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Фут.)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6)Название какой меры длины произошло от  слова «сягать»,то есть доставать до чего-либо. Отсюда употребление слова «недосягаемый» в отношении места, куда невозможно добраться, человека, достижения которого невозможно повтор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Сажень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9:41:27Z</dcterms:created>
  <dc:creator>comp9</dc:creator>
  <dc:description/>
  <dc:language>en-US</dc:language>
  <cp:lastModifiedBy>comp9</cp:lastModifiedBy>
  <dcterms:modified xsi:type="dcterms:W3CDTF">2010-03-09T09:11:46Z</dcterms:modified>
  <cp:revision>10</cp:revision>
  <dc:subject/>
  <dc:title>Слайд 1</dc:title>
</cp:coreProperties>
</file>