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D8F-97F5-4FE3-A504-91635D0D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5BE-8316-4A89-B2C9-27A14407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17D-C71F-4583-A475-5C3DA27D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EC9-2659-41B7-8FBA-F3B64582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E7F99-1A08-4F7C-B57B-A2E01BCB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0925D-FD12-4C1F-9F8E-3F20BAE9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CF026-899A-4BF0-B8EA-D8B960B6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033E9-9BF8-4074-8BBA-64269702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E795B-F13A-4E92-ACE7-6CB11AD6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B6EB6-5E12-47EB-9270-2E3F82AA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51076-39CA-4DAE-BC84-92A991F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C2B-1A48-483D-A260-40F675E7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F7716-1ED9-4AFE-A0A4-7A28A503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5FC89-507F-426B-A7F3-15C973E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62D2B-5B08-4BDE-9C00-0D2CCC42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36ED7-EADD-494A-9647-AECB0036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259E5-0A3A-4F2F-B79D-092C0D1B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B4A-7D4F-4D0C-A32D-6946457A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5A3-227C-4719-8EEA-F4E851FA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953-5AA1-4310-90D7-42C25A35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575-849D-4487-8620-46C32BEB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5E0-E428-4949-BF50-704F9519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322-7C2D-41A8-BF17-1393ED2A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B3A-C91D-4DE1-A744-8B06475A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D3F3-32EF-4F5E-94D8-64D1E59CC4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FDE2-9CF6-451B-AA41-70599533DC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0" y="1628640"/>
            <a:ext cx="8820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теллектуальный мараф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66"/>
                </a:solidFill>
                <a:latin typeface="Arial"/>
              </a:rPr>
              <a:t>Конкурс« </a:t>
            </a:r>
            <a:r>
              <a:rPr b="1" i="1" lang="en-US" sz="4400" spc="-1" strike="noStrike">
                <a:solidFill>
                  <a:srgbClr val="99ff66"/>
                </a:solidFill>
                <a:latin typeface="Arial"/>
              </a:rPr>
              <a:t>Математическая карусель</a:t>
            </a:r>
            <a:r>
              <a:rPr b="1" i="1" lang="en-US" sz="4000" spc="-1" strike="noStrike">
                <a:solidFill>
                  <a:srgbClr val="99ff66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66"/>
                </a:solidFill>
                <a:latin typeface="Arial"/>
              </a:rPr>
              <a:t>Капитаны команд получают задания в конвер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66"/>
                </a:solidFill>
                <a:latin typeface="Arial"/>
              </a:rPr>
              <a:t>Каждой команде дается пословица, через 5 мин ее нужно изобразить в лицах и объяснить ее суть, а зрителям -отгадать 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ff33"/>
                </a:solidFill>
                <a:latin typeface="Arial"/>
              </a:rPr>
              <a:t>Конкурс«Угадай-ка!»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84360" y="3860640"/>
          <a:ext cx="1871640" cy="51768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  <a:gridCol w="466560"/>
                <a:gridCol w="46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484360" y="4365720"/>
          <a:ext cx="2374920" cy="517320"/>
        </p:xfrm>
        <a:graphic>
          <a:graphicData uri="http://schemas.openxmlformats.org/drawingml/2006/table">
            <a:tbl>
              <a:tblPr/>
              <a:tblGrid>
                <a:gridCol w="474480"/>
                <a:gridCol w="474840"/>
                <a:gridCol w="476280"/>
                <a:gridCol w="474480"/>
                <a:gridCol w="47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484360" y="4869000"/>
          <a:ext cx="3322800" cy="517320"/>
        </p:xfrm>
        <a:graphic>
          <a:graphicData uri="http://schemas.openxmlformats.org/drawingml/2006/table">
            <a:tbl>
              <a:tblPr/>
              <a:tblGrid>
                <a:gridCol w="473040"/>
                <a:gridCol w="477720"/>
                <a:gridCol w="473400"/>
                <a:gridCol w="474480"/>
                <a:gridCol w="473040"/>
                <a:gridCol w="477720"/>
                <a:gridCol w="47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484360" y="5373720"/>
          <a:ext cx="4248000" cy="517320"/>
        </p:xfrm>
        <a:graphic>
          <a:graphicData uri="http://schemas.openxmlformats.org/drawingml/2006/table">
            <a:tbl>
              <a:tblPr/>
              <a:tblGrid>
                <a:gridCol w="471600"/>
                <a:gridCol w="471240"/>
                <a:gridCol w="473040"/>
                <a:gridCol w="471600"/>
                <a:gridCol w="473040"/>
                <a:gridCol w="471600"/>
                <a:gridCol w="473040"/>
                <a:gridCol w="471600"/>
                <a:gridCol w="471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900000" y="1700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ридумать математические слова с буквой «Д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700360" y="3213000"/>
          <a:ext cx="2233440" cy="51768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572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700360" y="3716280"/>
          <a:ext cx="2808360" cy="517320"/>
        </p:xfrm>
        <a:graphic>
          <a:graphicData uri="http://schemas.openxmlformats.org/drawingml/2006/table">
            <a:tbl>
              <a:tblPr/>
              <a:tblGrid>
                <a:gridCol w="560160"/>
                <a:gridCol w="563760"/>
                <a:gridCol w="560520"/>
                <a:gridCol w="563400"/>
                <a:gridCol w="560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700360" y="4221000"/>
          <a:ext cx="4033800" cy="517680"/>
        </p:xfrm>
        <a:graphic>
          <a:graphicData uri="http://schemas.openxmlformats.org/drawingml/2006/table">
            <a:tbl>
              <a:tblPr/>
              <a:tblGrid>
                <a:gridCol w="566640"/>
                <a:gridCol w="568440"/>
                <a:gridCol w="566640"/>
                <a:gridCol w="566640"/>
                <a:gridCol w="567000"/>
                <a:gridCol w="568080"/>
                <a:gridCol w="63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700360" y="4724280"/>
          <a:ext cx="5113440" cy="517680"/>
        </p:xfrm>
        <a:graphic>
          <a:graphicData uri="http://schemas.openxmlformats.org/drawingml/2006/table">
            <a:tbl>
              <a:tblPr/>
              <a:tblGrid>
                <a:gridCol w="566640"/>
                <a:gridCol w="568440"/>
                <a:gridCol w="569520"/>
                <a:gridCol w="568440"/>
                <a:gridCol w="567000"/>
                <a:gridCol w="568440"/>
                <a:gridCol w="569520"/>
                <a:gridCol w="568440"/>
                <a:gridCol w="567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843280" y="1773360"/>
            <a:ext cx="56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1197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ccff33"/>
                </a:solidFill>
                <a:latin typeface="Arial"/>
              </a:rPr>
              <a:t>«Игра со зрителям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Какое самое большое число можно написать четырьмя единица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11</a:t>
            </a:r>
            <a:r>
              <a:rPr b="0" i="1" lang="en-US" sz="2000" spc="-1" strike="noStrike" baseline="40000">
                <a:solidFill>
                  <a:srgbClr val="ffff00"/>
                </a:solidFill>
                <a:latin typeface="Arial"/>
              </a:rPr>
              <a:t>11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(250 миллиардов едини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Два числа, произведение которых равно 1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 Взаимно обра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Квадрат и ромб имеют одинаковые стороны. Площадь какой фигуры больш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 Площадь квадр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Экипаж, запряженный тройкой лошадей, проехал за 1ч 15км. С какой скоростью ехала каждая лошад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  15 км/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Конкурс«Волшебный сундучок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То, что лежит в этом волшебном  сундучке, изобрел очень талантливый юноша, который придумал гончарный круг, первую в мире пи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Под пеплом Помпеи археологи обнаружили много таких предметов, изготовленных из бронзы. В нашей стране это было обнаружено при раскопках в Нижнем Новгороде. В  Древней Греции умение пользоваться этим предметом считалось верхом мастерства, а уж умение и высокого положения в обществе.  Этот предмет незаменим в архитектуре и строительстве. За многие сотни лет конструкция его не изменилась. В настоящее время им умеет  пользоваться любой школь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Вопрос: Что лежит в волшебном сундучк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                                                                                       </a:t>
            </a: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Цирку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99ff33"/>
                </a:solidFill>
                <a:latin typeface="Arial"/>
              </a:rPr>
              <a:t>«Обгонялк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2.Какие два целых числа, если их сложить, дают больше, чем если их перемножить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(1+2)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&gt;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(1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·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3.Можно ли между цифрами 5 и 6 поставить какой- либо знак, чтобы получилось число, большее 5 и меньше 6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запят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4.Кого называют « Коперником геометрии»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Лобачевс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5. Назовите единицу массы драгоценных камне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Кар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6. Площадь квадрата 49 см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. Каков его периметр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28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1.Применяя знаки действий, напишите число 1 тремя двойка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2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(2:2)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« Математическая игра»</a:t>
            </a:r>
            <a:br>
              <a:rPr sz="4000"/>
            </a:b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Кто первый скажет ст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33"/>
                </a:solidFill>
                <a:latin typeface="Arial"/>
              </a:rPr>
              <a:t>Два учащихся  поочередно  называют произвольные числа, не превышающие 10. Эти числа складывают одно за другим, и побеждает тот, кто первым достигнет 100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онкурс капит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колько нулей в конце записи произведения всех натуральных чисел от 1 до 3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 6 нулей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Без математики мир невозможе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н бесполезен, не нужен и пу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Мир для людей и для разума создан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Что же за разум без точных наук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ПРОСЫ ДЛЯ 1-Й КОМ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)Направленный отрез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Векто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)Что больше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:(с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s 180º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²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или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s 180º)³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(с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s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²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)Отношение прилежащего катета к гипотенуз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Косину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4)Самая большая хорда в кру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Диаметр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0"/>
            <a:ext cx="7128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курс"Слабое звено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5)Предложение, принимаемое без доказатель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Аксио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)График обратной пропорцион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Гипербол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7)Часть окру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Дуг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8)Точка пересечения диаметров окру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Цент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9)Чему равна сумма смежных уг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18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0)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от 1000 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10 р.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ПРОСЫ ДЛЯ 2-Й КОМАН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)Правило ,схема выполнения действ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Алгорит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)Третья степень чис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Куб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)Разделите 100 на полов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2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)Независимая перемен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Аргумен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)Тень, отбрасываемая фигур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Проекц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)Сотая часть чис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Процен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)Правильный четырех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Квадра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)Что больше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n 90º)²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или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n 0º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³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n 90º)²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)Точка пересечения осей координ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Начало координа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)Отношение противолежащего катета к гипотену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Сину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ИЛЯ.                         САЖ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ОКОТЬ.                     ЯР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УТ.                             МЕТ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)Какая мера длины была введена указом короля Генриха І в начале хІІ ве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Ярд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)Какая мера длины была распространена на Руси с 11 века? Это –расстояние от конца вытянутого среднего пальца или сжатого кулака до локтевого  сги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Локо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0"/>
            <a:ext cx="784872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"Меры длины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)В честь какой меры длины была отчеканена медаль со словами «На все времена. Всем народам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Метр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)Какая мера длины произошла от римской меры «двойной шаг»? Она использовалась для измерения больших рас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Миля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) Какая английская мера длины используется для измерения небольших расстояний, там где нужна большая точнос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Фут.)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)Название какой меры длины произошло от  слова «сягать»,то есть доставать до чего-либо. Отсюда употребление слова «недосягаемый» в отношении места, куда невозможно добраться, человека, достижения которого невозможно повтор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Сажень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41:27Z</dcterms:created>
  <dc:creator>comp9</dc:creator>
  <dc:description/>
  <dc:language>en-US</dc:language>
  <cp:lastModifiedBy>comp9</cp:lastModifiedBy>
  <dcterms:modified xsi:type="dcterms:W3CDTF">2010-03-09T09:11:46Z</dcterms:modified>
  <cp:revision>10</cp:revision>
  <dc:subject/>
  <dc:title>Слайд 1</dc:title>
</cp:coreProperties>
</file>