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A65E-BF7C-4CFF-96F0-4D837A76B9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EE74-A748-42B8-ABD8-2072A3FB8B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3D4-C5D7-41C8-B983-FE39316F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25C-3ED2-4266-A469-EFE3FD8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7F5-BEC9-46E3-9C76-D5909C6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1FF-25D8-406F-9A95-C21413BB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0C02C-4333-497F-8DAA-46B60A58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3E2FC-9D98-4865-AA76-ECF25D9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5EDD-3A18-4A11-8DF0-73F944EF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234AE-2399-4C50-999D-C800E5D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2C4E8-199A-4F35-84D8-B2AB252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DE338-1E6F-4947-AADC-E4EF718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58C15-08C2-4493-8C5F-A8DBA39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399-A693-4824-9A91-DED040C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EC5E1-85B7-4228-99FA-64C5584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03932-DC72-4D8E-A311-13995B3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E14BE-5DD7-4D01-93B5-E6D266C4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5001C-7D0C-496F-9B72-2FCD7AA7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7DFE-E5E6-4B05-A324-BDA246CB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2F8-284D-44E1-B35F-EF91965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B7D-B80C-4FC8-B175-94DC5449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F31-5C89-4A27-AD8B-116311DC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B13-2F5F-425A-8A65-F7E114F9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2F7-6375-41DD-BCB1-CCD5443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06F-55D6-47E6-B457-F144D3A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C77-35F5-4986-84F4-3566C882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57E-1CA1-4CE0-BAFA-A162595C0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C99-4952-49EB-8B3E-B32DEF5BFD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4819680" y="1628640"/>
            <a:ext cx="4324320" cy="3233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3"/>
          <a:stretch/>
        </p:blipFill>
        <p:spPr>
          <a:xfrm>
            <a:off x="0" y="170028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313400" cy="87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ховское муниципальное  бюджетное дошкольное образовательное учрежд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есная сказ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3880" y="5000760"/>
            <a:ext cx="785844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грация образовательных областей в Н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ворческих вам успехов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3527640" cy="36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2843280" y="3672000"/>
            <a:ext cx="280836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6156360" y="2901960"/>
            <a:ext cx="2716200" cy="3621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сновные направления развития детей в содержании програм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о- личнос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знавательно-речев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4"/>
          <a:stretch/>
        </p:blipFill>
        <p:spPr>
          <a:xfrm>
            <a:off x="324000" y="36892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Методы и приемы,  которые используем  при интеграции  Н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юрпризный, игровой момент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ссматривание, наблюдение, сравнение, обследов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сравнительный анализ, сопоставление, эвристическая деятельность (частично-поисковы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облемные вопросы, стимулирующие проявление своего рода совместных с  педагогом «открытий», помогающих ребенку найти отв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знообразные речевые дидактические игры для активизации словаря, расширения представления о многообразии граней родного языка, воспитания чувства уверенности в своих сил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ды интегрированной деятель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пров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лекцион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Рисунок 7" descr="DSC04300.JPG"/>
          <p:cNvPicPr/>
          <p:nvPr/>
        </p:nvPicPr>
        <p:blipFill>
          <a:blip r:embed="rId2"/>
          <a:stretch/>
        </p:blipFill>
        <p:spPr>
          <a:xfrm>
            <a:off x="5364000" y="2924280"/>
            <a:ext cx="3181680" cy="30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 , которые ставятся при интегрировании образовательных обла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Формирование у детей более глубоких, разносторонних знаний; целостное представление о мире. Мир, окружающий детей, познается ими в своем многообразии и единств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нтеграция способствует формированию обобщенных представлений, знаний и умений, повышает эффективность воспитания и развития детей, побуждает их к активному познанию окружающей действительности, осмыслению и нахождению причинно-следственных связей, развитию логики, мышления, коммуникативных способ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Интеграция в воспитательно-образовательном процессе также способствует объединению педагогического коллектива на основе обсуждения возможностей интеграции в развитии детей. Интересная, творческая работа дает возможность для самореализации, самовыражения, творчества педагога, раскрытия его способ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рганизация Н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85680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вводной  части создаем  проблемную  ситуацию, которая стимулирует активность детей к поиску ее решения (например, задается вопрос: «Ребята, что произойдет, если на Земле не будет воды?»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основной части детям даем новые знания, необходимые для реш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блемного вопроса (например, значение воды в природе и жизни человека и т.д.) на основе содержания разных разделов программы с опорой на наглядность. Параллельно идет работа по обогащению и активизации словаря, обучению связной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заключительной части детям предлагаем любую практическую работу (дидактическая игра, рисование, лепка, конструирование и др.) на закрепление полученной информации или актуализации ранее усво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3" descr="P3141112.JPG"/>
          <p:cNvPicPr/>
          <p:nvPr/>
        </p:nvPicPr>
        <p:blipFill>
          <a:blip r:embed="rId2"/>
          <a:stretch/>
        </p:blipFill>
        <p:spPr>
          <a:xfrm>
            <a:off x="5580000" y="4581360"/>
            <a:ext cx="2928960" cy="22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мплексно- тематическ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жизнь детей интересной, связав ее с окружающей действи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ь задачи и ориентиры, которые эмоционально увлекли, захватили бы всех детей на длительный с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IMG_1502.JPG"/>
          <p:cNvPicPr/>
          <p:nvPr/>
        </p:nvPicPr>
        <p:blipFill>
          <a:blip r:embed="rId2"/>
          <a:stretch/>
        </p:blipFill>
        <p:spPr>
          <a:xfrm>
            <a:off x="2484360" y="836640"/>
            <a:ext cx="4187880" cy="2792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заимодействие с 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5" descr="IMG_2522.JPG"/>
          <p:cNvPicPr/>
          <p:nvPr/>
        </p:nvPicPr>
        <p:blipFill>
          <a:blip r:embed="rId3"/>
          <a:stretch/>
        </p:blipFill>
        <p:spPr>
          <a:xfrm>
            <a:off x="468360" y="3789360"/>
            <a:ext cx="4224240" cy="2816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SAM_0556.JPG"/>
          <p:cNvPicPr/>
          <p:nvPr/>
        </p:nvPicPr>
        <p:blipFill>
          <a:blip r:embed="rId4"/>
          <a:stretch/>
        </p:blipFill>
        <p:spPr>
          <a:xfrm>
            <a:off x="4932360" y="3789360"/>
            <a:ext cx="3705120" cy="277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SC05589"/>
          <p:cNvPicPr/>
          <p:nvPr/>
        </p:nvPicPr>
        <p:blipFill>
          <a:blip r:embed="rId2"/>
          <a:stretch/>
        </p:blipFill>
        <p:spPr>
          <a:xfrm>
            <a:off x="357120" y="2000160"/>
            <a:ext cx="4417920" cy="3143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IMG_2745.JPG"/>
          <p:cNvPicPr/>
          <p:nvPr/>
        </p:nvPicPr>
        <p:blipFill>
          <a:blip r:embed="rId3"/>
          <a:stretch/>
        </p:blipFill>
        <p:spPr>
          <a:xfrm>
            <a:off x="5072040" y="1214280"/>
            <a:ext cx="3714840" cy="2476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IMG_2676.JPG"/>
          <p:cNvPicPr/>
          <p:nvPr/>
        </p:nvPicPr>
        <p:blipFill>
          <a:blip r:embed="rId4"/>
          <a:stretch/>
        </p:blipFill>
        <p:spPr>
          <a:xfrm>
            <a:off x="5072040" y="4000680"/>
            <a:ext cx="3892680" cy="254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2:29:18Z</dcterms:created>
  <dc:creator>Борис</dc:creator>
  <dc:description/>
  <dc:language>en-US</dc:language>
  <cp:lastModifiedBy>Борис</cp:lastModifiedBy>
  <dcterms:modified xsi:type="dcterms:W3CDTF">2013-03-31T12:55:54Z</dcterms:modified>
  <cp:revision>19</cp:revision>
  <dc:subject/>
  <dc:title>Ваховское муниципальное  бюджетное дошкольное образовательное учреждение </dc:title>
</cp:coreProperties>
</file>