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1567-0D9D-4B34-8853-FD38D0AB36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A47A-D635-4434-9262-782BDCFB90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E9A-E6DF-47E0-A49F-3C36FD70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283-D9A8-4D1F-A75D-1F257A3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F4A-862D-4C43-A25B-24C84112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ED9-D96B-4CF3-AB5D-81F53914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D1968-7DBE-4DFA-818C-03BB6AE2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F0024-9ED2-4709-B50C-3C87EF2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9CE99-E006-411C-B3D2-2679AEB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B571-B89F-4BCA-A5CB-4A5B6E5A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A7BF5-F22D-4C85-9D0F-34AB3E3F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200D9-09F0-416B-9C52-E34F6F6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5418E-35B2-4EB6-811F-EA011D3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7F9-E166-4E06-8B21-47955EC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3A4D-8E74-44A2-A04D-1A5CD71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ECCB-06A6-43C1-B80C-18DCBDF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75D3C-CC4C-4A5B-B7FA-6B6B7B2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60EE0-AD2F-4693-B896-75DA25E1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E7F81-5257-444B-A1F3-E551AEA1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EAC-9639-4D13-BBFE-AB87E4F7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2A6-975D-4FB4-B785-E2AC4C6D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233-D109-439E-B1DA-171B5655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271-850F-4AEB-B3BE-508B89AE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052-4C15-4EFC-B547-20E8328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4F7-0DE0-44EF-95EC-A1D179DC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F04-D696-4ADB-8286-F07BE48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D576-FC46-40C4-8330-55341443B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F10-858A-4819-B7D4-E2F130477E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4819680" y="1628640"/>
            <a:ext cx="4324320" cy="3233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3"/>
          <a:stretch/>
        </p:blipFill>
        <p:spPr>
          <a:xfrm>
            <a:off x="0" y="170028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313400" cy="87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ховское муниципальное  бюджетное дошкольное образовательное учрежд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есная сказ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3880" y="5000760"/>
            <a:ext cx="785844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грация образовательных областей в Н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ворческих вам успехов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3527640" cy="36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2843280" y="3672000"/>
            <a:ext cx="280836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6156360" y="2901960"/>
            <a:ext cx="2716200" cy="3621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сновные направления развития детей в содержании програм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о- личнос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знавательно-речев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4"/>
          <a:stretch/>
        </p:blipFill>
        <p:spPr>
          <a:xfrm>
            <a:off x="324000" y="36892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Методы и приемы,  которые используем  при интеграции  Н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юрпризный, игровой момент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ссматривание, наблюдение, сравнение, обследов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равнительный анализ, сопоставление, эвристическая деятельность (частично-поисковы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облемные вопросы, стимулирующие проявление своего рода совместных с  педагогом «открытий», помогающих ребенку найти отв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знообразные речевые дидактические игры для активизации словаря, расширения представления о многообразии граней родного языка, воспитания чувства уверенности в своих сил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ды интегрированной деятель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пров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лекцион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Рисунок 7" descr="DSC04300.JPG"/>
          <p:cNvPicPr/>
          <p:nvPr/>
        </p:nvPicPr>
        <p:blipFill>
          <a:blip r:embed="rId2"/>
          <a:stretch/>
        </p:blipFill>
        <p:spPr>
          <a:xfrm>
            <a:off x="5364000" y="2924280"/>
            <a:ext cx="3181680" cy="30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 , которые ставятся при интегрировании образовательных обла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Формирование у детей более глубоких, разносторонних знаний; целостное представление о мире. Мир, окружающий детей, познается ими в своем многообразии и единств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нтеграция способствует формированию обобщенных представлений, знаний и умений, повышает эффективность воспитания и развития детей, побуждает их к активному познанию окружающей действительности, осмыслению и нахождению причинно-следственных связей, развитию логики, мышления, коммуникативных способ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нтеграция в воспитательно-образовательном процессе также способствует объединению педагогического коллектива на основе обсуждения возможностей интеграции в развитии детей. Интересная, творческая работа дает возможность для самореализации, самовыражения, творчества педагога, раскрытия его способ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рганизация Н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85680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вводной  части создаем  проблемную  ситуацию, которая стимулирует активность детей к поиску ее решения (например, задается вопрос: «Ребята, что произойдет, если на Земле не будет воды?»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основной части детям даем новые знания, необходимые для реш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блемного вопроса (например, значение воды в природе и жизни человека и т.д.) на основе содержания разных разделов программы с опорой на наглядность. Параллельно идет работа по обогащению и активизации словаря, обучению связной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заключительной части детям предлагаем любую практическую работу (дидактическая игра, рисование, лепка, конструирование и др.) на закрепление полученной информации или актуализации ранее усво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3" descr="P3141112.JPG"/>
          <p:cNvPicPr/>
          <p:nvPr/>
        </p:nvPicPr>
        <p:blipFill>
          <a:blip r:embed="rId2"/>
          <a:stretch/>
        </p:blipFill>
        <p:spPr>
          <a:xfrm>
            <a:off x="5580000" y="4581360"/>
            <a:ext cx="2928960" cy="22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мплексно- тематическ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жизнь детей интересной, связав ее с окружающей действи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ь задачи и ориентиры, которые эмоционально увлекли, захватили бы всех детей на длительный с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IMG_1502.JPG"/>
          <p:cNvPicPr/>
          <p:nvPr/>
        </p:nvPicPr>
        <p:blipFill>
          <a:blip r:embed="rId2"/>
          <a:stretch/>
        </p:blipFill>
        <p:spPr>
          <a:xfrm>
            <a:off x="2484360" y="836640"/>
            <a:ext cx="4187880" cy="2792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заимодействие с 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5" descr="IMG_2522.JPG"/>
          <p:cNvPicPr/>
          <p:nvPr/>
        </p:nvPicPr>
        <p:blipFill>
          <a:blip r:embed="rId3"/>
          <a:stretch/>
        </p:blipFill>
        <p:spPr>
          <a:xfrm>
            <a:off x="468360" y="3789360"/>
            <a:ext cx="4224240" cy="2816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SAM_0556.JPG"/>
          <p:cNvPicPr/>
          <p:nvPr/>
        </p:nvPicPr>
        <p:blipFill>
          <a:blip r:embed="rId4"/>
          <a:stretch/>
        </p:blipFill>
        <p:spPr>
          <a:xfrm>
            <a:off x="4932360" y="3789360"/>
            <a:ext cx="3705120" cy="277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SC05589"/>
          <p:cNvPicPr/>
          <p:nvPr/>
        </p:nvPicPr>
        <p:blipFill>
          <a:blip r:embed="rId2"/>
          <a:stretch/>
        </p:blipFill>
        <p:spPr>
          <a:xfrm>
            <a:off x="357120" y="2000160"/>
            <a:ext cx="4417920" cy="3143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IMG_2745.JPG"/>
          <p:cNvPicPr/>
          <p:nvPr/>
        </p:nvPicPr>
        <p:blipFill>
          <a:blip r:embed="rId3"/>
          <a:stretch/>
        </p:blipFill>
        <p:spPr>
          <a:xfrm>
            <a:off x="5072040" y="1214280"/>
            <a:ext cx="3714840" cy="2476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IMG_2676.JPG"/>
          <p:cNvPicPr/>
          <p:nvPr/>
        </p:nvPicPr>
        <p:blipFill>
          <a:blip r:embed="rId4"/>
          <a:stretch/>
        </p:blipFill>
        <p:spPr>
          <a:xfrm>
            <a:off x="5072040" y="4000680"/>
            <a:ext cx="3892680" cy="254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2:29:18Z</dcterms:created>
  <dc:creator>Борис</dc:creator>
  <dc:description/>
  <dc:language>en-US</dc:language>
  <cp:lastModifiedBy>Борис</cp:lastModifiedBy>
  <dcterms:modified xsi:type="dcterms:W3CDTF">2013-03-31T12:55:54Z</dcterms:modified>
  <cp:revision>19</cp:revision>
  <dc:subject/>
  <dc:title>Ваховское муниципальное  бюджетное дошкольное образовательное учреждение </dc:title>
</cp:coreProperties>
</file>