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C83A-819B-43C1-8062-62E436CD1F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B3B2-F1F8-4232-9081-4DD35467B2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954-1DB4-4081-988F-B39C907D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B71-7D2D-45F6-B2CD-A32D6DAF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176-43AB-4B03-88D3-4D413111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3F5-F57B-4A0A-BDB7-60BACB4C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0550F-B6DD-4AD1-9DFF-A7B1C09A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8799B-73B5-401C-B487-EC1BF3CE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C953D-FD74-4E7A-8030-2E342573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C0487-3F72-44A1-8538-F9844100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F7672-3E19-4E6B-9794-3AFAC531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D7A26-A607-4E90-B121-27927307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B0F0C-847C-494F-9B87-5E555C7C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448-0891-4162-A277-D71A268F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3F6D7-5671-49EB-A988-0339A3D4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BB699-B914-4A3A-821D-E423E820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FEB16-5ED9-4CC1-A9C0-9D721306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A7054-0B2B-4884-ADAB-62685B76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3CEE6-5353-4F62-80CC-8E97E395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843-F2F9-4429-89FB-16F8E991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B66-1FBF-476A-A9D9-1BA1BFD0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07A-E3B1-46EB-BDC4-7C3807D6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250-DD2E-4442-AE40-BFC4DE19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E9D-F9A7-4DCB-8B17-A8E5518F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46E-661F-4E5A-AC24-ED96E20D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FFB-A3D9-4B0D-8E42-7B038E45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5030-D183-4C59-8C26-75DDFC183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A1CA-3FB3-4076-8963-DF4F37FE37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5" descr=""/>
          <p:cNvPicPr/>
          <p:nvPr/>
        </p:nvPicPr>
        <p:blipFill>
          <a:blip r:embed="rId2"/>
          <a:stretch/>
        </p:blipFill>
        <p:spPr>
          <a:xfrm>
            <a:off x="4819680" y="1628640"/>
            <a:ext cx="4324320" cy="32338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3"/>
          <a:stretch/>
        </p:blipFill>
        <p:spPr>
          <a:xfrm>
            <a:off x="0" y="170028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313400" cy="87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ховское муниципальное  бюджетное дошкольное образовательное учреждени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ский сад </a:t>
            </a: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Лесная сказ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3880" y="5000760"/>
            <a:ext cx="785844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нтеграция образовательных областей в Н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ворческих вам успехов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3527640" cy="362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2843280" y="3672000"/>
            <a:ext cx="2808360" cy="28256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6156360" y="2901960"/>
            <a:ext cx="2716200" cy="3621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сновные направления развития детей в содержании програм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из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циально- личнос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знавательно-речево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удожественно-эстет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4"/>
          <a:stretch/>
        </p:blipFill>
        <p:spPr>
          <a:xfrm>
            <a:off x="324000" y="36892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Методы и приемы,  которые используем  при интеграции  Н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сюрпризный, игровой момент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рассматривание, наблюдение, сравнение, обследова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сравнительный анализ, сопоставление, эвристическая деятельность (частично-поисковый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роблемные вопросы, стимулирующие проявление своего рода совместных с  педагогом «открытий», помогающих ребенку найти отв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разнообразные речевые дидактические игры для активизации словаря, расширения представления о многообразии граней родного языка, воспитания чувства уверенности в своих сил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иды интегрированной деятель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иро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провиз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лекциониро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ир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Рисунок 7" descr="DSC04300.JPG"/>
          <p:cNvPicPr/>
          <p:nvPr/>
        </p:nvPicPr>
        <p:blipFill>
          <a:blip r:embed="rId2"/>
          <a:stretch/>
        </p:blipFill>
        <p:spPr>
          <a:xfrm>
            <a:off x="5364000" y="2924280"/>
            <a:ext cx="3181680" cy="309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и , которые ставятся при интегрировании образовательных обла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Формирование у детей более глубоких, разносторонних знаний; целостное представление о мире. Мир, окружающий детей, познается ими в своем многообразии и единств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Интеграция способствует формированию обобщенных представлений, знаний и умений, повышает эффективность воспитания и развития детей, побуждает их к активному познанию окружающей действительности, осмыслению и нахождению причинно-следственных связей, развитию логики, мышления, коммуникативных способ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Интеграция в воспитательно-образовательном процессе также способствует объединению педагогического коллектива на основе обсуждения возможностей интеграции в развитии детей. Интересная, творческая работа дает возможность для самореализации, самовыражения, творчества педагога, раскрытия его способно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рганизация Н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960" y="85680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вводной  части создаем  проблемную  ситуацию, которая стимулирует активность детей к поиску ее решения (например, задается вопрос: «Ребята, что произойдет, если на Земле не будет воды?»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основной части детям даем новые знания, необходимые для решения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блемного вопроса (например, значение воды в природе и жизни человека и т.д.) на основе содержания разных разделов программы с опорой на наглядность. Параллельно идет работа по обогащению и активизации словаря, обучению связной ре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заключительной части детям предлагаем любую практическую работу (дидактическая игра, рисование, лепка, конструирование и др.) на закрепление полученной информации или актуализации ранее усво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3" descr="P3141112.JPG"/>
          <p:cNvPicPr/>
          <p:nvPr/>
        </p:nvPicPr>
        <p:blipFill>
          <a:blip r:embed="rId2"/>
          <a:stretch/>
        </p:blipFill>
        <p:spPr>
          <a:xfrm>
            <a:off x="5580000" y="4581360"/>
            <a:ext cx="2928960" cy="227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мплексно- тематическое планир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ть жизнь детей интересной, связав ее с окружающей действи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ь задачи и ориентиры, которые эмоционально увлекли, захватили бы всех детей на длительный ср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IMG_1502.JPG"/>
          <p:cNvPicPr/>
          <p:nvPr/>
        </p:nvPicPr>
        <p:blipFill>
          <a:blip r:embed="rId2"/>
          <a:stretch/>
        </p:blipFill>
        <p:spPr>
          <a:xfrm>
            <a:off x="2484360" y="836640"/>
            <a:ext cx="4187880" cy="2792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заимодействие с родите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Рисунок 5" descr="IMG_2522.JPG"/>
          <p:cNvPicPr/>
          <p:nvPr/>
        </p:nvPicPr>
        <p:blipFill>
          <a:blip r:embed="rId3"/>
          <a:stretch/>
        </p:blipFill>
        <p:spPr>
          <a:xfrm>
            <a:off x="468360" y="3789360"/>
            <a:ext cx="4224240" cy="28162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SAM_0556.JPG"/>
          <p:cNvPicPr/>
          <p:nvPr/>
        </p:nvPicPr>
        <p:blipFill>
          <a:blip r:embed="rId4"/>
          <a:stretch/>
        </p:blipFill>
        <p:spPr>
          <a:xfrm>
            <a:off x="4932360" y="3789360"/>
            <a:ext cx="3705120" cy="2776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амостоятельная деятельность де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DSC05589"/>
          <p:cNvPicPr/>
          <p:nvPr/>
        </p:nvPicPr>
        <p:blipFill>
          <a:blip r:embed="rId2"/>
          <a:stretch/>
        </p:blipFill>
        <p:spPr>
          <a:xfrm>
            <a:off x="357120" y="2000160"/>
            <a:ext cx="4417920" cy="31435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0" descr="IMG_2745.JPG"/>
          <p:cNvPicPr/>
          <p:nvPr/>
        </p:nvPicPr>
        <p:blipFill>
          <a:blip r:embed="rId3"/>
          <a:stretch/>
        </p:blipFill>
        <p:spPr>
          <a:xfrm>
            <a:off x="5072040" y="1214280"/>
            <a:ext cx="3714840" cy="2476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1" descr="IMG_2676.JPG"/>
          <p:cNvPicPr/>
          <p:nvPr/>
        </p:nvPicPr>
        <p:blipFill>
          <a:blip r:embed="rId4"/>
          <a:stretch/>
        </p:blipFill>
        <p:spPr>
          <a:xfrm>
            <a:off x="5072040" y="4000680"/>
            <a:ext cx="3892680" cy="254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2:29:18Z</dcterms:created>
  <dc:creator>Борис</dc:creator>
  <dc:description/>
  <dc:language>en-US</dc:language>
  <cp:lastModifiedBy>Борис</cp:lastModifiedBy>
  <dcterms:modified xsi:type="dcterms:W3CDTF">2013-03-31T12:55:54Z</dcterms:modified>
  <cp:revision>19</cp:revision>
  <dc:subject/>
  <dc:title>Ваховское муниципальное  бюджетное дошкольное образовательное учреждение </dc:title>
</cp:coreProperties>
</file>