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8.png" ContentType="image/png"/>
  <Override PartName="/ppt/media/image31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18.wmf" ContentType="image/x-wmf"/>
  <Override PartName="/ppt/media/image10.png" ContentType="image/png"/>
  <Override PartName="/ppt/media/image32.png" ContentType="image/png"/>
  <Override PartName="/ppt/media/image7.png" ContentType="image/png"/>
  <Override PartName="/ppt/media/image35.wmf" ContentType="image/x-wmf"/>
  <Override PartName="/ppt/media/image40.png" ContentType="image/png"/>
  <Override PartName="/ppt/media/image37.wmf" ContentType="image/x-wmf"/>
  <Override PartName="/ppt/media/image46.jpeg" ContentType="image/jpeg"/>
  <Override PartName="/ppt/media/image41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478-235D-4DF8-B158-39D0A6C7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111-416B-41E3-A9AF-3B50D7D4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A9F-DFA4-4289-BCAF-5B81AF24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0D5-2C84-4678-8975-98ACE6EE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64A8-B90D-4AB1-92E4-17C349E3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0AC8-0531-49C0-8AB6-E29CCDA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6C9-3AFB-44B1-AEAF-A22D2675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0F5E-91EE-4700-8B67-E739838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101-6945-483C-9DB4-DE37E713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4637-19F1-4052-A6F3-8F2ABA52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9851-2F53-43E5-9065-899DF78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F8A-EFFF-4BB5-88AF-B468841B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5964-5AEC-4403-ADC3-F873080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C810-94B4-47B9-8142-BF902A1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6E8F-B9C6-44C7-9B8A-2DD645ED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41AC-633C-4B1D-927D-1D7862DF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5B75-6BBB-400C-B8BC-CE25350C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CDDC5-9E3D-4CE9-B317-62DBB010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820C2-AFBD-4B5B-847C-4A4FA61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EC6DF-3BA1-4153-9BB3-A6617893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E264A-FA42-49AD-BB13-EAB534E9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824C6-D54F-4E6A-A8FB-EE85C60C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E55-C87B-49A6-A51B-8DCF99E1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B1AF8-AADB-47C5-8AA0-91351B97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D1E82-CD24-479D-BD11-0BBF730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43179-7301-47FB-9D5A-A3AA2B9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FD296-1E2B-4DD3-949E-06315E5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1659D-CE77-41F3-994B-A670D578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6623B-2C0B-4488-BD38-B42AA2C3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17959-6597-4D01-AF30-4A056EB4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829F-CF28-4280-AF20-DD61CA0C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2C2E-1E0B-46B1-B0B3-D551E3C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13E82-2FCC-4BE8-8F33-71EBBBE1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496-FEEA-40EA-8F67-A4405267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E1F5-C8B1-4ABD-94A7-DDB9853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9306-4A52-4BB5-A577-1518A3A9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F1B7-C0A5-4AE9-B581-EDD3D39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E6F6-6A97-46B7-8837-3F3691E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D6C2-D603-4A89-AA0A-A74DFA53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AB01-32D2-4206-8FE7-E0724EC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9B35-A977-4F58-8895-69897EB1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C7E31-28D1-42A7-9C1B-D5003881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7C42-C739-4FBB-B871-4E24497A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61CF9-F603-4F95-B3C5-619B7077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F01-76BA-4346-9D9F-8E67C760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F3F10-4CA5-4550-982C-2DD05B4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8106C-3ED4-46AF-BCFB-1A81BE1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B0397-A788-4146-9C6A-061D69A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65A7A-F8D4-4B5D-8E73-A147080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F6ADB-F530-4330-AEAD-B3F7717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8101B-A160-44C7-B8E7-EA96C49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5A3C2-E2E5-46BF-B08D-24E6FDE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8BA18-A8D6-4835-9F86-52083FA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1BA84-0306-4773-9FD1-F0EEF6EC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38959-AF42-4520-9C54-0CF9214B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243-6004-4B1A-801C-273D33AC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055A1-A26D-4649-8AAE-9EE7C34C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0BBF5-1965-4EAD-BEF9-AF377F59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1CA0B-1644-44F4-9257-B250E688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73182-7090-47EB-80CE-05CAD2D6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56A77-CD46-4FD8-9362-253A7A41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2EB27-429D-4C58-8F93-B093E12F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7A50A-A189-4954-8ADA-D1113C53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8C423-620A-48F8-8CEF-261A1CFC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255FB-CCA1-4327-8DA8-C5D3C27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19FE7-01BC-4031-AF6A-79D0BCB3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D26-AC0C-4D3F-9F57-47BFE9F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BF90E-CD20-4F7B-B88E-3C0485D1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5FB09-312E-45AD-97CE-2B973EDB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DB36D-A648-4839-9C4E-F393318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7A485-BD6A-4380-8883-BFE71ACC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6CEDE-779D-4982-8A5C-2CE4047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0CD2B-BFFC-4423-BAF7-BF16BA4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DA7B8-763D-4374-AAA1-43FF9ECA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9AAC4-89E5-410F-BC05-4A2ABBB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A3233-40E4-497B-87EC-C97431D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32DFE-F9EA-440D-BBF4-80EE3CE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C6D-2345-4089-AB34-C5925FFB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7E50D-E4EC-4B7D-8395-BB861782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378F8-9768-4332-B514-D5AAE64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715A0-1C6D-4C9F-B835-06E639D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5C3A5-639A-4075-9053-CB0B3E5D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B08CD-F131-4CAF-A5C0-2DB5F4EC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049-4F27-4B02-928D-50209DC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D179-A71E-4B7C-AB79-7DCBF08027D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860-1ACF-4C68-9146-776F221BC7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47DF-9C5F-4900-A865-BDF49781EE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DDE-C59B-490E-A95F-3C9F575A21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E80B-FD88-4200-8D27-178EA556C9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A611-02DD-42E4-8FEA-4E056E344E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703-07E9-4E7D-BA1C-A5063FF2DA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9760" y="1357200"/>
            <a:ext cx="671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ГРАФИК ПРОИЗВОДНОЙ ФУНКЦИИ, ГРАФИК ФУНК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28840" y="4429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идалова Лариса Леонидовн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ОУ №47, г.Иркутск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2857680" y="307188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7c84"/>
                </a:solidFill>
                <a:latin typeface="Century Schoolbook"/>
              </a:rPr>
              <a:t>Подготовка к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Рисунок 7. - 22 May 2013 - Blog - Fxzona"/>
          <p:cNvPicPr/>
          <p:nvPr/>
        </p:nvPicPr>
        <p:blipFill>
          <a:blip r:embed="rId1"/>
          <a:stretch/>
        </p:blipFill>
        <p:spPr>
          <a:xfrm>
            <a:off x="5869080" y="357120"/>
            <a:ext cx="270360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91 : 7 = 13 - Картинка 8533/6"/>
          <p:cNvPicPr/>
          <p:nvPr/>
        </p:nvPicPr>
        <p:blipFill>
          <a:blip r:embed="rId2"/>
          <a:stretch/>
        </p:blipFill>
        <p:spPr>
          <a:xfrm>
            <a:off x="2286000" y="3929040"/>
            <a:ext cx="2000160" cy="2065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А знаете ли вы, что не так просто создать объявление - Картинка 15952/11"/>
          <p:cNvPicPr/>
          <p:nvPr/>
        </p:nvPicPr>
        <p:blipFill>
          <a:blip r:embed="rId3"/>
          <a:stretch/>
        </p:blipFill>
        <p:spPr>
          <a:xfrm>
            <a:off x="1857240" y="214200"/>
            <a:ext cx="1357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3"/>
          <p:cNvSpPr/>
          <p:nvPr/>
        </p:nvSpPr>
        <p:spPr>
          <a:xfrm>
            <a:off x="5643720" y="1214280"/>
            <a:ext cx="2928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енной на интервале (-5;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очек, в которых касательная к графику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араллельна прямой y=6  или совпадает с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072040" cy="39258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5"/>
          <p:cNvSpPr/>
          <p:nvPr/>
        </p:nvSpPr>
        <p:spPr>
          <a:xfrm>
            <a:off x="5643720" y="58579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MCj03967440000[1]"/>
          <p:cNvPicPr/>
          <p:nvPr/>
        </p:nvPicPr>
        <p:blipFill>
          <a:blip r:embed="rId2"/>
          <a:stretch/>
        </p:blipFill>
        <p:spPr>
          <a:xfrm>
            <a:off x="785880" y="4000680"/>
            <a:ext cx="214308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3080" y="0"/>
            <a:ext cx="6676920" cy="43578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571680" y="450072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(x), определенной на интервале (-2;1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сумму точек экстремума функции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(x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5576400" y="585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MCj03981590000[1]"/>
          <p:cNvPicPr/>
          <p:nvPr/>
        </p:nvPicPr>
        <p:blipFill>
          <a:blip r:embed="rId2"/>
          <a:stretch/>
        </p:blipFill>
        <p:spPr>
          <a:xfrm>
            <a:off x="285840" y="1000080"/>
            <a:ext cx="20714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5429520" cy="41277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357120" y="428616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11;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промежутки возрастания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ответе укажите длину наибольшего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5789520" y="5929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Уроки математики 1 класс - Только новые учебники"/>
          <p:cNvPicPr/>
          <p:nvPr/>
        </p:nvPicPr>
        <p:blipFill>
          <a:blip r:embed="rId2"/>
          <a:stretch/>
        </p:blipFill>
        <p:spPr>
          <a:xfrm>
            <a:off x="6203880" y="500040"/>
            <a:ext cx="2308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214960" cy="4456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571680" y="4214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5;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промежутки убывания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ответе укажите сумму целых точек, входящих в эти промеж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5"/>
          <p:cNvSpPr/>
          <p:nvPr/>
        </p:nvSpPr>
        <p:spPr>
          <a:xfrm>
            <a:off x="5933880" y="57862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e-book &quot; Страница 6"/>
          <p:cNvPicPr/>
          <p:nvPr/>
        </p:nvPicPr>
        <p:blipFill>
          <a:blip r:embed="rId2"/>
          <a:stretch/>
        </p:blipFill>
        <p:spPr>
          <a:xfrm>
            <a:off x="5703840" y="500040"/>
            <a:ext cx="2728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4357800" cy="51814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4"/>
          <p:cNvSpPr/>
          <p:nvPr/>
        </p:nvSpPr>
        <p:spPr>
          <a:xfrm>
            <a:off x="5643720" y="1714680"/>
            <a:ext cx="25002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ы график функции y=f(x)  и касательная к нему в точке с абсциссой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значение производной функции f(x) в точке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5932440" y="57150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Animated Mathematics Clipart"/>
          <p:cNvPicPr/>
          <p:nvPr/>
        </p:nvPicPr>
        <p:blipFill>
          <a:blip r:embed="rId2"/>
          <a:stretch/>
        </p:blipFill>
        <p:spPr>
          <a:xfrm>
            <a:off x="214200" y="4286160"/>
            <a:ext cx="2143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3357360" cy="41180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"/>
          <p:cNvSpPr/>
          <p:nvPr/>
        </p:nvSpPr>
        <p:spPr>
          <a:xfrm>
            <a:off x="934560" y="57150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5577120" y="5715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529080" cy="38574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7"/>
          <p:cNvSpPr/>
          <p:nvPr/>
        </p:nvSpPr>
        <p:spPr>
          <a:xfrm>
            <a:off x="714240" y="4214880"/>
            <a:ext cx="7786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ы график функции y=f(x)  и касательная к нему в точке с абсциссой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значение производной функции f(x) в точке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The Schools And Use Teachers Rourke - JoBSPapa.com"/>
          <p:cNvPicPr/>
          <p:nvPr/>
        </p:nvPicPr>
        <p:blipFill>
          <a:blip r:embed="rId3"/>
          <a:stretch/>
        </p:blipFill>
        <p:spPr>
          <a:xfrm>
            <a:off x="3214800" y="2000160"/>
            <a:ext cx="2428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5500800" y="928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 -  производной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абсциссу точки, в которой касательная к графику y=f(x) параллельна прямой y=2x-2 или совпадает с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4735800" cy="47862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5"/>
          <p:cNvSpPr/>
          <p:nvPr/>
        </p:nvSpPr>
        <p:spPr>
          <a:xfrm>
            <a:off x="5500800" y="5572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Сайт учителя начальных классов Климовой Татьяны Анатольевны &quot; Страница 12"/>
          <p:cNvPicPr/>
          <p:nvPr/>
        </p:nvPicPr>
        <p:blipFill>
          <a:blip r:embed="rId2"/>
          <a:stretch/>
        </p:blipFill>
        <p:spPr>
          <a:xfrm>
            <a:off x="714240" y="4429080"/>
            <a:ext cx="1500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571680" y="421488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7;1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 максимума функции f(x), принадлежащих отрезку [-6;9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714240" y="0"/>
            <a:ext cx="5929560" cy="3919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5"/>
          <p:cNvSpPr/>
          <p:nvPr/>
        </p:nvSpPr>
        <p:spPr>
          <a:xfrm>
            <a:off x="5643720" y="5929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MCj03981430000[1]"/>
          <p:cNvPicPr/>
          <p:nvPr/>
        </p:nvPicPr>
        <p:blipFill>
          <a:blip r:embed="rId2"/>
          <a:stretch/>
        </p:blipFill>
        <p:spPr>
          <a:xfrm>
            <a:off x="6434280" y="571680"/>
            <a:ext cx="2212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3"/>
          <p:cNvSpPr/>
          <p:nvPr/>
        </p:nvSpPr>
        <p:spPr>
          <a:xfrm>
            <a:off x="571680" y="4429080"/>
            <a:ext cx="792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18;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 минимума функции f(x), принадлежащих отрезку [-13;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7113600" cy="335772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5"/>
          <p:cNvSpPr/>
          <p:nvPr/>
        </p:nvSpPr>
        <p:spPr>
          <a:xfrm>
            <a:off x="5718240" y="5929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MCj03967420000[1]"/>
          <p:cNvPicPr/>
          <p:nvPr/>
        </p:nvPicPr>
        <p:blipFill>
          <a:blip r:embed="rId2"/>
          <a:stretch/>
        </p:blipFill>
        <p:spPr>
          <a:xfrm>
            <a:off x="6715080" y="1785960"/>
            <a:ext cx="20750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3"/>
          <p:cNvSpPr/>
          <p:nvPr/>
        </p:nvSpPr>
        <p:spPr>
          <a:xfrm>
            <a:off x="6000840" y="1214280"/>
            <a:ext cx="235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f(x), определенной на интервале (-5;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, в которых производная функции f(x) равна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5778720" cy="450072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5"/>
          <p:cNvSpPr/>
          <p:nvPr/>
        </p:nvSpPr>
        <p:spPr>
          <a:xfrm>
            <a:off x="5715000" y="5572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MCj03981330000[1]"/>
          <p:cNvPicPr/>
          <p:nvPr/>
        </p:nvPicPr>
        <p:blipFill>
          <a:blip r:embed="rId2"/>
          <a:stretch/>
        </p:blipFill>
        <p:spPr>
          <a:xfrm>
            <a:off x="1071720" y="4143240"/>
            <a:ext cx="25714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7905600" cy="564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28760" y="4471920"/>
            <a:ext cx="1643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3"/>
          <p:cNvSpPr/>
          <p:nvPr/>
        </p:nvSpPr>
        <p:spPr>
          <a:xfrm>
            <a:off x="5929200" y="64296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f(x), определенной на интервале (-8;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акой точке отрезка [-3;2] функция f(x)  принимает наиболь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143320" cy="46800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5"/>
          <p:cNvSpPr/>
          <p:nvPr/>
        </p:nvSpPr>
        <p:spPr>
          <a:xfrm>
            <a:off x="5500800" y="5643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3981290000[1]"/>
          <p:cNvPicPr/>
          <p:nvPr/>
        </p:nvPicPr>
        <p:blipFill>
          <a:blip r:embed="rId2"/>
          <a:stretch/>
        </p:blipFill>
        <p:spPr>
          <a:xfrm>
            <a:off x="928800" y="4071960"/>
            <a:ext cx="2357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3"/>
          <p:cNvSpPr/>
          <p:nvPr/>
        </p:nvSpPr>
        <p:spPr>
          <a:xfrm>
            <a:off x="6000840" y="857160"/>
            <a:ext cx="264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8;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акой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трезка [-7;-3]  функция f(x)  принимает наименьшее знач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357880" cy="45086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5572080" y="5643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Информационная справка - страница 4"/>
          <p:cNvPicPr/>
          <p:nvPr/>
        </p:nvPicPr>
        <p:blipFill>
          <a:blip r:embed="rId2"/>
          <a:stretch/>
        </p:blipFill>
        <p:spPr>
          <a:xfrm>
            <a:off x="785880" y="4357800"/>
            <a:ext cx="28573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28760" y="162000"/>
            <a:ext cx="4071960" cy="369864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428760" y="4214880"/>
            <a:ext cx="3714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функции f(x) и восемь точек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...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скольких из этих точек функция возраст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929120" y="438120"/>
            <a:ext cx="3714840" cy="34909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6"/>
          <p:cNvSpPr/>
          <p:nvPr/>
        </p:nvSpPr>
        <p:spPr>
          <a:xfrm>
            <a:off x="4857840" y="4214880"/>
            <a:ext cx="37148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функции f(x) и шесть точек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...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скольких из этих точек функция у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Блог - Персональный сайт"/>
          <p:cNvPicPr/>
          <p:nvPr/>
        </p:nvPicPr>
        <p:blipFill>
          <a:blip r:embed="rId3"/>
          <a:stretch/>
        </p:blipFill>
        <p:spPr>
          <a:xfrm>
            <a:off x="3714840" y="2643120"/>
            <a:ext cx="15714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3357720" y="0"/>
            <a:ext cx="5214960" cy="433224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4"/>
          <p:cNvSpPr/>
          <p:nvPr/>
        </p:nvSpPr>
        <p:spPr>
          <a:xfrm>
            <a:off x="500040" y="4714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     функции f(x), определенной на интервале (-10;2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 точек,  в которых  касательная к графику функции f(x)  параллельна прямой у=-2х-11 или совпадает с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Тесты по математике для учащихся специальной (коррекционной) школы VIII вида. Пояснительная записка"/>
          <p:cNvPicPr/>
          <p:nvPr/>
        </p:nvPicPr>
        <p:blipFill>
          <a:blip r:embed="rId2"/>
          <a:stretch/>
        </p:blipFill>
        <p:spPr>
          <a:xfrm>
            <a:off x="214200" y="1214280"/>
            <a:ext cx="307188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286000" y="1856880"/>
            <a:ext cx="413856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Schoolboo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Picture 2" descr="ИБП Череповец = ВКонтакте"/>
          <p:cNvPicPr/>
          <p:nvPr/>
        </p:nvPicPr>
        <p:blipFill>
          <a:blip r:embed="rId1"/>
          <a:stretch/>
        </p:blipFill>
        <p:spPr>
          <a:xfrm>
            <a:off x="185760" y="3214800"/>
            <a:ext cx="2847960" cy="3357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География учебник 9 класс украина - Только новые учебники"/>
          <p:cNvPicPr/>
          <p:nvPr/>
        </p:nvPicPr>
        <p:blipFill>
          <a:blip r:embed="rId2"/>
          <a:stretch/>
        </p:blipFill>
        <p:spPr>
          <a:xfrm>
            <a:off x="6357960" y="285840"/>
            <a:ext cx="2319480" cy="2214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Work And School"/>
          <p:cNvPicPr/>
          <p:nvPr/>
        </p:nvPicPr>
        <p:blipFill>
          <a:blip r:embed="rId3"/>
          <a:stretch/>
        </p:blipFill>
        <p:spPr>
          <a:xfrm>
            <a:off x="21420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Папка 'картинки на математическую тему' - Ольга Андреевна Бельская"/>
          <p:cNvPicPr/>
          <p:nvPr/>
        </p:nvPicPr>
        <p:blipFill>
          <a:blip r:embed="rId4"/>
          <a:stretch/>
        </p:blipFill>
        <p:spPr>
          <a:xfrm>
            <a:off x="5143680" y="3357720"/>
            <a:ext cx="27860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7905600" cy="506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38120" y="4500720"/>
            <a:ext cx="1677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7905600" cy="50673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6072120" y="59292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28760" y="4714920"/>
            <a:ext cx="1517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7905600" cy="47052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928880" y="47149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так, точки экстремума графика функции - это тоже самое, что точки пересечения графика производной функции с осью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5715000" y="60721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285840" y="4572000"/>
            <a:ext cx="1677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215200" cy="39783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4"/>
          <p:cNvSpPr/>
          <p:nvPr/>
        </p:nvSpPr>
        <p:spPr>
          <a:xfrm>
            <a:off x="2500200" y="45720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ешение: экстремумы графика функции - это точки пересечения графика производной функции и оси абсцисс (т.е. оси 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500040" y="4143240"/>
            <a:ext cx="19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6905520" cy="3429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4"/>
          <p:cNvSpPr/>
          <p:nvPr/>
        </p:nvSpPr>
        <p:spPr>
          <a:xfrm>
            <a:off x="500040" y="378612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Точки минимум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фика функции - это точки пересечения графика производной функции с осью ОХ при возрастании графика производной функции (красные точки на график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Точки максимум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фика функции - это точки пересечения графика производной функции с осью ОХ при убывании графика производной функции (синие точки на граф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214200" y="1285920"/>
            <a:ext cx="1643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3"/>
          <p:cNvSpPr/>
          <p:nvPr/>
        </p:nvSpPr>
        <p:spPr>
          <a:xfrm>
            <a:off x="5214960" y="150012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 , определ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интервале (-6;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ите количество целых точ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оторых производная функции положи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4907160" cy="37861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6000840" y="5715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Урок по глаголу 5 класс - Только новые учебники"/>
          <p:cNvPicPr/>
          <p:nvPr/>
        </p:nvPicPr>
        <p:blipFill>
          <a:blip r:embed="rId2"/>
          <a:stretch/>
        </p:blipFill>
        <p:spPr>
          <a:xfrm>
            <a:off x="1071720" y="4143240"/>
            <a:ext cx="2571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86600" cy="42163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5643720" y="785880"/>
            <a:ext cx="292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енной на интервале (-5;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и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ых точек, в которых производная функции f(x) отриц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5"/>
          <p:cNvSpPr/>
          <p:nvPr/>
        </p:nvSpPr>
        <p:spPr>
          <a:xfrm>
            <a:off x="5429160" y="5643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Логопедическое занятие - Картинка 6357/2"/>
          <p:cNvPicPr/>
          <p:nvPr/>
        </p:nvPicPr>
        <p:blipFill>
          <a:blip r:embed="rId2"/>
          <a:stretch/>
        </p:blipFill>
        <p:spPr>
          <a:xfrm>
            <a:off x="1000080" y="4500720"/>
            <a:ext cx="30718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0:23Z</dcterms:created>
  <dc:creator>лариса</dc:creator>
  <dc:description/>
  <dc:language>en-US</dc:language>
  <cp:lastModifiedBy>User</cp:lastModifiedBy>
  <dcterms:modified xsi:type="dcterms:W3CDTF">2015-01-27T07:11:18Z</dcterms:modified>
  <cp:revision>25</cp:revision>
  <dc:subject/>
  <dc:title>График производной функции, график функции</dc:title>
</cp:coreProperties>
</file>