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8.png" ContentType="image/png"/>
  <Override PartName="/ppt/media/image31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18.wmf" ContentType="image/x-wmf"/>
  <Override PartName="/ppt/media/image10.png" ContentType="image/png"/>
  <Override PartName="/ppt/media/image32.png" ContentType="image/png"/>
  <Override PartName="/ppt/media/image7.png" ContentType="image/png"/>
  <Override PartName="/ppt/media/image35.wmf" ContentType="image/x-wmf"/>
  <Override PartName="/ppt/media/image40.png" ContentType="image/png"/>
  <Override PartName="/ppt/media/image37.wmf" ContentType="image/x-wmf"/>
  <Override PartName="/ppt/media/image46.jpeg" ContentType="image/jpeg"/>
  <Override PartName="/ppt/media/image41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7FA-43E0-41FD-A939-E3E0237F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05E-2F78-4FBC-B52C-5914F5F8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34A-C614-4FD2-A459-AC68F02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B39-C1C0-40E9-BCBA-758BC125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CB55-4B7B-453F-95DD-00181D9E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341B-9468-482B-8199-69B18804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906C-E664-430F-99F9-4DA08D7F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1C6-AFDC-4CA7-A869-2AD35CF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D705-FD11-4645-A778-BBE23AF3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F291-7612-4ABA-AE7D-E22D33A8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49EC-3F4D-4DE8-8B49-000291B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D36-C7D7-4320-BF09-4569960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E0F-E7E5-41CE-A036-131C5B3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4DE-90D3-449A-BE71-DB291CE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40A-61C4-415E-BDA9-AB48E38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E2D0-E8E9-4CA2-885D-1AEC0735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ABAD-6411-4162-B028-43B876D9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EF237-759B-4F61-A29A-FDDD43AB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BDAE8-9B7B-455B-AEC1-A09A900A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AAADF-4960-4081-AF9E-AA5D8000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618C5-FC96-46D4-84B9-5459E927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48817-9EC4-4EC7-B95B-9148A124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ABF-1D42-49BC-A2C3-8FA6B51A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F9D17-D1C9-4105-BE69-61C3B6E0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AF585-35A3-4F41-8705-87F3EF65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C326F-7851-447D-BD4D-46EF9F2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A7AE5-20E4-422E-A1E2-766DE13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5C382-860E-41ED-9989-DA987F51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7A55F-5A99-40E7-8F19-4C9157E1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1BECC-BDEB-4285-AE0E-DDCA837B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1F2F-7E79-4C7A-A44F-6167735F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0EBD-8993-4C61-9490-76E8C3A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658F-0EB8-41A2-A541-D581895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E1B-702C-400B-BEBA-32C8621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2317-A46F-4A52-930F-7A5C590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EDAE-CA4A-40FF-BEAE-2852ECD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7C25-73BE-4403-A2C1-3B68EF7E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5327-54A7-4A33-B990-F682621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D740F-183D-4599-96D4-2200B06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689D-4693-48F7-ACCF-CA6E4B90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7C38-2E4A-4FFD-861B-BBEEBEB6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18B3-1626-4CA4-958E-8C014433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08DF-B28A-4F08-AD39-A12ACE2D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91A94-209B-4828-B2B2-418FF67E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CB4-FA89-42E0-ADDC-006EF4A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B5438-3DF4-43FD-BE82-EC0F5C2D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58BCE-E011-41C1-B30B-1E4526F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C1F72-A1C1-4CFC-A647-630E42FC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CA5C3-B8C3-4AA4-BB3F-9D9B1357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DD35D-7848-418C-AAB8-AE028D21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EF17E-754E-47FA-B3BD-EA379EDD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9340A-E64E-456F-A1A2-77BC153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9A491-26E7-4F66-9ACA-6656E1C9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BB259-C9FB-4E18-A1A4-6BB39EDA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A1EB7-E8D7-49AD-8789-5B193FED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51D-FDC8-4C12-8CF4-1709E08D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156E0-20B9-470D-8F99-DE6A261D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44EFA-77DE-4F4D-A16D-84127BFB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323E1-93D9-435C-803C-0B09B8D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5D9C2-E6B0-47D7-81E4-F175A97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2EFDA-03B2-4D10-866E-ECD1DE2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98A6E-75F8-4FB2-AAED-1FBE672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3EB5A-45A7-4EFB-8885-E9468D2F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AEA3F-6C8B-42F1-937C-9BB6A75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CDA81-36C7-4AE5-AB8C-5EEC42E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95FD6-5D35-4B74-90E7-DC003E2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8EE-0BA6-4CCE-86EB-8F8568F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024C6-B573-457C-9554-54D24E97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25550-E088-4D1C-B9DC-0D3CD540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B2021-1F06-4C72-BB29-5E69AA02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57035-14AE-4B87-A153-D9A344EA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3CFAC-B156-4652-9224-FDE96314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FB3CC-A0B6-436D-82F2-982A768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4CB20-2A7A-412A-98AE-B9320E2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89C3B-D8B7-4CCD-9FFA-34C843D2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CBAC6-1A41-40BD-855A-D35668B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5E351-0FCC-4830-B9A3-448C113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312-4CFF-4FFE-AF3E-09468C0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BE8EF-66B5-4A77-AE20-5AE0A5F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BAA2E-3E14-457A-871A-7C5A908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C0211-5B9E-4DAF-A586-3EDBD402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71AD3-BFEA-43D6-BD19-BC2B9FDF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AF004-F2CE-480C-86FD-6E5C66F4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37E-1A28-4C33-8E13-32261F8D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8B68-43C5-40D8-AA09-079911A7E5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347-302D-46A4-82C4-63465262FE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5226-557F-41DB-9E69-4B947BC0CE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45DE-6F2B-4722-8B10-657D8A837F0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525-0608-4C7D-AA8C-95E8163F4E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EC8-079E-4DEE-B9DF-DD749AB9A9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A1A-65D8-4433-9031-A5FD473D54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9760" y="1357200"/>
            <a:ext cx="671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ГРАФИК ПРОИЗВОДНОЙ ФУНКЦИИ, ГРАФИК ФУНК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28840" y="4429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идалова Лариса Леонидовн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ОУ №47, г.Иркутск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2857680" y="307188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7c84"/>
                </a:solidFill>
                <a:latin typeface="Century Schoolbook"/>
              </a:rPr>
              <a:t>Подготовка к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Рисунок 7. - 22 May 2013 - Blog - Fxzona"/>
          <p:cNvPicPr/>
          <p:nvPr/>
        </p:nvPicPr>
        <p:blipFill>
          <a:blip r:embed="rId1"/>
          <a:stretch/>
        </p:blipFill>
        <p:spPr>
          <a:xfrm>
            <a:off x="5869080" y="357120"/>
            <a:ext cx="2703600" cy="1428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91 : 7 = 13 - Картинка 8533/6"/>
          <p:cNvPicPr/>
          <p:nvPr/>
        </p:nvPicPr>
        <p:blipFill>
          <a:blip r:embed="rId2"/>
          <a:stretch/>
        </p:blipFill>
        <p:spPr>
          <a:xfrm>
            <a:off x="2286000" y="3929040"/>
            <a:ext cx="2000160" cy="2065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А знаете ли вы, что не так просто создать объявление - Картинка 15952/11"/>
          <p:cNvPicPr/>
          <p:nvPr/>
        </p:nvPicPr>
        <p:blipFill>
          <a:blip r:embed="rId3"/>
          <a:stretch/>
        </p:blipFill>
        <p:spPr>
          <a:xfrm>
            <a:off x="1857240" y="214200"/>
            <a:ext cx="1357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3"/>
          <p:cNvSpPr/>
          <p:nvPr/>
        </p:nvSpPr>
        <p:spPr>
          <a:xfrm>
            <a:off x="5643720" y="1214280"/>
            <a:ext cx="2928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енной на интервале (-5;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очек, в которых касательная к графику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араллельна прямой y=6  или совпадает с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072040" cy="39258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5"/>
          <p:cNvSpPr/>
          <p:nvPr/>
        </p:nvSpPr>
        <p:spPr>
          <a:xfrm>
            <a:off x="5643720" y="58579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MCj03967440000[1]"/>
          <p:cNvPicPr/>
          <p:nvPr/>
        </p:nvPicPr>
        <p:blipFill>
          <a:blip r:embed="rId2"/>
          <a:stretch/>
        </p:blipFill>
        <p:spPr>
          <a:xfrm>
            <a:off x="785880" y="4000680"/>
            <a:ext cx="214308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3080" y="0"/>
            <a:ext cx="6676920" cy="43578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571680" y="450072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(x), определенной на интервале (-2;1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сумму точек экстремума функции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(x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5576400" y="585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MCj03981590000[1]"/>
          <p:cNvPicPr/>
          <p:nvPr/>
        </p:nvPicPr>
        <p:blipFill>
          <a:blip r:embed="rId2"/>
          <a:stretch/>
        </p:blipFill>
        <p:spPr>
          <a:xfrm>
            <a:off x="285840" y="1000080"/>
            <a:ext cx="20714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5429520" cy="41277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357120" y="428616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11;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промежутки возрастания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ответе укажите длину наибольшего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5789520" y="5929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Уроки математики 1 класс - Только новые учебники"/>
          <p:cNvPicPr/>
          <p:nvPr/>
        </p:nvPicPr>
        <p:blipFill>
          <a:blip r:embed="rId2"/>
          <a:stretch/>
        </p:blipFill>
        <p:spPr>
          <a:xfrm>
            <a:off x="6203880" y="500040"/>
            <a:ext cx="2308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214960" cy="4456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571680" y="4214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5;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промежутки убывания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ответе укажите сумму целых точек, входящих в эти промеж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5"/>
          <p:cNvSpPr/>
          <p:nvPr/>
        </p:nvSpPr>
        <p:spPr>
          <a:xfrm>
            <a:off x="5933880" y="57862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e-book &quot; Страница 6"/>
          <p:cNvPicPr/>
          <p:nvPr/>
        </p:nvPicPr>
        <p:blipFill>
          <a:blip r:embed="rId2"/>
          <a:stretch/>
        </p:blipFill>
        <p:spPr>
          <a:xfrm>
            <a:off x="5703840" y="500040"/>
            <a:ext cx="2728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4357800" cy="51814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4"/>
          <p:cNvSpPr/>
          <p:nvPr/>
        </p:nvSpPr>
        <p:spPr>
          <a:xfrm>
            <a:off x="5643720" y="1714680"/>
            <a:ext cx="25002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ы график функции y=f(x)  и касательная к нему в точке с абсциссой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значение производной функции f(x) в точке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5932440" y="57150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Animated Mathematics Clipart"/>
          <p:cNvPicPr/>
          <p:nvPr/>
        </p:nvPicPr>
        <p:blipFill>
          <a:blip r:embed="rId2"/>
          <a:stretch/>
        </p:blipFill>
        <p:spPr>
          <a:xfrm>
            <a:off x="214200" y="4286160"/>
            <a:ext cx="2143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3357360" cy="41180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"/>
          <p:cNvSpPr/>
          <p:nvPr/>
        </p:nvSpPr>
        <p:spPr>
          <a:xfrm>
            <a:off x="934560" y="57150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5577120" y="5715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529080" cy="38574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7"/>
          <p:cNvSpPr/>
          <p:nvPr/>
        </p:nvSpPr>
        <p:spPr>
          <a:xfrm>
            <a:off x="714240" y="4214880"/>
            <a:ext cx="7786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ы график функции y=f(x)  и касательная к нему в точке с абсциссой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значение производной функции f(x) в точке 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The Schools And Use Teachers Rourke - JoBSPapa.com"/>
          <p:cNvPicPr/>
          <p:nvPr/>
        </p:nvPicPr>
        <p:blipFill>
          <a:blip r:embed="rId3"/>
          <a:stretch/>
        </p:blipFill>
        <p:spPr>
          <a:xfrm>
            <a:off x="3214800" y="2000160"/>
            <a:ext cx="2428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5500800" y="928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 -  производной функции f(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абсциссу точки, в которой касательная к графику y=f(x) параллельна прямой y=2x-2 или совпадает с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4735800" cy="47862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5"/>
          <p:cNvSpPr/>
          <p:nvPr/>
        </p:nvSpPr>
        <p:spPr>
          <a:xfrm>
            <a:off x="5500800" y="5572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Сайт учителя начальных классов Климовой Татьяны Анатольевны &quot; Страница 12"/>
          <p:cNvPicPr/>
          <p:nvPr/>
        </p:nvPicPr>
        <p:blipFill>
          <a:blip r:embed="rId2"/>
          <a:stretch/>
        </p:blipFill>
        <p:spPr>
          <a:xfrm>
            <a:off x="714240" y="4429080"/>
            <a:ext cx="1500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571680" y="421488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7;1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 максимума функции f(x), принадлежащих отрезку [-6;9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714240" y="0"/>
            <a:ext cx="5929560" cy="3919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5"/>
          <p:cNvSpPr/>
          <p:nvPr/>
        </p:nvSpPr>
        <p:spPr>
          <a:xfrm>
            <a:off x="5643720" y="5929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MCj03981430000[1]"/>
          <p:cNvPicPr/>
          <p:nvPr/>
        </p:nvPicPr>
        <p:blipFill>
          <a:blip r:embed="rId2"/>
          <a:stretch/>
        </p:blipFill>
        <p:spPr>
          <a:xfrm>
            <a:off x="6434280" y="571680"/>
            <a:ext cx="2212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3"/>
          <p:cNvSpPr/>
          <p:nvPr/>
        </p:nvSpPr>
        <p:spPr>
          <a:xfrm>
            <a:off x="571680" y="4429080"/>
            <a:ext cx="792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18;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 минимума функции f(x), принадлежащих отрезку [-13;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7113600" cy="335772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5"/>
          <p:cNvSpPr/>
          <p:nvPr/>
        </p:nvSpPr>
        <p:spPr>
          <a:xfrm>
            <a:off x="5718240" y="59292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MCj03967420000[1]"/>
          <p:cNvPicPr/>
          <p:nvPr/>
        </p:nvPicPr>
        <p:blipFill>
          <a:blip r:embed="rId2"/>
          <a:stretch/>
        </p:blipFill>
        <p:spPr>
          <a:xfrm>
            <a:off x="6715080" y="1785960"/>
            <a:ext cx="20750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3"/>
          <p:cNvSpPr/>
          <p:nvPr/>
        </p:nvSpPr>
        <p:spPr>
          <a:xfrm>
            <a:off x="6000840" y="1214280"/>
            <a:ext cx="235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f(x), определенной на интервале (-5;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точек, в которых производная функции f(x) равна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5778720" cy="450072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5"/>
          <p:cNvSpPr/>
          <p:nvPr/>
        </p:nvSpPr>
        <p:spPr>
          <a:xfrm>
            <a:off x="5715000" y="5572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MCj03981330000[1]"/>
          <p:cNvPicPr/>
          <p:nvPr/>
        </p:nvPicPr>
        <p:blipFill>
          <a:blip r:embed="rId2"/>
          <a:stretch/>
        </p:blipFill>
        <p:spPr>
          <a:xfrm>
            <a:off x="1071720" y="4143240"/>
            <a:ext cx="25714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7905600" cy="564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28760" y="4471920"/>
            <a:ext cx="1643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3"/>
          <p:cNvSpPr/>
          <p:nvPr/>
        </p:nvSpPr>
        <p:spPr>
          <a:xfrm>
            <a:off x="5929200" y="64296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 f(x), определенной на интервале (-8;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акой точке отрезка [-3;2] функция f(x)  принимает наиболь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143320" cy="46800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5"/>
          <p:cNvSpPr/>
          <p:nvPr/>
        </p:nvSpPr>
        <p:spPr>
          <a:xfrm>
            <a:off x="5500800" y="5643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3981290000[1]"/>
          <p:cNvPicPr/>
          <p:nvPr/>
        </p:nvPicPr>
        <p:blipFill>
          <a:blip r:embed="rId2"/>
          <a:stretch/>
        </p:blipFill>
        <p:spPr>
          <a:xfrm>
            <a:off x="928800" y="4071960"/>
            <a:ext cx="2357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3"/>
          <p:cNvSpPr/>
          <p:nvPr/>
        </p:nvSpPr>
        <p:spPr>
          <a:xfrm>
            <a:off x="6000840" y="857160"/>
            <a:ext cx="264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entury Schoolbook"/>
              </a:rPr>
              <a:t> ‘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(x) -  производ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f(x),  определенной на интервале (-8;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акой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трезка [-7;-3]  функция f(x)  принимает наименьшее знач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5357880" cy="45086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5572080" y="5643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Информационная справка - страница 4"/>
          <p:cNvPicPr/>
          <p:nvPr/>
        </p:nvPicPr>
        <p:blipFill>
          <a:blip r:embed="rId2"/>
          <a:stretch/>
        </p:blipFill>
        <p:spPr>
          <a:xfrm>
            <a:off x="785880" y="4357800"/>
            <a:ext cx="28573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28760" y="162000"/>
            <a:ext cx="4071960" cy="369864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428760" y="4214880"/>
            <a:ext cx="3714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функции f(x) и восемь точек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...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скольких из этих точек функция возраст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929120" y="438120"/>
            <a:ext cx="3714840" cy="34909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6"/>
          <p:cNvSpPr/>
          <p:nvPr/>
        </p:nvSpPr>
        <p:spPr>
          <a:xfrm>
            <a:off x="4857840" y="4214880"/>
            <a:ext cx="37148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функции f(x) и шесть точек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...,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скольких из этих точек функция у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Блог - Персональный сайт"/>
          <p:cNvPicPr/>
          <p:nvPr/>
        </p:nvPicPr>
        <p:blipFill>
          <a:blip r:embed="rId3"/>
          <a:stretch/>
        </p:blipFill>
        <p:spPr>
          <a:xfrm>
            <a:off x="3714840" y="2643120"/>
            <a:ext cx="15714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3357720" y="0"/>
            <a:ext cx="5214960" cy="433224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4"/>
          <p:cNvSpPr/>
          <p:nvPr/>
        </p:nvSpPr>
        <p:spPr>
          <a:xfrm>
            <a:off x="500040" y="4714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y=f'(x) - производной      функции f(x), определенной на интервале (-10;2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Найдите количество  точек,  в которых  касательная к графику функции f(x)  параллельна прямой у=-2х-11 или совпадает с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Тесты по математике для учащихся специальной (коррекционной) школы VIII вида. Пояснительная записка"/>
          <p:cNvPicPr/>
          <p:nvPr/>
        </p:nvPicPr>
        <p:blipFill>
          <a:blip r:embed="rId2"/>
          <a:stretch/>
        </p:blipFill>
        <p:spPr>
          <a:xfrm>
            <a:off x="214200" y="1214280"/>
            <a:ext cx="307188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286000" y="1856880"/>
            <a:ext cx="413856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Schoolboo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Picture 2" descr="ИБП Череповец = ВКонтакте"/>
          <p:cNvPicPr/>
          <p:nvPr/>
        </p:nvPicPr>
        <p:blipFill>
          <a:blip r:embed="rId1"/>
          <a:stretch/>
        </p:blipFill>
        <p:spPr>
          <a:xfrm>
            <a:off x="185760" y="3214800"/>
            <a:ext cx="2847960" cy="3357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География учебник 9 класс украина - Только новые учебники"/>
          <p:cNvPicPr/>
          <p:nvPr/>
        </p:nvPicPr>
        <p:blipFill>
          <a:blip r:embed="rId2"/>
          <a:stretch/>
        </p:blipFill>
        <p:spPr>
          <a:xfrm>
            <a:off x="6357960" y="285840"/>
            <a:ext cx="2319480" cy="2214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Work And School"/>
          <p:cNvPicPr/>
          <p:nvPr/>
        </p:nvPicPr>
        <p:blipFill>
          <a:blip r:embed="rId3"/>
          <a:stretch/>
        </p:blipFill>
        <p:spPr>
          <a:xfrm>
            <a:off x="21420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Папка 'картинки на математическую тему' - Ольга Андреевна Бельская"/>
          <p:cNvPicPr/>
          <p:nvPr/>
        </p:nvPicPr>
        <p:blipFill>
          <a:blip r:embed="rId4"/>
          <a:stretch/>
        </p:blipFill>
        <p:spPr>
          <a:xfrm>
            <a:off x="5143680" y="3357720"/>
            <a:ext cx="27860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7905600" cy="506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38120" y="4500720"/>
            <a:ext cx="1677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42960" y="0"/>
            <a:ext cx="7905600" cy="50673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6072120" y="59292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428760" y="4714920"/>
            <a:ext cx="1517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7905600" cy="47052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928880" y="47149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так, точки экстремума графика функции - это тоже самое, что точки пересечения графика производной функции с осью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5715000" y="60721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285840" y="4572000"/>
            <a:ext cx="1677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215200" cy="39783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4"/>
          <p:cNvSpPr/>
          <p:nvPr/>
        </p:nvSpPr>
        <p:spPr>
          <a:xfrm>
            <a:off x="2500200" y="45720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ешение: экстремумы графика функции - это точки пересечения графика производной функции и оси абсцисс (т.е. оси 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500040" y="4143240"/>
            <a:ext cx="19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6905520" cy="3429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4"/>
          <p:cNvSpPr/>
          <p:nvPr/>
        </p:nvSpPr>
        <p:spPr>
          <a:xfrm>
            <a:off x="500040" y="378612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Точки минимум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фика функции - это точки пересечения графика производной функции с осью ОХ при возрастании графика производной функции (красные точки на график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Точки максимум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фика функции - это точки пересечения графика производной функции с осью ОХ при убывании графика производной функции (синие точки на граф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Sony Ericsson XPERIA ray - Обсуждение - 4PDA"/>
          <p:cNvPicPr/>
          <p:nvPr/>
        </p:nvPicPr>
        <p:blipFill>
          <a:blip r:embed="rId2"/>
          <a:stretch/>
        </p:blipFill>
        <p:spPr>
          <a:xfrm>
            <a:off x="214200" y="1285920"/>
            <a:ext cx="1643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3"/>
          <p:cNvSpPr/>
          <p:nvPr/>
        </p:nvSpPr>
        <p:spPr>
          <a:xfrm>
            <a:off x="5214960" y="150012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 , определ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интервале (-6;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ите количество целых точ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которых производная функции положи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4907160" cy="37861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6000840" y="5715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Урок по глаголу 5 класс - Только новые учебники"/>
          <p:cNvPicPr/>
          <p:nvPr/>
        </p:nvPicPr>
        <p:blipFill>
          <a:blip r:embed="rId2"/>
          <a:stretch/>
        </p:blipFill>
        <p:spPr>
          <a:xfrm>
            <a:off x="1071720" y="4143240"/>
            <a:ext cx="2571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86600" cy="42163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5643720" y="785880"/>
            <a:ext cx="292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рисунке изображен график функции y=f(x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енной на интервале (-5;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предели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целых точек, в которых производная функции f(x) отриц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5"/>
          <p:cNvSpPr/>
          <p:nvPr/>
        </p:nvSpPr>
        <p:spPr>
          <a:xfrm>
            <a:off x="5429160" y="5643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Логопедическое занятие - Картинка 6357/2"/>
          <p:cNvPicPr/>
          <p:nvPr/>
        </p:nvPicPr>
        <p:blipFill>
          <a:blip r:embed="rId2"/>
          <a:stretch/>
        </p:blipFill>
        <p:spPr>
          <a:xfrm>
            <a:off x="1000080" y="4500720"/>
            <a:ext cx="30718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0:23Z</dcterms:created>
  <dc:creator>лариса</dc:creator>
  <dc:description/>
  <dc:language>en-US</dc:language>
  <cp:lastModifiedBy>User</cp:lastModifiedBy>
  <dcterms:modified xsi:type="dcterms:W3CDTF">2015-01-27T07:11:18Z</dcterms:modified>
  <cp:revision>25</cp:revision>
  <dc:subject/>
  <dc:title>График производной функции, график функции</dc:title>
</cp:coreProperties>
</file>