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8.png" ContentType="image/png"/>
  <Override PartName="/ppt/media/image31.wmf" ContentType="image/x-wmf"/>
  <Override PartName="/ppt/media/image26.png" ContentType="image/png"/>
  <Override PartName="/ppt/media/image25.png" ContentType="image/pn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.jpeg" ContentType="image/jpeg"/>
  <Override PartName="/ppt/media/image18.wmf" ContentType="image/x-wmf"/>
  <Override PartName="/ppt/media/image10.png" ContentType="image/png"/>
  <Override PartName="/ppt/media/image32.png" ContentType="image/png"/>
  <Override PartName="/ppt/media/image7.png" ContentType="image/png"/>
  <Override PartName="/ppt/media/image35.wmf" ContentType="image/x-wmf"/>
  <Override PartName="/ppt/media/image40.png" ContentType="image/png"/>
  <Override PartName="/ppt/media/image37.wmf" ContentType="image/x-wmf"/>
  <Override PartName="/ppt/media/image46.jpeg" ContentType="image/jpeg"/>
  <Override PartName="/ppt/media/image41.png" ContentType="image/png"/>
  <Override PartName="/ppt/media/image42.png" ContentType="image/png"/>
  <Override PartName="/ppt/media/image13.png" ContentType="image/png"/>
  <Override PartName="/ppt/media/image44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43.png" ContentType="image/pn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5.jpeg" ContentType="image/jpe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6C2-F603-4D88-B7F1-CA831626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C8B-D173-4674-934C-5866F5AB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E96-31C7-4137-9DFA-653578CA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196-2FD7-4077-AD99-8FB6155C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75AB-6AD8-4534-915E-4367EAF0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2F8A-6F25-4B9D-8315-9BBF4487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22D7-E173-4457-A170-11380FC5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2116-F41A-4F98-9D87-1B02D48A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E4C6-EB32-445F-8ECF-588A0826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41A9-D19E-462E-8CF0-09BE505D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BB33-6D56-4DD1-9A6D-496D1927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91A-9EC8-4DF1-B799-9413B95F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6B8E-9F2D-455C-9C94-F5C0D0C2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0B17-CD57-4CAB-B7B9-98618A32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D885-24EA-4F11-AE53-AF314319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1F44-92CA-4D03-B239-4B9A2FD3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383E-980D-4EBB-9893-90F70F86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9E56E-260C-4D96-AD90-BA6CDDD3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68D87-16E4-4302-9816-C6D83623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9014D-1698-4C8E-9583-FE5A12E4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4CCB3-7598-46E9-9964-EA5DA848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078CF-A322-4B65-91CE-2C5328E5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BA2-813D-45D9-9933-D19E7AA3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21CE6-D218-4813-8685-0B57013F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1A303-9EDE-4A0D-8128-6C9AA288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11A50-3776-4A92-AD5E-B0FE0761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DD5C1-FBF6-4EC7-8D61-5BA07409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D2F77-8F7B-4F0E-8404-A661644E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98E8C-E898-4A2C-A319-123D4DD9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39742-FFE3-4827-AEB2-A39C7B2F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F776E-E949-428D-B1B6-70549B0B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C6A9-58F5-4C06-833B-A33825E8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7280-C60D-4D57-8592-463D09FE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0A1-40A9-49C5-8DFF-6876A289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FFFC6-732A-48D5-8E7E-96D87564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8199-51C6-4838-A88B-DF900539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24822-7C66-4527-A0C1-D59CE768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FC30-970C-47E1-A660-2488EDCB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1FDE-81EE-4B1A-9BF2-136C1C5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E77D8-8647-4AF0-8FA4-327340B8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7FD43-5B0E-4C82-825F-B828D111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0DDE9-E09B-42B9-B3B9-8A438DD3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FBC22-01BC-4186-B399-6D6AA599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F2E4A-E15F-4844-93AC-A141F014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B63-7B40-425C-8D7B-D562990E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97922-EA45-424D-B75F-C403E0E9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A856A-9264-49B1-96FD-539EBD52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EEF89-AEFA-4E16-A521-BAE51C15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AA11C-E76E-4CFB-B9ED-A2B8B2EA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B715F-FEB4-4B57-8283-54112166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0CA3D-9531-4EC3-920B-8F8654D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F1748-9F01-4900-97A9-99690BE8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BADEC-DE81-4141-A600-3F4F5B29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27591-53B2-4B82-A08B-A8FC0D35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7A511-7133-4AF6-90BC-8DB5A262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54C-88B2-4478-96BB-833BE52D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5AA6B-0C99-47BD-9DC6-A730FF87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7A967-A440-443E-8AD2-D4981609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ABAEA-4CEA-44C4-A123-D498F5FF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E5C01-E364-4C52-B7DD-91A2A2CB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C8686-2378-48A4-B488-FF1998F5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AAB9E4-78AF-4E8A-8DA6-7AA5132D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40E3FD-EEFD-46A4-B37E-9D0AA071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F0721-F89A-458D-BE90-D672162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36FA3-D5F2-40EE-96E2-93CDD85B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59B32-504E-4E07-8D15-D5AA9C27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392-8ACF-4DD7-BE83-5927B38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81425B-D35F-46F4-8876-52F55C7D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670130-487F-47C9-8B16-5044FCFB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45BA9-395A-477C-A042-663BC34A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4B7E4-BB92-4BE9-8374-816D0E3E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3FE99-9E17-40D9-9402-47A6BB4A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34EAF-5947-4F8B-BCA8-95527A88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16EAC-EACA-4002-9645-80B5ABC0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7A783-3139-47DB-9396-05AECE29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0ACAC7-0755-4646-9C54-6EEBBCF4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AD110-2EA5-41D1-8134-AB09A2EC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9EB-E7A1-4D77-819C-F5F02A55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59282-235A-4CB0-8CEB-0A342ACD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E2C2D-A39F-49AD-A0B5-5B5F896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12F1A6-9111-44B9-9C00-657C2999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98F76-7640-4759-B238-A3FB8A85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82CE4-F59B-48ED-925F-49D7CBDA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4D8-EFAE-4A92-B8BD-A439768F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843C-BB24-436B-A123-F133BB73E8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EDB1-230A-4692-8E06-00DE3924386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B4BD-081E-4CBA-8B8C-D792719865F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ED0B-8AD9-41AB-8D9A-344C9F1A781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5DD9-F281-4A49-9BE4-0F2F15724D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AFF6-CB6B-425F-A12A-E59E5C19BF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EA81-4EB5-416A-8F3E-F5A2A56CFD9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99760" y="1357200"/>
            <a:ext cx="671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ГРАФИК ПРОИЗВОДНОЙ ФУНКЦИИ, ГРАФИК ФУНКЦ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428840" y="44290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идалова Лариса Леонидовн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ОУ №47, г.Иркутск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2015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2857680" y="3071880"/>
            <a:ext cx="40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77c84"/>
                </a:solidFill>
                <a:latin typeface="Century Schoolbook"/>
              </a:rPr>
              <a:t>Подготовка к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Рисунок 7. - 22 May 2013 - Blog - Fxzona"/>
          <p:cNvPicPr/>
          <p:nvPr/>
        </p:nvPicPr>
        <p:blipFill>
          <a:blip r:embed="rId1"/>
          <a:stretch/>
        </p:blipFill>
        <p:spPr>
          <a:xfrm>
            <a:off x="5869080" y="357120"/>
            <a:ext cx="2703600" cy="1428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91 : 7 = 13 - Картинка 8533/6"/>
          <p:cNvPicPr/>
          <p:nvPr/>
        </p:nvPicPr>
        <p:blipFill>
          <a:blip r:embed="rId2"/>
          <a:stretch/>
        </p:blipFill>
        <p:spPr>
          <a:xfrm>
            <a:off x="2286000" y="3929040"/>
            <a:ext cx="2000160" cy="2065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А знаете ли вы, что не так просто создать объявление - Картинка 15952/11"/>
          <p:cNvPicPr/>
          <p:nvPr/>
        </p:nvPicPr>
        <p:blipFill>
          <a:blip r:embed="rId3"/>
          <a:stretch/>
        </p:blipFill>
        <p:spPr>
          <a:xfrm>
            <a:off x="1857240" y="214200"/>
            <a:ext cx="1357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3"/>
          <p:cNvSpPr/>
          <p:nvPr/>
        </p:nvSpPr>
        <p:spPr>
          <a:xfrm>
            <a:off x="5643720" y="1214280"/>
            <a:ext cx="2928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функции y=f(x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ределенной на интервале (-5;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точек, в которых касательная к графику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араллельна прямой y=6  или совпадает с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072040" cy="39258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5"/>
          <p:cNvSpPr/>
          <p:nvPr/>
        </p:nvSpPr>
        <p:spPr>
          <a:xfrm>
            <a:off x="5643720" y="585792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MCj03967440000[1]"/>
          <p:cNvPicPr/>
          <p:nvPr/>
        </p:nvPicPr>
        <p:blipFill>
          <a:blip r:embed="rId2"/>
          <a:stretch/>
        </p:blipFill>
        <p:spPr>
          <a:xfrm>
            <a:off x="785880" y="4000680"/>
            <a:ext cx="214308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143080" y="0"/>
            <a:ext cx="6676920" cy="43578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571680" y="450072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(x), определенной на интервале (-2;1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сумму точек экстремума функции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f(x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5576400" y="58579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MCj03981590000[1]"/>
          <p:cNvPicPr/>
          <p:nvPr/>
        </p:nvPicPr>
        <p:blipFill>
          <a:blip r:embed="rId2"/>
          <a:stretch/>
        </p:blipFill>
        <p:spPr>
          <a:xfrm>
            <a:off x="285840" y="1000080"/>
            <a:ext cx="20714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5429520" cy="41277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357120" y="4286160"/>
            <a:ext cx="807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11;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промежутки возрастания функции f(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ответе укажите длину наибольшего и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5"/>
          <p:cNvSpPr/>
          <p:nvPr/>
        </p:nvSpPr>
        <p:spPr>
          <a:xfrm>
            <a:off x="5789520" y="59292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Уроки математики 1 класс - Только новые учебники"/>
          <p:cNvPicPr/>
          <p:nvPr/>
        </p:nvPicPr>
        <p:blipFill>
          <a:blip r:embed="rId2"/>
          <a:stretch/>
        </p:blipFill>
        <p:spPr>
          <a:xfrm>
            <a:off x="6203880" y="500040"/>
            <a:ext cx="2308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5214960" cy="44560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4"/>
          <p:cNvSpPr/>
          <p:nvPr/>
        </p:nvSpPr>
        <p:spPr>
          <a:xfrm>
            <a:off x="571680" y="42148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5;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промежутки убывания функции f(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ответе укажите сумму целых точек, входящих в эти промеж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5"/>
          <p:cNvSpPr/>
          <p:nvPr/>
        </p:nvSpPr>
        <p:spPr>
          <a:xfrm>
            <a:off x="5933880" y="578628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e-book &quot; Страница 6"/>
          <p:cNvPicPr/>
          <p:nvPr/>
        </p:nvPicPr>
        <p:blipFill>
          <a:blip r:embed="rId2"/>
          <a:stretch/>
        </p:blipFill>
        <p:spPr>
          <a:xfrm>
            <a:off x="5703840" y="500040"/>
            <a:ext cx="2728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785880" y="0"/>
            <a:ext cx="4357800" cy="518148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4"/>
          <p:cNvSpPr/>
          <p:nvPr/>
        </p:nvSpPr>
        <p:spPr>
          <a:xfrm>
            <a:off x="5643720" y="1714680"/>
            <a:ext cx="25002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ы график функции y=f(x)  и касательная к нему в точке с абсциссой 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значение производной функции f(x) в точке 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"/>
          <p:cNvSpPr/>
          <p:nvPr/>
        </p:nvSpPr>
        <p:spPr>
          <a:xfrm>
            <a:off x="5932440" y="57150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Animated Mathematics Clipart"/>
          <p:cNvPicPr/>
          <p:nvPr/>
        </p:nvPicPr>
        <p:blipFill>
          <a:blip r:embed="rId2"/>
          <a:stretch/>
        </p:blipFill>
        <p:spPr>
          <a:xfrm>
            <a:off x="214200" y="4286160"/>
            <a:ext cx="2143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3357360" cy="41180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4"/>
          <p:cNvSpPr/>
          <p:nvPr/>
        </p:nvSpPr>
        <p:spPr>
          <a:xfrm>
            <a:off x="934560" y="571500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5"/>
          <p:cNvSpPr/>
          <p:nvPr/>
        </p:nvSpPr>
        <p:spPr>
          <a:xfrm>
            <a:off x="5577120" y="57150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5214960" y="285840"/>
            <a:ext cx="3529080" cy="385740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7"/>
          <p:cNvSpPr/>
          <p:nvPr/>
        </p:nvSpPr>
        <p:spPr>
          <a:xfrm>
            <a:off x="714240" y="4214880"/>
            <a:ext cx="77868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ы график функции y=f(x)  и касательная к нему в точке с абсциссой 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значение производной функции f(x) в точке 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The Schools And Use Teachers Rourke - JoBSPapa.com"/>
          <p:cNvPicPr/>
          <p:nvPr/>
        </p:nvPicPr>
        <p:blipFill>
          <a:blip r:embed="rId3"/>
          <a:stretch/>
        </p:blipFill>
        <p:spPr>
          <a:xfrm>
            <a:off x="3214800" y="2000160"/>
            <a:ext cx="24289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3"/>
          <p:cNvSpPr/>
          <p:nvPr/>
        </p:nvSpPr>
        <p:spPr>
          <a:xfrm>
            <a:off x="5500800" y="928800"/>
            <a:ext cx="242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 -  производной функции f(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абсциссу точки, в которой касательная к графику y=f(x) параллельна прямой y=2x-2 или совпадает с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4735800" cy="478620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5"/>
          <p:cNvSpPr/>
          <p:nvPr/>
        </p:nvSpPr>
        <p:spPr>
          <a:xfrm>
            <a:off x="5500800" y="5572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Сайт учителя начальных классов Климовой Татьяны Анатольевны &quot; Страница 12"/>
          <p:cNvPicPr/>
          <p:nvPr/>
        </p:nvPicPr>
        <p:blipFill>
          <a:blip r:embed="rId2"/>
          <a:stretch/>
        </p:blipFill>
        <p:spPr>
          <a:xfrm>
            <a:off x="714240" y="4429080"/>
            <a:ext cx="150048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3"/>
          <p:cNvSpPr/>
          <p:nvPr/>
        </p:nvSpPr>
        <p:spPr>
          <a:xfrm>
            <a:off x="571680" y="421488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7;1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точек максимума функции f(x), принадлежащих отрезку [-6;9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714240" y="0"/>
            <a:ext cx="5929560" cy="391968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5"/>
          <p:cNvSpPr/>
          <p:nvPr/>
        </p:nvSpPr>
        <p:spPr>
          <a:xfrm>
            <a:off x="5643720" y="59292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MCj03981430000[1]"/>
          <p:cNvPicPr/>
          <p:nvPr/>
        </p:nvPicPr>
        <p:blipFill>
          <a:blip r:embed="rId2"/>
          <a:stretch/>
        </p:blipFill>
        <p:spPr>
          <a:xfrm>
            <a:off x="6434280" y="571680"/>
            <a:ext cx="22129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3"/>
          <p:cNvSpPr/>
          <p:nvPr/>
        </p:nvSpPr>
        <p:spPr>
          <a:xfrm>
            <a:off x="571680" y="4429080"/>
            <a:ext cx="792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18;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точек минимума функции f(x), принадлежащих отрезку [-13;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7113600" cy="335772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5"/>
          <p:cNvSpPr/>
          <p:nvPr/>
        </p:nvSpPr>
        <p:spPr>
          <a:xfrm>
            <a:off x="5718240" y="59292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MCj03967420000[1]"/>
          <p:cNvPicPr/>
          <p:nvPr/>
        </p:nvPicPr>
        <p:blipFill>
          <a:blip r:embed="rId2"/>
          <a:stretch/>
        </p:blipFill>
        <p:spPr>
          <a:xfrm>
            <a:off x="6715080" y="1785960"/>
            <a:ext cx="20750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3"/>
          <p:cNvSpPr/>
          <p:nvPr/>
        </p:nvSpPr>
        <p:spPr>
          <a:xfrm>
            <a:off x="6000840" y="1214280"/>
            <a:ext cx="2357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функции f(x), определенной на интервале (-5;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точек, в которых производная функции f(x) равна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5778720" cy="450072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5"/>
          <p:cNvSpPr/>
          <p:nvPr/>
        </p:nvSpPr>
        <p:spPr>
          <a:xfrm>
            <a:off x="5715000" y="55720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MCj03981330000[1]"/>
          <p:cNvPicPr/>
          <p:nvPr/>
        </p:nvPicPr>
        <p:blipFill>
          <a:blip r:embed="rId2"/>
          <a:stretch/>
        </p:blipFill>
        <p:spPr>
          <a:xfrm>
            <a:off x="1071720" y="4143240"/>
            <a:ext cx="25714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785880" y="0"/>
            <a:ext cx="7905600" cy="5648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428760" y="4471920"/>
            <a:ext cx="1643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3"/>
          <p:cNvSpPr/>
          <p:nvPr/>
        </p:nvSpPr>
        <p:spPr>
          <a:xfrm>
            <a:off x="5929200" y="642960"/>
            <a:ext cx="242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 f(x), определенной на интервале (-8;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какой точке отрезка [-3;2] функция f(x)  принимает наибольш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5143320" cy="468000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5"/>
          <p:cNvSpPr/>
          <p:nvPr/>
        </p:nvSpPr>
        <p:spPr>
          <a:xfrm>
            <a:off x="5500800" y="56437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MCj03981290000[1]"/>
          <p:cNvPicPr/>
          <p:nvPr/>
        </p:nvPicPr>
        <p:blipFill>
          <a:blip r:embed="rId2"/>
          <a:stretch/>
        </p:blipFill>
        <p:spPr>
          <a:xfrm>
            <a:off x="928800" y="4071960"/>
            <a:ext cx="2357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3"/>
          <p:cNvSpPr/>
          <p:nvPr/>
        </p:nvSpPr>
        <p:spPr>
          <a:xfrm>
            <a:off x="6000840" y="857160"/>
            <a:ext cx="264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8;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какой то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трезка [-7;-3]  функция f(x)  принимает наименьшее знач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5357880" cy="450864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5"/>
          <p:cNvSpPr/>
          <p:nvPr/>
        </p:nvSpPr>
        <p:spPr>
          <a:xfrm>
            <a:off x="5572080" y="5643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Информационная справка - страница 4"/>
          <p:cNvPicPr/>
          <p:nvPr/>
        </p:nvPicPr>
        <p:blipFill>
          <a:blip r:embed="rId2"/>
          <a:stretch/>
        </p:blipFill>
        <p:spPr>
          <a:xfrm>
            <a:off x="785880" y="4357800"/>
            <a:ext cx="285732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428760" y="162000"/>
            <a:ext cx="4071960" cy="369864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428760" y="4214880"/>
            <a:ext cx="37144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'(x) - производной функции f(x) и восемь точек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...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 скольких из этих точек функция возраст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929120" y="438120"/>
            <a:ext cx="3714840" cy="34909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6"/>
          <p:cNvSpPr/>
          <p:nvPr/>
        </p:nvSpPr>
        <p:spPr>
          <a:xfrm>
            <a:off x="4857840" y="4214880"/>
            <a:ext cx="37148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'(x) - производной функции f(x) и шесть точек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...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 скольких из этих точек функция у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Блог - Персональный сайт"/>
          <p:cNvPicPr/>
          <p:nvPr/>
        </p:nvPicPr>
        <p:blipFill>
          <a:blip r:embed="rId3"/>
          <a:stretch/>
        </p:blipFill>
        <p:spPr>
          <a:xfrm>
            <a:off x="3714840" y="2643120"/>
            <a:ext cx="157140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3357720" y="0"/>
            <a:ext cx="5214960" cy="433224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оугольник 4"/>
          <p:cNvSpPr/>
          <p:nvPr/>
        </p:nvSpPr>
        <p:spPr>
          <a:xfrm>
            <a:off x="500040" y="47149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'(x) - производной      функции f(x), определенной на интервале (-10;2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 точек,  в которых  касательная к графику функции f(x)  параллельна прямой у=-2х-11 или совпадает с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Тесты по математике для учащихся специальной (коррекционной) школы VIII вида. Пояснительная записка"/>
          <p:cNvPicPr/>
          <p:nvPr/>
        </p:nvPicPr>
        <p:blipFill>
          <a:blip r:embed="rId2"/>
          <a:stretch/>
        </p:blipFill>
        <p:spPr>
          <a:xfrm>
            <a:off x="214200" y="1214280"/>
            <a:ext cx="3071880" cy="27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4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286000" y="1856880"/>
            <a:ext cx="4138560" cy="15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entury Schoolbook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1" name="Picture 2" descr="ИБП Череповец = ВКонтакте"/>
          <p:cNvPicPr/>
          <p:nvPr/>
        </p:nvPicPr>
        <p:blipFill>
          <a:blip r:embed="rId1"/>
          <a:stretch/>
        </p:blipFill>
        <p:spPr>
          <a:xfrm>
            <a:off x="185760" y="3214800"/>
            <a:ext cx="2847960" cy="33573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География учебник 9 класс украина - Только новые учебники"/>
          <p:cNvPicPr/>
          <p:nvPr/>
        </p:nvPicPr>
        <p:blipFill>
          <a:blip r:embed="rId2"/>
          <a:stretch/>
        </p:blipFill>
        <p:spPr>
          <a:xfrm>
            <a:off x="6357960" y="285840"/>
            <a:ext cx="2319480" cy="2214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Work And School"/>
          <p:cNvPicPr/>
          <p:nvPr/>
        </p:nvPicPr>
        <p:blipFill>
          <a:blip r:embed="rId3"/>
          <a:stretch/>
        </p:blipFill>
        <p:spPr>
          <a:xfrm>
            <a:off x="214200" y="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2" descr="Папка 'картинки на математическую тему' - Ольга Андреевна Бельская"/>
          <p:cNvPicPr/>
          <p:nvPr/>
        </p:nvPicPr>
        <p:blipFill>
          <a:blip r:embed="rId4"/>
          <a:stretch/>
        </p:blipFill>
        <p:spPr>
          <a:xfrm>
            <a:off x="5143680" y="3357720"/>
            <a:ext cx="27860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42960" y="0"/>
            <a:ext cx="7905600" cy="5067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438120" y="4500720"/>
            <a:ext cx="16779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642960" y="0"/>
            <a:ext cx="7905600" cy="50673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/>
          <p:cNvSpPr/>
          <p:nvPr/>
        </p:nvSpPr>
        <p:spPr>
          <a:xfrm>
            <a:off x="6072120" y="592920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428760" y="4714920"/>
            <a:ext cx="1517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00040" y="0"/>
            <a:ext cx="7905600" cy="47052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4"/>
          <p:cNvSpPr/>
          <p:nvPr/>
        </p:nvSpPr>
        <p:spPr>
          <a:xfrm>
            <a:off x="1928880" y="471492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так, точки экстремума графика функции - это тоже самое, что точки пересечения графика производной функции с осью 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5715000" y="60721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285840" y="4572000"/>
            <a:ext cx="16779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215200" cy="39783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4"/>
          <p:cNvSpPr/>
          <p:nvPr/>
        </p:nvSpPr>
        <p:spPr>
          <a:xfrm>
            <a:off x="2500200" y="45720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ешение: экстремумы графика функции - это точки пересечения графика производной функции и оси абсцисс (т.е. оси 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500040" y="4143240"/>
            <a:ext cx="1909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785960" y="214200"/>
            <a:ext cx="6905520" cy="342900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4"/>
          <p:cNvSpPr/>
          <p:nvPr/>
        </p:nvSpPr>
        <p:spPr>
          <a:xfrm>
            <a:off x="500040" y="3786120"/>
            <a:ext cx="77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Точки минимума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афика функции - это точки пересечения графика производной функции с осью ОХ при возрастании графика производной функции (красные точки на график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Точки максимума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афика функции - это точки пересечения графика производной функции с осью ОХ при убывании графика производной функции (синие точки на график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214200" y="1285920"/>
            <a:ext cx="1643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3"/>
          <p:cNvSpPr/>
          <p:nvPr/>
        </p:nvSpPr>
        <p:spPr>
          <a:xfrm>
            <a:off x="5214960" y="1500120"/>
            <a:ext cx="32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функции y=f(x) , определ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интервале (-6;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ределите количество целых точ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которых производная функции положи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4907160" cy="378612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6000840" y="57150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Урок по глаголу 5 класс - Только новые учебники"/>
          <p:cNvPicPr/>
          <p:nvPr/>
        </p:nvPicPr>
        <p:blipFill>
          <a:blip r:embed="rId2"/>
          <a:stretch/>
        </p:blipFill>
        <p:spPr>
          <a:xfrm>
            <a:off x="1071720" y="4143240"/>
            <a:ext cx="2571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5286600" cy="421632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4"/>
          <p:cNvSpPr/>
          <p:nvPr/>
        </p:nvSpPr>
        <p:spPr>
          <a:xfrm>
            <a:off x="5643720" y="785880"/>
            <a:ext cx="292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функции y=f(x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ределенной на интервале (-5;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ределите коли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целых точек, в которых производная функции f(x) отриц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5"/>
          <p:cNvSpPr/>
          <p:nvPr/>
        </p:nvSpPr>
        <p:spPr>
          <a:xfrm>
            <a:off x="5429160" y="56437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Логопедическое занятие - Картинка 6357/2"/>
          <p:cNvPicPr/>
          <p:nvPr/>
        </p:nvPicPr>
        <p:blipFill>
          <a:blip r:embed="rId2"/>
          <a:stretch/>
        </p:blipFill>
        <p:spPr>
          <a:xfrm>
            <a:off x="1000080" y="4500720"/>
            <a:ext cx="30718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10:23Z</dcterms:created>
  <dc:creator>лариса</dc:creator>
  <dc:description/>
  <dc:language>en-US</dc:language>
  <cp:lastModifiedBy>User</cp:lastModifiedBy>
  <dcterms:modified xsi:type="dcterms:W3CDTF">2015-01-27T07:11:18Z</dcterms:modified>
  <cp:revision>25</cp:revision>
  <dc:subject/>
  <dc:title>График производной функции, график функции</dc:title>
</cp:coreProperties>
</file>