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C58F-6F3D-4504-BB3C-E4512D01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E8C4-CDC3-4A2B-AB9E-CDB27481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DA26-D9A4-4B06-9068-C5F77D99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155-C7C3-4DF1-8E0A-C10F1631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9E8C-AB26-4576-8119-4B49F845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9388-F989-4691-A164-D5221BDC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9321-6420-423E-9D3F-322C5504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A7C1-5DC1-44D2-A2FF-626381B0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D051-6E23-41B2-BD00-208AB373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8BD2-C5CE-46A1-9BD9-96720247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CCFF-D09D-47DB-B139-870D205E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03C7-3E9E-415F-BF20-CA6AE7B0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3B87-610A-4809-A3CC-95DAE59B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939C-F4D1-4ECC-AF9D-280743DD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1780-73A8-4A31-86AC-0E2F9CD3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8514-F908-4706-91C1-8ED677B1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9B15-9586-4422-BC1B-D5D83735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7B3-D01C-4FFE-8C89-14E04042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F923-1516-4C08-B8EC-D24C1017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1B1-0ECA-476C-940F-4BB4583A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BA5D-A424-448E-880C-97993129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06D9-A16E-44FE-9B07-684C71ED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D927-44D5-493F-B982-011A6E22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A45B-F638-4ECD-A98F-D934B95A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3DBF-1C48-4BEB-8235-6D5A459688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AA84-301F-4F93-86DD-08673A2CA9B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Приветствие программы сканирования"/>
          <p:cNvPicPr/>
          <p:nvPr/>
        </p:nvPicPr>
        <p:blipFill>
          <a:blip r:embed="rId1"/>
          <a:stretch/>
        </p:blipFill>
        <p:spPr>
          <a:xfrm>
            <a:off x="-324000" y="189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424720" cy="6453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663300"/>
                </a:solidFill>
                <a:latin typeface="Monotype Corsiva"/>
              </a:rPr>
              <a:t>Гендерное воспитание в подготови-тельной группе</a:t>
            </a:r>
            <a:br>
              <a:rPr sz="72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Работу выполнили: 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Тахтаганова Ильмира Асхадовна,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Иванова Наталья Тихоновна  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воспитатели подготовительной группы 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МДОУ «Детский сад № 96   комбинированного вида»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Кировского района г.Казани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ёные отмечают разное содержание и игровые стили: </a:t>
            </a:r>
            <a:r>
              <a:rPr b="0" i="1" lang="ru-RU" sz="3200" spc="-1" strike="noStrike">
                <a:solidFill>
                  <a:srgbClr val="f8a500"/>
                </a:solidFill>
                <a:latin typeface="Tahoma"/>
              </a:rPr>
              <a:t>девочкам ближе тихие игры на семейно-бытовые темы, истинно «мужские игры» мальчиков – шумные, наполненные движением</a:t>
            </a:r>
            <a:r>
              <a:rPr b="0" lang="ru-RU" sz="3200" spc="-1" strike="noStrike">
                <a:solidFill>
                  <a:srgbClr val="f8a5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жно учитывать эти особенности при организации предметно-развивающей среды групп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8a500"/>
                </a:solidFill>
                <a:latin typeface="Tahoma"/>
              </a:rPr>
              <a:t>Девочкам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статочно маленького уголка, так как они, раскладывая перед собой свои “богатства” – кукол, посуду, тряпочки, играют в ограниченном пространств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600" spc="-1" strike="noStrike">
                <a:solidFill>
                  <a:srgbClr val="f8a500"/>
                </a:solidFill>
                <a:latin typeface="Tahoma"/>
              </a:rPr>
              <a:t>Мальчикам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необходимо более обширное пространство, как правило, неограниченное и незамкнутое, так они бегают, бросают предметы в цель, собирают и разбирают игрушки и т.д. и используют при этом все предоставленное им пространство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Направление государственной политики в образовании, сформулированным в основополагающих документах.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84852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соответствии с направлениями современных подходов к дошкольному образованию  гендерное  воспитание – процесс, направленный на формирование качеств и свойств, определяющих необходимое обществу отношение человека к представителям противоположного по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ендерное воспитание рассматривается как комплексная психофизическая проблема, включающая в себя биологические, психологические и социальные аспект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пецифика процесса гендерной  социализации ребенка позволяет считать правомерной работу по половому воспитанию уже в дошкольном возрасте, требует продолжения и на других этапах развития ребен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рганизация полоролевого воспитания должна осуществляться в аспекте целостной педагогической системы, не допускающей недооценку какого либо из ее компонентов. Именно поэтому важен принцип  интеграции, задач образовательных областей, предложенном в современной педагогик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чевидно, что работа педагога в данном направление предусматривает разнообразие форм и методов воспитания и обучения детей, которые обеспечивают разностороннее личностное развити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доровье и физическое развити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циально – личностно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знавательно-речевое развити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удожественно-эстетическо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ывая актуальность этой темы, а так же реализуя одно из приоритетных направлений, а именно «полоролевая социализация старших дошкольников в игре», мы поставили перед собой цель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разработать и апробировать систему дифференцированного подхода к воспитанию мальчиков и девочек в игров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 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реализации цели необходимо решить ряд задач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анатомо-физиологические, психологические и другие  особенности мальчиков и девоч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ить особенности содержания и игровых стилей  у мальчиков и девоч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ить, апробировать систему и определить эффективность работы по формированию полоролевого поведения дошкольников в иг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2320" y="0"/>
            <a:ext cx="79092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План реализации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Сентябр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ить план работы по гендерному воспитанию в игре на учебный г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бор и анализ методической литературы по тем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Октябрь</a:t>
            </a:r>
            <a:r>
              <a:rPr b="1" lang="ru-RU" sz="2000" spc="-1" strike="noStrike">
                <a:solidFill>
                  <a:srgbClr val="f8a500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    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               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ультация  для специалистов, планирование работы по взаимодействи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ить литературу по тем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Ноябр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сихолого-педагогические исследования по вопросам гендерного воспит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кетирование родителей для выявления их отношения к проблеме гендерного воспит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ие предметно-игровой среды в семье и детском саду с учетом предпочтений и интересов девочек и мальчик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Декабр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рисовать метки, эмблемы для мальчиков и девочек 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местная деятельность педагога и детей « Мужчина и женщина,– какие они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324000" y="404640"/>
            <a:ext cx="864216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8a5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8a500"/>
                </a:solidFill>
                <a:latin typeface="Tahoma"/>
              </a:rPr>
              <a:t>Январ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седы на тему «Мальчик, будущий мужчина,  девочка, будущая женщина» выставка на тему «Маленькие рыцари и Маленькие принцессы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8a5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a500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8a500"/>
                </a:solidFill>
                <a:latin typeface="Tahoma"/>
              </a:rPr>
              <a:t>Февра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дение праздника « День Защитника Отечеств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одный фольклор о мальчиках, девочках (пословицы, поговорки и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8a5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8a500"/>
                </a:solidFill>
                <a:latin typeface="Tahoma"/>
              </a:rPr>
              <a:t>     </a:t>
            </a: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Мар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дение праздника-конкурса « Кто дарит нам красоту!» руками русских мастеров и мастериц  (платки, посуда, литье, оружи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8a5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8a500"/>
                </a:solidFill>
                <a:latin typeface="Tahoma"/>
              </a:rPr>
              <a:t>    </a:t>
            </a: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Апр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уголков труда с учетом гендерных особенностей « Мастера и Мастерицы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8a5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8a500"/>
                </a:solidFill>
                <a:latin typeface="Tahoma"/>
              </a:rPr>
              <a:t>    </a:t>
            </a: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Май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дение итогового занятия «Я – мальчик, будущий мужчина. Я – девочка, будущая женщин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нно «Ладошки наших деток – Мамочка и папочка – найди меня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ие фотоальбомов на тему: « Мужские и женские профессии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Методические приемы.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вые направления в организации воспитательно-образовательного процесса, определенные федеральными государственными требованиям,  предполагают несколько иной подход к содержанию нравственного воспитания дошкольников, включив формирование у ребенка гендерной принадлеж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чень важно сформировать у ребенка понимание. что он девочка или мальчик, а когда вырастет, будет женщиной или мужчиной, и эта принадлежность к полу не изменится в зависимости от ситуации или личных желаний ребен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этому среди методических </a:t>
            </a:r>
            <a:r>
              <a:rPr b="0" lang="ru-RU" sz="2800" spc="-1" strike="noStrike">
                <a:solidFill>
                  <a:srgbClr val="f8a500"/>
                </a:solidFill>
                <a:latin typeface="Tahoma"/>
              </a:rPr>
              <a:t>прием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спользуем: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наблюдения, рассматривание фотографий, беседы о том, кто есть кто и какой о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 же проводим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беседы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«Одинаковые и разные», «Кто мальчики помогают маме», «Как девочки могут помочь папе»  «Как люди заботятся друг о друге», «Как утешить товарища», «Одежда для девочек, для мальчиков и для всех», «У нас дружная семья», «Такие разные дети», «Кто я и кем хочу быть», «Наши прически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ем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идактические игры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«Давай познакомимся», «Какая твоя мама», «На кого ты похож», «Какое настроение», «Перед зеркалом», «Семья Бубенцовых», «В квартир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Рассматриваем иллюстрации и пиктограмм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б эмоц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Читаем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Л.Успенский «Ты и твое имя», былина «Илья Муромец и Соловей-разбойник», русская народная сказка «Василиса Прекрасная», В. Косовицкий «Будущий мужчина», Р.Гамзатов «Мой дедушка», А.Барто «Ярасту», Н.Носов «Приключения Незнайки и его друзей», А.Печерский «Дети – герои Великой Отечественной войны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ем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итуации с вопросами и задани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южетно-ролевые игр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a500"/>
                </a:solidFill>
                <a:latin typeface="Tahoma"/>
              </a:rPr>
              <a:t>Для девоче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 «Семья», «Ателье», «Салон красоты»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a500"/>
                </a:solidFill>
                <a:latin typeface="Tahoma"/>
              </a:rPr>
              <a:t>Для мальчик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 «Космонавты», «Охотники», «Погроничники», «Я строитель», «Водители», «Пожарные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гр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820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гра – путь поиска ребенком себя в коллективе сверстников, выход на социальный опыт, культуру прошлого, настоящего и будущего, повторение социальной практики, доступной пониманию. Для того чтобы игра стала эффективным средством гендерного воспитания, необходимо руководство содержанием ролевой игры с учетом особенностей мальчиков и девочек, как в детском саду, так и в семье, а также важно организовать включение ребенка в позицию субъекта игровой деятельности, которая наиболее полно соответствует его гендерным склонностям и интересам с целью воспитания ребенка, как будущего мужчину или будущую женщин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ируя качества, которые развиваются в игре, с учетом гендерного подхода мы видим портрет дошкольника соответствующий  предложенному в ФГТ портрету дошкольника – выпускника. Именно в игре, возможно, осуществить главную задачу дошкольного воспитания: « Учи дошкольника так, чтобы он не заметил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0:26:55Z</dcterms:created>
  <dc:creator>1</dc:creator>
  <dc:description/>
  <dc:language>en-US</dc:language>
  <cp:lastModifiedBy>Burnaeva</cp:lastModifiedBy>
  <dcterms:modified xsi:type="dcterms:W3CDTF">2012-11-11T10:40:48Z</dcterms:modified>
  <cp:revision>25</cp:revision>
  <dc:subject/>
  <dc:title>Гендерное воспитание в подготовительной группе</dc:title>
</cp:coreProperties>
</file>