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89C-3E11-4CC0-82CF-F852C7EA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AC7-70E2-4E20-B6DB-26F730F7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598-38E9-4191-82AA-B810125D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655-DC0B-46A1-8020-9A914F7B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B302-8A3B-4A69-86E5-7E0D95FE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24D-FABB-4309-A81C-9CA2506E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FC36-8564-4359-83FC-638A0FC3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E624-C152-49B8-AA9D-DF51FF18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F8C1-C782-442C-A0FA-9A8AF737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C690-ED24-41F6-9941-74B3B2BC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D2F5-574F-44BF-8533-495B35D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AA8-64DD-48AA-9968-5B75A525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B117-3EBA-4BFC-B3A2-1043476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EEBC-D895-46C3-8A70-D759A37A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B499-877F-4CE8-8275-526BF2FE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5ABD-47C7-4B7A-B277-C4369E94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A964-6730-49C2-BB49-229FB6BE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C96-0E51-432B-A1C0-65C76E09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71F-2D24-41BF-AC40-0110D388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24B-F27E-4FB2-9CBC-D7291563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170-E2DD-409D-8B7F-79DEB5DC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7F4-EADE-4413-841A-60416DF0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F00-520A-4409-82A6-172E950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512-DBFA-426D-83BD-57C14077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790-0D5E-402D-BCA1-168A936D9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00DD-0AAD-4508-8282-882944F1ED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Приветствие программы сканирования"/>
          <p:cNvPicPr/>
          <p:nvPr/>
        </p:nvPicPr>
        <p:blipFill>
          <a:blip r:embed="rId1"/>
          <a:stretch/>
        </p:blipFill>
        <p:spPr>
          <a:xfrm>
            <a:off x="-324000" y="18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663300"/>
                </a:solidFill>
                <a:latin typeface="Monotype Corsiva"/>
              </a:rPr>
              <a:t>Гендерное воспитание в подготови-тельной группе</a:t>
            </a:r>
            <a:br>
              <a:rPr sz="72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Работу выполнили: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Тахтаганова Ильмира Асхадовна,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ванова Наталья Тихоновна 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оспитатели подготовительной группы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МДОУ «Детский сад № 96   комбинированного вида»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Кировского района г.Казан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ёные отмечают разное содержание и игровые стили: </a:t>
            </a:r>
            <a:r>
              <a:rPr b="0" i="1" lang="ru-RU" sz="3200" spc="-1" strike="noStrike">
                <a:solidFill>
                  <a:srgbClr val="f8a500"/>
                </a:solidFill>
                <a:latin typeface="Tahoma"/>
              </a:rPr>
              <a:t>девочкам ближе тихие игры на семейно-бытовые темы, истинно «мужские игры» мальчиков – шумные, наполненные движением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о учитывать эти особенности при организации предметно-развивающей среды групп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Девочкам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аточно маленького уголка, так как они, раскладывая перед собой свои “богатства” – кукол, посуду, тряпочки, играют в ограниченном пространств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600" spc="-1" strike="noStrike">
                <a:solidFill>
                  <a:srgbClr val="f8a500"/>
                </a:solidFill>
                <a:latin typeface="Tahoma"/>
              </a:rPr>
              <a:t>Мальчика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необходимо более обширное пространство, как правило, неограниченное и незамкнутое, так они бегают, бросают предметы в цель, собирают и разбирают игрушки и т.д. и используют при этом все предоставленное им пространств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Направление государственной политики в образовании, сформулированным в основополагающих документах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485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соответствии с направлениями современных подходов к дошкольному образованию  гендерное  воспитание – процесс, направленный на формирование качеств и свойств, определяющих необходимое обществу отношение человека к представителям противоположного по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ендерное воспитание рассматривается как комплексная психофизическая проблема, включающая в себя биологические, психологические и социальные аспек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ецифика процесса гендерной  социализации ребенка позволяет считать правомерной работу по половому воспитанию уже в дошкольном возрасте, требует продолжения и на других этапах развития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полоролевого воспитания должна осуществляться в аспекте целостной педагогической системы, не допускающей недооценку какого либо из ее компонентов. Именно поэтому важен принцип  интеграции, задач образовательных областей, предложенном в современной педагог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чевидно, что работа педагога в данном направление предусматривает разнообразие форм и методов воспитания и обучения детей, которые обеспечивают разностороннее личностное развит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доровье и физическ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о – личностно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знавательно-речев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удожественно-эстетическ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ывая актуальность этой темы, а так же реализуя одно из приоритетных направлений, а именно «полоролевая социализация старших дошкольников в игре», мы поставили перед собой цель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работать и апробировать систему дифференцированного подхода к воспитанию мальчиков и девочек в игров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 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еализации цели необходимо решить ряд задач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анатомо-физиологические, психологические и другие  особенности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особенности содержания и игровых стилей  у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, апробировать систему и определить эффективность работы по формированию полоролевого поведения дошкольников в иг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909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лан реализа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ь план работы по гендерному воспитанию в игре на учебн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бор и анализ методической литературы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Октябрь</a:t>
            </a:r>
            <a:r>
              <a:rPr b="1" lang="ru-RU" sz="2000" spc="-1" strike="noStrike">
                <a:solidFill>
                  <a:srgbClr val="f8a500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   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я  для специалистов, планирование работы по взаимодейств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литературу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Но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педагогические исследования по вопросам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 для выявления их отношения к проблеме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предметно-игровой среды в семье и детском саду с учетом предпочтений и интересов девочек и мальчи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Дека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рисовать метки, эмблемы для мальчиков и девочек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ая деятельность педагога и детей « Мужчина и женщина,– какие они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24000" y="404640"/>
            <a:ext cx="864216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 на тему «Мальчик, будущий мужчина,  девочка, будущая женщина» выставка на тему «Маленькие рыцари и Маленькие принцесс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Февр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 « День Защитника Отече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ый фольклор о мальчиках, девочках (пословицы, поговорк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-конкурса « Кто дарит нам красоту!» руками русских мастеров и мастериц  (платки, посуда, литье, оруж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Апр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уголков труда с учетом гендерных особенностей « Мастера и Мастериц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итогового занятия «Я – мальчик, будущий мужчина. Я – девочка, будущая женщи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нно «Ладошки наших деток – Мамочка и папочка – найди мен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фотоальбомов на тему: « Мужские и женские професси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етодические приемы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е направления в организации воспитательно-образовательного процесса, определенные федеральными государственными требованиям,  предполагают несколько иной подход к содержанию нравственного воспитания дошкольников, включив формирование у ребенка гендерной принадлеж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ень важно сформировать у ребенка понимание. что он девочка или мальчик, а когда вырастет, будет женщиной или мужчиной, и эта принадлежность к полу не изменится в зависимости от ситуации или личных желаний ребен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ому среди методических </a:t>
            </a: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прием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спользуем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блюдения, рассматривание фотографий, беседы о том, кто есть кто и какой 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же проводи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бесед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Одинаковые и разные», «Кто мальчики помогают маме», «Как девочки могут помочь папе»  «Как люди заботятся друг о друге», «Как утешить товарища», «Одежда для девочек, для мальчиков и для всех», «У нас дружная семья», «Такие разные дети», «Кто я и кем хочу быть», «Наши прическ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игр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Давай познакомимся», «Какая твоя мама», «На кого ты похож», «Какое настроение», «Перед зеркалом», «Семья Бубенцовых», «В квартир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ассматриваем иллюстрации и пиктограмм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б эмо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Читаем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Л.Успенский «Ты и твое имя», былина «Илья Муромец и Соловей-разбойник», русская народная сказка «Василиса Прекрасная», В. Косовицкий «Будущий мужчина», Р.Гамзатов «Мой дедушка», А.Барто «Ярасту», Н.Носов «Приключения Незнайки и его друзей», А.Печерский «Дети – герои Великой Отечественной войн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итуации с вопросами и задан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южетно-ролевые иг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девоче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Семья», «Ателье», «Салон красоты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мальчик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Космонавты», «Охотники», «Погроничники», «Я строитель», «Водители», «Пожарные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г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– путь поиска ребенком себя в коллективе сверстников, выход на социальный опыт, культуру прошлого, настоящего и будущего, повторение социальной практики, доступной пониманию. Для того чтобы игра стала эффективным средством гендерного воспитания, необходимо руководство содержанием ролевой игры с учетом особенностей мальчиков и девочек, как в детском саду, так и в семье, а также важно организовать включение ребенка в позицию субъекта игровой деятельности, которая наиболее полно соответствует его гендерным склонностям и интересам с целью воспитания ребенка, как будущего мужчину или будущую женщи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качества, которые развиваются в игре, с учетом гендерного подхода мы видим портрет дошкольника соответствующий  предложенному в ФГТ портрету дошкольника – выпускника. Именно в игре, возможно, осуществить главную задачу дошкольного воспитания: « Учи дошкольника так, чтобы он не замети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26:55Z</dcterms:created>
  <dc:creator>1</dc:creator>
  <dc:description/>
  <dc:language>en-US</dc:language>
  <cp:lastModifiedBy>Burnaeva</cp:lastModifiedBy>
  <dcterms:modified xsi:type="dcterms:W3CDTF">2012-11-11T10:40:48Z</dcterms:modified>
  <cp:revision>25</cp:revision>
  <dc:subject/>
  <dc:title>Гендерное воспитание в подготовительной группе</dc:title>
</cp:coreProperties>
</file>