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FE9-9474-4066-B67B-231A7BF8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C0C-DF20-433F-8346-5F6B5842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A10-1EC2-4703-9FF1-73F980FB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C4B-43B6-4CB3-A6B4-1C579677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547C-99ED-4C83-9411-F58227B0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A38-2EF0-444F-AD3A-16A34696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0733-B128-4213-90CC-BFC8C84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88D0-9E66-4988-A3C0-69A944A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98D-79C9-4453-8A25-2F8D2F1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FFCA-1416-49BF-83D2-D56FC8B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F30F-9035-40D6-B5C0-3D8493D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4BD-48CF-48BA-BD27-E0ED114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70CD-1BD2-4255-95F1-AD96B60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5ADC-BFA7-4957-9B84-CD394B2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0232-E029-460E-A406-ACDE6F0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F3A2-6863-4BC9-A426-9D76AF65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5F4-0921-4E2B-9285-F3029FF7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1FA-DB15-48B2-BC8D-23599D22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D4F-B0A9-4CC4-8D30-9BB5C7A3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FFC-54C9-416E-BE60-038E6F3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A24-8DF4-4819-9F06-04B8A51A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C17-5F14-4F43-9B31-4190B02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F7D-20C4-4FF8-AD24-89B73EE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20A-EE7E-48E1-9588-6CB9045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C94-0E70-43F8-B8DB-21E669EF2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321-C8ED-44F9-8C33-807F3FD839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00680" y="428400"/>
            <a:ext cx="4743360" cy="2786040"/>
          </a:xfrm>
          <a:prstGeom prst="rect">
            <a:avLst/>
          </a:prstGeom>
          <a:solidFill>
            <a:srgbClr val="ffffff">
              <a:alpha val="80000"/>
            </a:srgbClr>
          </a:solidFill>
          <a:ln w="648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Педагогический совет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85880" y="3357360"/>
            <a:ext cx="792936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ование современной образовательной инфраструктуры: новые подходы, мод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02.11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Основные положени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безопасной образовательной 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сред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ора на реальное зна­ние психики и личности каждого ученика, особенностей клас­са, педагогическ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реда взаимодействия (эмоционально-личностные и коммуникативные характеристики) субъектов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ирамида (иерархия) потребностей по Маслоу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Объект 3" descr="пирамида (иерархия) потребностей по Маслоу"/>
          <p:cNvPicPr/>
          <p:nvPr/>
        </p:nvPicPr>
        <p:blipFill>
          <a:blip r:embed="rId1"/>
          <a:stretch/>
        </p:blipFill>
        <p:spPr>
          <a:xfrm>
            <a:off x="1476360" y="1484280"/>
            <a:ext cx="676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Принципы безопасной среды образовательного учрежд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ринцип развивающ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Принцип социально-психологической умел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C:\Users\Кабинет 314\Desktop\iCAXOZRSC.jpg"/>
          <p:cNvPicPr/>
          <p:nvPr/>
        </p:nvPicPr>
        <p:blipFill>
          <a:blip r:embed="rId1"/>
          <a:stretch/>
        </p:blipFill>
        <p:spPr>
          <a:xfrm>
            <a:off x="841320" y="2938320"/>
            <a:ext cx="3071880" cy="313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Кабинет 314\Desktop\iCA314VUK.jpg"/>
          <p:cNvPicPr/>
          <p:nvPr/>
        </p:nvPicPr>
        <p:blipFill>
          <a:blip r:embed="rId2"/>
          <a:stretch/>
        </p:blipFill>
        <p:spPr>
          <a:xfrm>
            <a:off x="4870440" y="2938320"/>
            <a:ext cx="3792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одель психологически безопасной образовательной среды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Сущность формирования безопасной сре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сутствие психологического наси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обладание конструктив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итивное отношение к основным параметрам образо­вательной среды у всех ее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приятный уровень удовлетворенности школьно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труктурная модель образовательной среды школы (психологическая характеристик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28233" t="26988" r="24606" b="23012"/>
          <a:stretch/>
        </p:blipFill>
        <p:spPr>
          <a:xfrm>
            <a:off x="1620720" y="1628640"/>
            <a:ext cx="6767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Бубнова В.Н (учитель чтения, письма и развития речи)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Ключевые понятия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как форма организации обучения, которая обеспечивает активную и планомерную учебно-познавательную деятельность группы учащихся определенного возраста, состава и уровня подготовки (класса), направленную на решение поставленных учебно-воспита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Жизненная стратегия урок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4"/>
          <p:cNvCxnSpPr/>
          <p:nvPr/>
        </p:nvCxnSpPr>
        <p:spPr>
          <a:xfrm flipH="1">
            <a:off x="2267640" y="1700280"/>
            <a:ext cx="158364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Прямая со стрелкой 6"/>
          <p:cNvCxnSpPr/>
          <p:nvPr/>
        </p:nvCxnSpPr>
        <p:spPr>
          <a:xfrm>
            <a:off x="4932360" y="1700280"/>
            <a:ext cx="194400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Овал 9"/>
          <p:cNvSpPr/>
          <p:nvPr/>
        </p:nvSpPr>
        <p:spPr>
          <a:xfrm>
            <a:off x="900000" y="3213000"/>
            <a:ext cx="292752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достижен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5580000" y="3213000"/>
            <a:ext cx="2879640" cy="188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избегания неу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онятие комфортности на уроках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55736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фортность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условие жизни, пребывания, обстановка, обеспечивающие удобство, спокойствие и 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да комфор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сихолог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ллектуальн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з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овестка дн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484280"/>
            <a:ext cx="8580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Выполнение решений педагогического совета от (протокол №6 от 31.08.2012г.). Ресурс развития образовательного учреждения на современном этапе модернизации образования (Е.А.Широк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. Психологическая среда в современной школе (педагог-псих олог Е.В.Марянич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письма и развития речи, чтения и развития речи (В.Н.Бубн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в группе продленного дня (И.А.Ераст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5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в 1-4 классах (Лосева О.В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6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музыки (Цепелева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41264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3"/>
          <p:cNvSpPr/>
          <p:nvPr/>
        </p:nvSpPr>
        <p:spPr>
          <a:xfrm>
            <a:off x="3635280" y="1413000"/>
            <a:ext cx="201636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"/>
          <p:cNvSpPr/>
          <p:nvPr/>
        </p:nvSpPr>
        <p:spPr>
          <a:xfrm>
            <a:off x="611280" y="3357720"/>
            <a:ext cx="8064360" cy="23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такое состояние, возникающие в процессе жизнедеятельности ребенка, которое указывает на состояние радости, удовольствия, удовлетворения, испытываемые школьниками находясь в учебном учреждении; это условия жизни, при которых любой человек чувствует себя спокойно, ему нет необходимости от кого-либо защи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Интеллектуальн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3"/>
          <p:cNvSpPr/>
          <p:nvPr/>
        </p:nvSpPr>
        <p:spPr>
          <a:xfrm>
            <a:off x="3708360" y="1484280"/>
            <a:ext cx="230364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900000" y="3573360"/>
            <a:ext cx="763272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удовлетворенность учащихся своей мыслительной деятельностью и ее результатами на уроке, а также удовлетворение потребности в получении н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Физ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6840" y="1557360"/>
            <a:ext cx="843588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низ 3"/>
          <p:cNvSpPr/>
          <p:nvPr/>
        </p:nvSpPr>
        <p:spPr>
          <a:xfrm>
            <a:off x="3708360" y="1628640"/>
            <a:ext cx="2303640" cy="201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539640" y="3645000"/>
            <a:ext cx="813600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соответствие между телесными, соматическими потребностями и предметно-пространственными условиями внутришкольной среды. Эта комфортность связана с сенсорными процессами, характеризующими зрительные, слуховые и тактильные ощу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55736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важайт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навреди, ищите в детях хоро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чайте и отмечайте малейших успех ученика, от постоянных неудач дети озлоб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приписывайте успех себе, а вину уче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лись - извинитесь, но ошибайтесь реже. Будьте великодушны, умейте про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уроке всегда создавайте ситуацию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ричите, не оскорбляйте ученика ни при каких обстоя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валите ученика в присутствии коллектива, а прощайте на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приблизив к себе ребенка, можно влиять на развитие его духов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ищите в лице родителей средство для расправы за собственную беспомощность в общении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ивайте поступок, а не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йте ребенку ощутить, что сочувствуете ему, верите в него, хорошего мнения о нем несмотря на его оплош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Ерастова Ирина Александровна воспитатель вечерней групп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Образовательная среда вечерней групп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55736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формирование общей культуры, развитие физических, интеллектуальных и личностных качеств, сохранение и укрепление здоровья обучающихся, воспитанников, коррекцию недостатков в физическом и (или) психическом развит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совокупность воспитательных областей, которые обеспечивают разностороннее развитие обучающихся, воспитанников с учетом их возрастных и индивидуальных особенностей по основным направлениям - физическому, социально-личностному, познавательно-речевому и художественно-эстетическому вос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Методы воспитани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364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интенсивно выполняемые упражнения. Его применяют тогда, когда необходимо быстро и на высоком уровне сформулировать требуемое качеств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его помощью приучают к положительным поступкам. Поручение дают для того, чтобы развивать необходим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ощр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ражает положительную оценку действий воспитанников. Оно закрепляет положительные навыки и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ревнова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естественные потребности к соперничеству. Соревнуясь воспитанники развивает физические, нравственные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б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ожительный 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271080"/>
            <a:ext cx="7524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Вида предметно-практического исследова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5736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иагностика уровня воспита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вень сформированности. культурно-гигиенических навы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ализ группы здоровья обучающихся, воспитан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циальный паспор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лассификация спортивных мероприятий и подвижных игр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Салк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Совуш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ышилов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оре волнуется раз…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от и мыш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Передача мяч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араси и щу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im4-tub-ru.yandex.net/i?id=212555101-03-72&amp;n=21"/>
          <p:cNvPicPr/>
          <p:nvPr/>
        </p:nvPicPr>
        <p:blipFill>
          <a:blip r:embed="rId1"/>
          <a:stretch/>
        </p:blipFill>
        <p:spPr>
          <a:xfrm>
            <a:off x="5883120" y="1427040"/>
            <a:ext cx="2955960" cy="238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im0-tub-ru.yandex.net/i?id=75174180-45-72&amp;n=21"/>
          <p:cNvPicPr/>
          <p:nvPr/>
        </p:nvPicPr>
        <p:blipFill>
          <a:blip r:embed="rId2"/>
          <a:stretch/>
        </p:blipFill>
        <p:spPr>
          <a:xfrm>
            <a:off x="5016600" y="3790800"/>
            <a:ext cx="27986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7282080" cy="118908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ая школьная инфраструктура. Ресурс развития образовательного учреждения на современном этапе модернизации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здания 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явление новых проектов и обновление среды существующ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временной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вышение доступности качественного образования в соответствии с требованиями инновационного развития экономики и современными потребностями обществ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Игры на свежем воздух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Гуси и во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Дети и медвед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Выше ножки от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Тише едешь, дальше будеш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381720" y="1206360"/>
            <a:ext cx="2567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рофилактическая рабо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. Вредные привыч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2. Как влияют вредные привычки на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3. Опасные друзь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4. Детский алкоголиз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5. Умей правильно сказать НЕ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6.Здоровье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Решение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едагогического совета 02.11.2012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Принять к сведению информацию современной инфраструктуре образовательного учр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Одобрить опыт учителей, по диссеминация педагогическ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Создать методическую копилку по условиям безопасной образователь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адача современной образовательной инфраструктуры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онкурентоспособности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 на инновационные методы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ачества образования выпуск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, на новую программу управления уровнем мастерства педагогов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риоритетные направления образовательного учреждения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овершенствование образовательного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Развитие системы поддержки детей с ограниченными возможностями здоровь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Развитие системы воспитания и дополнительного образова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Развитие системы инновацион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Развитие инфраструктуры 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Здоровье обучающихся, воспитанников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Характеристика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школьной инфраструктур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2"/>
          <p:cNvCxnSpPr/>
          <p:nvPr/>
        </p:nvCxnSpPr>
        <p:spPr>
          <a:xfrm flipH="1">
            <a:off x="2123280" y="1915920"/>
            <a:ext cx="187236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Прямоугольник 3"/>
          <p:cNvSpPr/>
          <p:nvPr/>
        </p:nvSpPr>
        <p:spPr>
          <a:xfrm>
            <a:off x="611280" y="3141720"/>
            <a:ext cx="3384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сурс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кадры, методическая, информационная дея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риально-техническое, финансов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5"/>
          <p:cNvCxnSpPr/>
          <p:nvPr/>
        </p:nvCxnSpPr>
        <p:spPr>
          <a:xfrm>
            <a:off x="5580000" y="1916280"/>
            <a:ext cx="194544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8"/>
          <p:cNvSpPr/>
          <p:nvPr/>
        </p:nvSpPr>
        <p:spPr>
          <a:xfrm>
            <a:off x="5364000" y="3141720"/>
            <a:ext cx="3240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разовательная сред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езопасность, адаптивность, безбарьерность, насыщенность, интеллектуа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Тенденции измен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образования (обновление учебно-методических комплектов, методов обучения, подходов к оценке образовательных результатов обучаю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шения «ученик- ученик», «ученик-учитель» (выстраивание общей атмосферы взаимного интере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ус учителя (рост профессиональной педагогической компетент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фраструктура обеспечения образовательной деятельности (использование информационной среды ОУ для планирования образовательного процесса каждым учител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вление преобразованиями (система мониторинга и диагностики результатов дея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еализация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 дальнейшему развитию инфраструктуры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родолжить работу по модернизации материально- технической б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родолжить работу по созданию единой информационной систе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Создание условий для наращивания информационно-технологической баз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Развитие современных методов обучения на базе информационных технолог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Введение новых технологий информационной обработки дан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Развитие инновационных подходов в деятельно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среда в современной школ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тельная сре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совокупность педагогических условий направленная на  воспитание, обучение, развитие личности, которая в связи ха­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взаимодействием ребенка со взрослыми и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взаимопо­ниманием, коммуникацией, рефлек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21:40Z</dcterms:created>
  <dc:creator>user</dc:creator>
  <dc:description/>
  <dc:language>en-US</dc:language>
  <cp:lastModifiedBy>Кабинет 314</cp:lastModifiedBy>
  <cp:lastPrinted>2012-11-02T12:17:15Z</cp:lastPrinted>
  <dcterms:modified xsi:type="dcterms:W3CDTF">2012-11-02T12:17:30Z</dcterms:modified>
  <cp:revision>47</cp:revision>
  <dc:subject/>
  <dc:title>Слайд 1</dc:title>
</cp:coreProperties>
</file>