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665-8D5D-40A5-8539-5468C221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53D-3797-4872-853B-B5CE577F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C68-8365-47A8-8022-9D090C5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F4C-B778-45E5-89A4-C0A854DB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EF4-81F9-48D0-867B-7ABA5765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C331-3091-46CC-94D0-E176547F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2D44-9477-44CE-B8A6-AD336C2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98BC-C411-4237-ADE4-F57FE6A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6A22-AB74-4734-BCB3-AE29EBC2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6600-483C-4B87-B853-8989BF4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33C5-8614-4639-B08C-72EBEBC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D8F-E484-4591-8DD7-4F6526C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F63-439C-41AB-AF0E-7554DCC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92E7-3BB3-4EA7-94B5-E7E113C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C35-C0AE-476A-9046-D972828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20C4-36C8-4F98-90CA-C7B9BD8B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65E7-2CBF-40E8-A81F-A77331A6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7D5-D64E-49ED-AECD-823B0F7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2D7-568A-4666-93E9-1B64E25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C7A-EB91-4F83-92B2-53E24F2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9E8-5C4E-4485-BDDD-DE9F133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94C-6482-43F3-ABAD-FCE1ED4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126-1FCE-4222-A5CA-4E4E4AB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46B-AED1-49BF-BCA8-670DBD5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33BF-DF81-4A9F-8364-C346060C2D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9887-19FB-4F7A-9570-2F53F958EA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00680" y="428400"/>
            <a:ext cx="4743360" cy="2786040"/>
          </a:xfrm>
          <a:prstGeom prst="rect">
            <a:avLst/>
          </a:prstGeom>
          <a:solidFill>
            <a:srgbClr val="ffffff">
              <a:alpha val="80000"/>
            </a:srgbClr>
          </a:solidFill>
          <a:ln w="648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Педагогический совет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85880" y="3357360"/>
            <a:ext cx="792936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ование современной образовательной инфраструктуры: новые подходы, мод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02.11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Основные положения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безопасной образовательной 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сред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ора на реальное зна­ние психики и личности каждого ученика, особенностей клас­са, педагогическ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реда взаимодействия (эмоционально-личностные и коммуникативные характеристики) субъектов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ирамида (иерархия) потребностей по Маслоу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Объект 3" descr="пирамида (иерархия) потребностей по Маслоу"/>
          <p:cNvPicPr/>
          <p:nvPr/>
        </p:nvPicPr>
        <p:blipFill>
          <a:blip r:embed="rId1"/>
          <a:stretch/>
        </p:blipFill>
        <p:spPr>
          <a:xfrm>
            <a:off x="1476360" y="1484280"/>
            <a:ext cx="676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Принципы безопасной среды образовательного учрежд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ринцип развивающ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Принцип социально-психологической умел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C:\Users\Кабинет 314\Desktop\iCAXOZRSC.jpg"/>
          <p:cNvPicPr/>
          <p:nvPr/>
        </p:nvPicPr>
        <p:blipFill>
          <a:blip r:embed="rId1"/>
          <a:stretch/>
        </p:blipFill>
        <p:spPr>
          <a:xfrm>
            <a:off x="841320" y="2938320"/>
            <a:ext cx="3071880" cy="313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Кабинет 314\Desktop\iCA314VUK.jpg"/>
          <p:cNvPicPr/>
          <p:nvPr/>
        </p:nvPicPr>
        <p:blipFill>
          <a:blip r:embed="rId2"/>
          <a:stretch/>
        </p:blipFill>
        <p:spPr>
          <a:xfrm>
            <a:off x="4870440" y="2938320"/>
            <a:ext cx="37926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одель психологически безопасной образовательной среды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Сущность формирования безопасной сре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сутствие психологического наси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обладание конструктив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итивное отношение к основным параметрам образо­вательной среды у всех ее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приятный уровень удовлетворенности школьно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81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труктурная модель образовательной среды школы (психологическая характеристик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28233" t="26988" r="24606" b="23012"/>
          <a:stretch/>
        </p:blipFill>
        <p:spPr>
          <a:xfrm>
            <a:off x="1620720" y="1628640"/>
            <a:ext cx="6767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Бубнова В.Н (учитель чтения, письма и развития речи)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Ключевые понятия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как форма организации обучения, которая обеспечивает активную и планомерную учебно-познавательную деятельность группы учащихся определенного возраста, состава и уровня подготовки (класса), направленную на решение поставленных учебно-воспита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Жизненная стратегия урок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4"/>
          <p:cNvCxnSpPr/>
          <p:nvPr/>
        </p:nvCxnSpPr>
        <p:spPr>
          <a:xfrm flipH="1">
            <a:off x="2267640" y="1700280"/>
            <a:ext cx="158364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Прямая со стрелкой 6"/>
          <p:cNvCxnSpPr/>
          <p:nvPr/>
        </p:nvCxnSpPr>
        <p:spPr>
          <a:xfrm>
            <a:off x="4932360" y="1700280"/>
            <a:ext cx="194400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Овал 9"/>
          <p:cNvSpPr/>
          <p:nvPr/>
        </p:nvSpPr>
        <p:spPr>
          <a:xfrm>
            <a:off x="900000" y="3213000"/>
            <a:ext cx="292752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достижен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5580000" y="3213000"/>
            <a:ext cx="2879640" cy="188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атегия избегания неу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онятие комфортности на уроках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55736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фортность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условие жизни, пребывания, обстановка, обеспечивающие удобство, спокойствие и 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да комфор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сихолог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ллектуальн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зическая комфор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Повестка дн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484280"/>
            <a:ext cx="8580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Выполнение решений педагогического совета от (протокол №6 от 31.08.2012г.). Ресурс развития образовательного учреждения на современном этапе модернизации образования (Е.А.Широк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. Психологическая среда в современной школе (педагог-псих олог Е.В.Марянич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письма и развития речи, чтения и развития речи (В.Н.Бубн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4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в группе продленного дня (И.А.Ераст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5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в 1-4 классах (Лосева О.В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6. Формирование современной образовательной среды: подходы, методы обучения и воспитания обучающихся, воспитанников с ОВЗ в МКС(К)ОУ школе-интернат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вида №92 на уроках музыки (Цепелева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41264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3"/>
          <p:cNvSpPr/>
          <p:nvPr/>
        </p:nvSpPr>
        <p:spPr>
          <a:xfrm>
            <a:off x="3635280" y="1413000"/>
            <a:ext cx="201636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"/>
          <p:cNvSpPr/>
          <p:nvPr/>
        </p:nvSpPr>
        <p:spPr>
          <a:xfrm>
            <a:off x="611280" y="3357720"/>
            <a:ext cx="8064360" cy="23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такое состояние, возникающие в процессе жизнедеятельности ребенка, которое указывает на состояние радости, удовольствия, удовлетворения, испытываемые школьниками находясь в учебном учреждении; это условия жизни, при которых любой человек чувствует себя спокойно, ему нет необходимости от кого-либо защи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Интеллектуальн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3"/>
          <p:cNvSpPr/>
          <p:nvPr/>
        </p:nvSpPr>
        <p:spPr>
          <a:xfrm>
            <a:off x="3708360" y="1484280"/>
            <a:ext cx="2303640" cy="19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900000" y="3573360"/>
            <a:ext cx="763272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удовлетворенность учащихся своей мыслительной деятельностью и ее результатами на уроке, а также удовлетворение потребности в получении н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Физическая комфортность обучающихся, воспитанников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6840" y="1557360"/>
            <a:ext cx="843588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низ 3"/>
          <p:cNvSpPr/>
          <p:nvPr/>
        </p:nvSpPr>
        <p:spPr>
          <a:xfrm>
            <a:off x="3708360" y="1628640"/>
            <a:ext cx="2303640" cy="201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539640" y="3645000"/>
            <a:ext cx="8136000" cy="22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соответствие между телесными, соматическими потребностями и предметно-пространственными условиями внутришкольной среды. Эта комфортность связана с сенсорными процессами, характеризующими зрительные, слуховые и тактильные ощу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55736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важайт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навреди, ищите в детях хоро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чайте и отмечайте малейших успех ученика, от постоянных неудач дети озлоб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приписывайте успех себе, а вину уче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лись - извинитесь, но ошибайтесь реже. Будьте великодушны, умейте про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уроке всегда создавайте ситуацию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12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улучшения комфортности на урок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ричите, не оскорбляйте ученика ни при каких обстоя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валите ученика в присутствии коллектива, а прощайте на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приблизив к себе ребенка, можно влиять на развитие его духов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ищите в лице родителей средство для расправы за собственную беспомощность в общении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ценивайте поступок, а не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йте ребенку ощутить, что сочувствуете ему, верите в него, хорошего мнения о нем несмотря на его оплош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Ерастова Ирина Александровна воспитатель вечерней группы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Формирование современной образовательной среды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методы, подход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ения и воспит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обучающихся, воспитанников с ОВЗ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в МКС(К)ОУ школе-интернат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3300" spc="-1" strike="noStrike">
                <a:solidFill>
                  <a:srgbClr val="000000"/>
                </a:solidFill>
                <a:latin typeface="Comic Sans MS"/>
              </a:rPr>
              <a:t> вида №9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Образовательная среда вечерней групп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557360"/>
            <a:ext cx="871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формирование общей культуры, развитие физических, интеллектуальных и личностных качеств, сохранение и укрепление здоровья обучающихся, воспитанников, коррекцию недостатков в физическом и (или) психическом развит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лена на совокупность воспитательных областей, которые обеспечивают разностороннее развитие обучающихся, воспитанников с учетом их возрастных и индивидуальных особенностей по основным направлениям - физическому, социально-личностному, познавательно-речевому и художественно-эстетическому вос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Методы воспитани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364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интенсивно выполняемые упражнения. Его применяют тогда, когда необходимо быстро и на высоком уровне сформулировать требуемое качество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уч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его помощью приучают к положительным поступкам. Поручение дают для того, чтобы развивать необходим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ощре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ражает положительную оценку действий воспитанников. Оно закрепляет положительные навыки и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ревнование –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 естественные потребности к соперничеству. Соревнуясь воспитанники развивает физические, нравственные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б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ожительный 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271080"/>
            <a:ext cx="752472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Вида предметно-практического исследова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5736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иагностика уровня воспита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вень сформированности. культурно-гигиенических навы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ализ группы здоровья обучающихся, воспитан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циальный паспор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лассификация спортивных мероприятий и подвижных игр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Салк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Совуш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ышилов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Море волнуется раз…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от и мыш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Передача мяч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«Караси и щук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im4-tub-ru.yandex.net/i?id=212555101-03-72&amp;n=21"/>
          <p:cNvPicPr/>
          <p:nvPr/>
        </p:nvPicPr>
        <p:blipFill>
          <a:blip r:embed="rId1"/>
          <a:stretch/>
        </p:blipFill>
        <p:spPr>
          <a:xfrm>
            <a:off x="5883120" y="1427040"/>
            <a:ext cx="2955960" cy="238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im0-tub-ru.yandex.net/i?id=75174180-45-72&amp;n=21"/>
          <p:cNvPicPr/>
          <p:nvPr/>
        </p:nvPicPr>
        <p:blipFill>
          <a:blip r:embed="rId2"/>
          <a:stretch/>
        </p:blipFill>
        <p:spPr>
          <a:xfrm>
            <a:off x="5016600" y="3790800"/>
            <a:ext cx="27986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7282080" cy="118908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ая школьная инфраструктура. Ресурс развития образовательного учреждения на современном этапе модернизации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здания 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явление новых проектов и обновление среды существующих ш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Цель современной образовательной инфра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: повышение доступности качественного образования в соответствии с требованиями инновационного развития экономики и современными потребностями обществ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Игры на свежем воздух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Гуси и во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Дети и медвед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Выше ножки от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Тише едешь, дальше будеш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381720" y="1206360"/>
            <a:ext cx="2567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рофилактическая рабо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. Вредные привыч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2. Как влияют вредные привычки на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3. Опасные друзь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4. Детский алкоголиз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5. Умей правильно сказать НЕ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6.Здоровье ребенк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Решение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едагогического совета 02.11.2012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Принять к сведению информацию современной инфраструктуре образовательного учр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Одобрить опыт учителей, по диссеминация педагогическ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Создать методическую копилку по условиям безопасной образователь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адача современной образовательной инфраструктуры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онкурентоспособности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 на инновационные методы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овышение качества образования выпуск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ход, на новую программу управления уровнем мастерства педагогов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риоритетные направления образовательного учреждения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овершенствование образовательного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Развитие системы поддержки детей с ограниченными возможностями здоровь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Развитие системы воспитания и дополнительного образова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Развитие системы инновацион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Развитие инфраструктуры 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Здоровье обучающихся, воспитанников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Характеристика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школьной инфраструктур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2"/>
          <p:cNvCxnSpPr/>
          <p:nvPr/>
        </p:nvCxnSpPr>
        <p:spPr>
          <a:xfrm flipH="1">
            <a:off x="2123280" y="1915920"/>
            <a:ext cx="187236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Прямоугольник 3"/>
          <p:cNvSpPr/>
          <p:nvPr/>
        </p:nvSpPr>
        <p:spPr>
          <a:xfrm>
            <a:off x="611280" y="3141720"/>
            <a:ext cx="3384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сурс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кадры, методическая, информационная дея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риально-техническое, финансов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5"/>
          <p:cNvCxnSpPr/>
          <p:nvPr/>
        </p:nvCxnSpPr>
        <p:spPr>
          <a:xfrm>
            <a:off x="5580000" y="1916280"/>
            <a:ext cx="194544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8"/>
          <p:cNvSpPr/>
          <p:nvPr/>
        </p:nvSpPr>
        <p:spPr>
          <a:xfrm>
            <a:off x="5364000" y="3141720"/>
            <a:ext cx="324036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разовательная сред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езопасность, адаптивность, безбарьерность, насыщенность, интеллектуа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Тенденции измен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временн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образования (обновление учебно-методических комплектов, методов обучения, подходов к оценке образовательных результатов обучаю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шения «ученик- ученик», «ученик-учитель» (выстраивание общей атмосферы взаимного интере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ус учителя (рост профессиональной педагогической компетент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фраструктура обеспечения образовательной деятельности (использование информационной среды ОУ для планирования образовательного процесса каждым учител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авление преобразованиями (система мониторинга и диагностики результатов дея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еализация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 дальнейшему развитию инфраструктуры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родолжить работу по модернизации материально- технической б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родолжить работу по созданию единой информационной систе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Создание условий для наращивания информационно-технологической баз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Развитие современных методов обучения на базе информационных технолог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Введение новых технологий информационной обработки дан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Развитие инновационных подходов в деятельно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сихологическая среда в современной школ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тельная сред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совокупность педагогических условий направленная на  воспитание, обучение, развитие личности, которая в связи ха­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взаимодействием ребенка со взрослыми и деть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взаимопо­ниманием, коммуникацией, рефлек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21:40Z</dcterms:created>
  <dc:creator>user</dc:creator>
  <dc:description/>
  <dc:language>en-US</dc:language>
  <cp:lastModifiedBy>Кабинет 314</cp:lastModifiedBy>
  <cp:lastPrinted>2012-11-02T12:17:15Z</cp:lastPrinted>
  <dcterms:modified xsi:type="dcterms:W3CDTF">2012-11-02T12:17:30Z</dcterms:modified>
  <cp:revision>47</cp:revision>
  <dc:subject/>
  <dc:title>Слайд 1</dc:title>
</cp:coreProperties>
</file>