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406B-C0A6-432A-B690-786DD08BB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99C8-0F4B-44F1-BEA3-79C21D6C8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7D0B-34F4-4E80-BF43-81E3D6DDC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4574-202F-4454-BA16-326BE9A2B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A01B3-EC70-4E81-BA9C-80F25EF3D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90FBF-19B3-49AE-9F2C-17F42B081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78787-1E71-4402-BEC2-37CBFE8E1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51DD3-7413-484B-932E-166C5FC81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C7A06-8F2A-47A5-9663-D5A6EA09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54AD9-D24F-4D96-8C52-0621589D5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D5FC2-6E95-4C3A-84B1-57A65AED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B814-03C4-49EC-B2B5-658F180D5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EDFA8-457F-480F-A791-3E764B57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F63A3-0535-490F-BA34-1F479CF6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7BC78-7DF9-41EA-9D8C-1A249FDAE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3A204-CFBF-49B3-B8F0-06F24CB66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63318-BBCC-4266-A335-288785DBF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84B4-A845-43BA-BEBE-1105C5815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0236-C329-419F-9FAC-A7793EA52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C114-443E-4918-BEDE-6BD4B0ECE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9349-78F7-4A06-BA2F-6D71F8476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D77A-B529-4B4F-B33B-E07A4E4C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732E-5730-4B7F-A1D1-D214ECDA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0B92-1D8E-4F67-A26B-0176B50B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1CE6F-F7CF-42AE-A535-AF4B7945E7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46842-769D-426A-888E-F7E3A07BA94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4680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Доклад по теме:</a:t>
            </a:r>
            <a:br>
              <a:rPr sz="32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«Формирование познавательной компетентности как условие успешной адаптации»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4581360"/>
            <a:ext cx="6400800" cy="18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4" marL="2057400" indent="0" algn="r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дготовлен: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Глубоковой Е.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едагогом-психологом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. Комсомольск-на-Амур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009 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4076640"/>
            <a:ext cx="2484360" cy="278136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1197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езультаты интеллектуальной готовности  представлены в таблице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324000" y="1197000"/>
          <a:ext cx="8820000" cy="4913280"/>
        </p:xfrm>
        <a:graphic>
          <a:graphicData uri="http://schemas.openxmlformats.org/drawingml/2006/table">
            <a:tbl>
              <a:tblPr/>
              <a:tblGrid>
                <a:gridCol w="674640"/>
                <a:gridCol w="1106280"/>
                <a:gridCol w="2111400"/>
                <a:gridCol w="1492200"/>
                <a:gridCol w="1716120"/>
                <a:gridCol w="1719360"/>
              </a:tblGrid>
              <a:tr h="33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звание методи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ль методи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зультаты (уровни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сок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н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изк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сл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луховая памя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 картино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рительная памя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верб. Классиф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ловесно-логическое мышл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лишн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ловесно-логическое мышл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ерб. субтест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ербальное мышл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рр. пр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реключение, концентрация,  распределение вним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раф. дикт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формированность  эмоционально-волевой сфер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0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Сентябрь 2007 год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0" y="981000"/>
          <a:ext cx="9144000" cy="619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81000"/>
                    <a:ext cx="9144000" cy="619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0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Коррекционно-развивающая работ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66" name="Organization Chart 6"/>
          <p:cNvGrpSpPr/>
          <p:nvPr/>
        </p:nvGrpSpPr>
        <p:grpSpPr>
          <a:xfrm>
            <a:off x="0" y="1959120"/>
            <a:ext cx="9374040" cy="2656080"/>
            <a:chOff x="0" y="1959120"/>
            <a:chExt cx="9374040" cy="2656080"/>
          </a:xfrm>
        </p:grpSpPr>
        <p:cxnSp>
          <p:nvCxnSpPr>
            <p:cNvPr id="267" name="_s5124"/>
            <p:cNvCxnSpPr>
              <a:stCxn id="268" idx="0"/>
              <a:endCxn id="269" idx="2"/>
            </p:cNvCxnSpPr>
            <p:nvPr/>
          </p:nvCxnSpPr>
          <p:spPr>
            <a:xfrm flipV="1" rot="16200000">
              <a:off x="6313680" y="1115280"/>
              <a:ext cx="301320" cy="3554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70" name="_s5125"/>
            <p:cNvCxnSpPr>
              <a:stCxn id="271" idx="0"/>
              <a:endCxn id="269" idx="2"/>
            </p:cNvCxnSpPr>
            <p:nvPr/>
          </p:nvCxnSpPr>
          <p:spPr>
            <a:xfrm flipV="1" rot="16200000">
              <a:off x="5128560" y="2300400"/>
              <a:ext cx="301320" cy="11844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72" name="_s5126"/>
            <p:cNvCxnSpPr>
              <a:stCxn id="273" idx="0"/>
              <a:endCxn id="269" idx="2"/>
            </p:cNvCxnSpPr>
            <p:nvPr/>
          </p:nvCxnSpPr>
          <p:spPr>
            <a:xfrm flipH="1" flipV="1" rot="5400000">
              <a:off x="3944160" y="2299680"/>
              <a:ext cx="301320" cy="11862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74" name="_s5127"/>
            <p:cNvCxnSpPr>
              <a:stCxn id="275" idx="0"/>
              <a:endCxn id="269" idx="2"/>
            </p:cNvCxnSpPr>
            <p:nvPr/>
          </p:nvCxnSpPr>
          <p:spPr>
            <a:xfrm flipH="1" flipV="1" rot="5400000">
              <a:off x="2759040" y="1114560"/>
              <a:ext cx="301320" cy="35564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69" name="_s5128"/>
            <p:cNvSpPr/>
            <p:nvPr/>
          </p:nvSpPr>
          <p:spPr>
            <a:xfrm>
              <a:off x="3898800" y="1959120"/>
              <a:ext cx="1576800" cy="7837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4840" rIns="24840" tIns="12240" bIns="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4 блока: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_s5129"/>
            <p:cNvSpPr/>
            <p:nvPr/>
          </p:nvSpPr>
          <p:spPr>
            <a:xfrm>
              <a:off x="0" y="3043800"/>
              <a:ext cx="2262960" cy="157140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4840" rIns="24840" tIns="12240" bIns="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Интеллектуально-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развивающи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игры и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упражнения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_s5130"/>
            <p:cNvSpPr/>
            <p:nvPr/>
          </p:nvSpPr>
          <p:spPr>
            <a:xfrm>
              <a:off x="2369880" y="3043800"/>
              <a:ext cx="2263320" cy="157140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4840" rIns="24840" tIns="12240" bIns="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Графически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диктанты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_s5131"/>
            <p:cNvSpPr/>
            <p:nvPr/>
          </p:nvSpPr>
          <p:spPr>
            <a:xfrm>
              <a:off x="4740480" y="3043800"/>
              <a:ext cx="2262960" cy="157140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4840" rIns="24840" tIns="12240" bIns="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Пальчиков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гимнастика</a:t>
              </a: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_s5132"/>
            <p:cNvSpPr/>
            <p:nvPr/>
          </p:nvSpPr>
          <p:spPr>
            <a:xfrm>
              <a:off x="7110720" y="3043800"/>
              <a:ext cx="2263320" cy="157140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840" rIns="5184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Релаксационные 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упражнения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276720" y="4819680"/>
            <a:ext cx="2516040" cy="203832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-360" y="404640"/>
            <a:ext cx="939636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 основу нашей работы взято пособие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.И. Катаевой «Коррекционно развивающие занятия с детьми старшего дошкольного возраста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дополнение мы использовали следующ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об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.В. Ильиной «Тренируем внимание и память»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.М. Безруких «Ступеньки к школе»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.В.Нижегородцевой и В.Д. Шадрико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Психолого-педагогическая готовность ребен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 школе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езультаты итоговой интеллектуальной готовности  представлены в таблице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250920" y="1600200"/>
          <a:ext cx="8642160" cy="4997520"/>
        </p:xfrm>
        <a:graphic>
          <a:graphicData uri="http://schemas.openxmlformats.org/drawingml/2006/table">
            <a:tbl>
              <a:tblPr/>
              <a:tblGrid>
                <a:gridCol w="504720"/>
                <a:gridCol w="1224000"/>
                <a:gridCol w="2663640"/>
                <a:gridCol w="1368720"/>
                <a:gridCol w="1441440"/>
                <a:gridCol w="1439640"/>
              </a:tblGrid>
              <a:tr h="33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звание методи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ль методи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зультаты (уровни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сок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н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изк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сл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луховая памя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 картино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рительная памя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верб. классиф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ловесно-логическое мышл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лишн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ловесно-логическое мышл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ерб. субтес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ербальное мышл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рр. пр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реключение, концентрация,  распределение вним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раф. дикт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формированность  эмоционально-волевой сфер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0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Май 2008 год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81" name="Rectangle 3"/>
          <p:cNvGraphicFramePr/>
          <p:nvPr/>
        </p:nvGraphicFramePr>
        <p:xfrm>
          <a:off x="0" y="1197000"/>
          <a:ext cx="9144000" cy="566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2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97000"/>
                    <a:ext cx="914400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роведенная работа обеспечила становление у воспитанников важных качеств личности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амостоятельност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нициативность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оизвольность;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юбознательность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ворческое самовыраж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се это залог успешной адаптац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ребенка к школьной жизн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Organization Chart 7"/>
          <p:cNvGrpSpPr/>
          <p:nvPr/>
        </p:nvGrpSpPr>
        <p:grpSpPr>
          <a:xfrm>
            <a:off x="431640" y="1211400"/>
            <a:ext cx="8208360" cy="5062680"/>
            <a:chOff x="431640" y="1211400"/>
            <a:chExt cx="8208360" cy="5062680"/>
          </a:xfrm>
        </p:grpSpPr>
        <p:cxnSp>
          <p:nvCxnSpPr>
            <p:cNvPr id="215" name="_s1028"/>
            <p:cNvCxnSpPr>
              <a:stCxn id="216" idx="0"/>
              <a:endCxn id="217" idx="2"/>
            </p:cNvCxnSpPr>
            <p:nvPr/>
          </p:nvCxnSpPr>
          <p:spPr>
            <a:xfrm flipV="1" rot="16200000">
              <a:off x="5941080" y="2594160"/>
              <a:ext cx="40320" cy="2851200"/>
            </a:xfrm>
            <a:prstGeom prst="bentConnector3">
              <a:avLst>
                <a:gd name="adj1" fmla="val 4774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18" name="_s1029"/>
            <p:cNvCxnSpPr>
              <a:stCxn id="219" idx="0"/>
              <a:endCxn id="217" idx="2"/>
            </p:cNvCxnSpPr>
            <p:nvPr/>
          </p:nvCxnSpPr>
          <p:spPr>
            <a:xfrm flipV="1">
              <a:off x="4536000" y="3999960"/>
              <a:ext cx="2880" cy="40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20" name="_s1030"/>
            <p:cNvCxnSpPr>
              <a:stCxn id="221" idx="0"/>
              <a:endCxn id="217" idx="2"/>
            </p:cNvCxnSpPr>
            <p:nvPr/>
          </p:nvCxnSpPr>
          <p:spPr>
            <a:xfrm flipH="1" flipV="1" rot="5400000">
              <a:off x="3090600" y="2594520"/>
              <a:ext cx="40320" cy="2851200"/>
            </a:xfrm>
            <a:prstGeom prst="bentConnector3">
              <a:avLst>
                <a:gd name="adj1" fmla="val 4774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17" name="_s1031"/>
            <p:cNvSpPr/>
            <p:nvPr/>
          </p:nvSpPr>
          <p:spPr>
            <a:xfrm>
              <a:off x="2145240" y="1211400"/>
              <a:ext cx="4780800" cy="27892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40" rIns="504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Трудности переживаемые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ребенком на  этапе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школьного обучения: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_s1032"/>
            <p:cNvSpPr/>
            <p:nvPr/>
          </p:nvSpPr>
          <p:spPr>
            <a:xfrm>
              <a:off x="431640" y="4040640"/>
              <a:ext cx="2507040" cy="22334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40" rIns="504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Сложно  следовать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новым правилам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школьной жизни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_s1033"/>
            <p:cNvSpPr/>
            <p:nvPr/>
          </p:nvSpPr>
          <p:spPr>
            <a:xfrm>
              <a:off x="3282120" y="4040640"/>
              <a:ext cx="2507760" cy="22334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40" rIns="504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_s1034"/>
            <p:cNvSpPr/>
            <p:nvPr/>
          </p:nvSpPr>
          <p:spPr>
            <a:xfrm>
              <a:off x="6132960" y="4040640"/>
              <a:ext cx="2507040" cy="22334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40" rIns="504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Справлятьс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с новой ролью 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ученика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Rectangle 20"/>
          <p:cNvSpPr/>
          <p:nvPr/>
        </p:nvSpPr>
        <p:spPr>
          <a:xfrm>
            <a:off x="2700360" y="4076640"/>
            <a:ext cx="36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риентировать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 многообрази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оциальны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тноше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 связей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Готовность к школе представляет собой следующую совокупность компонентов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24" name="Diagram 7"/>
          <p:cNvGrpSpPr/>
          <p:nvPr/>
        </p:nvGrpSpPr>
        <p:grpSpPr>
          <a:xfrm>
            <a:off x="1444320" y="2863800"/>
            <a:ext cx="6971760" cy="3322440"/>
            <a:chOff x="1444320" y="2863800"/>
            <a:chExt cx="6971760" cy="3322440"/>
          </a:xfrm>
        </p:grpSpPr>
        <p:sp>
          <p:nvSpPr>
            <p:cNvPr id="225" name="_s2052"/>
            <p:cNvSpPr/>
            <p:nvPr/>
          </p:nvSpPr>
          <p:spPr>
            <a:xfrm>
              <a:off x="3988080" y="3453480"/>
              <a:ext cx="1885680" cy="1688400"/>
            </a:xfrm>
            <a:prstGeom prst="ellipse">
              <a:avLst/>
            </a:prstGeom>
            <a:solidFill>
              <a:srgbClr val="0088e4">
                <a:alpha val="50000"/>
              </a:srgbClr>
            </a:solidFill>
            <a:ln w="4680">
              <a:solidFill>
                <a:srgbClr val="0088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_s2053"/>
            <p:cNvSpPr/>
            <p:nvPr/>
          </p:nvSpPr>
          <p:spPr>
            <a:xfrm>
              <a:off x="3988080" y="2863800"/>
              <a:ext cx="188568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Личностная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готовность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_s2054"/>
            <p:cNvSpPr/>
            <p:nvPr/>
          </p:nvSpPr>
          <p:spPr>
            <a:xfrm>
              <a:off x="4608360" y="4416120"/>
              <a:ext cx="1885680" cy="1688400"/>
            </a:xfrm>
            <a:prstGeom prst="ellipse">
              <a:avLst/>
            </a:prstGeom>
            <a:solidFill>
              <a:srgbClr val="99ff99">
                <a:alpha val="50000"/>
              </a:srgbClr>
            </a:solidFill>
            <a:ln w="4680">
              <a:solidFill>
                <a:srgbClr val="99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_s2055"/>
            <p:cNvSpPr/>
            <p:nvPr/>
          </p:nvSpPr>
          <p:spPr>
            <a:xfrm>
              <a:off x="6530400" y="5765760"/>
              <a:ext cx="188568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Физическа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готовность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_s2056"/>
            <p:cNvSpPr/>
            <p:nvPr/>
          </p:nvSpPr>
          <p:spPr>
            <a:xfrm>
              <a:off x="3368160" y="4416120"/>
              <a:ext cx="1885680" cy="1688400"/>
            </a:xfrm>
            <a:prstGeom prst="ellipse">
              <a:avLst/>
            </a:prstGeom>
            <a:solidFill>
              <a:srgbClr val="afe1ff">
                <a:alpha val="50000"/>
              </a:srgbClr>
            </a:solidFill>
            <a:ln w="4680">
              <a:solidFill>
                <a:srgbClr val="afe1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_s2057"/>
            <p:cNvSpPr/>
            <p:nvPr/>
          </p:nvSpPr>
          <p:spPr>
            <a:xfrm>
              <a:off x="1444320" y="5765760"/>
              <a:ext cx="188568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Интеллектуальна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готовность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advTm="10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Личностная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готовность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ключает в себ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звитие мотивационной сфер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пособность к произвольному управлению собственной деятельностью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звитие познавательных интерес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моциональную устойчивост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6588000" y="4149720"/>
            <a:ext cx="1892520" cy="244800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Интеллектуальная готовность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86868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едполагает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бор знаний и представлений об окружающем мир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едпосылки к формированию учебной деятельност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148360" y="3789360"/>
            <a:ext cx="2879640" cy="306864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Физическая готовность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стояние здоровья, слуха, зр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бщее физическое развит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звитие мелких групп мышц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мение выполнять основные движения: бег, прыжки и д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708360" y="4122720"/>
            <a:ext cx="2951280" cy="273528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Компетентностный подход это-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овокупность общих принципов определения целей образования, отбора содержания образования, организации образовательного процесса и оценки образовательных результатов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Organization Chart 7"/>
          <p:cNvGrpSpPr/>
          <p:nvPr/>
        </p:nvGrpSpPr>
        <p:grpSpPr>
          <a:xfrm>
            <a:off x="0" y="760680"/>
            <a:ext cx="9396000" cy="5394240"/>
            <a:chOff x="0" y="760680"/>
            <a:chExt cx="9396000" cy="5394240"/>
          </a:xfrm>
        </p:grpSpPr>
        <p:cxnSp>
          <p:nvCxnSpPr>
            <p:cNvPr id="243" name="_s3076"/>
            <p:cNvCxnSpPr>
              <a:stCxn id="244" idx="1"/>
              <a:endCxn id="245" idx="2"/>
            </p:cNvCxnSpPr>
            <p:nvPr/>
          </p:nvCxnSpPr>
          <p:spPr>
            <a:xfrm rot="10800000">
              <a:off x="4698360" y="2165760"/>
              <a:ext cx="306360" cy="2117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6" name="_s3077"/>
            <p:cNvCxnSpPr>
              <a:stCxn id="247" idx="3"/>
              <a:endCxn id="245" idx="2"/>
            </p:cNvCxnSpPr>
            <p:nvPr/>
          </p:nvCxnSpPr>
          <p:spPr>
            <a:xfrm flipV="1">
              <a:off x="4389480" y="2166120"/>
              <a:ext cx="310320" cy="2117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8" name="_s3078"/>
            <p:cNvCxnSpPr>
              <a:stCxn id="249" idx="1"/>
              <a:endCxn id="245" idx="2"/>
            </p:cNvCxnSpPr>
            <p:nvPr/>
          </p:nvCxnSpPr>
          <p:spPr>
            <a:xfrm rot="10800000">
              <a:off x="4698360" y="2165760"/>
              <a:ext cx="306360" cy="788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50" name="_s3079"/>
            <p:cNvCxnSpPr>
              <a:stCxn id="251" idx="3"/>
              <a:endCxn id="245" idx="2"/>
            </p:cNvCxnSpPr>
            <p:nvPr/>
          </p:nvCxnSpPr>
          <p:spPr>
            <a:xfrm flipV="1">
              <a:off x="4389480" y="2166120"/>
              <a:ext cx="310320" cy="788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52" name="_s3080"/>
            <p:cNvCxnSpPr>
              <a:stCxn id="253" idx="0"/>
              <a:endCxn id="245" idx="2"/>
            </p:cNvCxnSpPr>
            <p:nvPr/>
          </p:nvCxnSpPr>
          <p:spPr>
            <a:xfrm flipV="1" rot="16200000">
              <a:off x="4864320" y="1999800"/>
              <a:ext cx="2903400" cy="3235320"/>
            </a:xfrm>
            <a:prstGeom prst="bentConnector3">
              <a:avLst>
                <a:gd name="adj1" fmla="val 419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54" name="_s3081"/>
            <p:cNvCxnSpPr>
              <a:stCxn id="255" idx="0"/>
              <a:endCxn id="245" idx="2"/>
            </p:cNvCxnSpPr>
            <p:nvPr/>
          </p:nvCxnSpPr>
          <p:spPr>
            <a:xfrm flipV="1">
              <a:off x="4698720" y="2165760"/>
              <a:ext cx="2520" cy="2903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56" name="_s3082"/>
            <p:cNvCxnSpPr>
              <a:stCxn id="257" idx="0"/>
              <a:endCxn id="245" idx="2"/>
            </p:cNvCxnSpPr>
            <p:nvPr/>
          </p:nvCxnSpPr>
          <p:spPr>
            <a:xfrm flipH="1" flipV="1" rot="5400000">
              <a:off x="1630080" y="1999800"/>
              <a:ext cx="2903400" cy="3235320"/>
            </a:xfrm>
            <a:prstGeom prst="bentConnector3">
              <a:avLst>
                <a:gd name="adj1" fmla="val 419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45" name="_s3083"/>
            <p:cNvSpPr/>
            <p:nvPr/>
          </p:nvSpPr>
          <p:spPr>
            <a:xfrm>
              <a:off x="2651400" y="760680"/>
              <a:ext cx="4093560" cy="14054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200" rIns="61200" tIns="30600" bIns="30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К началу обучения в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школе ребенок должен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обладать: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_s3084"/>
            <p:cNvSpPr/>
            <p:nvPr/>
          </p:nvSpPr>
          <p:spPr>
            <a:xfrm>
              <a:off x="0" y="5069160"/>
              <a:ext cx="2926800" cy="10857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200" rIns="61200" tIns="30600" bIns="30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Мотивом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учения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_s3085"/>
            <p:cNvSpPr/>
            <p:nvPr/>
          </p:nvSpPr>
          <p:spPr>
            <a:xfrm>
              <a:off x="3234600" y="5069160"/>
              <a:ext cx="2926800" cy="10857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200" rIns="61200" tIns="30600" bIns="30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Графическими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навыками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_s3086"/>
            <p:cNvSpPr/>
            <p:nvPr/>
          </p:nvSpPr>
          <p:spPr>
            <a:xfrm>
              <a:off x="6469200" y="5069160"/>
              <a:ext cx="2926800" cy="10857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200" rIns="61200" tIns="30600" bIns="30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Произвольностью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регуляции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деятельности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_s3087"/>
            <p:cNvSpPr/>
            <p:nvPr/>
          </p:nvSpPr>
          <p:spPr>
            <a:xfrm>
              <a:off x="1462680" y="2410200"/>
              <a:ext cx="2926800" cy="10857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200" rIns="61200" tIns="30600" bIns="30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Образным и вербальным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мышлением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_s3088"/>
            <p:cNvSpPr/>
            <p:nvPr/>
          </p:nvSpPr>
          <p:spPr>
            <a:xfrm>
              <a:off x="5005080" y="2410200"/>
              <a:ext cx="2926800" cy="10857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200" rIns="61200" tIns="30600" bIns="30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Предпосылками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логического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мышления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_s3089"/>
            <p:cNvSpPr/>
            <p:nvPr/>
          </p:nvSpPr>
          <p:spPr>
            <a:xfrm>
              <a:off x="1462680" y="3740040"/>
              <a:ext cx="2926800" cy="10850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200" rIns="61200" tIns="30600" bIns="30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Способностью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принимать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учебную задачу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_s3090"/>
            <p:cNvSpPr/>
            <p:nvPr/>
          </p:nvSpPr>
          <p:spPr>
            <a:xfrm>
              <a:off x="5005080" y="3740040"/>
              <a:ext cx="2926800" cy="10850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200" rIns="61200" tIns="30600" bIns="30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Восприимчивостью 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к обучающей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помощи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advTm="10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дготовка выпускника детского сада рассматривается с точки зрения компетентностного подход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формирование у дошкольников умений ориентироваться в повседневной деятельн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ешение возникающих проблем, ориентирования в различных ситуациях, то есть быть компетентными в  сфере отношений к миру, к людям, к себ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6T11:32:28Z</dcterms:created>
  <dc:creator>*****</dc:creator>
  <dc:description/>
  <dc:language>en-US</dc:language>
  <cp:lastModifiedBy>1</cp:lastModifiedBy>
  <dcterms:modified xsi:type="dcterms:W3CDTF">2009-04-12T22:49:10Z</dcterms:modified>
  <cp:revision>9</cp:revision>
  <dc:subject/>
  <dc:title>      Доклад по теме: «Подготовка к обучению  в школе как условие развития познавательной компетентности дошкольников 6-7 лет» </dc:title>
</cp:coreProperties>
</file>