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C21-ABA9-4091-B5DB-74C7BE50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EE5-8A61-42C6-99EB-FE1EFA8D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C90-3DC4-45EE-AB07-EDC06E71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20E-718A-4C3F-BB18-6FA80EC4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CD2D-4FFD-4A3C-BE40-9ADC3DFD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E56F-B860-445A-8EDD-D46737CC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6E1C-B999-499B-A551-3A403531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2499-9207-41E5-A888-6D74C05D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F12E-5BAA-4D6A-8C19-884045E9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3905-8AD7-4855-AD58-F1DF5FD8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CA8E-5BE1-4383-831D-C4204AE3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D9F-D75E-4C62-96B1-68E125D2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0F3-B9DF-44D0-B0E2-F329776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70B2-C476-4F0B-BD33-E44E568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E263-ADC5-4DBB-82AA-947C0D1C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37F-FF79-4958-B4E2-E0192CE0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90D0-5F64-464F-BBD7-CB61C584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0BA-BDAF-48BB-86AB-0DB9766B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CF8-9853-4DFA-88DE-C305DDFA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B48-8742-4118-A4C7-A2547746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D15-4E57-421E-B381-6CA79952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06F-8F08-4355-9DFC-52365283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569-55B5-43B8-A36E-214BACFC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6E2-0615-4A1D-BE23-9762677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355E-C78E-4BD0-BFE1-56E9110FD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B182-41F1-4DE4-88F0-6D98C380B1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клад по теме:</a:t>
            </a: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Формирование познавательной компетентности как условие успешной адаптации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58136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лен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Глубоковой Е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дагогом-психолог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 Комсомольск-на-Аму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9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2484360" cy="27813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интеллектуальной готовности  представлены в таблиц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197000"/>
          <a:ext cx="8820000" cy="4913280"/>
        </p:xfrm>
        <a:graphic>
          <a:graphicData uri="http://schemas.openxmlformats.org/drawingml/2006/table">
            <a:tbl>
              <a:tblPr/>
              <a:tblGrid>
                <a:gridCol w="674640"/>
                <a:gridCol w="1106280"/>
                <a:gridCol w="2111400"/>
                <a:gridCol w="1492200"/>
                <a:gridCol w="1716120"/>
                <a:gridCol w="17193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 (уровн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хов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картин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тельн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ерб. Классиф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лиш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. субтес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альн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р. п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ключение, концентрация,  распределение вн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. дик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 эмоционально-волевой сфе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нтябрь 2007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981000"/>
          <a:ext cx="9144000" cy="619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ррекционно-развивающая раб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6" name="Organization Chart 6"/>
          <p:cNvGrpSpPr/>
          <p:nvPr/>
        </p:nvGrpSpPr>
        <p:grpSpPr>
          <a:xfrm>
            <a:off x="0" y="1959120"/>
            <a:ext cx="9374040" cy="2656080"/>
            <a:chOff x="0" y="1959120"/>
            <a:chExt cx="9374040" cy="2656080"/>
          </a:xfrm>
        </p:grpSpPr>
        <p:cxnSp>
          <p:nvCxnSpPr>
            <p:cNvPr id="267" name="_s5124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6313680" y="1115280"/>
              <a:ext cx="301320" cy="355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5125"/>
            <p:cNvCxnSpPr>
              <a:stCxn id="271" idx="0"/>
              <a:endCxn id="269" idx="2"/>
            </p:cNvCxnSpPr>
            <p:nvPr/>
          </p:nvCxnSpPr>
          <p:spPr>
            <a:xfrm flipV="1" rot="16200000">
              <a:off x="5128560" y="2300400"/>
              <a:ext cx="301320" cy="1184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2" name="_s5126"/>
            <p:cNvCxnSpPr>
              <a:stCxn id="273" idx="0"/>
              <a:endCxn id="269" idx="2"/>
            </p:cNvCxnSpPr>
            <p:nvPr/>
          </p:nvCxnSpPr>
          <p:spPr>
            <a:xfrm flipH="1" flipV="1" rot="5400000">
              <a:off x="3944160" y="2299680"/>
              <a:ext cx="301320" cy="1186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5127"/>
            <p:cNvCxnSpPr>
              <a:stCxn id="275" idx="0"/>
              <a:endCxn id="269" idx="2"/>
            </p:cNvCxnSpPr>
            <p:nvPr/>
          </p:nvCxnSpPr>
          <p:spPr>
            <a:xfrm flipH="1" flipV="1" rot="5400000">
              <a:off x="2759040" y="1114560"/>
              <a:ext cx="301320" cy="3556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9" name="_s5128"/>
            <p:cNvSpPr/>
            <p:nvPr/>
          </p:nvSpPr>
          <p:spPr>
            <a:xfrm>
              <a:off x="3898800" y="1959120"/>
              <a:ext cx="1576800" cy="783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 блока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_s5129"/>
            <p:cNvSpPr/>
            <p:nvPr/>
          </p:nvSpPr>
          <p:spPr>
            <a:xfrm>
              <a:off x="0" y="3043800"/>
              <a:ext cx="226296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нтеллектуальн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звивающ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гры 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упражнения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_s5130"/>
            <p:cNvSpPr/>
            <p:nvPr/>
          </p:nvSpPr>
          <p:spPr>
            <a:xfrm>
              <a:off x="2369880" y="3043800"/>
              <a:ext cx="226332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Граф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иктанты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5131"/>
            <p:cNvSpPr/>
            <p:nvPr/>
          </p:nvSpPr>
          <p:spPr>
            <a:xfrm>
              <a:off x="4740480" y="3043800"/>
              <a:ext cx="226296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альчиков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гимнастика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5132"/>
            <p:cNvSpPr/>
            <p:nvPr/>
          </p:nvSpPr>
          <p:spPr>
            <a:xfrm>
              <a:off x="7110720" y="3043800"/>
              <a:ext cx="226332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елаксационные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упражнени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76720" y="4819680"/>
            <a:ext cx="2516040" cy="2038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9396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основу нашей работы взято пособ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И. Катаевой «Коррекционно развивающие занятия с детьми старшего дошкольного возраста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ополнение мы использовали следующ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об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.В. Ильиной «Тренируем внимание и память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.М. Безруких «Ступеньки к школе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В.Нижегородцевой и В.Д. Шадри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сихолого-педагогическая готовность ребе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школ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итоговой интеллектуальной готовности  представлены в таблиц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0920" y="1600200"/>
          <a:ext cx="8642160" cy="4997520"/>
        </p:xfrm>
        <a:graphic>
          <a:graphicData uri="http://schemas.openxmlformats.org/drawingml/2006/table">
            <a:tbl>
              <a:tblPr/>
              <a:tblGrid>
                <a:gridCol w="504720"/>
                <a:gridCol w="1224000"/>
                <a:gridCol w="2663640"/>
                <a:gridCol w="1368720"/>
                <a:gridCol w="1441440"/>
                <a:gridCol w="14396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 (уровн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хов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картин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тельн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ерб. классиф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лиш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. субте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альн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р. п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ключение, концентрация,  распределение вн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. дик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 эмоционально-волевой сфе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й 2008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1" name="Rectangle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веденная работа обеспечила становление у воспитанников важных качеств личност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сто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ициатив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льность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ознатель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ворческое самовыра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се это залог успешной адапт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бенка к школьной жизн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Organization Chart 7"/>
          <p:cNvGrpSpPr/>
          <p:nvPr/>
        </p:nvGrpSpPr>
        <p:grpSpPr>
          <a:xfrm>
            <a:off x="431640" y="1211400"/>
            <a:ext cx="8208360" cy="5062680"/>
            <a:chOff x="431640" y="1211400"/>
            <a:chExt cx="8208360" cy="5062680"/>
          </a:xfrm>
        </p:grpSpPr>
        <p:cxnSp>
          <p:nvCxnSpPr>
            <p:cNvPr id="215" name="_s1028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941080" y="2594160"/>
              <a:ext cx="40320" cy="2851200"/>
            </a:xfrm>
            <a:prstGeom prst="bentConnector3">
              <a:avLst>
                <a:gd name="adj1" fmla="val 477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1029"/>
            <p:cNvCxnSpPr>
              <a:stCxn id="219" idx="0"/>
              <a:endCxn id="217" idx="2"/>
            </p:cNvCxnSpPr>
            <p:nvPr/>
          </p:nvCxnSpPr>
          <p:spPr>
            <a:xfrm flipV="1">
              <a:off x="4536000" y="3999960"/>
              <a:ext cx="2880" cy="4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1030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3090600" y="2594520"/>
              <a:ext cx="40320" cy="2851200"/>
            </a:xfrm>
            <a:prstGeom prst="bentConnector3">
              <a:avLst>
                <a:gd name="adj1" fmla="val 477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7" name="_s1031"/>
            <p:cNvSpPr/>
            <p:nvPr/>
          </p:nvSpPr>
          <p:spPr>
            <a:xfrm>
              <a:off x="2145240" y="1211400"/>
              <a:ext cx="4780800" cy="2789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рудности переживаемы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ебенком на  этап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школьного обучения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1032"/>
            <p:cNvSpPr/>
            <p:nvPr/>
          </p:nvSpPr>
          <p:spPr>
            <a:xfrm>
              <a:off x="431640" y="4040640"/>
              <a:ext cx="2507040" cy="2233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ложно  следова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овым правила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школьной жиз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1033"/>
            <p:cNvSpPr/>
            <p:nvPr/>
          </p:nvSpPr>
          <p:spPr>
            <a:xfrm>
              <a:off x="3282120" y="4040640"/>
              <a:ext cx="2507760" cy="2233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1034"/>
            <p:cNvSpPr/>
            <p:nvPr/>
          </p:nvSpPr>
          <p:spPr>
            <a:xfrm>
              <a:off x="6132960" y="4040640"/>
              <a:ext cx="2507040" cy="2233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правлятьс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 новой ролью 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еник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Rectangle 20"/>
          <p:cNvSpPr/>
          <p:nvPr/>
        </p:nvSpPr>
        <p:spPr>
          <a:xfrm>
            <a:off x="2700360" y="407664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риентировать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многообраз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ци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связе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товность к школе представляет собой следующую совокупность компонентов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Diagram 7"/>
          <p:cNvGrpSpPr/>
          <p:nvPr/>
        </p:nvGrpSpPr>
        <p:grpSpPr>
          <a:xfrm>
            <a:off x="1444320" y="2863800"/>
            <a:ext cx="6971760" cy="3322440"/>
            <a:chOff x="1444320" y="2863800"/>
            <a:chExt cx="6971760" cy="3322440"/>
          </a:xfrm>
        </p:grpSpPr>
        <p:sp>
          <p:nvSpPr>
            <p:cNvPr id="225" name="_s2052"/>
            <p:cNvSpPr/>
            <p:nvPr/>
          </p:nvSpPr>
          <p:spPr>
            <a:xfrm>
              <a:off x="3988080" y="3453480"/>
              <a:ext cx="1885680" cy="1688400"/>
            </a:xfrm>
            <a:prstGeom prst="ellipse">
              <a:avLst/>
            </a:prstGeom>
            <a:solidFill>
              <a:srgbClr val="0088e4">
                <a:alpha val="50000"/>
              </a:srgbClr>
            </a:solidFill>
            <a:ln w="468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2053"/>
            <p:cNvSpPr/>
            <p:nvPr/>
          </p:nvSpPr>
          <p:spPr>
            <a:xfrm>
              <a:off x="3988080" y="2863800"/>
              <a:ext cx="1885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Личност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2054"/>
            <p:cNvSpPr/>
            <p:nvPr/>
          </p:nvSpPr>
          <p:spPr>
            <a:xfrm>
              <a:off x="4608360" y="4416120"/>
              <a:ext cx="1885680" cy="1688400"/>
            </a:xfrm>
            <a:prstGeom prst="ellipse">
              <a:avLst/>
            </a:prstGeom>
            <a:solidFill>
              <a:srgbClr val="99ff99">
                <a:alpha val="50000"/>
              </a:srgbClr>
            </a:solidFill>
            <a:ln w="468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2055"/>
            <p:cNvSpPr/>
            <p:nvPr/>
          </p:nvSpPr>
          <p:spPr>
            <a:xfrm>
              <a:off x="6530400" y="5765760"/>
              <a:ext cx="1885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Физическ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2056"/>
            <p:cNvSpPr/>
            <p:nvPr/>
          </p:nvSpPr>
          <p:spPr>
            <a:xfrm>
              <a:off x="3368160" y="4416120"/>
              <a:ext cx="1885680" cy="1688400"/>
            </a:xfrm>
            <a:prstGeom prst="ellipse">
              <a:avLst/>
            </a:prstGeom>
            <a:solidFill>
              <a:srgbClr val="afe1ff">
                <a:alpha val="50000"/>
              </a:srgbClr>
            </a:solidFill>
            <a:ln w="4680">
              <a:solidFill>
                <a:srgbClr val="afe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2057"/>
            <p:cNvSpPr/>
            <p:nvPr/>
          </p:nvSpPr>
          <p:spPr>
            <a:xfrm>
              <a:off x="1444320" y="5765760"/>
              <a:ext cx="1885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Интеллектуа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чностная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ключает в себ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мотивационной сфе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ность к произвольному управлению собственной деятельност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познавательных интерес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моциональную устойчив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588000" y="4149720"/>
            <a:ext cx="1892520" cy="24480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теллектуальная 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6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полага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бор знаний и представлений об окружающем ми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посылки к формированию учебной деят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2879640" cy="3068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изическая 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тояние здоровья, слуха, зр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физическое развит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мелких групп мышц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ние выполнять основные движения: бег, прыжки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708360" y="4122720"/>
            <a:ext cx="2951280" cy="27352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мпетентностный подход это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вокупность общих принципов определения целей образования, отбора содержания образования, организации образовательного процесса и оценки образовательных результатов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Organization Chart 7"/>
          <p:cNvGrpSpPr/>
          <p:nvPr/>
        </p:nvGrpSpPr>
        <p:grpSpPr>
          <a:xfrm>
            <a:off x="0" y="760680"/>
            <a:ext cx="9396000" cy="5394240"/>
            <a:chOff x="0" y="760680"/>
            <a:chExt cx="9396000" cy="5394240"/>
          </a:xfrm>
        </p:grpSpPr>
        <p:cxnSp>
          <p:nvCxnSpPr>
            <p:cNvPr id="243" name="_s3076"/>
            <p:cNvCxnSpPr>
              <a:stCxn id="244" idx="1"/>
              <a:endCxn id="245" idx="2"/>
            </p:cNvCxnSpPr>
            <p:nvPr/>
          </p:nvCxnSpPr>
          <p:spPr>
            <a:xfrm rot="10800000">
              <a:off x="4698360" y="2165760"/>
              <a:ext cx="306360" cy="211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3077"/>
            <p:cNvCxnSpPr>
              <a:stCxn id="247" idx="3"/>
              <a:endCxn id="245" idx="2"/>
            </p:cNvCxnSpPr>
            <p:nvPr/>
          </p:nvCxnSpPr>
          <p:spPr>
            <a:xfrm flipV="1">
              <a:off x="4389480" y="2166120"/>
              <a:ext cx="310320" cy="211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8" name="_s3078"/>
            <p:cNvCxnSpPr>
              <a:stCxn id="249" idx="1"/>
              <a:endCxn id="245" idx="2"/>
            </p:cNvCxnSpPr>
            <p:nvPr/>
          </p:nvCxnSpPr>
          <p:spPr>
            <a:xfrm rot="10800000">
              <a:off x="4698360" y="2165760"/>
              <a:ext cx="306360" cy="78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0" name="_s3079"/>
            <p:cNvCxnSpPr>
              <a:stCxn id="251" idx="3"/>
              <a:endCxn id="245" idx="2"/>
            </p:cNvCxnSpPr>
            <p:nvPr/>
          </p:nvCxnSpPr>
          <p:spPr>
            <a:xfrm flipV="1">
              <a:off x="4389480" y="2166120"/>
              <a:ext cx="310320" cy="78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" name="_s3080"/>
            <p:cNvCxnSpPr>
              <a:stCxn id="253" idx="0"/>
              <a:endCxn id="245" idx="2"/>
            </p:cNvCxnSpPr>
            <p:nvPr/>
          </p:nvCxnSpPr>
          <p:spPr>
            <a:xfrm flipV="1" rot="16200000">
              <a:off x="4864320" y="1999800"/>
              <a:ext cx="2903400" cy="3235320"/>
            </a:xfrm>
            <a:prstGeom prst="bentConnector3">
              <a:avLst>
                <a:gd name="adj1" fmla="val 41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4" name="_s3081"/>
            <p:cNvCxnSpPr>
              <a:stCxn id="255" idx="0"/>
              <a:endCxn id="245" idx="2"/>
            </p:cNvCxnSpPr>
            <p:nvPr/>
          </p:nvCxnSpPr>
          <p:spPr>
            <a:xfrm flipV="1">
              <a:off x="4698720" y="2165760"/>
              <a:ext cx="2520" cy="290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6" name="_s3082"/>
            <p:cNvCxnSpPr>
              <a:stCxn id="257" idx="0"/>
              <a:endCxn id="245" idx="2"/>
            </p:cNvCxnSpPr>
            <p:nvPr/>
          </p:nvCxnSpPr>
          <p:spPr>
            <a:xfrm flipH="1" flipV="1" rot="5400000">
              <a:off x="1630080" y="1999800"/>
              <a:ext cx="2903400" cy="3235320"/>
            </a:xfrm>
            <a:prstGeom prst="bentConnector3">
              <a:avLst>
                <a:gd name="adj1" fmla="val 41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5" name="_s3083"/>
            <p:cNvSpPr/>
            <p:nvPr/>
          </p:nvSpPr>
          <p:spPr>
            <a:xfrm>
              <a:off x="2651400" y="760680"/>
              <a:ext cx="4093560" cy="1405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К началу обучения в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школе ребенок должен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бладать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3084"/>
            <p:cNvSpPr/>
            <p:nvPr/>
          </p:nvSpPr>
          <p:spPr>
            <a:xfrm>
              <a:off x="0" y="506916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отиво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ч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085"/>
            <p:cNvSpPr/>
            <p:nvPr/>
          </p:nvSpPr>
          <p:spPr>
            <a:xfrm>
              <a:off x="3234600" y="506916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Графическим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навыками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086"/>
            <p:cNvSpPr/>
            <p:nvPr/>
          </p:nvSpPr>
          <p:spPr>
            <a:xfrm>
              <a:off x="6469200" y="506916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извольность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гуля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еятельно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087"/>
            <p:cNvSpPr/>
            <p:nvPr/>
          </p:nvSpPr>
          <p:spPr>
            <a:xfrm>
              <a:off x="1462680" y="241020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бразным и вербальны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ышление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088"/>
            <p:cNvSpPr/>
            <p:nvPr/>
          </p:nvSpPr>
          <p:spPr>
            <a:xfrm>
              <a:off x="5005080" y="241020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едпосылкам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логическог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ышлен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089"/>
            <p:cNvSpPr/>
            <p:nvPr/>
          </p:nvSpPr>
          <p:spPr>
            <a:xfrm>
              <a:off x="1462680" y="3740040"/>
              <a:ext cx="2926800" cy="1085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пособность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инима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чебную задачу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090"/>
            <p:cNvSpPr/>
            <p:nvPr/>
          </p:nvSpPr>
          <p:spPr>
            <a:xfrm>
              <a:off x="5005080" y="3740040"/>
              <a:ext cx="2926800" cy="1085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осприимчивостью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к обучающе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омощ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дготовка выпускника детского сада рассматривается с точки зрения компетентностного подход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у дошкольников умений ориентироваться в повседневн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ение возникающих проблем, ориентирования в различных ситуациях, то есть быть компетентными в  сфере отношений к миру, к людям,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1:32:28Z</dcterms:created>
  <dc:creator>*****</dc:creator>
  <dc:description/>
  <dc:language>en-US</dc:language>
  <cp:lastModifiedBy>1</cp:lastModifiedBy>
  <dcterms:modified xsi:type="dcterms:W3CDTF">2009-04-12T22:49:10Z</dcterms:modified>
  <cp:revision>9</cp:revision>
  <dc:subject/>
  <dc:title>      Доклад по теме: «Подготовка к обучению  в школе как условие развития познавательной компетентности дошкольников 6-7 лет» </dc:title>
</cp:coreProperties>
</file>