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0.wmf" ContentType="image/x-wmf"/>
  <Override PartName="/ppt/media/image7.gif" ContentType="image/gif"/>
  <Override PartName="/ppt/media/image26.jpeg" ContentType="image/jpeg"/>
  <Override PartName="/ppt/media/image18.wmf" ContentType="image/x-wmf"/>
  <Override PartName="/ppt/media/image24.jpeg" ContentType="image/jpeg"/>
  <Override PartName="/ppt/media/image12.gif" ContentType="image/gif"/>
  <Override PartName="/ppt/media/image23.wmf" ContentType="image/x-wmf"/>
  <Override PartName="/ppt/media/image9.jpeg" ContentType="image/jpeg"/>
  <Override PartName="/ppt/media/image10.gif" ContentType="image/gif"/>
  <Override PartName="/ppt/media/image11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2.gif" ContentType="image/gif"/>
  <Override PartName="/ppt/media/image5.png" ContentType="image/png"/>
  <Override PartName="/ppt/media/image8.png" ContentType="image/png"/>
  <Override PartName="/ppt/media/image28.gif" ContentType="image/gif"/>
  <Override PartName="/ppt/media/image4.gif" ContentType="image/gif"/>
  <Override PartName="/ppt/media/image3.png" ContentType="image/png"/>
  <Override PartName="/ppt/media/image6.png" ContentType="image/png"/>
  <Override PartName="/ppt/media/image29.png" ContentType="image/png"/>
  <Override PartName="/ppt/media/image17.wmf" ContentType="image/x-wmf"/>
  <Override PartName="/ppt/media/image31.gif" ContentType="image/gif"/>
  <Override PartName="/ppt/media/image1.gif" ContentType="image/gif"/>
  <Override PartName="/ppt/media/image14.gif" ContentType="image/gif"/>
  <Override PartName="/ppt/media/image15.gif" ContentType="image/gi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036-762F-4F38-B1EE-ABA53752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1CB-1E7A-4D32-95F5-247F3A5F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9C0-F300-427F-BE59-256A4D1B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B54-5581-460D-9FDA-E3804C23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E0F-9ABF-4B66-9BB3-6C4B410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3A8-37C7-4315-8AB5-B6F54990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90B-2829-44DB-8D92-E9E7F2DB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303-11D0-41F4-98E1-26D997E5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AE6-63D5-44A1-863D-33DF33C1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73F-F70C-4B82-9A43-D7CFA98D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D38-72C5-4AD1-BCE3-74E3F211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3F1-E8EE-432B-9E3F-570A471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087-9EA8-4DC2-9EF9-C6D1D04189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31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чет от 1 до 1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 числа 1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 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МАД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ский сад «Снегурочк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анова Л.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56"/>
          <p:cNvPicPr/>
          <p:nvPr/>
        </p:nvPicPr>
        <p:blipFill>
          <a:blip r:embed="rId1"/>
          <a:stretch/>
        </p:blipFill>
        <p:spPr>
          <a:xfrm>
            <a:off x="5580000" y="3573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J0213513"/>
          <p:cNvPicPr/>
          <p:nvPr/>
        </p:nvPicPr>
        <p:blipFill>
          <a:blip r:embed="rId2"/>
          <a:stretch/>
        </p:blipFill>
        <p:spPr>
          <a:xfrm>
            <a:off x="4427640" y="1916280"/>
            <a:ext cx="2520720" cy="192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J0213513"/>
          <p:cNvPicPr/>
          <p:nvPr/>
        </p:nvPicPr>
        <p:blipFill>
          <a:blip r:embed="rId3"/>
          <a:stretch/>
        </p:blipFill>
        <p:spPr>
          <a:xfrm flipH="1">
            <a:off x="1258920" y="2349360"/>
            <a:ext cx="3527280" cy="3030840"/>
          </a:xfrm>
          <a:prstGeom prst="rect">
            <a:avLst/>
          </a:prstGeom>
          <a:ln w="0">
            <a:noFill/>
          </a:ln>
        </p:spPr>
      </p:pic>
      <p:pic>
        <p:nvPicPr>
          <p:cNvPr id="135" name="Танец утят.mid" descr=""/>
          <p:cNvPicPr/>
          <p:nvPr/>
        </p:nvPicPr>
        <p:blipFill>
          <a:blip r:embed="rId4"/>
          <a:stretch/>
        </p:blipFill>
        <p:spPr>
          <a:xfrm>
            <a:off x="-30492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213513"/>
          <p:cNvPicPr/>
          <p:nvPr/>
        </p:nvPicPr>
        <p:blipFill>
          <a:blip r:embed="rId5"/>
          <a:stretch/>
        </p:blipFill>
        <p:spPr>
          <a:xfrm flipH="1">
            <a:off x="1258920" y="2349360"/>
            <a:ext cx="3527280" cy="3030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219640" y="4724280"/>
            <a:ext cx="298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Times New Roman"/>
              </a:rPr>
              <a:t>5+5=10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71640" y="549360"/>
            <a:ext cx="687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А теперь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се дружно  потанцуем вместе с нашими гостями!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Новогодний подарок «Танцующий осел»"/>
          <p:cNvPicPr/>
          <p:nvPr/>
        </p:nvPicPr>
        <p:blipFill>
          <a:blip r:embed="rId1"/>
          <a:stretch/>
        </p:blipFill>
        <p:spPr>
          <a:xfrm>
            <a:off x="631800" y="4076640"/>
            <a:ext cx="1779480" cy="252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23m4"/>
          <p:cNvPicPr/>
          <p:nvPr/>
        </p:nvPicPr>
        <p:blipFill>
          <a:blip r:embed="rId2"/>
          <a:stretch/>
        </p:blipFill>
        <p:spPr>
          <a:xfrm>
            <a:off x="2700360" y="335772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at34"/>
          <p:cNvPicPr/>
          <p:nvPr/>
        </p:nvPicPr>
        <p:blipFill>
          <a:blip r:embed="rId3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3m6"/>
          <p:cNvPicPr/>
          <p:nvPr/>
        </p:nvPicPr>
        <p:blipFill>
          <a:blip r:embed="rId4"/>
          <a:stretch/>
        </p:blipFill>
        <p:spPr>
          <a:xfrm>
            <a:off x="5148360" y="342900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Новогодний подарок «Чумовая собака»"/>
          <p:cNvPicPr/>
          <p:nvPr/>
        </p:nvPicPr>
        <p:blipFill>
          <a:blip r:embed="rId5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Танец утят.mid" descr=""/>
          <p:cNvPicPr/>
          <p:nvPr/>
        </p:nvPicPr>
        <p:blipFill>
          <a:blip r:embed="rId6"/>
          <a:stretch/>
        </p:blipFill>
        <p:spPr>
          <a:xfrm>
            <a:off x="-30492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Веселая зарядка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utyata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73654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3" descr="56"/>
          <p:cNvPicPr/>
          <p:nvPr/>
        </p:nvPicPr>
        <p:blipFill>
          <a:blip r:embed="rId1"/>
          <a:stretch/>
        </p:blipFill>
        <p:spPr>
          <a:xfrm>
            <a:off x="4932360" y="306864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4"/>
          <p:cNvSpPr/>
          <p:nvPr/>
        </p:nvSpPr>
        <p:spPr>
          <a:xfrm>
            <a:off x="39708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14180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book"/>
          <p:cNvPicPr/>
          <p:nvPr/>
        </p:nvPicPr>
        <p:blipFill>
          <a:blip r:embed="rId3"/>
          <a:stretch/>
        </p:blipFill>
        <p:spPr>
          <a:xfrm>
            <a:off x="0" y="549360"/>
            <a:ext cx="1332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S00554_"/>
          <p:cNvPicPr/>
          <p:nvPr/>
        </p:nvPicPr>
        <p:blipFill>
          <a:blip r:embed="rId1"/>
          <a:stretch/>
        </p:blipFill>
        <p:spPr>
          <a:xfrm>
            <a:off x="2484360" y="26028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j0343351"/>
          <p:cNvPicPr/>
          <p:nvPr/>
        </p:nvPicPr>
        <p:blipFill>
          <a:blip r:embed="rId2"/>
          <a:stretch/>
        </p:blipFill>
        <p:spPr>
          <a:xfrm>
            <a:off x="6934320" y="22860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02"/>
          <p:cNvSpPr txBox="1"/>
          <p:nvPr/>
        </p:nvSpPr>
        <p:spPr>
          <a:xfrm>
            <a:off x="1371600" y="4800600"/>
            <a:ext cx="38480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1d04"/>
                </a:solidFill>
                <a:latin typeface="Arial"/>
              </a:rPr>
              <a:t>6+4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d81d04"/>
              </a:solidFill>
              <a:latin typeface="Arial"/>
              <a:ea typeface="Arial"/>
            </a:endParaRPr>
          </a:p>
        </p:txBody>
      </p:sp>
      <p:pic>
        <p:nvPicPr>
          <p:cNvPr id="173" name="Picture 103" descr="j0345354"/>
          <p:cNvPicPr/>
          <p:nvPr/>
        </p:nvPicPr>
        <p:blipFill>
          <a:blip r:embed="rId3"/>
          <a:stretch/>
        </p:blipFill>
        <p:spPr>
          <a:xfrm>
            <a:off x="6516720" y="2852640"/>
            <a:ext cx="1673280" cy="181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4" descr="j0345354"/>
          <p:cNvPicPr/>
          <p:nvPr/>
        </p:nvPicPr>
        <p:blipFill>
          <a:blip r:embed="rId4"/>
          <a:stretch/>
        </p:blipFill>
        <p:spPr>
          <a:xfrm>
            <a:off x="4859280" y="2637000"/>
            <a:ext cx="1673280" cy="1814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07" descr="BS00554_"/>
          <p:cNvPicPr/>
          <p:nvPr/>
        </p:nvPicPr>
        <p:blipFill>
          <a:blip r:embed="rId5"/>
          <a:stretch/>
        </p:blipFill>
        <p:spPr>
          <a:xfrm>
            <a:off x="395280" y="40464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j0109229"/>
          <p:cNvPicPr/>
          <p:nvPr/>
        </p:nvPicPr>
        <p:blipFill>
          <a:blip r:embed="rId1"/>
          <a:stretch/>
        </p:blipFill>
        <p:spPr>
          <a:xfrm>
            <a:off x="6248520" y="7621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4"/>
          <p:cNvSpPr/>
          <p:nvPr/>
        </p:nvSpPr>
        <p:spPr>
          <a:xfrm>
            <a:off x="4664160" y="868320"/>
            <a:ext cx="4057560" cy="5189760"/>
          </a:xfrm>
          <a:custGeom>
            <a:avLst/>
            <a:gdLst>
              <a:gd name="textAreaLeft" fmla="*/ 0 w 4057560"/>
              <a:gd name="textAreaRight" fmla="*/ 4057920 w 4057560"/>
              <a:gd name="textAreaTop" fmla="*/ 0 h 5189760"/>
              <a:gd name="textAreaBottom" fmla="*/ 5189760 h 5189760"/>
            </a:gdLst>
            <a:ahLst/>
            <a:rect l="textAreaLeft" t="textAreaTop" r="textAreaRight" b="textAreaBottom"/>
            <a:pathLst>
              <a:path w="2556" h="3269">
                <a:moveTo>
                  <a:pt x="0" y="0"/>
                </a:moveTo>
                <a:cubicBezTo>
                  <a:pt x="29" y="10"/>
                  <a:pt x="57" y="20"/>
                  <a:pt x="86" y="29"/>
                </a:cubicBezTo>
                <a:cubicBezTo>
                  <a:pt x="94" y="32"/>
                  <a:pt x="100" y="39"/>
                  <a:pt x="108" y="43"/>
                </a:cubicBezTo>
                <a:cubicBezTo>
                  <a:pt x="141" y="58"/>
                  <a:pt x="173" y="72"/>
                  <a:pt x="208" y="79"/>
                </a:cubicBezTo>
                <a:cubicBezTo>
                  <a:pt x="238" y="109"/>
                  <a:pt x="204" y="81"/>
                  <a:pt x="259" y="101"/>
                </a:cubicBezTo>
                <a:cubicBezTo>
                  <a:pt x="337" y="130"/>
                  <a:pt x="211" y="100"/>
                  <a:pt x="309" y="130"/>
                </a:cubicBezTo>
                <a:cubicBezTo>
                  <a:pt x="338" y="139"/>
                  <a:pt x="373" y="144"/>
                  <a:pt x="403" y="151"/>
                </a:cubicBezTo>
                <a:cubicBezTo>
                  <a:pt x="426" y="167"/>
                  <a:pt x="482" y="180"/>
                  <a:pt x="482" y="180"/>
                </a:cubicBezTo>
                <a:cubicBezTo>
                  <a:pt x="520" y="206"/>
                  <a:pt x="566" y="210"/>
                  <a:pt x="604" y="231"/>
                </a:cubicBezTo>
                <a:cubicBezTo>
                  <a:pt x="653" y="258"/>
                  <a:pt x="695" y="306"/>
                  <a:pt x="748" y="324"/>
                </a:cubicBezTo>
                <a:cubicBezTo>
                  <a:pt x="767" y="352"/>
                  <a:pt x="839" y="401"/>
                  <a:pt x="864" y="418"/>
                </a:cubicBezTo>
                <a:cubicBezTo>
                  <a:pt x="907" y="447"/>
                  <a:pt x="950" y="475"/>
                  <a:pt x="993" y="504"/>
                </a:cubicBezTo>
                <a:cubicBezTo>
                  <a:pt x="1030" y="529"/>
                  <a:pt x="1061" y="564"/>
                  <a:pt x="1101" y="583"/>
                </a:cubicBezTo>
                <a:cubicBezTo>
                  <a:pt x="1120" y="602"/>
                  <a:pt x="1137" y="612"/>
                  <a:pt x="1152" y="634"/>
                </a:cubicBezTo>
                <a:cubicBezTo>
                  <a:pt x="1171" y="692"/>
                  <a:pt x="1144" y="621"/>
                  <a:pt x="1173" y="670"/>
                </a:cubicBezTo>
                <a:cubicBezTo>
                  <a:pt x="1189" y="697"/>
                  <a:pt x="1188" y="715"/>
                  <a:pt x="1216" y="735"/>
                </a:cubicBezTo>
                <a:cubicBezTo>
                  <a:pt x="1227" y="794"/>
                  <a:pt x="1241" y="851"/>
                  <a:pt x="1260" y="907"/>
                </a:cubicBezTo>
                <a:cubicBezTo>
                  <a:pt x="1270" y="937"/>
                  <a:pt x="1274" y="972"/>
                  <a:pt x="1296" y="994"/>
                </a:cubicBezTo>
                <a:cubicBezTo>
                  <a:pt x="1305" y="1061"/>
                  <a:pt x="1296" y="1131"/>
                  <a:pt x="1317" y="1195"/>
                </a:cubicBezTo>
                <a:cubicBezTo>
                  <a:pt x="1319" y="1226"/>
                  <a:pt x="1319" y="1258"/>
                  <a:pt x="1324" y="1289"/>
                </a:cubicBezTo>
                <a:cubicBezTo>
                  <a:pt x="1329" y="1317"/>
                  <a:pt x="1348" y="1344"/>
                  <a:pt x="1360" y="1368"/>
                </a:cubicBezTo>
                <a:cubicBezTo>
                  <a:pt x="1376" y="1399"/>
                  <a:pt x="1389" y="1431"/>
                  <a:pt x="1404" y="1462"/>
                </a:cubicBezTo>
                <a:cubicBezTo>
                  <a:pt x="1416" y="1485"/>
                  <a:pt x="1435" y="1504"/>
                  <a:pt x="1447" y="1527"/>
                </a:cubicBezTo>
                <a:cubicBezTo>
                  <a:pt x="1472" y="1576"/>
                  <a:pt x="1488" y="1632"/>
                  <a:pt x="1519" y="1678"/>
                </a:cubicBezTo>
                <a:cubicBezTo>
                  <a:pt x="1535" y="1742"/>
                  <a:pt x="1527" y="1716"/>
                  <a:pt x="1540" y="1757"/>
                </a:cubicBezTo>
                <a:cubicBezTo>
                  <a:pt x="1546" y="1821"/>
                  <a:pt x="1536" y="1990"/>
                  <a:pt x="1584" y="2038"/>
                </a:cubicBezTo>
                <a:cubicBezTo>
                  <a:pt x="1603" y="2096"/>
                  <a:pt x="1607" y="2110"/>
                  <a:pt x="1648" y="2153"/>
                </a:cubicBezTo>
                <a:cubicBezTo>
                  <a:pt x="1663" y="2195"/>
                  <a:pt x="1700" y="2227"/>
                  <a:pt x="1728" y="2261"/>
                </a:cubicBezTo>
                <a:cubicBezTo>
                  <a:pt x="1756" y="2295"/>
                  <a:pt x="1727" y="2274"/>
                  <a:pt x="1764" y="2311"/>
                </a:cubicBezTo>
                <a:cubicBezTo>
                  <a:pt x="1781" y="2328"/>
                  <a:pt x="1808" y="2341"/>
                  <a:pt x="1828" y="2355"/>
                </a:cubicBezTo>
                <a:cubicBezTo>
                  <a:pt x="1869" y="2432"/>
                  <a:pt x="1925" y="2509"/>
                  <a:pt x="1987" y="2571"/>
                </a:cubicBezTo>
                <a:cubicBezTo>
                  <a:pt x="1997" y="2602"/>
                  <a:pt x="2022" y="2621"/>
                  <a:pt x="2037" y="2650"/>
                </a:cubicBezTo>
                <a:cubicBezTo>
                  <a:pt x="2058" y="2692"/>
                  <a:pt x="2070" y="2732"/>
                  <a:pt x="2095" y="2772"/>
                </a:cubicBezTo>
                <a:cubicBezTo>
                  <a:pt x="2109" y="2828"/>
                  <a:pt x="2092" y="2773"/>
                  <a:pt x="2124" y="2837"/>
                </a:cubicBezTo>
                <a:cubicBezTo>
                  <a:pt x="2150" y="2890"/>
                  <a:pt x="2171" y="2963"/>
                  <a:pt x="2217" y="3003"/>
                </a:cubicBezTo>
                <a:cubicBezTo>
                  <a:pt x="2261" y="3042"/>
                  <a:pt x="2347" y="3094"/>
                  <a:pt x="2397" y="3125"/>
                </a:cubicBezTo>
                <a:cubicBezTo>
                  <a:pt x="2432" y="3147"/>
                  <a:pt x="2447" y="3176"/>
                  <a:pt x="2491" y="3197"/>
                </a:cubicBezTo>
                <a:cubicBezTo>
                  <a:pt x="2510" y="3217"/>
                  <a:pt x="2524" y="3234"/>
                  <a:pt x="2541" y="3255"/>
                </a:cubicBezTo>
                <a:cubicBezTo>
                  <a:pt x="2545" y="3260"/>
                  <a:pt x="2556" y="3269"/>
                  <a:pt x="2556" y="32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j0109229"/>
          <p:cNvPicPr/>
          <p:nvPr/>
        </p:nvPicPr>
        <p:blipFill>
          <a:blip r:embed="rId2"/>
          <a:stretch/>
        </p:blipFill>
        <p:spPr>
          <a:xfrm>
            <a:off x="4419720" y="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j0109229"/>
          <p:cNvPicPr/>
          <p:nvPr/>
        </p:nvPicPr>
        <p:blipFill>
          <a:blip r:embed="rId3"/>
          <a:stretch/>
        </p:blipFill>
        <p:spPr>
          <a:xfrm>
            <a:off x="7772400" y="1143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109229"/>
          <p:cNvPicPr/>
          <p:nvPr/>
        </p:nvPicPr>
        <p:blipFill>
          <a:blip r:embed="rId4"/>
          <a:stretch/>
        </p:blipFill>
        <p:spPr>
          <a:xfrm>
            <a:off x="5181480" y="266688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109229"/>
          <p:cNvPicPr/>
          <p:nvPr/>
        </p:nvPicPr>
        <p:blipFill>
          <a:blip r:embed="rId5"/>
          <a:stretch/>
        </p:blipFill>
        <p:spPr>
          <a:xfrm>
            <a:off x="7238880" y="35053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9"/>
          <p:cNvSpPr/>
          <p:nvPr/>
        </p:nvSpPr>
        <p:spPr>
          <a:xfrm>
            <a:off x="4952880" y="3886200"/>
            <a:ext cx="2251080" cy="285840"/>
          </a:xfrm>
          <a:custGeom>
            <a:avLst/>
            <a:gdLst>
              <a:gd name="textAreaLeft" fmla="*/ 0 w 2251080"/>
              <a:gd name="textAreaRight" fmla="*/ 2251080 w 22510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18" h="180">
                <a:moveTo>
                  <a:pt x="1418" y="180"/>
                </a:moveTo>
                <a:cubicBezTo>
                  <a:pt x="1399" y="150"/>
                  <a:pt x="1387" y="126"/>
                  <a:pt x="1353" y="115"/>
                </a:cubicBezTo>
                <a:cubicBezTo>
                  <a:pt x="1282" y="68"/>
                  <a:pt x="1390" y="137"/>
                  <a:pt x="1303" y="93"/>
                </a:cubicBezTo>
                <a:cubicBezTo>
                  <a:pt x="1281" y="82"/>
                  <a:pt x="1261" y="60"/>
                  <a:pt x="1238" y="50"/>
                </a:cubicBezTo>
                <a:cubicBezTo>
                  <a:pt x="1229" y="46"/>
                  <a:pt x="1179" y="37"/>
                  <a:pt x="1173" y="36"/>
                </a:cubicBezTo>
                <a:cubicBezTo>
                  <a:pt x="1076" y="15"/>
                  <a:pt x="1025" y="6"/>
                  <a:pt x="914" y="0"/>
                </a:cubicBezTo>
                <a:cubicBezTo>
                  <a:pt x="748" y="2"/>
                  <a:pt x="583" y="3"/>
                  <a:pt x="417" y="7"/>
                </a:cubicBezTo>
                <a:cubicBezTo>
                  <a:pt x="298" y="10"/>
                  <a:pt x="183" y="49"/>
                  <a:pt x="64" y="57"/>
                </a:cubicBezTo>
                <a:cubicBezTo>
                  <a:pt x="41" y="64"/>
                  <a:pt x="17" y="69"/>
                  <a:pt x="0" y="86"/>
                </a:cubicBezTo>
                <a:lnTo>
                  <a:pt x="38" y="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1"/>
          <p:cNvSpPr/>
          <p:nvPr/>
        </p:nvSpPr>
        <p:spPr>
          <a:xfrm>
            <a:off x="6972480" y="1908000"/>
            <a:ext cx="1793520" cy="1384560"/>
          </a:xfrm>
          <a:custGeom>
            <a:avLst/>
            <a:gdLst>
              <a:gd name="textAreaLeft" fmla="*/ 0 w 1793520"/>
              <a:gd name="textAreaRight" fmla="*/ 1793880 w 179352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1130" h="872">
                <a:moveTo>
                  <a:pt x="0" y="872"/>
                </a:moveTo>
                <a:cubicBezTo>
                  <a:pt x="2" y="819"/>
                  <a:pt x="3" y="766"/>
                  <a:pt x="7" y="713"/>
                </a:cubicBezTo>
                <a:cubicBezTo>
                  <a:pt x="12" y="643"/>
                  <a:pt x="65" y="594"/>
                  <a:pt x="101" y="540"/>
                </a:cubicBezTo>
                <a:cubicBezTo>
                  <a:pt x="131" y="496"/>
                  <a:pt x="97" y="525"/>
                  <a:pt x="137" y="497"/>
                </a:cubicBezTo>
                <a:cubicBezTo>
                  <a:pt x="153" y="472"/>
                  <a:pt x="166" y="463"/>
                  <a:pt x="194" y="454"/>
                </a:cubicBezTo>
                <a:cubicBezTo>
                  <a:pt x="213" y="437"/>
                  <a:pt x="220" y="426"/>
                  <a:pt x="245" y="418"/>
                </a:cubicBezTo>
                <a:cubicBezTo>
                  <a:pt x="278" y="396"/>
                  <a:pt x="315" y="365"/>
                  <a:pt x="353" y="353"/>
                </a:cubicBezTo>
                <a:cubicBezTo>
                  <a:pt x="390" y="316"/>
                  <a:pt x="443" y="290"/>
                  <a:pt x="490" y="267"/>
                </a:cubicBezTo>
                <a:cubicBezTo>
                  <a:pt x="570" y="272"/>
                  <a:pt x="625" y="275"/>
                  <a:pt x="698" y="296"/>
                </a:cubicBezTo>
                <a:cubicBezTo>
                  <a:pt x="889" y="274"/>
                  <a:pt x="915" y="305"/>
                  <a:pt x="1030" y="195"/>
                </a:cubicBezTo>
                <a:cubicBezTo>
                  <a:pt x="1035" y="185"/>
                  <a:pt x="1037" y="174"/>
                  <a:pt x="1044" y="166"/>
                </a:cubicBezTo>
                <a:cubicBezTo>
                  <a:pt x="1050" y="159"/>
                  <a:pt x="1061" y="159"/>
                  <a:pt x="1066" y="152"/>
                </a:cubicBezTo>
                <a:cubicBezTo>
                  <a:pt x="1076" y="139"/>
                  <a:pt x="1078" y="122"/>
                  <a:pt x="1087" y="108"/>
                </a:cubicBezTo>
                <a:cubicBezTo>
                  <a:pt x="1091" y="61"/>
                  <a:pt x="1071" y="0"/>
                  <a:pt x="11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1143000" y="4648320"/>
            <a:ext cx="40766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3+7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186" name="Picture 14" descr="j0151171"/>
          <p:cNvPicPr/>
          <p:nvPr/>
        </p:nvPicPr>
        <p:blipFill>
          <a:blip r:embed="rId6"/>
          <a:stretch/>
        </p:blipFill>
        <p:spPr>
          <a:xfrm>
            <a:off x="685800" y="1066680"/>
            <a:ext cx="1789200" cy="1030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j0151171"/>
          <p:cNvPicPr/>
          <p:nvPr/>
        </p:nvPicPr>
        <p:blipFill>
          <a:blip r:embed="rId7"/>
          <a:stretch/>
        </p:blipFill>
        <p:spPr>
          <a:xfrm>
            <a:off x="1447920" y="2209680"/>
            <a:ext cx="1788840" cy="1030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j0151171"/>
          <p:cNvPicPr/>
          <p:nvPr/>
        </p:nvPicPr>
        <p:blipFill>
          <a:blip r:embed="rId8"/>
          <a:stretch/>
        </p:blipFill>
        <p:spPr>
          <a:xfrm>
            <a:off x="755640" y="3357720"/>
            <a:ext cx="1789200" cy="102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j0109229"/>
          <p:cNvPicPr/>
          <p:nvPr/>
        </p:nvPicPr>
        <p:blipFill>
          <a:blip r:embed="rId9"/>
          <a:stretch/>
        </p:blipFill>
        <p:spPr>
          <a:xfrm>
            <a:off x="7791480" y="4437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j0109229"/>
          <p:cNvPicPr/>
          <p:nvPr/>
        </p:nvPicPr>
        <p:blipFill>
          <a:blip r:embed="rId10"/>
          <a:stretch/>
        </p:blipFill>
        <p:spPr>
          <a:xfrm>
            <a:off x="6516720" y="1989000"/>
            <a:ext cx="135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0199295"/>
          <p:cNvPicPr/>
          <p:nvPr/>
        </p:nvPicPr>
        <p:blipFill>
          <a:blip r:embed="rId1"/>
          <a:stretch/>
        </p:blipFill>
        <p:spPr>
          <a:xfrm>
            <a:off x="5791320" y="114300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j0232843"/>
          <p:cNvPicPr/>
          <p:nvPr/>
        </p:nvPicPr>
        <p:blipFill>
          <a:blip r:embed="rId2"/>
          <a:stretch/>
        </p:blipFill>
        <p:spPr>
          <a:xfrm>
            <a:off x="179280" y="4437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j0232843"/>
          <p:cNvPicPr/>
          <p:nvPr/>
        </p:nvPicPr>
        <p:blipFill>
          <a:blip r:embed="rId3"/>
          <a:stretch/>
        </p:blipFill>
        <p:spPr>
          <a:xfrm>
            <a:off x="1143000" y="533412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0232843"/>
          <p:cNvPicPr/>
          <p:nvPr/>
        </p:nvPicPr>
        <p:blipFill>
          <a:blip r:embed="rId4"/>
          <a:stretch/>
        </p:blipFill>
        <p:spPr>
          <a:xfrm>
            <a:off x="2484360" y="479736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j0232843"/>
          <p:cNvPicPr/>
          <p:nvPr/>
        </p:nvPicPr>
        <p:blipFill>
          <a:blip r:embed="rId5"/>
          <a:stretch/>
        </p:blipFill>
        <p:spPr>
          <a:xfrm>
            <a:off x="1979640" y="35002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j0232843"/>
          <p:cNvPicPr/>
          <p:nvPr/>
        </p:nvPicPr>
        <p:blipFill>
          <a:blip r:embed="rId6"/>
          <a:stretch/>
        </p:blipFill>
        <p:spPr>
          <a:xfrm>
            <a:off x="324000" y="321300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j0232843"/>
          <p:cNvPicPr/>
          <p:nvPr/>
        </p:nvPicPr>
        <p:blipFill>
          <a:blip r:embed="rId7"/>
          <a:stretch/>
        </p:blipFill>
        <p:spPr>
          <a:xfrm>
            <a:off x="1692360" y="206064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10"/>
          <p:cNvSpPr txBox="1"/>
          <p:nvPr/>
        </p:nvSpPr>
        <p:spPr>
          <a:xfrm>
            <a:off x="4859280" y="4724280"/>
            <a:ext cx="3600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32af0"/>
                </a:solidFill>
                <a:latin typeface="Arial"/>
              </a:rPr>
              <a:t>9+1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32af0"/>
              </a:solidFill>
              <a:latin typeface="Arial"/>
              <a:ea typeface="Arial"/>
            </a:endParaRPr>
          </a:p>
        </p:txBody>
      </p:sp>
      <p:pic>
        <p:nvPicPr>
          <p:cNvPr id="199" name="Picture 11" descr="j0232843"/>
          <p:cNvPicPr/>
          <p:nvPr/>
        </p:nvPicPr>
        <p:blipFill>
          <a:blip r:embed="rId8"/>
          <a:stretch/>
        </p:blipFill>
        <p:spPr>
          <a:xfrm>
            <a:off x="1476360" y="765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j0232843"/>
          <p:cNvPicPr/>
          <p:nvPr/>
        </p:nvPicPr>
        <p:blipFill>
          <a:blip r:embed="rId9"/>
          <a:stretch/>
        </p:blipFill>
        <p:spPr>
          <a:xfrm>
            <a:off x="179280" y="1989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j0232843"/>
          <p:cNvPicPr/>
          <p:nvPr/>
        </p:nvPicPr>
        <p:blipFill>
          <a:blip r:embed="rId10"/>
          <a:stretch/>
        </p:blipFill>
        <p:spPr>
          <a:xfrm>
            <a:off x="0" y="69228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52434"/>
          <p:cNvPicPr/>
          <p:nvPr/>
        </p:nvPicPr>
        <p:blipFill>
          <a:blip r:embed="rId1"/>
          <a:stretch/>
        </p:blipFill>
        <p:spPr>
          <a:xfrm>
            <a:off x="3276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52434"/>
          <p:cNvPicPr/>
          <p:nvPr/>
        </p:nvPicPr>
        <p:blipFill>
          <a:blip r:embed="rId2"/>
          <a:stretch/>
        </p:blipFill>
        <p:spPr>
          <a:xfrm>
            <a:off x="4500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em_002"/>
          <p:cNvPicPr/>
          <p:nvPr/>
        </p:nvPicPr>
        <p:blipFill>
          <a:blip r:embed="rId3"/>
          <a:stretch/>
        </p:blipFill>
        <p:spPr>
          <a:xfrm>
            <a:off x="7470720" y="5084640"/>
            <a:ext cx="1673280" cy="1590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52434"/>
          <p:cNvPicPr/>
          <p:nvPr/>
        </p:nvPicPr>
        <p:blipFill>
          <a:blip r:embed="rId4"/>
          <a:stretch/>
        </p:blipFill>
        <p:spPr>
          <a:xfrm>
            <a:off x="2050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52434"/>
          <p:cNvPicPr/>
          <p:nvPr/>
        </p:nvPicPr>
        <p:blipFill>
          <a:blip r:embed="rId5"/>
          <a:stretch/>
        </p:blipFill>
        <p:spPr>
          <a:xfrm>
            <a:off x="826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52434"/>
          <p:cNvPicPr/>
          <p:nvPr/>
        </p:nvPicPr>
        <p:blipFill>
          <a:blip r:embed="rId6"/>
          <a:stretch/>
        </p:blipFill>
        <p:spPr>
          <a:xfrm>
            <a:off x="4643280" y="2924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52434"/>
          <p:cNvPicPr/>
          <p:nvPr/>
        </p:nvPicPr>
        <p:blipFill>
          <a:blip r:embed="rId7"/>
          <a:stretch/>
        </p:blipFill>
        <p:spPr>
          <a:xfrm>
            <a:off x="3419640" y="2708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52434"/>
          <p:cNvPicPr/>
          <p:nvPr/>
        </p:nvPicPr>
        <p:blipFill>
          <a:blip r:embed="rId8"/>
          <a:stretch/>
        </p:blipFill>
        <p:spPr>
          <a:xfrm>
            <a:off x="2195640" y="2421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52434"/>
          <p:cNvPicPr/>
          <p:nvPr/>
        </p:nvPicPr>
        <p:blipFill>
          <a:blip r:embed="rId9"/>
          <a:stretch/>
        </p:blipFill>
        <p:spPr>
          <a:xfrm>
            <a:off x="971640" y="213372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lem_002"/>
          <p:cNvPicPr/>
          <p:nvPr/>
        </p:nvPicPr>
        <p:blipFill>
          <a:blip r:embed="rId10"/>
          <a:stretch/>
        </p:blipFill>
        <p:spPr>
          <a:xfrm>
            <a:off x="5651640" y="5084640"/>
            <a:ext cx="1672920" cy="15908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9"/>
          <p:cNvSpPr txBox="1"/>
          <p:nvPr/>
        </p:nvSpPr>
        <p:spPr>
          <a:xfrm>
            <a:off x="1332000" y="5013360"/>
            <a:ext cx="273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+2=10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3" descr="56"/>
          <p:cNvPicPr/>
          <p:nvPr/>
        </p:nvPicPr>
        <p:blipFill>
          <a:blip r:embed="rId1"/>
          <a:stretch/>
        </p:blipFill>
        <p:spPr>
          <a:xfrm>
            <a:off x="4284720" y="2565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755640" y="189000"/>
            <a:ext cx="4876920" cy="6121440"/>
          </a:xfrm>
          <a:prstGeom prst="upArrow">
            <a:avLst>
              <a:gd name="adj1" fmla="val 88611"/>
              <a:gd name="adj2" fmla="val 323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042920" y="1700280"/>
            <a:ext cx="439272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132000" y="1700280"/>
            <a:ext cx="0" cy="460836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1042920" y="2492280"/>
            <a:ext cx="432108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042920" y="335772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1042920" y="422100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1042920" y="530064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4854960" y="260280"/>
            <a:ext cx="38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Игра «Засели домик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084720" y="3213000"/>
            <a:ext cx="226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м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WordArt 23"/>
          <p:cNvSpPr txBox="1"/>
          <p:nvPr/>
        </p:nvSpPr>
        <p:spPr>
          <a:xfrm>
            <a:off x="2700360" y="476280"/>
            <a:ext cx="93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0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1835280" y="1773360"/>
            <a:ext cx="45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1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7" name="WordArt 25"/>
          <p:cNvSpPr txBox="1"/>
          <p:nvPr/>
        </p:nvSpPr>
        <p:spPr>
          <a:xfrm>
            <a:off x="4067280" y="1773360"/>
            <a:ext cx="58104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26"/>
          <p:cNvSpPr txBox="1"/>
          <p:nvPr/>
        </p:nvSpPr>
        <p:spPr>
          <a:xfrm>
            <a:off x="1908000" y="2565360"/>
            <a:ext cx="5432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8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27"/>
          <p:cNvSpPr txBox="1"/>
          <p:nvPr/>
        </p:nvSpPr>
        <p:spPr>
          <a:xfrm>
            <a:off x="4067280" y="2565360"/>
            <a:ext cx="583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0" name="WordArt 28"/>
          <p:cNvSpPr txBox="1"/>
          <p:nvPr/>
        </p:nvSpPr>
        <p:spPr>
          <a:xfrm>
            <a:off x="1908000" y="3429000"/>
            <a:ext cx="547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4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1" name="WordArt 29"/>
          <p:cNvSpPr txBox="1"/>
          <p:nvPr/>
        </p:nvSpPr>
        <p:spPr>
          <a:xfrm>
            <a:off x="4067280" y="3429000"/>
            <a:ext cx="50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30" descr="cccft"/>
          <p:cNvPicPr/>
          <p:nvPr/>
        </p:nvPicPr>
        <p:blipFill>
          <a:blip r:embed="rId1"/>
          <a:stretch/>
        </p:blipFill>
        <p:spPr>
          <a:xfrm>
            <a:off x="5867280" y="83664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3"/>
          <p:cNvSpPr/>
          <p:nvPr/>
        </p:nvSpPr>
        <p:spPr>
          <a:xfrm>
            <a:off x="1692360" y="4149720"/>
            <a:ext cx="116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2079720" y="505476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3925440" y="50846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40"/>
          <p:cNvSpPr txBox="1"/>
          <p:nvPr/>
        </p:nvSpPr>
        <p:spPr>
          <a:xfrm>
            <a:off x="4067280" y="4365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5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7" name="WordArt 41"/>
          <p:cNvSpPr txBox="1"/>
          <p:nvPr/>
        </p:nvSpPr>
        <p:spPr>
          <a:xfrm>
            <a:off x="1979640" y="5373720"/>
            <a:ext cx="4730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7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Учить считать до 10; последовательно знакомить с образованием числа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Совершенствовать умение считать в прямом и обратном порядке (в пределах 10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3" descr="56"/>
          <p:cNvPicPr/>
          <p:nvPr/>
        </p:nvPicPr>
        <p:blipFill>
          <a:blip r:embed="rId1"/>
          <a:stretch/>
        </p:blipFill>
        <p:spPr>
          <a:xfrm>
            <a:off x="3564000" y="2060640"/>
            <a:ext cx="1708200" cy="28112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4"/>
          <p:cNvSpPr/>
          <p:nvPr/>
        </p:nvSpPr>
        <p:spPr>
          <a:xfrm>
            <a:off x="4999320" y="62578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4837320" y="582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853080" y="522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283200" y="4818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74968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025720" y="380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1487520" y="3305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75744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97000" y="22255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cccft"/>
          <p:cNvPicPr/>
          <p:nvPr/>
        </p:nvPicPr>
        <p:blipFill>
          <a:blip r:embed="rId2"/>
          <a:stretch/>
        </p:blipFill>
        <p:spPr>
          <a:xfrm>
            <a:off x="457200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rels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597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294000" y="987480"/>
            <a:ext cx="8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2700360" y="1125360"/>
            <a:ext cx="2016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2843280" y="1125000"/>
            <a:ext cx="187308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969080" y="19692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88720" y="3213000"/>
            <a:ext cx="36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П   ТЬ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125800" y="321300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197440" y="3213000"/>
            <a:ext cx="10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3" descr="200809220907390"/>
          <p:cNvPicPr/>
          <p:nvPr/>
        </p:nvPicPr>
        <p:blipFill>
          <a:blip r:embed="rId2"/>
          <a:stretch/>
        </p:blipFill>
        <p:spPr>
          <a:xfrm>
            <a:off x="4867200" y="476280"/>
            <a:ext cx="4276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3" descr="56"/>
          <p:cNvPicPr/>
          <p:nvPr/>
        </p:nvPicPr>
        <p:blipFill>
          <a:blip r:embed="rId1"/>
          <a:stretch/>
        </p:blipFill>
        <p:spPr>
          <a:xfrm>
            <a:off x="2987640" y="155736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0" descr="медведь3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2"/>
          <p:cNvSpPr/>
          <p:nvPr/>
        </p:nvSpPr>
        <p:spPr>
          <a:xfrm>
            <a:off x="4675320" y="1484280"/>
            <a:ext cx="9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9 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508720" y="155736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6129000" y="155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672440" y="220500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8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525640" y="220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6200640" y="227664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672440" y="306864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7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5596920" y="3068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6129000" y="299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672440" y="371628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6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5668560" y="371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6337440" y="371628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643280" y="4437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5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5"/>
          <p:cNvSpPr/>
          <p:nvPr/>
        </p:nvSpPr>
        <p:spPr>
          <a:xfrm>
            <a:off x="5525640" y="4387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6"/>
          <p:cNvSpPr/>
          <p:nvPr/>
        </p:nvSpPr>
        <p:spPr>
          <a:xfrm>
            <a:off x="6264360" y="443700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37"/>
          <p:cNvSpPr txBox="1"/>
          <p:nvPr/>
        </p:nvSpPr>
        <p:spPr>
          <a:xfrm>
            <a:off x="1187280" y="476280"/>
            <a:ext cx="69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могите    Винни     Пуху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250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55818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22" descr="56"/>
          <p:cNvPicPr/>
          <p:nvPr/>
        </p:nvPicPr>
        <p:blipFill>
          <a:blip r:embed="rId1"/>
          <a:stretch/>
        </p:blipFill>
        <p:spPr>
          <a:xfrm>
            <a:off x="2411280" y="105264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3" descr="cccft"/>
          <p:cNvPicPr/>
          <p:nvPr/>
        </p:nvPicPr>
        <p:blipFill>
          <a:blip r:embed="rId2"/>
          <a:stretch/>
        </p:blipFill>
        <p:spPr>
          <a:xfrm>
            <a:off x="471636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52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1941120" y="148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5"/>
          <p:cNvSpPr/>
          <p:nvPr/>
        </p:nvSpPr>
        <p:spPr>
          <a:xfrm flipH="1">
            <a:off x="1547640" y="2133720"/>
            <a:ext cx="648000" cy="57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2195640" y="2205000"/>
            <a:ext cx="504720" cy="5032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473120" y="25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624040" y="238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1796760" y="3805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 flipH="1">
            <a:off x="1476360" y="4437000"/>
            <a:ext cx="57456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1"/>
          <p:cNvSpPr/>
          <p:nvPr/>
        </p:nvSpPr>
        <p:spPr>
          <a:xfrm>
            <a:off x="2124000" y="443700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1326960" y="49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463840" y="48690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5775480" y="1233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>
            <a:off x="5364000" y="1773360"/>
            <a:ext cx="72072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6084720" y="1844640"/>
            <a:ext cx="64800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52894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67276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949360" y="3753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1"/>
          <p:cNvSpPr/>
          <p:nvPr/>
        </p:nvSpPr>
        <p:spPr>
          <a:xfrm flipH="1">
            <a:off x="5579640" y="429264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2"/>
          <p:cNvSpPr/>
          <p:nvPr/>
        </p:nvSpPr>
        <p:spPr>
          <a:xfrm>
            <a:off x="6227640" y="4292640"/>
            <a:ext cx="576360" cy="6490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5359320" y="476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6727680" y="468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WordArt 25"/>
          <p:cNvSpPr txBox="1"/>
          <p:nvPr/>
        </p:nvSpPr>
        <p:spPr>
          <a:xfrm>
            <a:off x="1403280" y="33336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 числ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4" name="Picture 27" descr="410"/>
          <p:cNvPicPr/>
          <p:nvPr/>
        </p:nvPicPr>
        <p:blipFill>
          <a:blip r:embed="rId1"/>
          <a:stretch/>
        </p:blipFill>
        <p:spPr>
          <a:xfrm>
            <a:off x="3059280" y="2903400"/>
            <a:ext cx="2376360" cy="20383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26"/>
          <p:cNvSpPr/>
          <p:nvPr/>
        </p:nvSpPr>
        <p:spPr>
          <a:xfrm>
            <a:off x="3492360" y="5013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1"/>
          <p:cNvSpPr/>
          <p:nvPr/>
        </p:nvSpPr>
        <p:spPr>
          <a:xfrm flipH="1">
            <a:off x="3563640" y="5589720"/>
            <a:ext cx="43164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2"/>
          <p:cNvSpPr/>
          <p:nvPr/>
        </p:nvSpPr>
        <p:spPr>
          <a:xfrm>
            <a:off x="4067280" y="5589720"/>
            <a:ext cx="57600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2931840" y="587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450072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147816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212580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55105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22" descr="56"/>
          <p:cNvPicPr/>
          <p:nvPr/>
        </p:nvPicPr>
        <p:blipFill>
          <a:blip r:embed="rId1"/>
          <a:stretch/>
        </p:blipFill>
        <p:spPr>
          <a:xfrm>
            <a:off x="1692360" y="54936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cccft"/>
          <p:cNvPicPr/>
          <p:nvPr/>
        </p:nvPicPr>
        <p:blipFill>
          <a:blip r:embed="rId2"/>
          <a:stretch/>
        </p:blipFill>
        <p:spPr>
          <a:xfrm>
            <a:off x="4859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284508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2" descr="56"/>
          <p:cNvPicPr/>
          <p:nvPr/>
        </p:nvPicPr>
        <p:blipFill>
          <a:blip r:embed="rId1"/>
          <a:stretch/>
        </p:blipFill>
        <p:spPr>
          <a:xfrm>
            <a:off x="1116000" y="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3" descr="cccft"/>
          <p:cNvPicPr/>
          <p:nvPr/>
        </p:nvPicPr>
        <p:blipFill>
          <a:blip r:embed="rId2"/>
          <a:stretch/>
        </p:blipFill>
        <p:spPr>
          <a:xfrm>
            <a:off x="4859280" y="26028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415520" y="404640"/>
            <a:ext cx="548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9=1=10 (с.)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535120" y="2865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166760" y="1890720"/>
            <a:ext cx="62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Ответ: 10 с.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7" descr="Незнайка3"/>
          <p:cNvPicPr/>
          <p:nvPr/>
        </p:nvPicPr>
        <p:blipFill>
          <a:blip r:embed="rId1"/>
          <a:stretch/>
        </p:blipFill>
        <p:spPr>
          <a:xfrm>
            <a:off x="285840" y="3068640"/>
            <a:ext cx="27018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2" descr="56"/>
          <p:cNvPicPr/>
          <p:nvPr/>
        </p:nvPicPr>
        <p:blipFill>
          <a:blip r:embed="rId1"/>
          <a:stretch/>
        </p:blipFill>
        <p:spPr>
          <a:xfrm>
            <a:off x="539640" y="-171360"/>
            <a:ext cx="1444680" cy="2376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4" descr="book"/>
          <p:cNvPicPr/>
          <p:nvPr/>
        </p:nvPicPr>
        <p:blipFill>
          <a:blip r:embed="rId2"/>
          <a:stretch/>
        </p:blipFill>
        <p:spPr>
          <a:xfrm>
            <a:off x="0" y="404640"/>
            <a:ext cx="849240" cy="739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5" descr="PARTY2"/>
          <p:cNvPicPr/>
          <p:nvPr/>
        </p:nvPicPr>
        <p:blipFill>
          <a:blip r:embed="rId3"/>
          <a:stretch/>
        </p:blipFill>
        <p:spPr>
          <a:xfrm>
            <a:off x="4572000" y="3141720"/>
            <a:ext cx="4392720" cy="3549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6" descr="cccft"/>
          <p:cNvPicPr/>
          <p:nvPr/>
        </p:nvPicPr>
        <p:blipFill>
          <a:blip r:embed="rId4"/>
          <a:stretch/>
        </p:blipFill>
        <p:spPr>
          <a:xfrm>
            <a:off x="5913360" y="0"/>
            <a:ext cx="32306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990720" y="380880"/>
            <a:ext cx="7548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02506"/>
                </a:solidFill>
                <a:latin typeface="Arial"/>
              </a:rPr>
              <a:t>Назовите числа, которые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02506"/>
                </a:solidFill>
                <a:latin typeface="Arial"/>
              </a:rPr>
              <a:t>стоят между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e02506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e02506"/>
                </a:solidFill>
                <a:latin typeface="Arial"/>
              </a:rPr>
              <a:t>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2666880" y="2590920"/>
            <a:ext cx="72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248520" y="2514600"/>
            <a:ext cx="72072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5" descr="gggh"/>
          <p:cNvPicPr/>
          <p:nvPr/>
        </p:nvPicPr>
        <p:blipFill>
          <a:blip r:embed="rId1"/>
          <a:stretch/>
        </p:blipFill>
        <p:spPr>
          <a:xfrm>
            <a:off x="468360" y="1752480"/>
            <a:ext cx="1958760" cy="2900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66680" y="5029200"/>
            <a:ext cx="7102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3, 4, 5, 6, 7, 8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PARTY2"/>
          <p:cNvPicPr/>
          <p:nvPr/>
        </p:nvPicPr>
        <p:blipFill>
          <a:blip r:embed="rId1"/>
          <a:stretch/>
        </p:blipFill>
        <p:spPr>
          <a:xfrm>
            <a:off x="1187280" y="1390680"/>
            <a:ext cx="5905800" cy="47736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3"/>
          <p:cNvSpPr/>
          <p:nvPr/>
        </p:nvSpPr>
        <p:spPr>
          <a:xfrm>
            <a:off x="2133720" y="304920"/>
            <a:ext cx="53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олодцы 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по секрету всему свету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морячка.mp3" descr=""/>
          <p:cNvPicPr/>
          <p:nvPr/>
        </p:nvPicPr>
        <p:blipFill>
          <a:blip r:embed="rId3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93779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40240" y="228600"/>
            <a:ext cx="767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2506"/>
                </a:solidFill>
                <a:latin typeface="Arial"/>
              </a:rPr>
              <a:t>Назовите предыдущее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2506"/>
                </a:solidFill>
                <a:latin typeface="Arial"/>
              </a:rPr>
              <a:t>и последующее число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050920" y="2492280"/>
          <a:ext cx="5185080" cy="2376720"/>
        </p:xfrm>
        <a:graphic>
          <a:graphicData uri="http://schemas.openxmlformats.org/drawingml/2006/table">
            <a:tbl>
              <a:tblPr/>
              <a:tblGrid>
                <a:gridCol w="1513080"/>
                <a:gridCol w="1728720"/>
                <a:gridCol w="1943280"/>
              </a:tblGrid>
              <a:tr h="23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WordArt 23"/>
          <p:cNvSpPr txBox="1"/>
          <p:nvPr/>
        </p:nvSpPr>
        <p:spPr>
          <a:xfrm>
            <a:off x="4114800" y="2971800"/>
            <a:ext cx="6764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2514600" y="2971800"/>
            <a:ext cx="838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5791320" y="28954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2514600" y="2819520"/>
            <a:ext cx="838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3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5943600" y="2971800"/>
            <a:ext cx="7621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исло потерялос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3716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0384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13716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27432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533412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67816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67816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533412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40384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27432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hju"/>
          <p:cNvPicPr/>
          <p:nvPr/>
        </p:nvPicPr>
        <p:blipFill>
          <a:blip r:embed="rId1"/>
          <a:stretch/>
        </p:blipFill>
        <p:spPr>
          <a:xfrm>
            <a:off x="-457200" y="3716280"/>
            <a:ext cx="3543480" cy="4908600"/>
          </a:xfrm>
          <a:prstGeom prst="rect">
            <a:avLst/>
          </a:prstGeom>
          <a:ln w="0">
            <a:noFill/>
          </a:ln>
        </p:spPr>
      </p:pic>
      <p:pic>
        <p:nvPicPr>
          <p:cNvPr id="69" name="морячка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4"/>
          <p:cNvSpPr/>
          <p:nvPr/>
        </p:nvSpPr>
        <p:spPr>
          <a:xfrm>
            <a:off x="68025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145880" y="762120"/>
            <a:ext cx="740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Какое число называю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при счете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1800" y="2514600"/>
            <a:ext cx="46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еред число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6012000" y="2438280"/>
            <a:ext cx="12967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4" name="Picture 5" descr="аааааааунок1"/>
          <p:cNvPicPr/>
          <p:nvPr/>
        </p:nvPicPr>
        <p:blipFill>
          <a:blip r:embed="rId1"/>
          <a:stretch/>
        </p:blipFill>
        <p:spPr>
          <a:xfrm>
            <a:off x="1219320" y="41148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7697880" y="26668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3962520" y="4191120"/>
            <a:ext cx="6760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мышь се"/>
          <p:cNvPicPr/>
          <p:nvPr/>
        </p:nvPicPr>
        <p:blipFill>
          <a:blip r:embed="rId1"/>
          <a:stretch/>
        </p:blipFill>
        <p:spPr>
          <a:xfrm>
            <a:off x="324000" y="1447920"/>
            <a:ext cx="3052440" cy="4573440"/>
          </a:xfrm>
          <a:prstGeom prst="rect">
            <a:avLst/>
          </a:prstGeom>
          <a:ln w="0">
            <a:noFill/>
          </a:ln>
        </p:spPr>
      </p:pic>
      <p:sp>
        <p:nvSpPr>
          <p:cNvPr id="78" name="WordArt 11"/>
          <p:cNvSpPr txBox="1"/>
          <p:nvPr/>
        </p:nvSpPr>
        <p:spPr>
          <a:xfrm>
            <a:off x="4284720" y="1700280"/>
            <a:ext cx="37432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9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2" descr="56"/>
          <p:cNvPicPr/>
          <p:nvPr/>
        </p:nvPicPr>
        <p:blipFill>
          <a:blip r:embed="rId1"/>
          <a:stretch/>
        </p:blipFill>
        <p:spPr>
          <a:xfrm>
            <a:off x="6372360" y="4046400"/>
            <a:ext cx="1707840" cy="2811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2" descr="cccft"/>
          <p:cNvPicPr/>
          <p:nvPr/>
        </p:nvPicPr>
        <p:blipFill>
          <a:blip r:embed="rId2"/>
          <a:stretch/>
        </p:blipFill>
        <p:spPr>
          <a:xfrm>
            <a:off x="485928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3" descr="book"/>
          <p:cNvPicPr/>
          <p:nvPr/>
        </p:nvPicPr>
        <p:blipFill>
          <a:blip r:embed="rId3"/>
          <a:stretch/>
        </p:blipFill>
        <p:spPr>
          <a:xfrm>
            <a:off x="0" y="260280"/>
            <a:ext cx="16556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90720" y="1600200"/>
            <a:ext cx="3581280" cy="3657600"/>
          </a:xfrm>
          <a:prstGeom prst="rect">
            <a:avLst/>
          </a:prstGeom>
          <a:solidFill>
            <a:srgbClr val="ffce9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572000" y="1600200"/>
            <a:ext cx="3581280" cy="3657600"/>
          </a:xfrm>
          <a:prstGeom prst="rect">
            <a:avLst/>
          </a:prstGeom>
          <a:solidFill>
            <a:srgbClr val="ffce9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"/>
          <p:cNvSpPr/>
          <p:nvPr/>
        </p:nvSpPr>
        <p:spPr>
          <a:xfrm rot="858600">
            <a:off x="6248160" y="1599840"/>
            <a:ext cx="1752480" cy="3657600"/>
          </a:xfrm>
          <a:prstGeom prst="ellipse">
            <a:avLst/>
          </a:prstGeom>
          <a:solidFill>
            <a:srgbClr val="ffce9d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666880" y="1599840"/>
            <a:ext cx="1905120" cy="167652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2666880" y="1600200"/>
            <a:ext cx="1905120" cy="365760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25909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441972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2 -0.23334 E">
                                      <p:cBhvr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2 0.51112 E">
                                      <p:cBhvr>
                                        <p:cTn id="18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C -0.00521 -0.00139 -0.01649 -0.00254 -0.02291 -0.00185 C -0.02934 -0.00116 -0.03281 0.00046 -0.03906 0.00371 C -0.04531 0.00695 -0.05468 0.0125 -0.06076 0.01806 C -0.06684 0.02361 -0.07083 0.03125 -0.07569 0.03773 C -0.08055 0.04421 -0.08524 0.04954 -0.09045 0.05764 C -0.09566 0.06574 -0.10208 0.07639 -0.10677 0.08658 C -0.11146 0.09676 -0.11371 0.10347 -0.11892 0.11898 C -0.12413 0.13449 -0.13177 0.15625 -0.13784 0.18009 C -0.14392 0.20394 -0.15156 0.2382 -0.15538 0.26134 C -0.1592 0.28449 -0.15972 0.30185 -0.16076 0.31898 C -0.1618 0.33611 -0.16232 0.34977 -0.16215 0.36389 C -0.16198 0.37801 -0.16093 0.39121 -0.15937 0.40371 C -0.15781 0.41621 -0.15521 0.42801 -0.1526 0.43959 C -0.15 0.45116 -0.14774 0.46389 -0.14323 0.47384 C -0.13871 0.4838 -0.13021 0.49329 -0.12569 0.49908 C -0.12118 0.50486 -0.11892 0.50579 -0.11614 0.5081 C -0.11336 0.51042 -0.11302 0.51204 -0.10937 0.51343 C -0.10573 0.51482 -0.0993 0.51644 -0.09444 0.51713 C -0.08958 0.51783 -0.08524 0.51921 -0.07968 0.51713 C -0.07413 0.51505 -0.06632 0.50903 -0.06076 0.5044 C -0.05521 0.49977 -0.0533 0.49908 -0.04583 0.49005 C -0.03836 0.48102 -0.02378 0.46389 -0.01614 0.45046 C -0.0085 0.43704 -0.00607 0.42361 -3.05556E-006 0.40903 C 0.00608 0.39445 0.01528 0.37662 0.02032 0.36227 C 0.02535 0.34792 0.02674 0.33658 0.02986 0.32246 C 0.03299 0.30834 0.03629 0.29514 0.03924 0.27755 C 0.04219 0.25996 0.04584 0.23403 0.0474 0.21621 C 0.04896 0.19838 0.04861 0.18334 0.04879 0.17107 C 0.04896 0.1588 0.04931 0.15371 0.04879 0.14236 C 0.04827 0.13102 0.0474 0.11412 0.04601 0.10278 C 0.04462 0.09144 0.04271 0.08287 0.04063 0.07384 C 0.03854 0.06482 0.03664 0.05602 0.03386 0.04861 C 0.03108 0.04121 0.02691 0.03472 0.02431 0.02894 C 0.0217 0.02315 0.02032 0.01806 0.01771 0.01435 C 0.01511 0.01065 0.01111 0.01019 0.00816 0.00718 C 0.00521 0.00417 0.00521 0.00139 -3.05556E-006 -1.85185E-006 Z">
                                      <p:cBhvr>
                                        <p:cTn id="1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9:17Z</dcterms:created>
  <dc:creator>1</dc:creator>
  <dc:description/>
  <dc:language>en-US</dc:language>
  <cp:lastModifiedBy>1</cp:lastModifiedBy>
  <dcterms:modified xsi:type="dcterms:W3CDTF">2015-03-20T06:20:11Z</dcterms:modified>
  <cp:revision>36</cp:revision>
  <dc:subject/>
  <dc:title>Презентация PowerPoint</dc:title>
</cp:coreProperties>
</file>