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37EB-9EF6-4661-BBA7-FE94407BE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597-9B1D-4C22-BB1B-1ABF875C03F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D6BF-549D-4DDC-9E11-074F63834AC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8049-19BB-4478-B5BE-BF71863B8D0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A4E-D55A-491A-B446-712A0FF9816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5B5-AE83-448D-B039-A6616250E18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FB2-6D9F-425E-B2F6-43BBBDFB54C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A4D7-28F8-456A-B793-7C2A1372290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341-81CC-41E2-8368-D7F2D5FDD4A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807D-2D18-4D75-B7C5-11A9786B726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C887-B1AA-4052-89C0-9D53BF1B08F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3CF-1BE2-4FE1-991F-893AC1C7BD5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76E-59D9-4CF7-A4FD-A00B26BBE2F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BC4-4A64-4B41-81B3-952B7A97969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551-A91F-478F-89E0-2D7A13F9451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3AD9-403F-40CB-B7F6-CA3A787FD05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CF7C-F9E1-4F5A-BB07-25A8C2B2663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677-0C6C-49FB-AD78-4C4FC70E9B6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944C-45DA-4BFD-A2FA-95EFFA37685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B55-D1CF-42F6-90FC-F6854A3AAFF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468-C221-48EF-9B8A-3438D05B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1CE-140C-4F39-AD51-7C530DA3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768-984E-422C-97C7-345D179E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0F5-DC66-420F-9FE5-79B426D1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6F9C-E7E6-4A48-808F-1F06C402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DF8-37FC-43B8-B169-63109AC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DD1-0D60-4452-9FC0-AC5DE564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F782-032C-4DC3-A1E5-2327ED48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5E8B-1607-4AB5-83A5-3F836B1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74C2-4B8F-4F37-B6D3-F4EFBB7F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42F2-14A0-45A8-B640-BFAA3CD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F09-B625-489F-9FDC-E4DF3A88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5F7-B207-4284-9B85-A100671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AB2-D456-4785-80C1-0285D5C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F6E-979D-42CB-B5CF-D0C66BBE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6E81-6215-41A8-B977-42D3FA9E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B491-AF29-411C-A771-3F3E2783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569-A869-493B-BD9B-0B747FF6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09E-80B1-41FD-911B-CC4B102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500-0234-4524-BA1B-5943BF3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207-ED4A-4C63-8908-BB67D1BE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EA0-21DA-4AE9-9A57-7A17FBDB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2A8-9C8B-4FDC-844C-C173A903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FA4-D70B-48DA-A10C-36CB50D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BF59-BB77-4F2D-A9F5-7A180E8C7F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>
                        <a:gd name="textAreaLeft" fmla="*/ 0 w 2236320"/>
                        <a:gd name="textAreaRight" fmla="*/ 2236680 w 223632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>
                        <a:gd name="textAreaLeft" fmla="*/ 0 w 1201320"/>
                        <a:gd name="textAreaRight" fmla="*/ 1201680 w 120132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>
                        <a:gd name="textAreaLeft" fmla="*/ 0 w 2139840"/>
                        <a:gd name="textAreaRight" fmla="*/ 2140200 w 213984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>
                        <a:gd name="textAreaLeft" fmla="*/ 0 w 1148760"/>
                        <a:gd name="textAreaRight" fmla="*/ 1149120 w 114876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>
                        <a:gd name="textAreaLeft" fmla="*/ 360 w 2236320"/>
                        <a:gd name="textAreaRight" fmla="*/ 2237040 w 223632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>
                        <a:gd name="textAreaLeft" fmla="*/ -360 w 1201320"/>
                        <a:gd name="textAreaRight" fmla="*/ 1201320 w 120132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>
                        <a:gd name="textAreaLeft" fmla="*/ 360 w 1905120"/>
                        <a:gd name="textAreaRight" fmla="*/ 1905840 w 190512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>
                        <a:gd name="textAreaLeft" fmla="*/ -360 w 1024200"/>
                        <a:gd name="textAreaRight" fmla="*/ 1024200 w 10242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>
                        <a:gd name="textAreaLeft" fmla="*/ -360 w 1521000"/>
                        <a:gd name="textAreaRight" fmla="*/ 1521000 w 15210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>
                        <a:gd name="textAreaLeft" fmla="*/ -360 w 816840"/>
                        <a:gd name="textAreaRight" fmla="*/ 816840 w 81684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>
                        <a:gd name="textAreaLeft" fmla="*/ 360 w 1355760"/>
                        <a:gd name="textAreaRight" fmla="*/ 1356480 w 1355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>
                        <a:gd name="textAreaLeft" fmla="*/ -360 w 1307160"/>
                        <a:gd name="textAreaRight" fmla="*/ 1307160 w 13071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>
                        <a:gd name="textAreaLeft" fmla="*/ -360 w 702360"/>
                        <a:gd name="textAreaRight" fmla="*/ 702360 w 70236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>
                        <a:gd name="textAreaLeft" fmla="*/ 0 w 816840"/>
                        <a:gd name="textAreaRight" fmla="*/ 817200 w 81684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>
                        <a:gd name="textAreaLeft" fmla="*/ 0 w 815760"/>
                        <a:gd name="textAreaRight" fmla="*/ 816120 w 8157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>
                      <a:gd name="textAreaLeft" fmla="*/ 360 w 1265040"/>
                      <a:gd name="textAreaRight" fmla="*/ 1265760 w 12650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7160"/>
                        <a:gd name="textAreaBottom" fmla="*/ 227520 h 227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000"/>
                        <a:gd name="textAreaBottom" fmla="*/ 522360 h 522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3760"/>
                        <a:gd name="textAreaBottom" fmla="*/ 384120 h 383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2880"/>
                        <a:gd name="textAreaBottom" fmla="*/ 543240 h 542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>
                        <a:gd name="textAreaLeft" fmla="*/ 0 w 2034720"/>
                        <a:gd name="textAreaRight" fmla="*/ 2035080 w 2034720"/>
                        <a:gd name="textAreaTop" fmla="*/ 0 h 369000"/>
                        <a:gd name="textAreaBottom" fmla="*/ 369360 h 369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7440"/>
                        <a:gd name="textAreaBottom" fmla="*/ 577800 h 577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2520"/>
                        <a:gd name="textAreaBottom" fmla="*/ 362880 h 362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>
                      <a:gd name="textAreaLeft" fmla="*/ 0 w 3165840"/>
                      <a:gd name="textAreaRight" fmla="*/ 3166200 w 316584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>
                      <a:gd name="textAreaLeft" fmla="*/ -360 w 2486520"/>
                      <a:gd name="textAreaRight" fmla="*/ 2486520 w 248652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>
                      <a:gd name="textAreaLeft" fmla="*/ 360 w 3132720"/>
                      <a:gd name="textAreaRight" fmla="*/ 3133440 w 31327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>
                      <a:gd name="textAreaLeft" fmla="*/ -360 w 2282040"/>
                      <a:gd name="textAreaRight" fmla="*/ 2282040 w 22820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>
                  <a:gd name="textAreaLeft" fmla="*/ -360 w 543960"/>
                  <a:gd name="textAreaRight" fmla="*/ 543960 w 54396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A59-6F16-415C-B4AE-55650289FD49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Этих дней не смолкнет слав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203280" y="5229360"/>
            <a:ext cx="655308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БОУ Детский сад  №181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артынова  Г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isCAKYH7XQ"/>
          <p:cNvPicPr/>
          <p:nvPr/>
        </p:nvPicPr>
        <p:blipFill>
          <a:blip r:embed="rId1"/>
          <a:stretch/>
        </p:blipFill>
        <p:spPr>
          <a:xfrm>
            <a:off x="684360" y="4653000"/>
            <a:ext cx="1800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февраль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4" descr="isCAUJWDPI"/>
          <p:cNvPicPr/>
          <p:nvPr/>
        </p:nvPicPr>
        <p:blipFill>
          <a:blip r:embed="rId1"/>
          <a:stretch/>
        </p:blipFill>
        <p:spPr>
          <a:xfrm>
            <a:off x="1187280" y="4724280"/>
            <a:ext cx="1440000" cy="1844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isCA304JDS"/>
          <p:cNvPicPr/>
          <p:nvPr/>
        </p:nvPicPr>
        <p:blipFill>
          <a:blip r:embed="rId2"/>
          <a:stretch/>
        </p:blipFill>
        <p:spPr>
          <a:xfrm>
            <a:off x="6877080" y="4653000"/>
            <a:ext cx="165564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335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март-апрель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1: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Знакомить детей с художественной литературой о Великой Отечественной войн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занятий по тем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ставка детских работ по всем вида ИЗО деятельност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кскурсии к памятным местам Г.Тамбова, в музе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тречи с участниками Великой Отечественной войны, тружениками тыла, курсантами и офицерами военного училища, войнами-интернационалистам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17" descr="isCAD8JVTP"/>
          <p:cNvPicPr/>
          <p:nvPr/>
        </p:nvPicPr>
        <p:blipFill>
          <a:blip r:embed="rId1"/>
          <a:stretch/>
        </p:blipFill>
        <p:spPr>
          <a:xfrm>
            <a:off x="6877080" y="1844640"/>
            <a:ext cx="1942920" cy="1636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isCAL82XDA"/>
          <p:cNvPicPr/>
          <p:nvPr/>
        </p:nvPicPr>
        <p:blipFill>
          <a:blip r:embed="rId2"/>
          <a:stretch/>
        </p:blipFill>
        <p:spPr>
          <a:xfrm>
            <a:off x="6877080" y="3716280"/>
            <a:ext cx="201600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2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работка перспективного планирования по героико-патриотическому воспитанию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ведение семинаров и консультаций по проблеме проект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формление книжных уголков, чтение художественной и методической литерату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пуск альбома и папок-передвижек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Г-3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семейных проект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одительское собрание «Этих дней не смолкнет слава»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формление Книги памяти, по рассказам родителей о членах семей участниках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Picture 4" descr="isCAGV7253"/>
          <p:cNvPicPr/>
          <p:nvPr/>
        </p:nvPicPr>
        <p:blipFill>
          <a:blip r:embed="rId1"/>
          <a:stretch/>
        </p:blipFill>
        <p:spPr>
          <a:xfrm>
            <a:off x="6084720" y="5078520"/>
            <a:ext cx="1943280" cy="151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езультативный этап (май 2012 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озложение цветов к монументу «Самолет», «Вечный огонь»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аздник, посвященный Дню Победы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кетирование родителей и детей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ализ, обобщение и распространение результатов проекта: выступление на педсовете, разработка методических рекомендаций, размещение проекта в сети Интернет и п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12" descr="1"/>
          <p:cNvPicPr/>
          <p:nvPr/>
        </p:nvPicPr>
        <p:blipFill>
          <a:blip r:embed="rId1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анные методические рекомендации для педагогов по ознакомлению детей с героями Великой Отечественной войны, их подвигами, с жизнью в тылу, с традициями празднования Дня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истематизированный литературный и иллюстрированный материал по теме «ВОВ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оставленные конспекты занятий, досугов и праздников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формленные выставки детских работ, стенды, альбомы, папк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ктивное участие родителей в реализации и презентации проекта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анные рекомендации для родителей (какие книги читать детям, какие экспозиции в музеях доступны пониманию дошкольников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.Ю.Александрова, Е.П.Гордеева «Система патриотического воспитания в ДОУ». Изд. «Учитель». Волгоград. 2007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урнал «Ребенок в детском саду» №2 2007г., №2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 Днем Победы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is[6]"/>
          <p:cNvPicPr/>
          <p:nvPr/>
        </p:nvPicPr>
        <p:blipFill>
          <a:blip r:embed="rId1"/>
          <a:stretch/>
        </p:blipFill>
        <p:spPr>
          <a:xfrm>
            <a:off x="2556000" y="2924280"/>
            <a:ext cx="403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изна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дание единого образовательного пространства по теме проекта в семье и ДО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истематизация имеющегося опыта по теме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спользование инновационных технологий при реализации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спользование компьютерных технологий при обучении и контроле знани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isCACKC0PE"/>
          <p:cNvPicPr/>
          <p:nvPr/>
        </p:nvPicPr>
        <p:blipFill>
          <a:blip r:embed="rId1"/>
          <a:stretch/>
        </p:blipFill>
        <p:spPr>
          <a:xfrm>
            <a:off x="900000" y="1125360"/>
            <a:ext cx="2000520" cy="1717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sCANEUK1X"/>
          <p:cNvPicPr/>
          <p:nvPr/>
        </p:nvPicPr>
        <p:blipFill>
          <a:blip r:embed="rId2"/>
          <a:stretch/>
        </p:blipFill>
        <p:spPr>
          <a:xfrm>
            <a:off x="3348000" y="1052640"/>
            <a:ext cx="201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бобщить и расширить знаний детей о Великой Отечественно войне: городах-героях, героях войны, боевых наградах, о работе в тылу и т.д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работать систему воспитательно-образовательной работы по теме «ВОВ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едагогические принципы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амостоятельность дете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ятельностный подход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творчество детей и взрослых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Учет возрастных и индивидуальных особенностей дете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заимосвязь педагогического процесса с окружающей средой или социумом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8" descr="isCA1COQIA"/>
          <p:cNvPicPr/>
          <p:nvPr/>
        </p:nvPicPr>
        <p:blipFill>
          <a:blip r:embed="rId1"/>
          <a:stretch/>
        </p:blipFill>
        <p:spPr>
          <a:xfrm>
            <a:off x="3995640" y="4797360"/>
            <a:ext cx="25210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 rot="10800000">
            <a:off x="571320" y="1356840"/>
            <a:ext cx="3600360" cy="2735280"/>
          </a:xfrm>
          <a:prstGeom prst="wedgeEllipseCallout">
            <a:avLst>
              <a:gd name="adj1" fmla="val -53087"/>
              <a:gd name="adj2" fmla="val 36995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Теоретическая база проекта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Новицкая. Программа патриотического воспитания в детском саду «Наследие»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AutoShape 3"/>
          <p:cNvSpPr/>
          <p:nvPr/>
        </p:nvSpPr>
        <p:spPr>
          <a:xfrm rot="10800000">
            <a:off x="4858920" y="1340640"/>
            <a:ext cx="3691080" cy="2879640"/>
          </a:xfrm>
          <a:prstGeom prst="wedgeEllipseCallout">
            <a:avLst>
              <a:gd name="adj1" fmla="val 60449"/>
              <a:gd name="adj2" fmla="val 3743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Программно-методическое сопровождение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Методические рекомендации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Перспективное планирование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Консультативный материал для родителе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Подборка литературного материала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Сценарии спектаклей, развлечени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AutoShape 4"/>
          <p:cNvSpPr/>
          <p:nvPr/>
        </p:nvSpPr>
        <p:spPr>
          <a:xfrm rot="10800000">
            <a:off x="2555640" y="4428720"/>
            <a:ext cx="4105080" cy="2428920"/>
          </a:xfrm>
          <a:prstGeom prst="wedgeEllipseCallout">
            <a:avLst>
              <a:gd name="adj1" fmla="val 2703"/>
              <a:gd name="adj2" fmla="val 15326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Ресурсное обеспечение проекта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entury Gothic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Библиотека детской художественной литературы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оллекция атрибутов для создания различных образов и игровых ситуаций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ехнические средства: магнитофон, компьютер, принтер;, сканер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аглядный материал: плакаты, иллюстрации, картинки, видео и аудиокассеты, СД-диски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зультативная организация патриотического воспитания в ДОУ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50920" y="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езультативная организация патриотического воспитания в ДО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9" descr="isCABPTRWX"/>
          <p:cNvPicPr/>
          <p:nvPr/>
        </p:nvPicPr>
        <p:blipFill>
          <a:blip r:embed="rId1"/>
          <a:stretch/>
        </p:blipFill>
        <p:spPr>
          <a:xfrm>
            <a:off x="250920" y="4653000"/>
            <a:ext cx="1800000" cy="1942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is[3]"/>
          <p:cNvPicPr/>
          <p:nvPr/>
        </p:nvPicPr>
        <p:blipFill>
          <a:blip r:embed="rId2"/>
          <a:stretch/>
        </p:blipFill>
        <p:spPr>
          <a:xfrm>
            <a:off x="6948360" y="4508640"/>
            <a:ext cx="1944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Дет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специально организованная деятельность, совместная деятельность педагога и ребенка (подгруппы детей), самостоятельная детская деятельность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едагог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одители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Команда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ет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узыкальный руководител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5" descr="isCAQMAFJ4"/>
          <p:cNvPicPr/>
          <p:nvPr/>
        </p:nvPicPr>
        <p:blipFill>
          <a:blip r:embed="rId1"/>
          <a:stretch/>
        </p:blipFill>
        <p:spPr>
          <a:xfrm>
            <a:off x="5292720" y="2852640"/>
            <a:ext cx="2374920" cy="30132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6"/>
          <p:cNvSpPr/>
          <p:nvPr/>
        </p:nvSpPr>
        <p:spPr>
          <a:xfrm>
            <a:off x="324000" y="1916280"/>
            <a:ext cx="576000" cy="410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ГАЛИНА</cp:lastModifiedBy>
  <dcterms:modified xsi:type="dcterms:W3CDTF">2012-10-09T17:03:07Z</dcterms:modified>
  <cp:revision>12</cp:revision>
  <dc:subject/>
  <dc:title>«Этих дней не смолкнет слава»</dc:title>
</cp:coreProperties>
</file>