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658-DC95-409C-A015-7D9F7599D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091-91E6-4168-A981-631E125F506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6E2-5B6D-42E3-B0B0-61E92D7EF1C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AB8C-C2F5-4C33-969B-FD791838BE0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D9C1-C5B8-44C3-B524-D50DE1D009C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4248-B174-41FE-9D54-E5FD6245771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74E-E14C-4091-BBC7-699599EDAA2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9E17-B49A-441E-8096-2EA46E40363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2529-D05C-4EF1-84CC-3B6637B6BAA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067-6C04-4587-BACE-ACC0581FD4F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B51F-8698-4218-BF2E-C92C4E44F85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21C8-C578-4586-BB92-20AB90F8312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E013-381D-4A7D-B2D8-5A158B226E9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0F1F-27C6-4661-867D-DBBACD0AF21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1110-5369-46D2-9B8A-C7D7493A352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7B3E-F515-4C56-A36A-F58D68A3501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A3D-584B-42BB-856E-0093566C6C5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509B-52D5-4F9D-8D0E-0F30698F86E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1A00-D9CC-442E-BA57-063E95EB4E7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358-1F2B-49F9-A7AE-AE9705C74C4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8B8-6A1B-4463-8659-2FDCA6FC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26C-5241-4D60-AC5A-EE42E489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893-A5AD-4598-A931-0A88A590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321-1BA7-43B6-A02E-4E507D2F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A4E9-C953-45B5-B643-F46890F1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A055-48A0-456E-92E4-854DB717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2F68-2F29-49B9-9A42-4DF5BF6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ED9A-A64B-49AD-94B2-5E74A74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DA15-509C-4BF9-B470-93EFD4A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97E9-56F1-4C91-9619-CE1091E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4551-5801-4956-AD0C-09615B1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DB1-17A1-4D34-81A1-DCCAD6A1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5A02-1C70-420C-B346-ECF799A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EE2-7678-4EDF-B4BF-49F5E9F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E32-FF4E-4362-8DB4-22ABD8B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6544-6080-47D9-8913-CFF28461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7415-B9BB-419E-81AC-EE823314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74F-C101-4821-8E3F-5E895137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EB7-6BFF-4693-9126-593BE9A3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3B7-EF8A-4481-B5A1-A767E0F3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81F-87B0-482B-BB34-2D6E3EF8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D85-4DFC-4AAE-9F16-1DA7B88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BCF-EF18-4C07-A095-91BAF40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5E3-0DDB-4BC9-98FF-F2B698D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D0B3-3AA4-4775-90F8-B7A7811BAD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>
                        <a:gd name="textAreaLeft" fmla="*/ 0 w 2236320"/>
                        <a:gd name="textAreaRight" fmla="*/ 2236680 w 223632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>
                        <a:gd name="textAreaLeft" fmla="*/ 0 w 1201320"/>
                        <a:gd name="textAreaRight" fmla="*/ 1201680 w 120132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>
                        <a:gd name="textAreaLeft" fmla="*/ 0 w 2139840"/>
                        <a:gd name="textAreaRight" fmla="*/ 2140200 w 213984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>
                        <a:gd name="textAreaLeft" fmla="*/ 0 w 1148760"/>
                        <a:gd name="textAreaRight" fmla="*/ 1149120 w 114876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>
                        <a:gd name="textAreaLeft" fmla="*/ 360 w 2236320"/>
                        <a:gd name="textAreaRight" fmla="*/ 2237040 w 223632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>
                        <a:gd name="textAreaLeft" fmla="*/ -360 w 1201320"/>
                        <a:gd name="textAreaRight" fmla="*/ 1201320 w 120132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>
                        <a:gd name="textAreaLeft" fmla="*/ 360 w 1905120"/>
                        <a:gd name="textAreaRight" fmla="*/ 1905840 w 190512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>
                        <a:gd name="textAreaLeft" fmla="*/ -360 w 1024200"/>
                        <a:gd name="textAreaRight" fmla="*/ 1024200 w 10242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>
                        <a:gd name="textAreaLeft" fmla="*/ -360 w 1521000"/>
                        <a:gd name="textAreaRight" fmla="*/ 1521000 w 15210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>
                        <a:gd name="textAreaLeft" fmla="*/ -360 w 816840"/>
                        <a:gd name="textAreaRight" fmla="*/ 816840 w 81684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>
                        <a:gd name="textAreaLeft" fmla="*/ 360 w 1355760"/>
                        <a:gd name="textAreaRight" fmla="*/ 1356480 w 1355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>
                        <a:gd name="textAreaLeft" fmla="*/ -360 w 1307160"/>
                        <a:gd name="textAreaRight" fmla="*/ 1307160 w 13071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>
                        <a:gd name="textAreaLeft" fmla="*/ -360 w 702360"/>
                        <a:gd name="textAreaRight" fmla="*/ 702360 w 70236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>
                        <a:gd name="textAreaLeft" fmla="*/ 0 w 816840"/>
                        <a:gd name="textAreaRight" fmla="*/ 817200 w 81684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>
                        <a:gd name="textAreaLeft" fmla="*/ 0 w 815760"/>
                        <a:gd name="textAreaRight" fmla="*/ 816120 w 8157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>
                      <a:gd name="textAreaLeft" fmla="*/ 360 w 1265040"/>
                      <a:gd name="textAreaRight" fmla="*/ 1265760 w 12650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7160"/>
                        <a:gd name="textAreaBottom" fmla="*/ 227520 h 227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000"/>
                        <a:gd name="textAreaBottom" fmla="*/ 522360 h 522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3760"/>
                        <a:gd name="textAreaBottom" fmla="*/ 384120 h 383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2880"/>
                        <a:gd name="textAreaBottom" fmla="*/ 543240 h 542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>
                        <a:gd name="textAreaLeft" fmla="*/ 0 w 2034720"/>
                        <a:gd name="textAreaRight" fmla="*/ 2035080 w 2034720"/>
                        <a:gd name="textAreaTop" fmla="*/ 0 h 369000"/>
                        <a:gd name="textAreaBottom" fmla="*/ 369360 h 369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7440"/>
                        <a:gd name="textAreaBottom" fmla="*/ 577800 h 577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2520"/>
                        <a:gd name="textAreaBottom" fmla="*/ 362880 h 362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>
                      <a:gd name="textAreaLeft" fmla="*/ 0 w 3165840"/>
                      <a:gd name="textAreaRight" fmla="*/ 3166200 w 316584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>
                      <a:gd name="textAreaLeft" fmla="*/ -360 w 2486520"/>
                      <a:gd name="textAreaRight" fmla="*/ 2486520 w 248652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>
                      <a:gd name="textAreaLeft" fmla="*/ 360 w 3132720"/>
                      <a:gd name="textAreaRight" fmla="*/ 3133440 w 31327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>
                      <a:gd name="textAreaLeft" fmla="*/ -360 w 2282040"/>
                      <a:gd name="textAreaRight" fmla="*/ 2282040 w 22820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>
                  <a:gd name="textAreaLeft" fmla="*/ -360 w 543960"/>
                  <a:gd name="textAreaRight" fmla="*/ 543960 w 54396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FCA2-31CE-4946-B992-086CA0175DDA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Этих дней не смолкнет слав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203280" y="5229360"/>
            <a:ext cx="655308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БОУ Детский сад  №181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артынова  Г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isCAKYH7XQ"/>
          <p:cNvPicPr/>
          <p:nvPr/>
        </p:nvPicPr>
        <p:blipFill>
          <a:blip r:embed="rId1"/>
          <a:stretch/>
        </p:blipFill>
        <p:spPr>
          <a:xfrm>
            <a:off x="684360" y="4653000"/>
            <a:ext cx="1800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февраль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4" descr="isCAUJWDPI"/>
          <p:cNvPicPr/>
          <p:nvPr/>
        </p:nvPicPr>
        <p:blipFill>
          <a:blip r:embed="rId1"/>
          <a:stretch/>
        </p:blipFill>
        <p:spPr>
          <a:xfrm>
            <a:off x="1187280" y="4724280"/>
            <a:ext cx="1440000" cy="1844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isCA304JDS"/>
          <p:cNvPicPr/>
          <p:nvPr/>
        </p:nvPicPr>
        <p:blipFill>
          <a:blip r:embed="rId2"/>
          <a:stretch/>
        </p:blipFill>
        <p:spPr>
          <a:xfrm>
            <a:off x="6877080" y="4653000"/>
            <a:ext cx="165564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335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март-апрель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1: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Знакомить детей с художественной литературой о Великой Отечественной войн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занятий по тем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ставка детских работ по всем вида ИЗО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кскурсии к памятным местам Г.Тамбова, в музе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тречи с участниками Великой Отечественной войны, тружениками тыла, курсантами и офицерами военного училища, войнами-интернационалистам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17" descr="isCAD8JVTP"/>
          <p:cNvPicPr/>
          <p:nvPr/>
        </p:nvPicPr>
        <p:blipFill>
          <a:blip r:embed="rId1"/>
          <a:stretch/>
        </p:blipFill>
        <p:spPr>
          <a:xfrm>
            <a:off x="6877080" y="1844640"/>
            <a:ext cx="1942920" cy="163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isCAL82XDA"/>
          <p:cNvPicPr/>
          <p:nvPr/>
        </p:nvPicPr>
        <p:blipFill>
          <a:blip r:embed="rId2"/>
          <a:stretch/>
        </p:blipFill>
        <p:spPr>
          <a:xfrm>
            <a:off x="6877080" y="3716280"/>
            <a:ext cx="201600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2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работка перспективного планирования по героико-патриотическому воспитанию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семинаров и консультаций по проблеме проект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формление книжных уголков, чтение художественной и методической литерату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пуск альбома и папок-передвижек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3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емейных проек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одительское собрание «Этих дней не смолкнет слава»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формление Книги памяти, по рассказам родителей о членах семей участниках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4" descr="isCAGV7253"/>
          <p:cNvPicPr/>
          <p:nvPr/>
        </p:nvPicPr>
        <p:blipFill>
          <a:blip r:embed="rId1"/>
          <a:stretch/>
        </p:blipFill>
        <p:spPr>
          <a:xfrm>
            <a:off x="6084720" y="5078520"/>
            <a:ext cx="1943280" cy="151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езультативный этап (май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озложение цветов к монументу «Самолет», «Вечный огонь»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аздник, посвященный Дню Победы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кетирование родителей и детей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ализ, обобщение и распространение результатов проекта: выступление на педсовете, разработка методических рекомендаций, размещение проекта в сети Интернет и п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12" descr="1"/>
          <p:cNvPicPr/>
          <p:nvPr/>
        </p:nvPicPr>
        <p:blipFill>
          <a:blip r:embed="rId1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анные методические рекомендации для педагогов по ознакомлению детей с героями Великой Отечественной войны, их подвигами, с жизнью в тылу, с традициями празднования Дня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истематизированный литературный и иллюстрированный материал по теме «ВОВ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оставленные конспекты занятий, досугов и праздников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формленные выставки детских работ, стенды, альбомы, папк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ктивное участие родителей в реализации и презентации проекта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анные рекомендации для родителей (какие книги читать детям, какие экспозиции в музеях доступны пониманию дошкольников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.Ю.Александрова, Е.П.Гордеева «Система патриотического воспитания в ДОУ». Изд. «Учитель». Волгоград. 2007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урнал «Ребенок в детском саду» №2 2007г., №2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 Днем Победы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is[6]"/>
          <p:cNvPicPr/>
          <p:nvPr/>
        </p:nvPicPr>
        <p:blipFill>
          <a:blip r:embed="rId1"/>
          <a:stretch/>
        </p:blipFill>
        <p:spPr>
          <a:xfrm>
            <a:off x="2556000" y="2924280"/>
            <a:ext cx="403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изна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единого образовательного пространства по теме проекта в семье и ДО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истематизация имеющегося опыта по теме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спользование инновационных технологий при реализации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спользование компьютерных технологий при обучении и контроле знани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isCACKC0PE"/>
          <p:cNvPicPr/>
          <p:nvPr/>
        </p:nvPicPr>
        <p:blipFill>
          <a:blip r:embed="rId1"/>
          <a:stretch/>
        </p:blipFill>
        <p:spPr>
          <a:xfrm>
            <a:off x="900000" y="1125360"/>
            <a:ext cx="2000520" cy="1717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sCANEUK1X"/>
          <p:cNvPicPr/>
          <p:nvPr/>
        </p:nvPicPr>
        <p:blipFill>
          <a:blip r:embed="rId2"/>
          <a:stretch/>
        </p:blipFill>
        <p:spPr>
          <a:xfrm>
            <a:off x="3348000" y="1052640"/>
            <a:ext cx="201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бобщить и расширить знаний детей о Великой Отечественно войне: городах-героях, героях войны, боевых наградах, о работе в тылу и т.д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работать систему воспитательно-образовательной работы по теме «ВОВ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едагогические принципы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амостоятельность дете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ятельностный подход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творчество детей и взрослых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Учет возрастных и индивидуальных особенностей дете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заимосвязь педагогического процесса с окружающей средой или социумом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8" descr="isCA1COQIA"/>
          <p:cNvPicPr/>
          <p:nvPr/>
        </p:nvPicPr>
        <p:blipFill>
          <a:blip r:embed="rId1"/>
          <a:stretch/>
        </p:blipFill>
        <p:spPr>
          <a:xfrm>
            <a:off x="3995640" y="4797360"/>
            <a:ext cx="25210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 rot="10800000">
            <a:off x="571320" y="1356840"/>
            <a:ext cx="3600360" cy="2735280"/>
          </a:xfrm>
          <a:prstGeom prst="wedgeEllipseCallout">
            <a:avLst>
              <a:gd name="adj1" fmla="val -53087"/>
              <a:gd name="adj2" fmla="val 36995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Теоретическая база проекта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Новицкая. Программа патриотического воспитания в детском саду «Наследие»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AutoShape 3"/>
          <p:cNvSpPr/>
          <p:nvPr/>
        </p:nvSpPr>
        <p:spPr>
          <a:xfrm rot="10800000">
            <a:off x="4858920" y="1340640"/>
            <a:ext cx="3691080" cy="2879640"/>
          </a:xfrm>
          <a:prstGeom prst="wedgeEllipseCallout">
            <a:avLst>
              <a:gd name="adj1" fmla="val 60449"/>
              <a:gd name="adj2" fmla="val 3743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Программно-методическое сопровождение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Методические рекомендации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Перспективное планирование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Консультативный материал для родителе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Подборка литературного материала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Сценарии спектаклей, развлечени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AutoShape 4"/>
          <p:cNvSpPr/>
          <p:nvPr/>
        </p:nvSpPr>
        <p:spPr>
          <a:xfrm rot="10800000">
            <a:off x="2555640" y="4428720"/>
            <a:ext cx="4105080" cy="2428920"/>
          </a:xfrm>
          <a:prstGeom prst="wedgeEllipseCallout">
            <a:avLst>
              <a:gd name="adj1" fmla="val 2703"/>
              <a:gd name="adj2" fmla="val 15326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Ресурсное обеспечение проекта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Библиотека детской художественной литературы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оллекция атрибутов для создания различных образов и игровых ситуаций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ехнические средства: магнитофон, компьютер, принтер;, сканер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аглядный материал: плакаты, иллюстрации, картинки, видео и аудиокассеты, СД-диски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зультативная организация патриотического воспитания в ДОУ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50920" y="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езультативная организация патриотического воспитания в ДО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9" descr="isCABPTRWX"/>
          <p:cNvPicPr/>
          <p:nvPr/>
        </p:nvPicPr>
        <p:blipFill>
          <a:blip r:embed="rId1"/>
          <a:stretch/>
        </p:blipFill>
        <p:spPr>
          <a:xfrm>
            <a:off x="250920" y="4653000"/>
            <a:ext cx="1800000" cy="1942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is[3]"/>
          <p:cNvPicPr/>
          <p:nvPr/>
        </p:nvPicPr>
        <p:blipFill>
          <a:blip r:embed="rId2"/>
          <a:stretch/>
        </p:blipFill>
        <p:spPr>
          <a:xfrm>
            <a:off x="6948360" y="4508640"/>
            <a:ext cx="1944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Дет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специально организованная деятельность, совместная деятельность педагога и ребенка (подгруппы детей), самостоятельная детская деятельность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едагог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одител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Команда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т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узыкальный руководител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5" descr="isCAQMAFJ4"/>
          <p:cNvPicPr/>
          <p:nvPr/>
        </p:nvPicPr>
        <p:blipFill>
          <a:blip r:embed="rId1"/>
          <a:stretch/>
        </p:blipFill>
        <p:spPr>
          <a:xfrm>
            <a:off x="5292720" y="2852640"/>
            <a:ext cx="2374920" cy="30132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6"/>
          <p:cNvSpPr/>
          <p:nvPr/>
        </p:nvSpPr>
        <p:spPr>
          <a:xfrm>
            <a:off x="324000" y="1916280"/>
            <a:ext cx="576000" cy="410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ГАЛИНА</cp:lastModifiedBy>
  <dcterms:modified xsi:type="dcterms:W3CDTF">2012-10-09T17:03:07Z</dcterms:modified>
  <cp:revision>12</cp:revision>
  <dc:subject/>
  <dc:title>«Этих дней не смолкнет слава»</dc:title>
</cp:coreProperties>
</file>