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2D4E-6ACB-4B96-8892-F31658E60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4707-3420-4455-B1F0-FBD40646D99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489F-61E9-4668-BBC2-3838D119689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2414-D492-4D24-805D-0410F92B2F9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A979-7910-41CD-87C6-9BB3087D3C3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B979-20AA-4F4D-B563-F71C3F19E4C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CDEE-D042-4B24-81B8-58BB81B6105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4692-6DA0-4F96-A5CC-5D9F8CB1A4D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B6FE-1126-4958-B8DE-EFA5C86CD8F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91A2-D986-4B8D-948A-BC7CD938CD1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D74E-AFF1-42ED-9F24-995079AEE69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42AD-7479-4053-983D-618776CD837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A130-0672-4A29-94C3-F2EC58598AA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D138-3947-4515-8B38-8006A1E389D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679D-7BB3-41E8-8593-C33A6C4DB36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334-CEE5-4F74-AAFF-EA7554BB7C3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C30B-6F8E-47FE-B22A-E6472D6ABEC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DA24-C61F-47FA-93C5-8567E96313A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E28-ABA2-4D18-92C2-FEE92C5B8A2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3F8D-7983-4830-A646-C3C54D1C540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9F7-B7CA-4BAD-92DB-A6BB63F9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888-1D18-4E2E-92CD-F3345FE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252-0B57-426F-8842-2E3E4A27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9D6-89B6-43C4-902D-4D78B1DD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CC5-0119-44BA-A37B-26371FC1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F2FC-C668-4672-902D-3A561680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72C8-DD61-49EF-AC0F-FF734400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8F5E-E369-4B3B-918A-4E595972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1921-B95B-4A62-B062-17482CEA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7404-BF85-4D40-9938-DC3BE1FB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3A5D-4DD9-4E88-943B-52B6E56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698-7CBF-466D-AD72-C6C1854E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2E59-C2B9-483D-9A94-6962A968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DBA8-2432-4A86-A89E-219D21E3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B362-B0B7-4B5C-8E99-B1FCC3C5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4849-306A-4BF3-8E6F-B3B76135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D23E-F207-451D-BD0C-E84D84C4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501-8707-4FB9-99FF-21EA5CB9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2CC-A5BD-416E-98E9-11734FF1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75B-A6DC-40B3-9A1D-8B01FC7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262-4098-4C9C-B0DE-F47A1873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F75-7DBC-4646-AB01-DE37D34A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E3E-3FB1-447B-AC8D-4D3AFBFE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168-0A7F-44F5-B3DF-F3E47712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1BBF-3A58-4741-8A7F-905B6D6150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>
                        <a:gd name="textAreaLeft" fmla="*/ 0 w 2236320"/>
                        <a:gd name="textAreaRight" fmla="*/ 2236680 w 223632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>
                        <a:gd name="textAreaLeft" fmla="*/ 0 w 1201320"/>
                        <a:gd name="textAreaRight" fmla="*/ 1201680 w 120132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>
                        <a:gd name="textAreaLeft" fmla="*/ 0 w 2139840"/>
                        <a:gd name="textAreaRight" fmla="*/ 2140200 w 213984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>
                        <a:gd name="textAreaLeft" fmla="*/ 0 w 1148760"/>
                        <a:gd name="textAreaRight" fmla="*/ 1149120 w 114876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>
                        <a:gd name="textAreaLeft" fmla="*/ 360 w 2236320"/>
                        <a:gd name="textAreaRight" fmla="*/ 2237040 w 223632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>
                        <a:gd name="textAreaLeft" fmla="*/ -360 w 1201320"/>
                        <a:gd name="textAreaRight" fmla="*/ 1201320 w 1201320"/>
                        <a:gd name="textAreaTop" fmla="*/ 0 h 671400"/>
                        <a:gd name="textAreaBottom" fmla="*/ 671760 h 671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>
                        <a:gd name="textAreaLeft" fmla="*/ 360 w 1905120"/>
                        <a:gd name="textAreaRight" fmla="*/ 1905840 w 190512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>
                        <a:gd name="textAreaLeft" fmla="*/ -360 w 1024200"/>
                        <a:gd name="textAreaRight" fmla="*/ 1024200 w 10242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>
                        <a:gd name="textAreaLeft" fmla="*/ -360 w 1521000"/>
                        <a:gd name="textAreaRight" fmla="*/ 1521000 w 15210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>
                        <a:gd name="textAreaLeft" fmla="*/ -360 w 816840"/>
                        <a:gd name="textAreaRight" fmla="*/ 816840 w 81684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>
                        <a:gd name="textAreaLeft" fmla="*/ 360 w 1355760"/>
                        <a:gd name="textAreaRight" fmla="*/ 1356480 w 1355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>
                        <a:gd name="textAreaLeft" fmla="*/ -360 w 1307160"/>
                        <a:gd name="textAreaRight" fmla="*/ 1307160 w 130716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>
                        <a:gd name="textAreaLeft" fmla="*/ -360 w 702360"/>
                        <a:gd name="textAreaRight" fmla="*/ 702360 w 70236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>
                        <a:gd name="textAreaLeft" fmla="*/ 0 w 816840"/>
                        <a:gd name="textAreaRight" fmla="*/ 817200 w 81684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>
                        <a:gd name="textAreaLeft" fmla="*/ 0 w 815760"/>
                        <a:gd name="textAreaRight" fmla="*/ 816120 w 8157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>
                      <a:gd name="textAreaLeft" fmla="*/ 360 w 1265040"/>
                      <a:gd name="textAreaRight" fmla="*/ 1265760 w 126504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7160"/>
                        <a:gd name="textAreaBottom" fmla="*/ 227520 h 2271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5320"/>
                        <a:gd name="textAreaBottom" fmla="*/ 355680 h 355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000"/>
                        <a:gd name="textAreaBottom" fmla="*/ 522360 h 522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3760"/>
                        <a:gd name="textAreaBottom" fmla="*/ 384120 h 383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440"/>
                        <a:gd name="textAreaBottom" fmla="*/ 604800 h 604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5960"/>
                        <a:gd name="textAreaBottom" fmla="*/ 346320 h 345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2880"/>
                        <a:gd name="textAreaBottom" fmla="*/ 543240 h 542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>
                        <a:gd name="textAreaLeft" fmla="*/ 0 w 2034720"/>
                        <a:gd name="textAreaRight" fmla="*/ 2035080 w 2034720"/>
                        <a:gd name="textAreaTop" fmla="*/ 0 h 369000"/>
                        <a:gd name="textAreaBottom" fmla="*/ 369360 h 369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7440"/>
                        <a:gd name="textAreaBottom" fmla="*/ 577800 h 577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400"/>
                        <a:gd name="textAreaBottom" fmla="*/ 302760 h 302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840"/>
                        <a:gd name="textAreaBottom" fmla="*/ 304200 h 303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0760"/>
                        <a:gd name="textAreaBottom" fmla="*/ 231120 h 230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2520"/>
                        <a:gd name="textAreaBottom" fmla="*/ 362880 h 362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>
                      <a:gd name="textAreaLeft" fmla="*/ 0 w 3165840"/>
                      <a:gd name="textAreaRight" fmla="*/ 3166200 w 316584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>
                      <a:gd name="textAreaLeft" fmla="*/ -360 w 2486520"/>
                      <a:gd name="textAreaRight" fmla="*/ 2486520 w 248652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>
                      <a:gd name="textAreaLeft" fmla="*/ 360 w 3132720"/>
                      <a:gd name="textAreaRight" fmla="*/ 3133440 w 31327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>
                      <a:gd name="textAreaLeft" fmla="*/ -360 w 2282040"/>
                      <a:gd name="textAreaRight" fmla="*/ 2282040 w 22820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>
                  <a:gd name="textAreaLeft" fmla="*/ -360 w 543960"/>
                  <a:gd name="textAreaRight" fmla="*/ 543960 w 54396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6521-DAC0-4317-8B0B-08CA9D132272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Этих дней не смолкнет слав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203280" y="5229360"/>
            <a:ext cx="655308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спитате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БОУ Детский сад  №181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артынова  Г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4" descr="isCAKYH7XQ"/>
          <p:cNvPicPr/>
          <p:nvPr/>
        </p:nvPicPr>
        <p:blipFill>
          <a:blip r:embed="rId1"/>
          <a:stretch/>
        </p:blipFill>
        <p:spPr>
          <a:xfrm>
            <a:off x="684360" y="4653000"/>
            <a:ext cx="1800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одержание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ед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февраль 2012 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ведение анкетирования родител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нтервьюирование дет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учение литературы по теме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4" descr="isCAUJWDPI"/>
          <p:cNvPicPr/>
          <p:nvPr/>
        </p:nvPicPr>
        <p:blipFill>
          <a:blip r:embed="rId1"/>
          <a:stretch/>
        </p:blipFill>
        <p:spPr>
          <a:xfrm>
            <a:off x="1187280" y="4724280"/>
            <a:ext cx="1440000" cy="1844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isCA304JDS"/>
          <p:cNvPicPr/>
          <p:nvPr/>
        </p:nvPicPr>
        <p:blipFill>
          <a:blip r:embed="rId2"/>
          <a:stretch/>
        </p:blipFill>
        <p:spPr>
          <a:xfrm>
            <a:off x="6877080" y="4653000"/>
            <a:ext cx="165564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6335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март-апрель 2012 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Г-1: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Знакомить детей с художественной литературой о Великой Отечественной войне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ведение занятий по теме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ставка детских работ по всем вида ИЗО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Экскурсии к памятным местам Г.Тамбова, в музей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тречи с участниками Великой Отечественной войны, тружениками тыла, курсантами и офицерами военного училища, войнами-интернационалистам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Picture 17" descr="isCAD8JVTP"/>
          <p:cNvPicPr/>
          <p:nvPr/>
        </p:nvPicPr>
        <p:blipFill>
          <a:blip r:embed="rId1"/>
          <a:stretch/>
        </p:blipFill>
        <p:spPr>
          <a:xfrm>
            <a:off x="6877080" y="1844640"/>
            <a:ext cx="1942920" cy="1636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isCAL82XDA"/>
          <p:cNvPicPr/>
          <p:nvPr/>
        </p:nvPicPr>
        <p:blipFill>
          <a:blip r:embed="rId2"/>
          <a:stretch/>
        </p:blipFill>
        <p:spPr>
          <a:xfrm>
            <a:off x="6877080" y="3716280"/>
            <a:ext cx="2016000" cy="168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Г-2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зработка перспективного планирования по героико-патриотическому воспитанию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ведение семинаров и консультаций по проблеме проект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формление книжных уголков, чтение художественной и методической литератур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пуск альбома и папок-передвижек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84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Г-3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семейных проект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одительское собрание «Этих дней не смолкнет слава»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формление Книги памяти, по рассказам родителей о членах семей участниках Великой Отечественной вой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Picture 4" descr="isCAGV7253"/>
          <p:cNvPicPr/>
          <p:nvPr/>
        </p:nvPicPr>
        <p:blipFill>
          <a:blip r:embed="rId1"/>
          <a:stretch/>
        </p:blipFill>
        <p:spPr>
          <a:xfrm>
            <a:off x="6084720" y="5078520"/>
            <a:ext cx="1943280" cy="151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75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езультативный этап (май 2012 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озложение цветов к монументу «Самолет», «Вечный огонь»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аздник, посвященный Дню Победы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нкетирование родителей и детей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нализ, обобщение и распространение результатов проекта: выступление на педсовете, разработка методических рекомендаций, размещение проекта в сети Интернет и п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12" descr="1"/>
          <p:cNvPicPr/>
          <p:nvPr/>
        </p:nvPicPr>
        <p:blipFill>
          <a:blip r:embed="rId1"/>
          <a:stretch/>
        </p:blipFill>
        <p:spPr>
          <a:xfrm>
            <a:off x="5796000" y="2852640"/>
            <a:ext cx="2879640" cy="36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редполагаемые результа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аботанные методические рекомендации для педагогов по ознакомлению детей с героями Великой Отечественной войны, их подвигами, с жизнью в тылу, с традициями празднования Дня Побед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истематизированный литературный и иллюстрированный материал по теме «ВОВ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оставленные конспекты занятий, досугов и праздников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формленные выставки детских работ, стенды, альбомы, папки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ктивное участие родителей в реализации и презентации проекта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аботанные рекомендации для родителей (какие книги читать детям, какие экспозиции в музеях доступны пониманию дошкольников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Информационные ресурс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.Ю.Александрова, Е.П.Гордеева «Система патриотического воспитания в ДОУ». Изд. «Учитель». Волгоград. 2007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Журнал «Ребенок в детском саду» №2 2007г., №2 2008 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 Днем Победы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Picture 7" descr="is[6]"/>
          <p:cNvPicPr/>
          <p:nvPr/>
        </p:nvPicPr>
        <p:blipFill>
          <a:blip r:embed="rId1"/>
          <a:stretch/>
        </p:blipFill>
        <p:spPr>
          <a:xfrm>
            <a:off x="2556000" y="2924280"/>
            <a:ext cx="403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овизна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единого образовательного пространства по теме проекта в семье и ДОУ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истематизация имеющегося опыта по теме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спользование инновационных технологий при реализации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спользование компьютерных технологий при обучении и контроле знани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314136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6" descr="isCACKC0PE"/>
          <p:cNvPicPr/>
          <p:nvPr/>
        </p:nvPicPr>
        <p:blipFill>
          <a:blip r:embed="rId1"/>
          <a:stretch/>
        </p:blipFill>
        <p:spPr>
          <a:xfrm>
            <a:off x="900000" y="1125360"/>
            <a:ext cx="2000520" cy="1717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sCANEUK1X"/>
          <p:cNvPicPr/>
          <p:nvPr/>
        </p:nvPicPr>
        <p:blipFill>
          <a:blip r:embed="rId2"/>
          <a:stretch/>
        </p:blipFill>
        <p:spPr>
          <a:xfrm>
            <a:off x="3348000" y="1052640"/>
            <a:ext cx="201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бобщить и расширить знаний детей о Великой Отечественно войне: городах-героях, героях войны, боевых наградах, о работе в тылу и т.д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ыработать систему воспитательно-образовательной работы по теме «ВОВ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ладить взаимодействие с родителями в воспитании у дошкольников патриотических чувст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оспитывать патриотические чувства через художественную литературу, театральную деятельность, средствами музыкального и художественно-эстетического воспит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оспитывать уважение к ратным подвигам бойцов, гордость за свой народ, любовь а Родин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едагогические принципы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амостоятельность дете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ятельностный подход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творчество детей и взрослых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Учет возрастных и индивидуальных особенностей дете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заимосвязь педагогического процесса с окружающей средой или социумом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8" descr="isCA1COQIA"/>
          <p:cNvPicPr/>
          <p:nvPr/>
        </p:nvPicPr>
        <p:blipFill>
          <a:blip r:embed="rId1"/>
          <a:stretch/>
        </p:blipFill>
        <p:spPr>
          <a:xfrm>
            <a:off x="3995640" y="4797360"/>
            <a:ext cx="25210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 rot="10800000">
            <a:off x="571320" y="1356840"/>
            <a:ext cx="3600360" cy="2735280"/>
          </a:xfrm>
          <a:prstGeom prst="wedgeEllipseCallout">
            <a:avLst>
              <a:gd name="adj1" fmla="val -53087"/>
              <a:gd name="adj2" fmla="val 36995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Теоретическая база проекта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Новицкая. Программа патриотического воспитания в детском саду «Наследие»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AutoShape 3"/>
          <p:cNvSpPr/>
          <p:nvPr/>
        </p:nvSpPr>
        <p:spPr>
          <a:xfrm rot="10800000">
            <a:off x="4858920" y="1340640"/>
            <a:ext cx="3691080" cy="2879640"/>
          </a:xfrm>
          <a:prstGeom prst="wedgeEllipseCallout">
            <a:avLst>
              <a:gd name="adj1" fmla="val 60449"/>
              <a:gd name="adj2" fmla="val 3743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Программно-методическое сопровождение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Методические рекомендации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Перспективное планирование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Консультативный материал для родителей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Подборка литературного материала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Сценарии спектаклей, развлечений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AutoShape 4"/>
          <p:cNvSpPr/>
          <p:nvPr/>
        </p:nvSpPr>
        <p:spPr>
          <a:xfrm rot="10800000">
            <a:off x="2555640" y="4428720"/>
            <a:ext cx="4105080" cy="2428920"/>
          </a:xfrm>
          <a:prstGeom prst="wedgeEllipseCallout">
            <a:avLst>
              <a:gd name="adj1" fmla="val 2703"/>
              <a:gd name="adj2" fmla="val 153263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Ресурсное обеспечение проекта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Библиотека детской художественной литературы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оллекция атрибутов для создания различных образов и игровых ситуаций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ехнические средства: магнитофон, компьютер, принтер;, сканер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аглядный материал: плакаты, иллюстрации, картинки, видео и аудиокассеты, СД-диски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зультативная организация патриотического воспитания в ДОУ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250920" y="0"/>
            <a:ext cx="84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езультативная организация патриотического воспитания в ДО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9" descr="isCABPTRWX"/>
          <p:cNvPicPr/>
          <p:nvPr/>
        </p:nvPicPr>
        <p:blipFill>
          <a:blip r:embed="rId1"/>
          <a:stretch/>
        </p:blipFill>
        <p:spPr>
          <a:xfrm>
            <a:off x="250920" y="4653000"/>
            <a:ext cx="1800000" cy="1942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is[3]"/>
          <p:cNvPicPr/>
          <p:nvPr/>
        </p:nvPicPr>
        <p:blipFill>
          <a:blip r:embed="rId2"/>
          <a:stretch/>
        </p:blipFill>
        <p:spPr>
          <a:xfrm>
            <a:off x="6948360" y="4508640"/>
            <a:ext cx="19447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mic Sans MS"/>
              </a:rPr>
              <a:t>Целевые группы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64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Дет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: специально организованная деятельность, совместная деятельность педагога и ребенка (подгруппы детей), самостоятельная детская деятельность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Педагог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: активная методическая работа, интеграция деятельности по формированию патриотизм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одител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: оказание консультативной помощи, содействие педагогам по теме проекта, участие в мероприятиях ДОУ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4" descr="CRCTR058"/>
          <p:cNvPicPr/>
          <p:nvPr/>
        </p:nvPicPr>
        <p:blipFill>
          <a:blip r:embed="rId1"/>
          <a:stretch/>
        </p:blipFill>
        <p:spPr>
          <a:xfrm flipH="1">
            <a:off x="1187280" y="1413000"/>
            <a:ext cx="898560" cy="1224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RCTR004"/>
          <p:cNvPicPr/>
          <p:nvPr/>
        </p:nvPicPr>
        <p:blipFill>
          <a:blip r:embed="rId2"/>
          <a:stretch/>
        </p:blipFill>
        <p:spPr>
          <a:xfrm flipH="1">
            <a:off x="1187280" y="4292640"/>
            <a:ext cx="897120" cy="1440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CRCTR291"/>
          <p:cNvPicPr/>
          <p:nvPr/>
        </p:nvPicPr>
        <p:blipFill>
          <a:blip r:embed="rId3"/>
          <a:stretch/>
        </p:blipFill>
        <p:spPr>
          <a:xfrm flipH="1">
            <a:off x="1258560" y="2744640"/>
            <a:ext cx="70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Команда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ет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узыкальный руководител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Родите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5" descr="isCAQMAFJ4"/>
          <p:cNvPicPr/>
          <p:nvPr/>
        </p:nvPicPr>
        <p:blipFill>
          <a:blip r:embed="rId1"/>
          <a:stretch/>
        </p:blipFill>
        <p:spPr>
          <a:xfrm>
            <a:off x="5292720" y="2852640"/>
            <a:ext cx="2374920" cy="30132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6"/>
          <p:cNvSpPr/>
          <p:nvPr/>
        </p:nvSpPr>
        <p:spPr>
          <a:xfrm>
            <a:off x="324000" y="1916280"/>
            <a:ext cx="576000" cy="41050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ГАЛИНА</cp:lastModifiedBy>
  <dcterms:modified xsi:type="dcterms:W3CDTF">2012-10-09T17:03:07Z</dcterms:modified>
  <cp:revision>12</cp:revision>
  <dc:subject/>
  <dc:title>«Этих дней не смолкнет слава»</dc:title>
</cp:coreProperties>
</file>