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01E-8E40-4151-A216-107F4533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597-265D-480D-A6D3-9A416BDB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952-67BA-4050-B257-BEA0D033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09A-15E3-41CF-948C-0753C20E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4F85-0E07-4E43-B923-CB57131C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360D-5F8D-473E-B7A9-CB4C397B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FA1D-0588-44F5-B4B3-1D4D5BD7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AE70-CF7B-4551-B2E9-974F18A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48CA-C1DD-4096-AA6F-D69BC21C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E46B-1BF8-4FD3-B4B6-C81B1A40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CC11-FD2E-4A40-97B6-0525BBA1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FAF-83B4-41D5-B68F-21327DF0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92A4-0469-4175-B631-5A7D60F6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1106-996A-4388-AE6C-5BC51F4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AAEA-6ED3-4450-9CF6-BAF14DAC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7F2E-62F7-4ED4-A687-21F85E6D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2E9A-1C8D-4AF2-AD79-CD34F0BB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CA4-7DF0-4457-B77B-6EC13241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ECA-FB62-4A6C-A32F-5A9D40CC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F1A-72A8-4E6E-A912-B814F290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A1F-8734-415B-90ED-9E22CAFE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990-4089-4422-866D-9C2C1998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AB9-4D82-4119-8644-8C57802D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7BD-0113-4CA9-B43F-2FFCA0D9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4518-4488-41F0-BDE4-7F2C0CA97F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A71C-0699-4013-8934-001A66CF9A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129440" cy="338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Эмоционально-рациональная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активность детей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с ограниченными возможностями здоровья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методом сотворчества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в художественной деятельности</a:t>
            </a:r>
            <a:endParaRPr b="1" lang="en-US" sz="32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284360" y="4436640"/>
            <a:ext cx="460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Участница конкурс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«Воспитатель года 2011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2 квалификационной категории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МДОУ детского сада №14 «Сказк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Лобановой Елены Александровн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Picture 4" descr="5050790156000250"/>
          <p:cNvPicPr/>
          <p:nvPr/>
        </p:nvPicPr>
        <p:blipFill>
          <a:blip r:embed="rId1"/>
          <a:stretch/>
        </p:blipFill>
        <p:spPr>
          <a:xfrm>
            <a:off x="611280" y="4005360"/>
            <a:ext cx="3109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Работа с детьми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2 этап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2915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ведение ребенка с ограниченными возможностями в коллектив сверстников, где главной моей задачей было помочь ребенку войти в это детское  сообщество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ИНДИВИДУАЛЬНЫЕ ЗАНЯТИЯ  С ДЕТЬМИ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39" name="Picture 6" descr="DSCN0648"/>
          <p:cNvPicPr/>
          <p:nvPr/>
        </p:nvPicPr>
        <p:blipFill>
          <a:blip r:embed="rId1"/>
          <a:stretch/>
        </p:blipFill>
        <p:spPr>
          <a:xfrm>
            <a:off x="1619280" y="1700280"/>
            <a:ext cx="574992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DSCN0655"/>
          <p:cNvPicPr/>
          <p:nvPr/>
        </p:nvPicPr>
        <p:blipFill>
          <a:blip r:embed="rId1"/>
          <a:stretch/>
        </p:blipFill>
        <p:spPr>
          <a:xfrm>
            <a:off x="1187280" y="620640"/>
            <a:ext cx="69026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Оценка результата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4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Причастность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Отношения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Знания/умения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Picture 5" descr="DSCN0665"/>
          <p:cNvPicPr/>
          <p:nvPr/>
        </p:nvPicPr>
        <p:blipFill>
          <a:blip r:embed="rId1"/>
          <a:stretch/>
        </p:blipFill>
        <p:spPr>
          <a:xfrm>
            <a:off x="468360" y="1916280"/>
            <a:ext cx="47419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5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Причастность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Причастность – понятие фокусируется на том, насколько ребенок принят и активен в группе, а также на его включенность в социальную структуру групп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Garamond"/>
              </a:rPr>
              <a:t>ОЖИДАЕМЫЙ РЕЗУЛЬТА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УМЕНЬШЕНИЕ БОЯЗНИ РАЗЛИЧИЙ МЕЖДУ ДЕТЬМИ И ОДНОВРЕМЕННО БОЛЬШЕЕ СПОКОЙСТВИЕ И ПОНИМАНИЕ ДЕЙСТВИТЕЛЬНОСТ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РОСТ СОЦИАЛЬНОЙ СОЗНАТЕЛЬНОСТ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ДИНАМИКА РАЗВИТИЯ САМОСОЗНАНИЯ И САМООЦЕНК</a:t>
            </a:r>
            <a:r>
              <a:rPr b="0" lang="ru-RU" sz="2800" spc="-1" strike="noStrike">
                <a:solidFill>
                  <a:srgbClr val="002060"/>
                </a:solidFill>
                <a:latin typeface="Garamond"/>
              </a:rPr>
              <a:t>и</a:t>
            </a: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 ПРОЯВЛЕНИЯ ИСКРЕННЕЙ ЗАБОТЫ И ДРУЖБЫ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ОТНОШЕНИЯ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тношения – понятие охватывает широкий ряд моделей поведения и сложных межличностных взаимодействий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ДЕТИ МОГУТ ВЗАИМОДЕЙСТВОВАТЬ СО МНОГИМИ СВЕРСТНИКАМ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УЧАСТИЕ ДЕТЕЙ В РАЗЛИЧНЫХ СОЦИАЛЬНЫХ СВЯЗЯ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ВЫРАЖАТЬ ЖЕЛАНИЕ ПОМОЧЬ ДРУГИМ И ПРИНЯТЬ ПОМОЩЬ КОГДА ЭТО НЕОБХОДИМО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Garamond"/>
              </a:rPr>
              <a:t>Знания и навыки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ИОБРИТЕНИЕ ОПРЕДЕЛЕННЫХ НАВЫКОВ И УМЕНИЙ В ХУДОЖЕСТВЕННОЙ ДЕЯТЕЛЬ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DSCN0653"/>
          <p:cNvPicPr/>
          <p:nvPr/>
        </p:nvPicPr>
        <p:blipFill>
          <a:blip r:embed="rId1"/>
          <a:stretch/>
        </p:blipFill>
        <p:spPr>
          <a:xfrm>
            <a:off x="3924360" y="2468520"/>
            <a:ext cx="4751280" cy="3562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DSCN0665"/>
          <p:cNvPicPr/>
          <p:nvPr/>
        </p:nvPicPr>
        <p:blipFill>
          <a:blip r:embed="rId2"/>
          <a:stretch/>
        </p:blipFill>
        <p:spPr>
          <a:xfrm>
            <a:off x="179280" y="458640"/>
            <a:ext cx="4610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30 ноября 2010 г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Послание Президента РФ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Федеральному Собранию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Создание полноценных условий  для активной жизни детей – инвалидов должно стать приоритетом при реализации новой государственной программы «Доступная среда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643040" y="571680"/>
            <a:ext cx="2143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Цель работы: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Создание особых условий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для воспитания и обучения детей, имеющих особые образовательные потребност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1" name="Picture 4" descr="littl girl with flowers in wheelchair"/>
          <p:cNvPicPr/>
          <p:nvPr/>
        </p:nvPicPr>
        <p:blipFill>
          <a:blip r:embed="rId1"/>
          <a:stretch/>
        </p:blipFill>
        <p:spPr>
          <a:xfrm>
            <a:off x="3571920" y="3286080"/>
            <a:ext cx="26636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Задачи: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идать уверенность в собственных силах детям с ограниченными возможностями (как в психическом так и физиологическом планах), таким способом мотивируя их к обучению в школе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ключение каждого ребенка с особыми потребностями в образовательную среду и гибкость в подходах к обучению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Принципы инклюзивного воспитания и образования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Ценность человека не зависит от его способностей достижени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ждый человек способен чувствовать и думать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ждый человек имеет право на общение и на то , чтобы быть успешны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се люди нуждаются  друг  в друг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одлинное образование может осуществляться в контексте реальных взаимоотношени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се люди нуждаются в поддержке и дружбе ровесников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Для всех обучающихся достижение прогресса скорее может быть в том, что они могут делать, чем в том, что не могут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Разнообразие усиливает все стороны жизни человек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Педагогические технологи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Метод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СОТВОРЧЕСТВ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Программа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Лыковой И.А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«Цветные ладошки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4" descr="60291231_1276490920_1274887413_motivator5324"/>
          <p:cNvPicPr/>
          <p:nvPr/>
        </p:nvPicPr>
        <p:blipFill>
          <a:blip r:embed="rId1"/>
          <a:stretch/>
        </p:blipFill>
        <p:spPr>
          <a:xfrm>
            <a:off x="395280" y="1413000"/>
            <a:ext cx="393048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Метод сотворчества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Метод сотворчества на основе незавершенных композиций уникален тем, что позволяет учиться друг у друга: детям у воспитателя или родителя, а воспитателю у дет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1" name="Picture 5" descr="509948"/>
          <p:cNvPicPr/>
          <p:nvPr/>
        </p:nvPicPr>
        <p:blipFill>
          <a:blip r:embed="rId1"/>
          <a:stretch/>
        </p:blipFill>
        <p:spPr>
          <a:xfrm>
            <a:off x="1979640" y="3860640"/>
            <a:ext cx="5113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Работа с детьми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1 этап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8013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 паре с психологом провела беседу с родителями детей с ограниченными возможностями, с целью выделить положительные и отрицательные черты поведения детей, обучить новым формам поведения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Встреча с родителям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35" name="Picture 4" descr="DSCN0654"/>
          <p:cNvPicPr/>
          <p:nvPr/>
        </p:nvPicPr>
        <p:blipFill>
          <a:blip r:embed="rId1"/>
          <a:stretch/>
        </p:blipFill>
        <p:spPr>
          <a:xfrm>
            <a:off x="1285920" y="1643040"/>
            <a:ext cx="63104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6:37:47Z</dcterms:created>
  <dc:creator>1</dc:creator>
  <dc:description/>
  <dc:language>en-US</dc:language>
  <cp:lastModifiedBy>Admin</cp:lastModifiedBy>
  <dcterms:modified xsi:type="dcterms:W3CDTF">2012-03-25T11:01:23Z</dcterms:modified>
  <cp:revision>13</cp:revision>
  <dc:subject/>
  <dc:title>Эмоционально-рациональная  активность детей  с ограниченными возможностями здоровья  методом сотворчества  в художественной деятельности</dc:title>
</cp:coreProperties>
</file>