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B01-E865-4F5E-AD4B-A6202025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968-9793-4CC8-AC63-937D3839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C18-8A3A-46D1-86C8-7FD36BEF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7BB-ACD9-4F8F-82DD-11E4302A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8B8-9BEC-49CD-B78C-EE2E89EA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FD5-83C7-4153-BF73-62648F0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D44A-DD6A-42F6-82C0-9B52006C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C0A7-0CB6-4F5D-A424-66D2F6D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E5C1-AF35-44DC-81B3-465E16E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C50D-212A-4F97-8BFD-180CA8B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F215-2696-4E27-8E79-6C34E2E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598-DB41-4FF4-A734-D37BDC6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C43-B062-4450-A171-BE1238A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A02-B6C4-421D-AD03-5289A66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7B6-2772-44C4-A6AF-0185099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35C-4889-42D7-B5A7-544CC8F4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546C-D7FB-4301-8959-FCE25A79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44D-22A3-4659-9EA3-DE8A48B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732-69D8-4BB3-A86E-E92A1A9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DE2-D7F0-4814-A738-44FA9E0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9B5-28B7-405A-87FC-A864C3C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E34-C61A-4784-B43D-FFE6270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C2F-B02F-4C23-A969-362B96F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4CC-E811-428A-90B3-308D566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9B47-D51F-4883-B8E4-55D6454D9D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1D0-B173-4AC8-8A64-4A323883B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29440" cy="338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Эмоционально-рациональна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активность детей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 ограниченными возможностями здоровь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ом сотворчества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в художественной деятельности</a:t>
            </a:r>
            <a:endParaRPr b="1" lang="en-US" sz="3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84360" y="443664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ница конкурс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«Воспитатель года 2011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2 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МДОУ детского сада №14 «Сказк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Лобановой Елены Александровн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4" descr="5050790156000250"/>
          <p:cNvPicPr/>
          <p:nvPr/>
        </p:nvPicPr>
        <p:blipFill>
          <a:blip r:embed="rId1"/>
          <a:stretch/>
        </p:blipFill>
        <p:spPr>
          <a:xfrm>
            <a:off x="611280" y="4005360"/>
            <a:ext cx="3109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2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91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ведение ребенка с ограниченными возможностями в коллектив сверстников, где главной моей задачей было помочь ребенку войти в это детское  сообществ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ИНДИВИДУАЛЬНЫЕ ЗАНЯТИЯ  С ДЕТЬМИ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9" name="Picture 6" descr="DSCN0648"/>
          <p:cNvPicPr/>
          <p:nvPr/>
        </p:nvPicPr>
        <p:blipFill>
          <a:blip r:embed="rId1"/>
          <a:stretch/>
        </p:blipFill>
        <p:spPr>
          <a:xfrm>
            <a:off x="1619280" y="1700280"/>
            <a:ext cx="57499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DSCN0655"/>
          <p:cNvPicPr/>
          <p:nvPr/>
        </p:nvPicPr>
        <p:blipFill>
          <a:blip r:embed="rId1"/>
          <a:stretch/>
        </p:blipFill>
        <p:spPr>
          <a:xfrm>
            <a:off x="1187280" y="620640"/>
            <a:ext cx="69026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ценка результат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4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ричастность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тношения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Знания/уме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5" descr="DSCN0665"/>
          <p:cNvPicPr/>
          <p:nvPr/>
        </p:nvPicPr>
        <p:blipFill>
          <a:blip r:embed="rId1"/>
          <a:stretch/>
        </p:blipFill>
        <p:spPr>
          <a:xfrm>
            <a:off x="468360" y="1916280"/>
            <a:ext cx="4741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ричастность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ричастность – понятие фокусируется на том, насколько ребенок принят и активен в группе, а также на его включенность в социальную структуру групп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УМЕНЬШЕНИЕ БОЯЗНИ РАЗЛИЧИЙ МЕЖДУ ДЕТЬМИ И ОДНОВРЕМЕННО БОЛЬШЕЕ СПОКОЙСТВИЕ И ПОНИМАНИЕ ДЕЙСТВИ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РОСТ СОЦИАЛЬНОЙ СОЗНА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ДИНАМИКА РАЗВИТИЯ САМОСОЗНАНИЯ И САМООЦЕНК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и</a:t>
            </a: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 ПРОЯВЛЕНИЯ ИСКРЕННЕЙ ЗАБОТЫ И ДРУЖБ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ТНОШ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тношения – понятие охватывает широкий ряд моделей поведения и сложных межличностных взаимодействи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ДЕТИ МОГУТ ВЗАИМОДЕЙСТВОВАТЬ СО МНОГИМИ СВЕРСТНИКАМ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ИЕ ДЕТЕЙ В РАЗЛИЧНЫХ СОЦИАЛЬНЫХ СВЯЗЯ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ЫРАЖАТЬ ЖЕЛАНИЕ ПОМОЧЬ ДРУГИМ И ПРИНЯТЬ ПОМОЩЬ КОГДА ЭТО НЕОБХОДИМ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Garamond"/>
              </a:rPr>
              <a:t>Знания и навыки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ОБРИТЕНИЕ ОПРЕДЕЛЕННЫХ НАВЫКОВ И УМЕНИЙ В ХУДОЖЕ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DSCN0653"/>
          <p:cNvPicPr/>
          <p:nvPr/>
        </p:nvPicPr>
        <p:blipFill>
          <a:blip r:embed="rId1"/>
          <a:stretch/>
        </p:blipFill>
        <p:spPr>
          <a:xfrm>
            <a:off x="3924360" y="246852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DSCN0665"/>
          <p:cNvPicPr/>
          <p:nvPr/>
        </p:nvPicPr>
        <p:blipFill>
          <a:blip r:embed="rId2"/>
          <a:stretch/>
        </p:blipFill>
        <p:spPr>
          <a:xfrm>
            <a:off x="179280" y="458640"/>
            <a:ext cx="461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30 ноября 2010 г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ослание Президента РФ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Федеральному Собра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оздание полноценных условий  для активной жизни детей – инвалидов должно стать приоритетом при реализации новой государственной программы «Доступная среда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2143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Создание особых услови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для воспитания и обучения детей, имеющих особые образовательные потребност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Picture 4" descr="littl girl with flowers in wheelchair"/>
          <p:cNvPicPr/>
          <p:nvPr/>
        </p:nvPicPr>
        <p:blipFill>
          <a:blip r:embed="rId1"/>
          <a:stretch/>
        </p:blipFill>
        <p:spPr>
          <a:xfrm>
            <a:off x="3571920" y="3286080"/>
            <a:ext cx="26636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дать уверенность в собственных силах детям с ограниченными возможностями (как в психическом так и физиологическом планах), таким способом мотивируя их к обучению в школ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ключение каждого ребенка с особыми потребностями в образовательную среду и гибкость в подходах к обуче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инципы инклюзивного воспитания и образования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Ценность человека не зависит от его способностей достиж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способен чувствовать и дума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имеет право на общение и на то , чтобы быть успеш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 друг  в друг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одлинное образование может осуществляться в контексте реальных взаимоотнош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в поддержке и дружбе ровеснико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ля всех обучающихся достижение прогресса скорее может быть в том, что они могут делать, чем в том, что не могут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нообразие усиливает все стороны жизни человек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едагогические технологи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ОТВОРЧЕСТ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Программа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Лыковой И.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«Цветные ладошк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4" descr="60291231_1276490920_1274887413_motivator5324"/>
          <p:cNvPicPr/>
          <p:nvPr/>
        </p:nvPicPr>
        <p:blipFill>
          <a:blip r:embed="rId1"/>
          <a:stretch/>
        </p:blipFill>
        <p:spPr>
          <a:xfrm>
            <a:off x="395280" y="1413000"/>
            <a:ext cx="39304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Метод сотворчеств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Метод сотворчества на основе незавершенных композиций уникален тем, что позволяет учиться друг у друга: детям у воспитателя или родителя, а воспитателю у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5" descr="509948"/>
          <p:cNvPicPr/>
          <p:nvPr/>
        </p:nvPicPr>
        <p:blipFill>
          <a:blip r:embed="rId1"/>
          <a:stretch/>
        </p:blipFill>
        <p:spPr>
          <a:xfrm>
            <a:off x="1979640" y="3860640"/>
            <a:ext cx="5113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1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8013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паре с психологом провела беседу с родителями детей с ограниченными возможностями, с целью выделить положительные и отрицательные черты поведения детей, обучить новым формам поведени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Встреча с родителям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5" name="Picture 4" descr="DSCN0654"/>
          <p:cNvPicPr/>
          <p:nvPr/>
        </p:nvPicPr>
        <p:blipFill>
          <a:blip r:embed="rId1"/>
          <a:stretch/>
        </p:blipFill>
        <p:spPr>
          <a:xfrm>
            <a:off x="1285920" y="1643040"/>
            <a:ext cx="6310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6:37:47Z</dcterms:created>
  <dc:creator>1</dc:creator>
  <dc:description/>
  <dc:language>en-US</dc:language>
  <cp:lastModifiedBy>Admin</cp:lastModifiedBy>
  <dcterms:modified xsi:type="dcterms:W3CDTF">2012-03-25T11:01:23Z</dcterms:modified>
  <cp:revision>13</cp:revision>
  <dc:subject/>
  <dc:title>Эмоционально-рациональная  активность детей  с ограниченными возможностями здоровья  методом сотворчества  в художественной деятельности</dc:title>
</cp:coreProperties>
</file>