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C09E-B469-4705-9622-227F22EED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8B98-097C-4B64-90C2-0078749D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DFD1-22AB-47F7-9D92-B0E3CCE82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46CC-C57E-4E9A-8EFA-B6BE5EA79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7616-49B1-4F6A-82B1-EE92649A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6F73-01A2-480E-AAF4-B40E0767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8C49-3A8B-44D0-A06B-98B6E98D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DD99-10AA-4BC4-A104-6EDFB0D0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C885-014B-4C9D-A987-E0DEDBB6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B6F5-DA4C-4D78-BA7F-00F3163D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77A8-4CFD-4BC6-AE6E-59B70F73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C8FE-873F-4735-8D28-09C31C4A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B5A0-05A4-4A57-ADE0-B62E91474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81440" y="-171360"/>
            <a:ext cx="93250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Monotype Corsiva"/>
              </a:rPr>
              <a:t>ДОБРЫЕ ДЕЛ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4330800" cy="5445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427640" y="1700280"/>
            <a:ext cx="47163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-606960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Ученик, возвращаясь из школы, увидел на перекрестке старика, который никак не решался перейти улицу. Мальчик подошел к нему, взял за руку и перевел на другую сторону улицы. Только старик собрался поблагодарить его, как мальчика возле него не оказалос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0920" y="-585360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181440" y="0"/>
            <a:ext cx="9325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Когда старушка-соседка попросила мальчика сходить в магазин и купить ей хлеба, он согласился, но заявил, что за это она должна его чем-то отблагодарит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628640"/>
            <a:ext cx="9144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От добра добро не ищут.</a:t>
            </a:r>
            <a:br>
              <a:rPr sz="4800"/>
            </a:b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Скромность украшает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 героя.</a:t>
            </a:r>
            <a:br>
              <a:rPr sz="6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468360" y="4508640"/>
            <a:ext cx="7164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95280" y="3645000"/>
            <a:ext cx="360360" cy="215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24000" y="2205000"/>
            <a:ext cx="36036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Swis721 BdOul BT"/>
              </a:rPr>
              <a:t>Самое подлое дело, имея возможность, не хотеть сделать добро тому, кто в нем нуждаетс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8686800" cy="538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брые люди, ничто нас не остудит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И не захлопнуть распахнутых дверей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Добрыми будем, и мир добрее будет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Добрыми будем, и будет жизнь добрей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6:45:31Z</dcterms:created>
  <dc:creator>Мышь</dc:creator>
  <dc:description/>
  <dc:language>en-US</dc:language>
  <cp:lastModifiedBy>Мышь</cp:lastModifiedBy>
  <dcterms:modified xsi:type="dcterms:W3CDTF">2010-03-03T17:39:49Z</dcterms:modified>
  <cp:revision>2</cp:revision>
  <dc:subject/>
  <dc:title>От добра добро не ищут. Скромность украшает героя. </dc:title>
</cp:coreProperties>
</file>