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973-2D56-4335-980B-4F68C7E7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595-D805-4AEB-94B8-A51777D0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623D-497E-473E-9690-5ED4A027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AC5-8A15-4CF9-8F1B-AB912CA1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338-A625-4E99-A4FB-2FCD2D45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E82-456A-4A68-BBD5-7E277C19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269-1AFD-4992-B3A8-C2497AB8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03B-B57B-4A37-96BE-7A17ABBA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0CD-2CBB-417B-8926-E8F46AA4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8858-300A-4769-B7DB-F4102B6E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C56-7278-45DF-BC4C-3E10E663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8ED-B24B-421D-9CF5-05B6267D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2E3E-09AE-475F-8CCD-11E27C845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81440" y="-171360"/>
            <a:ext cx="93250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Monotype Corsiva"/>
              </a:rPr>
              <a:t>ДОБРЫЕ ДЕЛ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330800" cy="5445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27640" y="1700280"/>
            <a:ext cx="4716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-60696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ченик, возвращаясь из школы, увидел на перекрестке старика, который никак не решался перейти улицу. Мальчик подошел к нему, взял за руку и перевел на другую сторону улицы. Только старик собрался поблагодарить его, как мальчика возле него не оказалос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-58536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18144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огда старушка-соседка попросила мальчика сходить в магазин и купить ей хлеба, он согласился, но заявил, что за это она должна его чем-то отблагодари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От добра добро не ищут.</a:t>
            </a:r>
            <a:br>
              <a:rPr sz="4800"/>
            </a:b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Скромность украшает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героя.</a:t>
            </a: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468360" y="4508640"/>
            <a:ext cx="7164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60360" cy="21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3603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Swis721 BdOul BT"/>
              </a:rPr>
              <a:t>Самое подлое дело, имея возможность, не хотеть сделать добро тому, кто в нем нуждаетс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868680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рые люди, ничто нас не остудит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 не захлопнуть распахнутых дверей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Добрыми будем, и мир добрее будет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Добрыми будем, и будет жизнь добр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45:31Z</dcterms:created>
  <dc:creator>Мышь</dc:creator>
  <dc:description/>
  <dc:language>en-US</dc:language>
  <cp:lastModifiedBy>Мышь</cp:lastModifiedBy>
  <dcterms:modified xsi:type="dcterms:W3CDTF">2010-03-03T17:39:49Z</dcterms:modified>
  <cp:revision>2</cp:revision>
  <dc:subject/>
  <dc:title>От добра добро не ищут. Скромность украшает героя. </dc:title>
</cp:coreProperties>
</file>