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25E-6530-42C4-AC62-E364F446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B93-6E9A-484B-B76B-30656641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29C-D764-4768-B830-83D575AD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9FD7-47C5-47A4-A373-F99FBEE4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3F0-D39E-47A4-AA5D-42722D40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3C7-8F93-4E81-9E80-5F85DA34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32E-596A-4837-B05E-41212AD2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115-1DC2-4471-B3B5-82CFF663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F10-1E89-481F-BAD9-06BF75DC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6F7-D50D-4AFE-8A5F-843768FF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4CF-F185-44ED-B15E-5C16000F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7E2-4FA5-4C0F-850A-BEB08F6C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3EB9-ABBF-43B1-A4D0-2F3600094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81440" y="-171360"/>
            <a:ext cx="93250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Monotype Corsiva"/>
              </a:rPr>
              <a:t>ДОБРЫЕ ДЕЛ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330800" cy="5445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27640" y="1700280"/>
            <a:ext cx="4716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-60696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ченик, возвращаясь из школы, увидел на перекрестке старика, который никак не решался перейти улицу. Мальчик подошел к нему, взял за руку и перевел на другую сторону улицы. Только старик собрался поблагодарить его, как мальчика возле него не оказалос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-58536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18144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огда старушка-соседка попросила мальчика сходить в магазин и купить ей хлеба, он согласился, но заявил, что за это она должна его чем-то отблагодари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От добра добро не ищут.</a:t>
            </a:r>
            <a:br>
              <a:rPr sz="4800"/>
            </a:b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Скромность украшает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героя.</a:t>
            </a: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468360" y="4508640"/>
            <a:ext cx="7164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60360" cy="21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3603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Swis721 BdOul BT"/>
              </a:rPr>
              <a:t>Самое подлое дело, имея возможность, не хотеть сделать добро тому, кто в нем нуждаетс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868680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рые люди, ничто нас не остудит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 не захлопнуть распахнутых дверей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Добрыми будем, и мир добрее будет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Добрыми будем, и будет жизнь добр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45:31Z</dcterms:created>
  <dc:creator>Мышь</dc:creator>
  <dc:description/>
  <dc:language>en-US</dc:language>
  <cp:lastModifiedBy>Мышь</cp:lastModifiedBy>
  <dcterms:modified xsi:type="dcterms:W3CDTF">2010-03-03T17:39:49Z</dcterms:modified>
  <cp:revision>2</cp:revision>
  <dc:subject/>
  <dc:title>От добра добро не ищут. Скромность украшает героя. </dc:title>
</cp:coreProperties>
</file>