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wmf" ContentType="image/x-wmf"/>
  <Override PartName="/ppt/media/image1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81BD-8095-4280-892D-7A4B5C21FA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6F78-01F2-43FE-984A-2EF773BE8F7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6A79-5B22-4089-B03B-842A7321AD0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8FD3-4CB4-4822-B18D-8A4D804C16B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FD6F-CFDD-47C2-9C4C-AB6F31726E68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32AB-C6F0-4E89-96C7-420D8F60408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8A94-6B32-47CC-B0F6-7B6AB98893F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6C49-CCC8-4DB1-96C0-3ADD18BEAE8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5496-42A7-4A3E-8801-4C05861D88F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B246-78F9-4F2F-8070-5AE14F9B0DD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54A2-836A-4356-8789-230E7F795718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C027-B641-4763-94A4-BAA4D64136F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D4D2-C3D6-4108-BD60-E1663456ADE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9B25-F000-497E-8CBA-F645D80975E8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8728-21F4-4FEE-877B-89EBB383D33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E469-3367-4651-9714-6D1582448EF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7D24-E0E3-4185-905F-6F0C9C06B0E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DA6-E358-48DA-8635-FA3F9C38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391-99BB-44D5-BEEF-67304F07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C5D-9ACD-430E-AAA2-83878C22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356-3986-4C3E-8155-CAA95129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B5CB-888B-4E3F-AE4B-43DA1FB4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DDB2-4F94-480C-BAE3-A66B28CF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D3AE-B404-4C98-84B6-F3890C0C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E7D3-AF2D-4817-A7B1-F332FB88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B780-8FE4-4B96-A423-AA362378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909D-893A-4560-A534-545868F4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5D9F-E820-4D08-AC66-D2E6014C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4C3-7B34-4842-BB63-0B195ED8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2D2D-CD52-4D44-B9BD-CA0767F3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3685-6341-4A95-A065-EDB52C3B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B47F-FA7E-4F77-A450-67AC985D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A230-4CE1-4991-84C4-CB741709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DD1F-6530-4120-A7EE-223D65BA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6801E-33E9-4BF3-A3E8-3C6B9AB0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7174-06B9-4FAE-9627-699C1E27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D9B49-B394-40CE-8F93-1495BE7A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C681-8F63-47CB-8D0A-6352DE20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AB103-B773-452B-8329-34880C0C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A1A-2506-4081-9F98-BFF740BB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B956-72B5-4F9F-B574-A064BCD6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DF5E-D574-4633-BCD3-C619F1E1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30580-68C6-4185-8503-8896D977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6F88C-2E5A-49B6-B4DD-F94CDD58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C06E6-6CC3-4F06-8CBD-CEBBED07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95F3C-F1A8-4BC1-9596-0300A312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D1109-269B-4573-B525-041DDB84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65A-EFE8-4BB3-9CA7-991EE5B4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581-9C15-40BC-AE95-E065C5FF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371-BE5E-4159-9B30-24F83C4C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2D2-F58E-4CB0-985F-98E7FD67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FD6-D22F-4AA5-A516-7152C048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BB8-0358-4EEE-992A-065B3C0C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CF35-BE24-4BF2-BCB7-474EE3B85B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9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9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9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9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0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0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0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1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1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2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2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3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3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3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5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25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5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6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6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7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7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7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8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8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8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8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1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7A90-2B53-4B99-9355-247F626FA06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53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54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55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356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57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58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59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0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1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62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63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4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5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66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7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8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69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0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1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72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3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4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75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6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7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78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9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0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81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2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3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84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5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6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87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8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9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0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1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2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93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4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5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96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7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8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99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0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1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02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3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4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05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6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7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08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9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0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11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2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3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14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5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6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17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8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9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0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1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22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23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4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425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427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28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9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0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31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2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3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34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5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6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37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8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9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0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1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2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43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4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5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46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7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8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49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0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1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52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3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4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55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6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7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58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9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460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61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62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3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4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5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6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7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8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69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470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71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2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3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4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5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6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7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8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9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0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1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2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3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4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54B8-995D-45CA-807A-26D876EE92CC}" type="slidenum">
              <a:rPr b="0" lang="ru-RU" sz="1400" spc="-1" strike="noStrike">
                <a:solidFill>
                  <a:srgbClr val="ffcc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2339640" y="5229360"/>
            <a:ext cx="806436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оспитатель МКДОУ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Бобровский детский сад «Полянка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еребрякова Ольга Сергеев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4" name="Picture 7" descr="6"/>
          <p:cNvPicPr/>
          <p:nvPr/>
        </p:nvPicPr>
        <p:blipFill>
          <a:blip r:embed="rId1"/>
          <a:stretch/>
        </p:blipFill>
        <p:spPr>
          <a:xfrm>
            <a:off x="539640" y="4869000"/>
            <a:ext cx="3311640" cy="1584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0280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4" descr="101_05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56" name="Picture 4" descr="101_05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59" name="Picture 4" descr="101_05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1082520" y="811080"/>
            <a:ext cx="698040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Целевые группы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68000" y="1341000"/>
            <a:ext cx="64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lackadder ITC"/>
              </a:rPr>
              <a:t>Дети</a:t>
            </a:r>
            <a:r>
              <a:rPr b="0" i="1" lang="en-US" sz="2400" spc="-1" strike="noStrike">
                <a:solidFill>
                  <a:srgbClr val="ffffff"/>
                </a:solidFill>
                <a:latin typeface="Blackadder ITC"/>
              </a:rPr>
              <a:t>: специально организованная деятельность, совместная деятельность педагога и ребенка (подгруппы детей), самостоятельная детская деятельност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lackadder ITC"/>
              </a:rPr>
              <a:t>Педагоги</a:t>
            </a:r>
            <a:r>
              <a:rPr b="0" i="1" lang="en-US" sz="2400" spc="-1" strike="noStrike">
                <a:solidFill>
                  <a:srgbClr val="ffffff"/>
                </a:solidFill>
                <a:latin typeface="Blackadder ITC"/>
              </a:rPr>
              <a:t>: активная методическая работа, интеграция деятельности по формированию патриотизм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lackadder ITC"/>
              </a:rPr>
              <a:t>Родители</a:t>
            </a:r>
            <a:r>
              <a:rPr b="0" i="1" lang="en-US" sz="2400" spc="-1" strike="noStrike">
                <a:solidFill>
                  <a:srgbClr val="ffffff"/>
                </a:solidFill>
                <a:latin typeface="Blackadder ITC"/>
              </a:rPr>
              <a:t>: оказание консультативной помощи, содействие педагогам по теме проекта, участие в мероприятиях ДО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63" name="Picture 4" descr="CRCTR058"/>
          <p:cNvPicPr/>
          <p:nvPr/>
        </p:nvPicPr>
        <p:blipFill>
          <a:blip r:embed="rId1"/>
          <a:stretch/>
        </p:blipFill>
        <p:spPr>
          <a:xfrm flipH="1">
            <a:off x="1187280" y="1413000"/>
            <a:ext cx="898560" cy="1224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" descr="CRCTR004"/>
          <p:cNvPicPr/>
          <p:nvPr/>
        </p:nvPicPr>
        <p:blipFill>
          <a:blip r:embed="rId2"/>
          <a:stretch/>
        </p:blipFill>
        <p:spPr>
          <a:xfrm flipH="1">
            <a:off x="1187280" y="4292640"/>
            <a:ext cx="897120" cy="1440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CRCTR291"/>
          <p:cNvPicPr/>
          <p:nvPr/>
        </p:nvPicPr>
        <p:blipFill>
          <a:blip r:embed="rId3"/>
          <a:stretch/>
        </p:blipFill>
        <p:spPr>
          <a:xfrm flipH="1">
            <a:off x="1258560" y="2744640"/>
            <a:ext cx="7030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оманда реализации проект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Де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оспитател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узыкальный руководител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нструктор по физической культур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Родител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AutoShape 6"/>
          <p:cNvSpPr/>
          <p:nvPr/>
        </p:nvSpPr>
        <p:spPr>
          <a:xfrm>
            <a:off x="324000" y="1916280"/>
            <a:ext cx="576000" cy="4941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128880 h 4941720"/>
              <a:gd name="textAreaBottom" fmla="*/ 4812840 h 49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69" name="Picture 7" descr="E:\Серебрякова\100_6967.JPG"/>
          <p:cNvPicPr/>
          <p:nvPr/>
        </p:nvPicPr>
        <p:blipFill>
          <a:blip r:embed="rId1"/>
          <a:stretch/>
        </p:blipFill>
        <p:spPr>
          <a:xfrm>
            <a:off x="4067280" y="2637000"/>
            <a:ext cx="507672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71600" y="22762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одержание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Предпроект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(апрель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haroni"/>
              </a:rPr>
              <a:t>     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Проведение анкетирования родителе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haroni"/>
              </a:rPr>
              <a:t>    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  <a:ea typeface="Aharoni"/>
              </a:rPr>
              <a:t>а</a:t>
            </a:r>
            <a:r>
              <a:rPr b="0" i="1" lang="en-US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нкета для родителей содержала вопросы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Есть ли (были) в Вашей семье участники Великой Отечественной войны (участники трудового фронта, бывшие узники концлагерей)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Знаете ли Вы, где они воевали (трудились, пребывали в заключении)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  <a:ea typeface="Aharoni"/>
              </a:rPr>
              <a:t>Есть ли у них награды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23640" y="2133720"/>
            <a:ext cx="828036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abic Typesetting"/>
              </a:rPr>
              <a:t>      </a:t>
            </a: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ДЕТЯМ ЗАДАЛ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abic Typesetting"/>
              </a:rPr>
              <a:t>А В</a:t>
            </a: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ОПРОСЫ:</a:t>
            </a:r>
            <a:br>
              <a:rPr sz="2000"/>
            </a:b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1. ЗНАЕШЬ ЛИ ТЫ, ЧТО ТАКОЕ ВЕЛИКАЯ ОТЕЧЕСТВЕННАЯ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abic Typesetting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ВОЙНА?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2 .КОГДА ОНА БЫЛА? (ДАВНО ИЛИ НЕДАВНО)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3. КАКИЕ СТРАНЫ В НЕЙ УЧАСТВОВАЛИ?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4 .КТО ОДЕРЖАЛ ПОБЕДУ?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5. КТО-ТО ИЗ ТВОИХ РОДСТВЕННИКОВ        УЧАСТВОВАЛ В ЭТОЙ ВОЙНЕ?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6 .КАКОЙ ПРАЗДНИК ОТМЕЧАЕТСЯ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abic Typesetting"/>
              </a:rPr>
              <a:t> 9 </a:t>
            </a:r>
            <a:r>
              <a:rPr b="0" i="1" lang="en-US" sz="2000" spc="-1" strike="noStrike">
                <a:solidFill>
                  <a:srgbClr val="ffffff"/>
                </a:solidFill>
                <a:latin typeface="Blackadder ITC"/>
                <a:ea typeface="Arabic Typesetting"/>
              </a:rPr>
              <a:t>МАЯ?</a:t>
            </a:r>
            <a:br>
              <a:rPr sz="2400"/>
            </a:b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Интервьюирование дете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Прямоугольник 3"/>
          <p:cNvSpPr/>
          <p:nvPr/>
        </p:nvSpPr>
        <p:spPr>
          <a:xfrm>
            <a:off x="611280" y="558972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зучение литературы по теме проекта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6335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Проект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(май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279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Знакомить детей с художественной литературой о Великой Отечественной войне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Проведение занятий по теме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Просмотр презентаци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Проведение бесед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Выставка детских работ по всем видам ИЗО деятельности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Экскурсия к обелиску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Проведение спортивного досуг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76" name="Picture 7" descr="C:\Users\полянка\Desktop\Серебрякова\фото проект\101_0605.JPG"/>
          <p:cNvPicPr/>
          <p:nvPr/>
        </p:nvPicPr>
        <p:blipFill>
          <a:blip r:embed="rId1"/>
          <a:stretch/>
        </p:blipFill>
        <p:spPr>
          <a:xfrm>
            <a:off x="6502320" y="198900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C:\Users\полянка\Desktop\Серебрякова\фото проект\101_0600.JPG"/>
          <p:cNvPicPr/>
          <p:nvPr/>
        </p:nvPicPr>
        <p:blipFill>
          <a:blip r:embed="rId2"/>
          <a:stretch/>
        </p:blipFill>
        <p:spPr>
          <a:xfrm>
            <a:off x="6502320" y="414972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ё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8" name="о войне.mpg" descr=""/>
          <p:cNvPicPr/>
          <p:nvPr/>
        </p:nvPicPr>
        <p:blipFill>
          <a:blip r:embed="rId1"/>
          <a:stretch/>
        </p:blipFill>
        <p:spPr>
          <a:xfrm>
            <a:off x="-396720" y="0"/>
            <a:ext cx="99010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977" fill="hold"/>
                                        <p:tgtEl>
                                          <p:spTgt spid="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777240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Разработка перспективного планирования по героико-патриотическому воспитанию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Проведение   консультаций по проблеме проекта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Оформление книжных уголков, чтение художественной и методической литературы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Выпуск альбома и папок-передвижек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610920" y="-360"/>
            <a:ext cx="78483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lackadder ITC"/>
              </a:rPr>
              <a:t>Подготовка рекомендаций для родителей «Этот памятный день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lackadder ITC"/>
              </a:rPr>
              <a:t>Выпуск буклета «Читаем и учим с детьми»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lackadder ITC"/>
              </a:rPr>
              <a:t>Родительское собрание «Этих дней не смолкнет слава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lackadder ITC"/>
              </a:rPr>
              <a:t>Оформление альбома  памя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80" name="Picture 6" descr="C:\Users\полянка\Desktop\Серебрякова\фото проект\101_0595.JPG"/>
          <p:cNvPicPr/>
          <p:nvPr/>
        </p:nvPicPr>
        <p:blipFill>
          <a:blip r:embed="rId1"/>
          <a:stretch/>
        </p:blipFill>
        <p:spPr>
          <a:xfrm>
            <a:off x="1908000" y="3429000"/>
            <a:ext cx="47847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Мероприятия проводимы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           с    детьм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Blackadder ITC"/>
              </a:rPr>
              <a:t>	</a:t>
            </a:r>
            <a:r>
              <a:rPr b="1" i="1" lang="en-US" sz="2400" spc="-1" strike="noStrike">
                <a:solidFill>
                  <a:srgbClr val="ffcc00"/>
                </a:solidFill>
                <a:latin typeface="Blackadder ITC"/>
              </a:rPr>
              <a:t>Занятия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Комплексное занятие «День победы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Занятие  «Вспомним те дни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Занятие «Этих дней не смолкнет слава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Обучение рассказыванию  «День победы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Занятие «музыка на войне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Интегрированное тематическое занятие  «Песни фронтовые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Физкультурное занятие  «Мы защитники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Физкультурный досуг посвящённый Дню побед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Просмотр презентаций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День побед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этическая летопис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О той войн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9 ма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1944 год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эзия в песнях военных ле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   </a:t>
            </a: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Беседы о войне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Великая Отечественная Войн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чему война называется Великой Отечественной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Дети и Войн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раздник  «День Побед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бед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Чтение художественной литературы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Особое задани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О блокадном Ленинград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Никто не забыт и ничто не забыт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Геннадий Сталинградович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Титае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Заучивание стихов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День побед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Старый снимо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У обелиск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усть дети не знают войн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гибшим и живым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Рассказ ветеран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усть будет ми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Художественное творчество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делки из бумаги цвет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Складываем салфетку в форме корабля, вечного огня, звезд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делка из бумаги « Объёмная звёздочк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Коллективная работа  оригами «Голубь мир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Рисование  «Тяжёлые годы войн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Рисование «Экскурсия к обелиску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Blackadder ITC"/>
              </a:rPr>
              <a:t>Работа с родителями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дготовка рекомендаций для родителей «Этот памятный день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Выпуск буклета «Читаем и учим с детьм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Выпуск стенгазеты « Наши дед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475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Результативный этап (май 2012 г.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Экскурсия к обелиску ,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возложение цвето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Проведение спортивного досуга, посвящённого  Дню Побед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Анкетирование родителей и детей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Анализ, обобщение и распространение результатов проекта: выступление на педсовете,  размещение материала проекта в сети Интернет 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Актуальность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Дети, начиная с дошкольного возраста, страдают дефицитом знаний о родном крае, стране, особенностях русских традиций, мало знают о подвиге русского народа в борьбе с фашизмом в годы Великой Отечественной войн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Равнодушное отношение к близким людям, товарищам, недостаток сочувствия и сострадания к  чужому горю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Недостаточно сформирована система  работы с родителями по проблеме нравственного и героико-патриотического воспитания в семь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Предполагаемые результат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Систематизированный литературный и иллюстрированный материал по теме «ВОВ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Составленные конспекты занятий, досугов и праздников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Оформленные выставки детских работ, стенды, альбомы, папки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Активное участие родителей в реализации и презентации проекта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Blackadder ITC"/>
              </a:rPr>
              <a:t>Разработанные рекомендации для родителей (какие книги читать детям, стихи для заучиван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C:\Users\полянка\Desktop\Серебрякова\фото обелиск\101_06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95" name="Picture 2" descr="C:\Users\полянка\Desktop\Серебрякова\фото обелиск\101_06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98" name="Picture 2" descr="C:\Users\полянка\Desktop\Серебрякова\фото обелиск\101_0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01" name="Picture 2" descr="C:\Users\полянка\Desktop\Серебрякова\фото обелиск\101_06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04" name="Picture 2" descr="C:\Users\полянка\Desktop\Серебрякова\фото обелиск\101_06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07" name="Picture 2" descr="C:\Users\полянка\Desktop\Серебрякова\фото обелиск\101_06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10" name="Picture 2" descr="C:\Users\полянка\Desktop\Серебрякова\фото обелиск\101_06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7343640" cy="34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lackadder ITC"/>
              </a:rPr>
              <a:t>Герой не гибнет умирая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Blackadder ITC"/>
              </a:rPr>
              <a:t>Двойная жизнь ему дана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Blackadder ITC"/>
              </a:rPr>
              <a:t>И эта жизнь его вторая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Blackadder ITC"/>
              </a:rPr>
              <a:t>Бессмертной славою полн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-757080" y="-316080"/>
            <a:ext cx="90280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аспорт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Тип проекта: групповой, краткосрочны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По содержанию: познавательный творчес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Участники проекта: дети старшей группы, родители, воспитател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Срок реализации: две недел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6127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618920" y="198864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Blackadder ITC"/>
              </a:rPr>
              <a:t>Сформировать у детей чувства исторической сопричастности к своему роду, восстановление утраченных связей между поколениями, способствовать формированию убеждения о недопустимости повторения войн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41385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Обобщить и расширить знания детей о Великой Отечественной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В</a:t>
            </a: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ойне: городах-героях, героях войны, боевых наградах, о работе в тылу и т.д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Выработать систему воспитательно-образовательной работы по теме «ВОВ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Наладить взаимодействие с родителями в воспитании у дошкольников патриотических чувст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Воспитывать патриотические чувства через художественную литературу, театральную деятельность, средствами музыкального и художественно-эстетического воспитан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Blackadder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Blackadder ITC"/>
              </a:rPr>
              <a:t>Воспитывать уважение к ратным подвигам бойцов, гордость за свой народ, любовь а Родин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Условия успешной реализации проект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Создание условий для детской деятельности в рамках проек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Готовность педагога реализации мероприятий проек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Оформление в группе уголка для сюжетно-ролевой игр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Личностно - ориентированное взаимодействие взрослого и ребёнка в процессе осуществления проек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Осуществление тесного сотрудничества со всеми сотрудниками детского сад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Активное участие родителей в проектной деятельност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100_69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100_7205"/>
          <p:cNvPicPr/>
          <p:nvPr/>
        </p:nvPicPr>
        <p:blipFill>
          <a:blip r:embed="rId1"/>
          <a:stretch/>
        </p:blipFill>
        <p:spPr>
          <a:xfrm>
            <a:off x="0" y="0"/>
            <a:ext cx="5607000" cy="4092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101_0597"/>
          <p:cNvPicPr/>
          <p:nvPr/>
        </p:nvPicPr>
        <p:blipFill>
          <a:blip r:embed="rId2"/>
          <a:stretch/>
        </p:blipFill>
        <p:spPr>
          <a:xfrm>
            <a:off x="4356000" y="3284640"/>
            <a:ext cx="4788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0:23:14Z</dcterms:created>
  <dc:creator>Ирина</dc:creator>
  <dc:description/>
  <dc:language>en-US</dc:language>
  <cp:lastModifiedBy>Пользователь</cp:lastModifiedBy>
  <dcterms:modified xsi:type="dcterms:W3CDTF">2012-11-08T05:15:55Z</dcterms:modified>
  <cp:revision>32</cp:revision>
  <dc:subject/>
  <dc:title>«Этих дней не смолкнет слава»</dc:title>
</cp:coreProperties>
</file>