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41E-94B6-4525-8693-B31924B02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CB3-CAD4-482B-9FEE-D3FC7809050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A23-FFFA-4DDF-8C2F-F38C704E316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25C-E8BD-4731-BA7E-B79C0B05360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C47-8120-4E49-86DB-C1BAE7C7BF4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B54-9760-4890-BD73-C121A1EA19C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DD6F-C1BA-4DAF-BFA3-59529F540A6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5931-1178-4730-92E6-D7586995E86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78B0-59E0-4796-9210-95359D949A2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B4A-F3AC-4672-AC52-8F1E7819A15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D1E-A74B-450B-8CB2-1E2228227C6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7DC-C776-48DA-8313-E882DED19F8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C202-0255-42E0-A6BF-D01715DB68A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D01-BAB9-4E6D-9291-791DD30F73A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823-087F-4E84-9880-D49C9F46740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64F-1552-4841-94BC-211C1B948FD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8B6-EB8F-48A1-A9DB-D8DDDED6B67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FDF-2396-4E30-A9D0-4C68CD8A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16B-87F1-4E19-BD26-A849B82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5F8-97FC-4C9E-9CBA-4DECF16C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B8E-20BE-4248-8C06-7EFCC2D4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8943-1E1B-4C67-8BD6-2A31F294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7FED-FFED-40CA-812F-9E0E5CC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97E5-95E6-4545-82F9-EDB5BE1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7091-5976-426D-A2D3-B4305EC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CF9A-7472-402C-83D8-E9BA3B9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6A6C-9CEB-4CD2-8106-C5BC79A7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4889-944A-43C0-839A-41DA8CC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DC-8F95-48D5-B27A-CED22489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0F1-D259-4F8F-88B7-BB796E3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5DD-E7F3-4FC5-92BB-150B03A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4674-8BE0-4C8F-BDEC-59DA3D1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00E9-5C34-400D-9358-29FFA9D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F35-5F87-4AC7-BC9C-3A2C8DB0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1874-4181-48FB-9BC3-9D288C9A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ADA2-B18B-43A8-8118-FFB4EDDD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F475-F4BD-46B2-9FFC-9C5C437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C7F9-1F52-4556-8552-947FFF38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C84E-A4E2-4BC4-A8BA-9CA9C1A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FB4-6E52-4D9A-B5AE-6E9034B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A3AA-9F74-4B63-ACB3-ADE5EC30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8902-1F41-4B7E-912D-B4C39E5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D9F8-7D96-4B81-80DF-E453821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D355-2152-4D90-A604-C14872D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36AD-8BE6-44D1-B862-14599BC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AE56-1696-4897-99B8-FEB8E1A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9EF0-F374-477E-81DB-8AE6DC3B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BAD-BCB8-4978-89FD-3E6C6BE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575-A45A-48D8-88D3-6FA2C7F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A89-4C0B-46DF-BB71-2AFE73A1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C8A-34D8-4A62-990B-78280E9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C96-2EDF-4F39-BDF2-CABB736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B98-0718-4713-81B0-2205D0C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09B-2E00-41B8-AF92-506A3393C1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468-DB28-4FD8-9F64-35418046360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53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4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5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5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7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8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0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1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2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2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2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3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5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6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6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6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70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71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14B-308E-4776-8CB1-2585A2B69D00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339640" y="5229360"/>
            <a:ext cx="8064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оспитатель МК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обровский детский сад «Полянк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еребрякова Ольга Серге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Picture 7" descr="6"/>
          <p:cNvPicPr/>
          <p:nvPr/>
        </p:nvPicPr>
        <p:blipFill>
          <a:blip r:embed="rId1"/>
          <a:stretch/>
        </p:blipFill>
        <p:spPr>
          <a:xfrm>
            <a:off x="539640" y="4869000"/>
            <a:ext cx="331164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101_0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6" name="Picture 4" descr="101_05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9" name="Picture 4" descr="101_05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082520" y="811080"/>
            <a:ext cx="69804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Дет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Педагог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Родител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3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нструктор по физической культур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324000" y="1916280"/>
            <a:ext cx="576000" cy="4941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8880 h 4941720"/>
              <a:gd name="textAreaBottom" fmla="*/ 4812840 h 49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9" name="Picture 7" descr="E:\Серебрякова\100_6967.JPG"/>
          <p:cNvPicPr/>
          <p:nvPr/>
        </p:nvPicPr>
        <p:blipFill>
          <a:blip r:embed="rId1"/>
          <a:stretch/>
        </p:blipFill>
        <p:spPr>
          <a:xfrm>
            <a:off x="4067280" y="2637000"/>
            <a:ext cx="5076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апрел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а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нкета для родителей содержала вопрос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(были) в Вашей семье участники Великой Отечественной войны (участники трудового фронта, бывшие узники концлагерей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Знаете ли Вы, где они воевали (трудились, пребывали в заключении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у них награды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8036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ДЕТЯМ ЗАДАЛ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А В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ОПРОСЫ:</a:t>
            </a:r>
            <a:br>
              <a:rPr sz="2000"/>
            </a:b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1. ЗНАЕШЬ ЛИ ТЫ, ЧТО ТАКОЕ ВЕЛИКАЯ ОТЕЧЕСТВЕННА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ВОЙНА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2 .КОГДА ОНА БЫЛА? (ДАВНО ИЛИ НЕДАВНО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3. КАКИЕ СТРАНЫ В НЕЙ УЧАСТВОВАЛИ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4 .КТО ОДЕРЖАЛ ПОБЕДУ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5. КТО-ТО ИЗ ТВОИХ РОДСТВЕННИКОВ        УЧАСТВОВАЛ В ЭТОЙ ВОЙНЕ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6 .КАКОЙ ПРАЗДНИК ОТМЕЧАЕТС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9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МАЯ?</a:t>
            </a:r>
            <a:br>
              <a:rPr sz="24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Прямоугольник 3"/>
          <p:cNvSpPr/>
          <p:nvPr/>
        </p:nvSpPr>
        <p:spPr>
          <a:xfrm>
            <a:off x="611280" y="558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ма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Знакомить детей с художественной литературой о Великой Отечественной войн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занятий по тем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смотр презентаци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бесе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ставка детских работ по всем видам ИЗО деятель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Экскурсия к обелиск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6" name="Picture 7" descr="C:\Users\полянка\Desktop\Серебрякова\фото проект\101_0605.JPG"/>
          <p:cNvPicPr/>
          <p:nvPr/>
        </p:nvPicPr>
        <p:blipFill>
          <a:blip r:embed="rId1"/>
          <a:stretch/>
        </p:blipFill>
        <p:spPr>
          <a:xfrm>
            <a:off x="650232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C:\Users\полянка\Desktop\Серебрякова\фото проект\101_0600.JPG"/>
          <p:cNvPicPr/>
          <p:nvPr/>
        </p:nvPicPr>
        <p:blipFill>
          <a:blip r:embed="rId2"/>
          <a:stretch/>
        </p:blipFill>
        <p:spPr>
          <a:xfrm>
            <a:off x="6502320" y="414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8" name="о войне.mpg" descr=""/>
          <p:cNvPicPr/>
          <p:nvPr/>
        </p:nvPicPr>
        <p:blipFill>
          <a:blip r:embed="rId1"/>
          <a:stretch/>
        </p:blipFill>
        <p:spPr>
          <a:xfrm>
            <a:off x="-396720" y="0"/>
            <a:ext cx="99010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977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ка перспективного планирования по героико-патриотическому воспитанию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  консультаций по проблеме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ие книжных уголков, чтение художественной и методической литератур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пуск альбома и папок-передвиже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7848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Родительское собран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Оформление альбома  памя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0" name="Picture 6" descr="C:\Users\полянка\Desktop\Серебрякова\фото проект\101_0595.JPG"/>
          <p:cNvPicPr/>
          <p:nvPr/>
        </p:nvPicPr>
        <p:blipFill>
          <a:blip r:embed="rId1"/>
          <a:stretch/>
        </p:blipFill>
        <p:spPr>
          <a:xfrm>
            <a:off x="1908000" y="3429000"/>
            <a:ext cx="4784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Мероприятия проводимы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   с    деть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Заняти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Комплексное занятие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 «Вспомним те дн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учение рассказыванию 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музыка на войн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Интегрированное тематическое занятие  «Песни фронтовы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ое занятие  «Мы защитник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ый досуг посвящённый Дню побед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Просмотр презентаци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тическая летопис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той вой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9 ма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1944 го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зия в песнях военных л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   </a:t>
            </a: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Беседы о войне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еликая Отечественная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чему война называется Великой Отечественной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ти и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раздник  «День Поб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бе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Чтение художественной литературы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собое задани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блокадном Ленинград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Никто не забыт и ничто не забыт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Геннадий Сталинградови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тае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Заучивание стихов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тарый снимо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 обелис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дети не знают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гибшим и живы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ассказ ветера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будет ми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Художественное творчество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и из бумаги цвет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кладываем салфетку в форме корабля, вечного огня, звезд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а из бумаги « Объёмная звёздочк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Коллективная работа  оригами «Голубь ми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 «Тяжёлые годы войн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«Экскурсия к обелиску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Работа с родителям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стенгазеты « Наши д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Экскурсия к обелиску 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зложение цве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, посвящённого  Дню Побе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кетирование родителей и дет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ализ, обобщение и распространение результатов проекта: выступление на педсовете,  размещение материала проекта в сети Интернет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истематизированный литературный и иллюстрированный материал по теме «ВОВ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оставленные конспекты занятий, досугов и праздник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ные выставки детских работ, стенды, альбомы, папк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Активное участие родителей в реализации и презентации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анные рекомендации для родителей (какие книги читать детям, стихи для заучив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полянка\Desktop\Серебрякова\фото обелиск\101_06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5" name="Picture 2" descr="C:\Users\полянка\Desktop\Серебрякова\фото обелиск\101_06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8" name="Picture 2" descr="C:\Users\полянка\Desktop\Серебрякова\фото обелиск\101_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1" name="Picture 2" descr="C:\Users\полянка\Desktop\Серебрякова\фото обелиск\101_06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4" name="Picture 2" descr="C:\Users\полянка\Desktop\Серебрякова\фото обелиск\101_06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7" name="Picture 2" descr="C:\Users\полянка\Desktop\Серебрякова\фото обелиск\101_06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10" name="Picture 2" descr="C:\Users\полянка\Desktop\Серебрякова\фото обелиск\101_06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7343640" cy="34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Герой не гибнет уми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Двойная жизнь ему дана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И эта жизнь его вто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Бессмертной славою полн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-757080" y="-31608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п проекта: групповой, краткосрочны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 содержанию: познавательный творче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частники проекта: дети старшей группы, родители, воспитател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рок реализации: две неде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4138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общить и расширить знания детей о Великой Отечественной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йне: городах-героях, героях войны, боевых наградах, о работе в тылу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ыработать систему воспитательно-образовательной работы по теме «ВОВ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словия успешной реализации проек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Создание условий для детской деятельности в рамках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Готовность педагога реализации мероприятий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формление в группе уголка для сюжетно-ролевой игр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Личностно - ориентированное взаимодействие взрослого и ребёнка в процессе осуществления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существление тесного сотрудничества со всеми сотрудниками детского сад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Активное участие родителей в проектной деятельност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100_6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00_7205"/>
          <p:cNvPicPr/>
          <p:nvPr/>
        </p:nvPicPr>
        <p:blipFill>
          <a:blip r:embed="rId1"/>
          <a:stretch/>
        </p:blipFill>
        <p:spPr>
          <a:xfrm>
            <a:off x="0" y="0"/>
            <a:ext cx="5607000" cy="4092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101_0597"/>
          <p:cNvPicPr/>
          <p:nvPr/>
        </p:nvPicPr>
        <p:blipFill>
          <a:blip r:embed="rId2"/>
          <a:stretch/>
        </p:blipFill>
        <p:spPr>
          <a:xfrm>
            <a:off x="4356000" y="3284640"/>
            <a:ext cx="478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Пользователь</cp:lastModifiedBy>
  <dcterms:modified xsi:type="dcterms:W3CDTF">2012-11-08T05:15:55Z</dcterms:modified>
  <cp:revision>32</cp:revision>
  <dc:subject/>
  <dc:title>«Этих дней не смолкнет слава»</dc:title>
</cp:coreProperties>
</file>