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04D3-B663-4686-A865-6F0F1B8DF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D6BA-C034-402A-ADB3-76E66B4827E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C5A7-7E87-4F45-8B08-6A77DE565AE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C2E-3EA6-4560-86CD-5DA1F4AEF99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2BC-3C5C-4CE7-9543-CDA271E0B93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98D-7627-49A5-A94A-D31740E798B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722A-0C08-47ED-B6C9-0CEBC0DF107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975-9956-4D1F-9F4A-54C64F8B844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AC01-BFA9-4B28-9DDD-5CFDE003B9A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6D75-78EB-4B1C-BB84-A5A9AEA4E94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9F5C-1CA2-4BF5-8FCF-566B0680FA4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B27-38A9-47A3-9F69-95BC6A5068C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915E-E728-47C3-AE60-325306E11CC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B1F6-791E-407B-8F56-A71B27167F6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366E-9E33-4C04-BA97-81B5860455B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D0B9-A5A5-43B1-AFAB-ACE8A1DAA4C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D817-2EFA-4756-B862-ACE59BA2597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E77-8B7D-49E7-8638-EB5BDC61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D19-F76C-49ED-B88D-7CB0639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585-1CF3-4AFD-B571-93BC43E3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EBB-3FCE-480A-BCE9-8DD8A7CD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3C3C-C470-4D10-95A3-67BE34E8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F38F-B7A7-41ED-B35C-69803343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54F1-040A-466C-97F3-EF68A3D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42A2-FBC9-46D5-BA0F-5BBF990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91E9-CBE5-44C4-9C86-BA8C9F5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72D2-1ADF-4156-A09E-40EF594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ED1-ED9B-4696-A2BE-8A13131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B05-AF0C-40C9-95B5-1744B21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8F9-F601-4E71-90B5-6EA1175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8AB8-93CC-4D0C-A386-715CC4E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9CA-5BD9-47FE-AD3C-F4626661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C8D3-48D2-45D5-8351-01C88337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0BC7-F7F7-4630-B645-9D943A5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D510-639D-4DFD-B0BD-DA596E53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8AC8-65A1-48CD-8A3D-F39F975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2E22-719E-4A48-ABF2-655F264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3D05-9805-4B80-8123-E6D7934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8541-E39F-499B-9F7E-F1F06543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681-E1AF-43DC-AEC7-D3BCC4C3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372D-261E-4C47-AC33-ED87833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849D-1A73-48ED-81E9-35719FA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FEF9-4194-4104-91D4-0092259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CA5F-CC38-476F-81B8-848E00C0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89BB-E9AC-4070-A196-E41504F5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361B-2678-43EC-9A97-7BE8BC17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D5EF-F905-4F5A-BF45-BB88A117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535-324F-4657-8987-2721BB1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F7E-8A39-4F8A-8C19-CCCB31F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91B-3539-4689-A34C-2C5F7C5B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19F-D149-49E7-99A7-E4990A9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2F2-CB2C-4FD6-8CC5-9C3067D1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8D3-5D96-4C1D-9500-0C33CC8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7C8A-B25A-44A2-93A3-8D4E097302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5907-EAFE-4042-9FD8-286AB814A6B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53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4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5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6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5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2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3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6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5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78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0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2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3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4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5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6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87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6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5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0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4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17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9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1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2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3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4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25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27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2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1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4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37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0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3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6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9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2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5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7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58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9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60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61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62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9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70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71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95D-2ED6-4DE0-9CCE-DE9F5A690A97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339640" y="5229360"/>
            <a:ext cx="8064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оспитатель МКДО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обровский детский сад «Полянк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еребрякова Ольга Серге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Picture 7" descr="6"/>
          <p:cNvPicPr/>
          <p:nvPr/>
        </p:nvPicPr>
        <p:blipFill>
          <a:blip r:embed="rId1"/>
          <a:stretch/>
        </p:blipFill>
        <p:spPr>
          <a:xfrm>
            <a:off x="539640" y="4869000"/>
            <a:ext cx="331164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101_05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6" name="Picture 4" descr="101_05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9" name="Picture 4" descr="101_05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082520" y="811080"/>
            <a:ext cx="69804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Дет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специально организованная деятельность, совместная деятельность педагога и ребенка (подгруппы детей), самостоятельная детская деятельнос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Педагог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Родител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3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оманда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е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узыкальный руководите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нструктор по физической культур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324000" y="1916280"/>
            <a:ext cx="576000" cy="4941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8880 h 4941720"/>
              <a:gd name="textAreaBottom" fmla="*/ 4812840 h 49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9" name="Picture 7" descr="E:\Серебрякова\100_6967.JPG"/>
          <p:cNvPicPr/>
          <p:nvPr/>
        </p:nvPicPr>
        <p:blipFill>
          <a:blip r:embed="rId1"/>
          <a:stretch/>
        </p:blipFill>
        <p:spPr>
          <a:xfrm>
            <a:off x="4067280" y="2637000"/>
            <a:ext cx="50767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апрел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а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нкета для родителей содержала вопрос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(были) в Вашей семье участники Великой Отечественной войны (участники трудового фронта, бывшие узники концлагерей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Знаете ли Вы, где они воевали (трудились, пребывали в заключении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у них награды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8036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ДЕТЯМ ЗАДАЛ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А В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ОПРОСЫ:</a:t>
            </a:r>
            <a:br>
              <a:rPr sz="2000"/>
            </a:b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1. ЗНАЕШЬ ЛИ ТЫ, ЧТО ТАКОЕ ВЕЛИКАЯ ОТЕЧЕСТВЕННА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ВОЙНА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2 .КОГДА ОНА БЫЛА? (ДАВНО ИЛИ НЕДАВНО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3. КАКИЕ СТРАНЫ В НЕЙ УЧАСТВОВАЛИ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4 .КТО ОДЕРЖАЛ ПОБЕДУ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5. КТО-ТО ИЗ ТВОИХ РОДСТВЕННИКОВ        УЧАСТВОВАЛ В ЭТОЙ ВОЙНЕ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6 .КАКОЙ ПРАЗДНИК ОТМЕЧАЕТС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9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МАЯ?</a:t>
            </a:r>
            <a:br>
              <a:rPr sz="24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Прямоугольник 3"/>
          <p:cNvSpPr/>
          <p:nvPr/>
        </p:nvSpPr>
        <p:spPr>
          <a:xfrm>
            <a:off x="611280" y="55897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335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ма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Знакомить детей с художественной литературой о Великой Отечественной войн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занятий по тем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смотр презентаци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бесе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Выставка детских работ по всем видам ИЗО деятель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Экскурсия к обелиск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спортивного досуг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6" name="Picture 7" descr="C:\Users\полянка\Desktop\Серебрякова\фото проект\101_0605.JPG"/>
          <p:cNvPicPr/>
          <p:nvPr/>
        </p:nvPicPr>
        <p:blipFill>
          <a:blip r:embed="rId1"/>
          <a:stretch/>
        </p:blipFill>
        <p:spPr>
          <a:xfrm>
            <a:off x="6502320" y="1989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C:\Users\полянка\Desktop\Серебрякова\фото проект\101_0600.JPG"/>
          <p:cNvPicPr/>
          <p:nvPr/>
        </p:nvPicPr>
        <p:blipFill>
          <a:blip r:embed="rId2"/>
          <a:stretch/>
        </p:blipFill>
        <p:spPr>
          <a:xfrm>
            <a:off x="6502320" y="4149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8" name="о войне.mpg" descr=""/>
          <p:cNvPicPr/>
          <p:nvPr/>
        </p:nvPicPr>
        <p:blipFill>
          <a:blip r:embed="rId1"/>
          <a:stretch/>
        </p:blipFill>
        <p:spPr>
          <a:xfrm>
            <a:off x="-396720" y="0"/>
            <a:ext cx="99010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977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Разработка перспективного планирования по героико-патриотическому воспитанию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  консультаций по проблеме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Оформление книжных уголков, чтение художественной и методической литератур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Выпуск альбома и папок-передвиже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7848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Выпуск буклета «Читаем и учим с детьми»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Родительское собрание «Этих дней не смолкнет слав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Оформление альбома  памя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0" name="Picture 6" descr="C:\Users\полянка\Desktop\Серебрякова\фото проект\101_0595.JPG"/>
          <p:cNvPicPr/>
          <p:nvPr/>
        </p:nvPicPr>
        <p:blipFill>
          <a:blip r:embed="rId1"/>
          <a:stretch/>
        </p:blipFill>
        <p:spPr>
          <a:xfrm>
            <a:off x="1908000" y="3429000"/>
            <a:ext cx="4784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Мероприятия проводимы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   с    деть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Blackadder ITC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Blackadder ITC"/>
              </a:rPr>
              <a:t>Занятия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Комплексное занятие «День победы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 «Вспомним те дн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«Этих дней не смолкнет слав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бучение рассказыванию  «День победы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«музыка на войне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Интегрированное тематическое занятие  «Песни фронтовые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Физкультурное занятие  «Мы защитник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Физкультурный досуг посвящённый Дню побед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Просмотр презентаций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этическая летопис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 той вой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9 ма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1944 го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эзия в песнях военных ле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   </a:t>
            </a: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Беседы о войне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еликая Отечественная Вой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чему война называется Великой Отечественной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ти и Вой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раздник  «День Побед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бе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Чтение художественной литературы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собое задани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 блокадном Ленинград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Никто не забыт и ничто не забыт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Геннадий Сталинградови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Титае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Заучивание стихов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тарый снимо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У обелис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усть дети не знают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гибшим и живы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ассказ ветера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усть будет ми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Художественное творчество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елки из бумаги цвет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кладываем салфетку в форме корабля, вечного огня, звезд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елка из бумаги « Объёмная звёздочк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Коллективная работа  оригами «Голубь ми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исование  «Тяжёлые годы войн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исование «Экскурсия к обелиску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Работа с родителям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ыпуск буклета «Читаем и учим с детьм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ыпуск стенгазеты « Наши дед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Результативный этап (май 2012 г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Экскурсия к обелиску 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зложение цвет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Проведение спортивного досуга, посвящённого  Дню Побе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Анкетирование родителей и дете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Анализ, обобщение и распространение результатов проекта: выступление на педсовете,  размещение материала проекта в сети Интернет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Систематизированный литературный и иллюстрированный материал по теме «ВОВ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Составленные конспекты занятий, досугов и праздник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Оформленные выставки детских работ, стенды, альбомы, папк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Активное участие родителей в реализации и презентации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Разработанные рекомендации для родителей (какие книги читать детям, стихи для заучив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C:\Users\полянка\Desktop\Серебрякова\фото обелиск\101_06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5" name="Picture 2" descr="C:\Users\полянка\Desktop\Серебрякова\фото обелиск\101_06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8" name="Picture 2" descr="C:\Users\полянка\Desktop\Серебрякова\фото обелиск\101_0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1" name="Picture 2" descr="C:\Users\полянка\Desktop\Серебрякова\фото обелиск\101_06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4" name="Picture 2" descr="C:\Users\полянка\Desktop\Серебрякова\фото обелиск\101_06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7" name="Picture 2" descr="C:\Users\полянка\Desktop\Серебрякова\фото обелиск\101_06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10" name="Picture 2" descr="C:\Users\полянка\Desktop\Серебрякова\фото обелиск\101_06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7343640" cy="34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Герой не гибнет умирая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Двойная жизнь ему дана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И эта жизнь его вторая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Бессмертной славою полн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-757080" y="-31608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спорт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Тип проекта: групповой, краткосрочны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 содержанию: познавательный творче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Участники проекта: дети старшей группы, родители, воспитател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рок реализации: две недел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4138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бобщить и расширить знания детей о Великой Отечественной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йне: городах-героях, героях войны, боевых наградах, о работе в тылу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ыработать систему воспитательно-образовательной работы по теме «ВОВ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Условия успешной реализации проек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Создание условий для детской деятельности в рамках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Готовность педагога реализации мероприятий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формление в группе уголка для сюжетно-ролевой игр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Личностно - ориентированное взаимодействие взрослого и ребёнка в процессе осуществления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существление тесного сотрудничества со всеми сотрудниками детского сад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Активное участие родителей в проектной деятельност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100_6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00_7205"/>
          <p:cNvPicPr/>
          <p:nvPr/>
        </p:nvPicPr>
        <p:blipFill>
          <a:blip r:embed="rId1"/>
          <a:stretch/>
        </p:blipFill>
        <p:spPr>
          <a:xfrm>
            <a:off x="0" y="0"/>
            <a:ext cx="5607000" cy="4092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101_0597"/>
          <p:cNvPicPr/>
          <p:nvPr/>
        </p:nvPicPr>
        <p:blipFill>
          <a:blip r:embed="rId2"/>
          <a:stretch/>
        </p:blipFill>
        <p:spPr>
          <a:xfrm>
            <a:off x="4356000" y="3284640"/>
            <a:ext cx="478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Пользователь</cp:lastModifiedBy>
  <dcterms:modified xsi:type="dcterms:W3CDTF">2012-11-08T05:15:55Z</dcterms:modified>
  <cp:revision>32</cp:revision>
  <dc:subject/>
  <dc:title>«Этих дней не смолкнет слава»</dc:title>
</cp:coreProperties>
</file>