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F47-3BB8-4784-B872-445D32F5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61B-9D04-4301-BC27-2B53A5BD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3B8-3742-412B-9B78-59703BF2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0FA-FD7E-4E04-9D52-28899696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8AB5-140E-409F-9ACF-5A4DBCA8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28E-3EF9-4B89-A082-81C9791B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136B-DDEE-4518-B4D5-83442E37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4401-CD7B-4D19-9D58-00F072CE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EA23-86CD-4282-A520-DF14BF11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ECCA-B01D-43B0-A6C2-978FA72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E97F-5D20-43D8-B7DF-129F9C3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458-763F-4FFB-9C99-93ED98EF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08F1-51B3-4468-BB57-BFE4C63C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5DA7-A03C-4D35-BE09-2FD18337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88EF-A7E0-4899-B800-B4EF9171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46E2-A48F-4983-8C24-4D9900CF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4877-94BA-49FD-976C-668CA9DB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74E-61B1-4472-8114-CFB8929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7F5-A2A9-466A-8CA8-255FBB9D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E2D-D190-4EFE-9A40-D62A29DA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B65-1555-4F1E-989C-74130061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69A-F822-416D-892B-22B326A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564-F2A5-46C3-B832-FD8320E4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9D8-17F1-4574-82C6-2BF115D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9F8C-DE44-47BB-9754-1A7A922212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A30F-2876-4A38-8B56-D1C46627E9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adiohit.net.pl/img_news/big/1310334574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chelovek/Professii-5.files/0005-005-Konditer.png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hyperlink" Target="http://i041.radikal.ru/0801/a9/24b1b5e6789c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allery.forum-grad.ru/files/6/6/6/8/9/gl-ber-ru5a_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riansk.ru/images/m230215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s/chelovek/Professii-5.files/0009-009-Arkhitektor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chelovek/Professii-01.files/0008-007-Professii-01.png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4desktop.ru/wallpaper/4desktop_ru_TSirk_1024_3214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xrest.ru/images/collection/00826/388/original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.ria.ua/photos/ria/news_common/16/1663/166348/166348m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9efee"/>
                </a:solidFill>
                <a:latin typeface="Garamond"/>
              </a:rPr>
              <a:t>День карьер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8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3483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 огнем бороться мы долж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ы смелые и храбр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ы очень людям всем нуж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ак кто же м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Картинка 48 из 1569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1557360"/>
            <a:ext cx="45021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гадай профессию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 картинк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Картинка 29 из 564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916280"/>
            <a:ext cx="316224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35 из 56484"/>
          <p:cNvPicPr/>
          <p:nvPr/>
        </p:nvPicPr>
        <p:blipFill>
          <a:blip r:embed="rId4"/>
          <a:stretch/>
        </p:blipFill>
        <p:spPr>
          <a:xfrm>
            <a:off x="3048120" y="1523880"/>
            <a:ext cx="3047760" cy="3810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38 из 56484"/>
          <p:cNvPicPr/>
          <p:nvPr/>
        </p:nvPicPr>
        <p:blipFill>
          <a:blip r:embed="rId5"/>
          <a:stretch/>
        </p:blipFill>
        <p:spPr>
          <a:xfrm>
            <a:off x="5003640" y="206064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54 из 56483"/>
          <p:cNvPicPr/>
          <p:nvPr/>
        </p:nvPicPr>
        <p:blipFill>
          <a:blip r:embed="rId6"/>
          <a:stretch/>
        </p:blipFill>
        <p:spPr>
          <a:xfrm>
            <a:off x="3492360" y="2708280"/>
            <a:ext cx="202896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Картинка 111 из 56482"/>
          <p:cNvPicPr/>
          <p:nvPr/>
        </p:nvPicPr>
        <p:blipFill>
          <a:blip r:embed="rId7"/>
          <a:stretch/>
        </p:blipFill>
        <p:spPr>
          <a:xfrm>
            <a:off x="611280" y="2852640"/>
            <a:ext cx="3047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9а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Юрис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867040" cy="2847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38 из 63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1240" y="1413000"/>
            <a:ext cx="3376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9б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ускай лекарство пить н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кусно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ускай чуть-чуть боля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кол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ы к ней придёшь больной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рустны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йдёшь - здоровый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есёлы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Картинка 22 из 1440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5960" y="2708280"/>
            <a:ext cx="384804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0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6" name="" descr="Картинка 118 из 226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197000"/>
            <a:ext cx="741672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1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" descr="Картинка 15 из 495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197000"/>
            <a:ext cx="72741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2, 3, 4 класс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Все профессии важны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выбирай на вкус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08720" y="549360"/>
            <a:ext cx="2735280" cy="1896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0480" cy="26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Картинка 70 из 27568"/>
          <p:cNvPicPr/>
          <p:nvPr/>
        </p:nvPicPr>
        <p:blipFill>
          <a:blip r:embed="rId4"/>
          <a:stretch/>
        </p:blipFill>
        <p:spPr>
          <a:xfrm>
            <a:off x="5364000" y="4508640"/>
            <a:ext cx="2722680" cy="19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Продолжи предложе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рактор водит 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Электричк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тены выкрасил 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Доску выстругал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доме свет провёл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шахте трудится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жаркой кузниц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Кто всё знает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5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5444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Артис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Картинка 21 из 1440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341360"/>
            <a:ext cx="4392720" cy="427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0 из 6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84464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оедини правильные отв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Шить рубашку и брю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верлить отверст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мерять температур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тографиро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ушить пожа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бивать гвозд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1773360"/>
            <a:ext cx="3141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рел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радус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тоаппара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Молот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 швейной маш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ес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188640"/>
            <a:ext cx="79246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00" y="2636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Парикмахер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557360"/>
            <a:ext cx="3916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обери название професс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С о в л е т а 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В с а щ к и 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Р п в а 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М т е а л р г у 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7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6021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Стро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Картинка 15 из 144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197000"/>
            <a:ext cx="619272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Угадай профессию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бо, самолет, штурвал, аэропорт, тра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ческа, ножницы, зеркало, лак для волос, фе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тради, школа, доска, мел, журн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руз, колесо, дорога, руль, маш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16:26:49Z</dcterms:created>
  <dc:creator>User</dc:creator>
  <dc:description/>
  <dc:language>en-US</dc:language>
  <cp:lastModifiedBy>user</cp:lastModifiedBy>
  <dcterms:modified xsi:type="dcterms:W3CDTF">2012-02-07T16:48:41Z</dcterms:modified>
  <cp:revision>5</cp:revision>
  <dc:subject/>
  <dc:title>День карьеры</dc:title>
</cp:coreProperties>
</file>