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E67-BF1E-455E-BD7F-145D8714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4FB-CF38-4FC6-B23A-E07740A4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97B-C141-43E0-A99B-9781324F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641-E1D4-49CB-A416-BD726D4D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F199-BE28-4DB5-A8B3-9DCB44C8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287D-351B-4296-BC1F-07414A34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26FC-6F85-474A-A9A8-4195454F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0F84-86DB-43FB-9C59-2706255F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1304-766A-4FAD-B560-CA25D30D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2786-DA72-401C-B61D-AC31C897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31AD-CA5A-497C-81BC-A0F8806C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2B9-984A-469A-B87C-C7A398BC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7F86-FC77-495D-B032-26ABE5B6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B24A-2279-4CCE-8AF0-7243D5D8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0D80-7576-43A5-B6F5-55C9FBF2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88E4-0959-41D4-9526-773D4467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3D71-177F-4462-AAA6-B597E764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CA4-7B0B-4556-BCCE-9489ACF0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F3E-9113-44EA-9369-4689CE25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F8E-261D-4155-9F33-70A11D24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949-FA4B-4FBF-8D6D-DC451BEE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68E-3FD1-498E-89A4-D464B414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B96-2506-4900-9899-D3D226CC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8F4-ECCA-44EE-91D7-26B035BB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A871-A13B-44BC-90DC-DFC60DEBA7A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E952-12AE-4037-BB0A-F25D96EDDEB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adiohit.net.pl/img_news/big/1310334574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datai/chelovek/Professii-5.files/0005-005-Konditer.png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hyperlink" Target="http://i041.radikal.ru/0801/a9/24b1b5e6789c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gallery.forum-grad.ru/files/6/6/6/8/9/gl-ber-ru5a_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riansk.ru/images/m230215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datas/chelovek/Professii-5.files/0009-009-Arkhitektor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datai/chelovek/Professii-01.files/0008-007-Professii-01.png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4desktop.ru/wallpaper/4desktop_ru_TSirk_1024_3214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xrest.ru/images/collection/00826/388/original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.ria.ua/photos/ria/news_common/16/1663/166348/166348m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9efee"/>
                </a:solidFill>
                <a:latin typeface="Garamond"/>
              </a:rPr>
              <a:t>День карьер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8 класс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3483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 огнем бороться мы долж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ы смелые и храбр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ы очень людям всем нуж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Так кто же мы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Картинка 48 из 1569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1557360"/>
            <a:ext cx="450216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гадай профессию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 картинк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" descr="Картинка 29 из 5648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916280"/>
            <a:ext cx="3162240" cy="3809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Картинка 35 из 56484"/>
          <p:cNvPicPr/>
          <p:nvPr/>
        </p:nvPicPr>
        <p:blipFill>
          <a:blip r:embed="rId4"/>
          <a:stretch/>
        </p:blipFill>
        <p:spPr>
          <a:xfrm>
            <a:off x="3048120" y="1523880"/>
            <a:ext cx="3047760" cy="3810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артинка 38 из 56484"/>
          <p:cNvPicPr/>
          <p:nvPr/>
        </p:nvPicPr>
        <p:blipFill>
          <a:blip r:embed="rId5"/>
          <a:stretch/>
        </p:blipFill>
        <p:spPr>
          <a:xfrm>
            <a:off x="5003640" y="2060640"/>
            <a:ext cx="3048120" cy="3809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54 из 56483"/>
          <p:cNvPicPr/>
          <p:nvPr/>
        </p:nvPicPr>
        <p:blipFill>
          <a:blip r:embed="rId6"/>
          <a:stretch/>
        </p:blipFill>
        <p:spPr>
          <a:xfrm>
            <a:off x="3492360" y="2708280"/>
            <a:ext cx="2028960" cy="380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Картинка 111 из 56482"/>
          <p:cNvPicPr/>
          <p:nvPr/>
        </p:nvPicPr>
        <p:blipFill>
          <a:blip r:embed="rId7"/>
          <a:stretch/>
        </p:blipFill>
        <p:spPr>
          <a:xfrm>
            <a:off x="611280" y="2852640"/>
            <a:ext cx="3047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9а класс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389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Юрист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2867040" cy="2847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Картинка 38 из 631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1240" y="1413000"/>
            <a:ext cx="33768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9б клас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ускай лекарство пить н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кусно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ускай чуть-чуть боля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уколы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ы к ней придёшь больной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грустный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Уйдёшь - здоровый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есёлы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Картинка 22 из 1440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5960" y="2708280"/>
            <a:ext cx="384804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0 клас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6" name="" descr="Картинка 118 из 2266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197000"/>
            <a:ext cx="741672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1 клас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8" name="" descr="Картинка 15 из 495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1197000"/>
            <a:ext cx="727416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2, 3, 4 класс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Все профессии важны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выбирай на вкус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408720" y="549360"/>
            <a:ext cx="2735280" cy="1896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2130480" cy="266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Картинка 70 из 27568"/>
          <p:cNvPicPr/>
          <p:nvPr/>
        </p:nvPicPr>
        <p:blipFill>
          <a:blip r:embed="rId4"/>
          <a:stretch/>
        </p:blipFill>
        <p:spPr>
          <a:xfrm>
            <a:off x="5364000" y="4508640"/>
            <a:ext cx="2722680" cy="19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Продолжи предложени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Трактор водит 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Электричк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тены выкрасил 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Доску выстругал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 доме свет провёл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 шахте трудится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 жаркой кузнице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Кто всё знает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5 клас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544464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Артис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Картинка 21 из 1440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1341360"/>
            <a:ext cx="4392720" cy="4275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Картинка 10 из 6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1844640"/>
            <a:ext cx="50770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оедини правильные отве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Шить рубашку и брю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верлить отверст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Измерять температур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Фотографирова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ушить пожа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Забивать гвозди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1773360"/>
            <a:ext cx="3141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Дрел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Градусни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Фотоаппара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Молот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 швейной маш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ес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188640"/>
            <a:ext cx="79246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6 класс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48000" y="263664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Парикмахер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557360"/>
            <a:ext cx="391644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обери название професси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С о в л е т а 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В с а щ к и 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Р п в а 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М т е а л р г у 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7 класс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602136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Стро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Картинка 15 из 1440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1197000"/>
            <a:ext cx="6192720" cy="45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Угадай профессию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бо, самолет, штурвал, аэропорт, трап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сческа, ножницы, зеркало, лак для волос, фе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етради, школа, доска, мел, журн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руз, колесо, дорога, руль, маш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1T16:26:49Z</dcterms:created>
  <dc:creator>User</dc:creator>
  <dc:description/>
  <dc:language>en-US</dc:language>
  <cp:lastModifiedBy>user</cp:lastModifiedBy>
  <dcterms:modified xsi:type="dcterms:W3CDTF">2012-02-07T16:48:41Z</dcterms:modified>
  <cp:revision>5</cp:revision>
  <dc:subject/>
  <dc:title>День карьеры</dc:title>
</cp:coreProperties>
</file>