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329-21AF-4987-8295-09CC4725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854-FAD2-4FB8-83C5-277CDCF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6AA-D896-4777-90A4-7CB06720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9DE-C01F-4BF1-9231-43BA4C5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5AB9-435F-4B8A-B342-9D524C79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661-7254-4060-8349-8A723026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E2E-3FA2-4B2C-A124-E290D0D0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32B8-170D-4B3B-BC6B-12816DF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61B3-7ADC-4FA8-A5B7-4E79826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8E89-763E-4712-B4BE-B698799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D86-4F5C-4493-8068-3ED9F99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DE8-6157-4BFD-8C3F-65B54A8F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F8D8-60FB-4F42-9F27-54AACDD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D86E-32DC-44C3-AE5C-9EA9F58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2706-5406-49AA-956B-00752DE1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435F-0131-4765-9DA1-251512F3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0E17-7C5B-4509-8064-98491C98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7BE-767F-4BDE-A5C6-43D871A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CE8-C8F0-47A7-A5A3-211B1EA6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229-DE56-4461-88BF-8C1FF32C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91E-935B-45D8-BFB0-2B08042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7E7-ABD7-40AC-8EC4-3FE8EDE5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3F6-C332-4E62-8BB4-E01866F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06A-9FB6-4BB7-B404-8D8206D9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A50-5DEA-460E-99E2-E0D1E2DA3D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D75-1DA7-4160-ABA0-9A8FB3E3D0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adiohit.net.pl/img_news/big/13103345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chelovek/Professii-5.files/0005-005-Konditer.pn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i041.radikal.ru/0801/a9/24b1b5e6789c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allery.forum-grad.ru/files/6/6/6/8/9/gl-ber-ru5a_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riansk.ru/images/m230215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s/chelovek/Professii-5.files/0009-009-Arkhitektor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chelovek/Professii-01.files/0008-007-Professii-01.pn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4desktop.ru/wallpaper/4desktop_ru_TSirk_1024_3214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rest.ru/images/collection/00826/388/original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.ria.ua/photos/ria/news_common/16/1663/166348/166348m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9efee"/>
                </a:solidFill>
                <a:latin typeface="Garamond"/>
              </a:rPr>
              <a:t>День карьер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8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483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 огнем бороться мы долж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смелые и храбр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очень людям всем нуж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ак кто же м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Картинка 48 из 156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1557360"/>
            <a:ext cx="45021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гадай профессию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 картин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Картинка 29 из 564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1628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35 из 56484"/>
          <p:cNvPicPr/>
          <p:nvPr/>
        </p:nvPicPr>
        <p:blipFill>
          <a:blip r:embed="rId4"/>
          <a:stretch/>
        </p:blipFill>
        <p:spPr>
          <a:xfrm>
            <a:off x="3048120" y="1523880"/>
            <a:ext cx="3047760" cy="381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38 из 56484"/>
          <p:cNvPicPr/>
          <p:nvPr/>
        </p:nvPicPr>
        <p:blipFill>
          <a:blip r:embed="rId5"/>
          <a:stretch/>
        </p:blipFill>
        <p:spPr>
          <a:xfrm>
            <a:off x="5003640" y="206064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54 из 56483"/>
          <p:cNvPicPr/>
          <p:nvPr/>
        </p:nvPicPr>
        <p:blipFill>
          <a:blip r:embed="rId6"/>
          <a:stretch/>
        </p:blipFill>
        <p:spPr>
          <a:xfrm>
            <a:off x="3492360" y="2708280"/>
            <a:ext cx="202896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Картинка 111 из 56482"/>
          <p:cNvPicPr/>
          <p:nvPr/>
        </p:nvPicPr>
        <p:blipFill>
          <a:blip r:embed="rId7"/>
          <a:stretch/>
        </p:blipFill>
        <p:spPr>
          <a:xfrm>
            <a:off x="611280" y="2852640"/>
            <a:ext cx="3047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9а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Юрис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867040" cy="2847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38 из 63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1240" y="1413000"/>
            <a:ext cx="3376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9б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ускай лекарство пить 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кусн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ускай чуть-чуть боля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кол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ы к ней придёшь больной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устны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йдёшь - здоровый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сёлы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Картинка 22 из 14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5960" y="2708280"/>
            <a:ext cx="38480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0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6" name="" descr="Картинка 118 из 226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197000"/>
            <a:ext cx="741672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1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" descr="Картинка 15 из 49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197000"/>
            <a:ext cx="72741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, 3, 4 клас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се профессии важны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ыбирай на вку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8720" y="549360"/>
            <a:ext cx="2735280" cy="189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048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ртинка 70 из 27568"/>
          <p:cNvPicPr/>
          <p:nvPr/>
        </p:nvPicPr>
        <p:blipFill>
          <a:blip r:embed="rId4"/>
          <a:stretch/>
        </p:blipFill>
        <p:spPr>
          <a:xfrm>
            <a:off x="5364000" y="4508640"/>
            <a:ext cx="272268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родолжи предложе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актор водит 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Электричк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тены выкрасил 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Доску выстругал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доме свет провёл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шахте трудится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жаркой кузниц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Кто всё знает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5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5444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Артис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Картинка 21 из 14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341360"/>
            <a:ext cx="4392720" cy="427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0 из 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84464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оедини правильные отв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Шить рубашку и брю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верлить отверст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мерять температур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тограф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ушить пожа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бивать гвозд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773360"/>
            <a:ext cx="314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ре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адус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тоаппара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лот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швейной маш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ес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9246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00" y="2636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арикмахер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557360"/>
            <a:ext cx="3916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обери название професс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 о в л е т а 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 с а щ к и 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Р п в а 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М т е а л р г у 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7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Стро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Картинка 15 из 144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197000"/>
            <a:ext cx="619272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Угадай профессию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бо, самолет, штурвал, аэропорт, тра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ческа, ножницы, зеркало, лак для волос, ф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тради, школа, доска, мел, журн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руз, колесо, дорога, руль, маш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6:26:49Z</dcterms:created>
  <dc:creator>User</dc:creator>
  <dc:description/>
  <dc:language>en-US</dc:language>
  <cp:lastModifiedBy>user</cp:lastModifiedBy>
  <dcterms:modified xsi:type="dcterms:W3CDTF">2012-02-07T16:48:41Z</dcterms:modified>
  <cp:revision>5</cp:revision>
  <dc:subject/>
  <dc:title>День карьеры</dc:title>
</cp:coreProperties>
</file>