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3D5-064D-43F8-8E45-D7A6D375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4C8-7900-4591-86AB-43A520F0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B38-6CDD-4A15-AFDC-E82D4B03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9F2-8886-425E-88A5-5883586D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5D05-4B2B-42E2-9E01-7B2B72C1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A213-75B6-4D7B-9E75-385530A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0178-175F-46FA-A3DC-935F3565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3DC4-15FF-44CD-AD4B-DE89966E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5D5F-595E-4783-ADDD-6504CE40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F2A9-89A7-4AE3-8BD1-556649F1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72F5-9C21-444A-BA73-7E27A884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355-0881-410F-AF46-24071B87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F2EA-665B-4737-918E-03153150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EAA3-65C7-4365-8D05-FEA39565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F4F1-F14E-4811-B5E6-B0398B5D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0168-A4F2-4988-AFB9-B1107297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49A6-8E14-43F2-AAE7-B196B36F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D40-61B0-411E-B221-F9EF5851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A1E-7516-43AB-9CCA-D387929C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785-B69B-4905-8A51-F3301B97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F08-23AD-482E-8680-988E7766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66F-0CE0-4792-96DD-3DA05E06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BD9-41AC-41CA-86C9-197E7AF1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F82-1C5A-4E5E-9CE7-CDA0A4A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FA57-1956-4D88-A0D6-B0B332D6B9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70E2-5315-4E28-89BB-68D564361C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8288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cc66"/>
                </a:solidFill>
                <a:latin typeface="Times New Roman"/>
              </a:rPr>
              <a:t>Деление</a:t>
            </a:r>
            <a:endParaRPr b="0" i="1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Ни одно число нельзя  делить на нуль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При делении любого числа  на 1 получается это же число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При делении нуля на число получается нуль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Вычислите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3-39                  94-19                      47+2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4                      :25                           :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5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+2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+55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 -1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                      ?                                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2.Подумайте, как проще выполнить умножение и вычитание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а) 19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2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б) 4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27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с) 13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6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3. Угадайте корни уравнения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а) 15 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 а =15 : а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б) 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z + z = z 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z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в) у 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 10 = у : 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4. Заполните таблицу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05740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5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0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50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а + 2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Кроссворд (по горизонтали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диница длин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Часть прямой, ограниченная одной точко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рифметические действи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аименьшее натуральное число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Графический диктант.</a:t>
            </a:r>
            <a:br>
              <a:rPr sz="3600"/>
            </a:b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Ответ «да» соответствует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—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, ответ «нет» - </a:t>
            </a:r>
            <a:r>
              <a:rPr b="0" i="1" lang="en-US" sz="3600" spc="-1" strike="noStrike">
                <a:solidFill>
                  <a:srgbClr val="ffcc66"/>
                </a:solidFill>
                <a:latin typeface="Symbol"/>
                <a:ea typeface="Symbol"/>
              </a:rPr>
              <a:t>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125х = 1000;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x=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:16 =74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75:х = 3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3;  x=2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9 = 810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47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 =0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99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 =99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84: х = 6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6;  x=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 : 76 = 1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7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:71=0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7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:29 = 1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;  x=319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Проверка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—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Times New Roman"/>
              </a:rPr>
              <a:t>48: 4 = 12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19320" y="25909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48 – делимое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4 – делитель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12 – частное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23:38:45Z</dcterms:created>
  <dc:creator>USER15</dc:creator>
  <dc:description/>
  <dc:language>en-US</dc:language>
  <cp:lastModifiedBy>Парфёнов</cp:lastModifiedBy>
  <dcterms:modified xsi:type="dcterms:W3CDTF">2009-10-29T05:38:57Z</dcterms:modified>
  <cp:revision>14</cp:revision>
  <dc:subject/>
  <dc:title>Презентация PowerPoint</dc:title>
</cp:coreProperties>
</file>