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FAC-BF36-4F7B-922C-4FDEEACA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437-469C-4F48-B986-E973775D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7E5-583F-43A3-8720-B943D96E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B0F-2C20-4A52-9B41-75BDB696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561E-DEB4-4A52-B541-329790D8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DC91-CF14-412C-8EA5-87DB4D2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BF2-2B20-4763-8FB7-6ED7692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BDB5-DCB8-48C8-B7FA-DA6671D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3CC-A397-4E23-86CF-E7EE36EC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091-6434-4187-B7FC-F01C02FA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D7F1-9100-455C-B932-32FCD691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E60-5C41-4921-8142-C761EA4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BB3-B5E2-4543-9D7D-B74E266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776-F52B-4E9A-BE12-BBA0108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A706-3C8E-40F3-8AD6-660C910D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B8C1-F3B0-452C-86EF-3B29AFC0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AD0F-7002-43AD-9EA5-00AAAEEC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CC3-0D39-40C9-B593-D143632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2CE-3E4F-4FFB-8DB0-F54273E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E16-8390-44D7-86FC-8FA61EA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0A0-50DA-409F-B3B9-43D32DE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38-B8EC-4C33-9F01-272A3A4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BCE-84B6-4721-AF3B-0046C50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FA2-1278-4BDC-B93A-C71B279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E4E9-C934-4102-A1E3-0418F2A1EB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77EB-D4E1-4C02-AAA7-30FBBF8DE2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288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Деление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Ни одно число нельзя  делить на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любого числа  на 1 получается это же число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нуля на число получается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Вычислите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3-39                  94-19                      47+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4                      :25                           :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+2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+55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-1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                      ?                               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.Подумайте, как проще выполнить умножение и вычитание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а) 19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2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б) 4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7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с) 13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. Угадайте корни уравнения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а) 15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а =15 : 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б) 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z + z = z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в) у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10 = у : 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. Заполните таблицу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а + 2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Кроссворд (по горизонтали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диница дли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Часть прямой, ограниченная одной точк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рифметические действи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именьшее натуральное число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Графический диктант.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Ответ «да» соответствует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—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, ответ «нет» - </a:t>
            </a:r>
            <a:r>
              <a:rPr b="0" i="1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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25х = 1000;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=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16 =74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5:х = 3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3;  x=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 = 81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7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9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99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4: х = 6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6;  x=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: 76 = 1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71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29 = 1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  x=319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Проверк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48: 4 = 12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8 – делимое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 – дели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12 – частное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3:38:45Z</dcterms:created>
  <dc:creator>USER15</dc:creator>
  <dc:description/>
  <dc:language>en-US</dc:language>
  <cp:lastModifiedBy>Парфёнов</cp:lastModifiedBy>
  <dcterms:modified xsi:type="dcterms:W3CDTF">2009-10-29T05:38:57Z</dcterms:modified>
  <cp:revision>14</cp:revision>
  <dc:subject/>
  <dc:title>Презентация PowerPoint</dc:title>
</cp:coreProperties>
</file>