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905-4B06-4119-90A5-D17D8433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1D4-D952-413D-A940-3D1E66F7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DA7-E2A6-4B02-B0BE-71CB4A8F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943-3067-4C0A-B5E0-AE018B7E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2758-B428-4C55-AC43-6F1B0BC0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57C1-FC91-4634-BD57-16BEEE6B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0886-6FC1-484F-92C7-B0E78552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0A49-CE2E-4887-9FC6-23F1D927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243F-452B-4A3D-9AC2-8B67E437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3C2F-B2C0-48B8-B79E-C9371602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406-71D5-441A-85D4-707A1E4A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5A4-0B79-42F0-8474-899C01F6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F769-1445-4873-BA7A-E341DC27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F8A3-F6A2-4AAD-98B6-387D771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2F03-FC7F-4F34-8072-FFCC8872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07C3-BBE8-491D-956B-14223195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B3DA-DD90-425B-BA12-EC7C9158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F10-DB61-4136-9A73-8A823B21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7D3-3F25-40AC-9ECD-23A455E6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C2A-3B2D-4F99-ACB9-125F4046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B98-B499-4C2F-A1EC-5907710D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E1F-2B28-4890-9945-180CD8FB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4D2-B3D5-4BD5-B4BC-1DDD2286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2B0-1641-4315-A6E7-5D8F4AB4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CD34-48DC-4A9C-A3FC-727A60D574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4F9-D06E-4D5F-9262-37E38A6019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288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cc66"/>
                </a:solidFill>
                <a:latin typeface="Times New Roman"/>
              </a:rPr>
              <a:t>Деление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Ни одно число нельзя  делить на нуль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ри делении любого числа  на 1 получается это же число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ри делении нуля на число получается нуль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Вычислите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3-39                  94-19                      47+2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4                      :25                           :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5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+2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+55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-1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                      ?                               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2.Подумайте, как проще выполнить умножение и вычитание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а) 19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2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б) 4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27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с) 13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6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3. Угадайте корни уравнения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а) 15 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 а =15 : а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б) 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z + z = z 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z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в) у 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 10 = у : 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4. Заполните таблицу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5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0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50</a:t>
                      </a:r>
                      <a:endParaRPr b="0" lang="en-US" sz="4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а + 2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Кроссворд (по горизонтали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диница длин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Часть прямой, ограниченная одной точко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рифметические действи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аименьшее натуральное число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Графический диктант.</a:t>
            </a:r>
            <a:br>
              <a:rPr sz="3600"/>
            </a:b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Ответ «да» соответствует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—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, ответ «нет» - </a:t>
            </a:r>
            <a:r>
              <a:rPr b="0" i="1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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25х = 1000;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x=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:16 =74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75:х = 3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3;  x=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9 = 810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47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 =0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99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 =99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84: х = 6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6;  x=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 : 76 = 1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7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:71=0;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x=7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х:29 = 1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;  x=319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Проверка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—</a:t>
            </a:r>
            <a:r>
              <a:rPr b="0" lang="en-US" sz="48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—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48: 4 = 12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48 – делимое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4 – дели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12 – частное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23:38:45Z</dcterms:created>
  <dc:creator>USER15</dc:creator>
  <dc:description/>
  <dc:language>en-US</dc:language>
  <cp:lastModifiedBy>Парфёнов</cp:lastModifiedBy>
  <dcterms:modified xsi:type="dcterms:W3CDTF">2009-10-29T05:38:57Z</dcterms:modified>
  <cp:revision>14</cp:revision>
  <dc:subject/>
  <dc:title>Презентация PowerPoint</dc:title>
</cp:coreProperties>
</file>