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99203-6EBF-4634-AA3C-DBC8B1B71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9DCB-4164-445E-8C09-B5BD17132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58FF8-434D-4355-AB27-13D0A2FBC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05F42-E5EF-4DA3-8AF9-68FBCADBDB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3CDED-E9C1-450B-B6D4-3FC08BD35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4A60C-F70B-4115-8D06-9070AEC38D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E17CB-2215-440E-B512-613980F591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205A0-F2B5-4615-AA1B-BB0E8FC90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437F0-BC17-45DE-81F9-26EFB59C26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01384-3121-4C26-8651-7BBEE02028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8D10F-55DE-41C9-91DD-6DA4CA7D43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30DF5-605B-4CF0-9A4B-554ACF189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3F6B-E8CE-4A06-BFF7-AAB52846A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866D9-C2C7-4974-B5C0-18F2C16701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2737-AC2A-411F-A551-5782646BB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61160-DA14-494A-9303-CAD00FCBE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CB397-8554-41E0-AFA0-403871E665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551E0-F1C8-478F-838C-B17A923D0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7B0E-B782-4EE4-8FF4-656F57FFE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B0F3F-602E-4ABE-AF67-B3ED8413E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23F4F-9631-455D-B82C-0A593A9C54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5F73-A687-4D36-8514-5D1902061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A009-C2E1-460D-AC10-8684D94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6790-9249-49FC-BDCD-620815D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A85D-9E32-4427-AF06-E8D688D5BE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6FF6-744F-4AAF-8AA5-2E029D24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7929-95AE-4C4F-9EDE-9D6FF0C5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0C92-DF63-441E-BE91-F5883F6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C156-4D5A-404B-82E0-109A6D7B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22B2-085E-4349-90D6-3ABE1A77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EB9E-0BC1-4DCB-8922-5669909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660A-C989-445C-B9BF-3DC81FD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282B-DBB9-4F3E-85EE-FAAB80C8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ADA63D-57D2-4DAB-99D5-249A3C915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4;&#1090;&#1083;&#1080;&#1095;&#1080;&#1103;%20&#1079;&#1085;&#1072;&#1085;&#1080;&#1077;&#1074;&#1086;&#1075;&#1086;%20&#1080;%20&#1089;&#1080;&#1089;&#1090;&#1077;&#1084;&#1085;&#1086;-&#1076;&#1077;&#1103;&#1090;&#1077;&#1083;&#1100;&#1085;&#1086;&#1089;&#1090;&#1085;&#1086;&#1075;&#1086;%20&#1087;&#1086;&#1076;&#1093;&#1086;&#1076;&#1086;&#1074;.doc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85880" y="357120"/>
            <a:ext cx="764388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МБОУ СОШ п. Надво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785880" y="2276640"/>
            <a:ext cx="7643880" cy="410508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-деятельностный подход  —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основа   стандартов второго поко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Обеспечивает достижение планируемых результатов освоения основной  образовательной программы и  создаёт основу  для самостоятельного успешного усвоения  обучающимися новых  знаний,  умений, компетенций, видов  и  способов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( ФГОС)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785880" y="201600"/>
            <a:ext cx="7673760" cy="105876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9760" indent="-509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09760" indent="-509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4689" t="5207" r="5469" b="833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14240" y="201600"/>
            <a:ext cx="7772400" cy="131112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Дидактические принци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714240" y="1643040"/>
            <a:ext cx="7786800" cy="502596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епреры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Целостного представления о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Минимак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Психологической комфорт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Вари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Твор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144360"/>
            <a:ext cx="8229600" cy="1401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Японская пословица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000760" y="1785960"/>
            <a:ext cx="3857400" cy="448308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2160" y="1719360"/>
            <a:ext cx="4900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Б. Шо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000680" y="2433600"/>
            <a:ext cx="4857480" cy="283716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Единственный путь, ведущий</a:t>
            </a:r>
            <a:br>
              <a:rPr sz="3600"/>
            </a:b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к знанию -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это деятельность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2600" y="1494000"/>
            <a:ext cx="436428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14240" y="357120"/>
            <a:ext cx="777240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Позиция ЮНЕС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85880" y="1500120"/>
            <a:ext cx="7643880" cy="47102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знать,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что подразумевает, что обучающийся ежедневно конструирует свое собственное знание, комбинируя внутренние и внешние эле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делать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фокусируется на практическом применении изуч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жить вместе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ктуализирует умения отказаться от любой дискриминации, когда все имеют равные возможности развивать себя, свою семью и свое со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быть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кцентирует умения необходимые индивиду развивать свой потенц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14240" y="201600"/>
            <a:ext cx="7772400" cy="131112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Фундаментальные цели образования (ЮНЕСКО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714240" y="1643040"/>
            <a:ext cx="7786800" cy="45007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получать знания (учить учи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работать и зарабатывать (учение для тру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жить (учение для быт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жить вместе (учение для совместной жизн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85880" y="357120"/>
            <a:ext cx="767376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Система требований ФГО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к результатам освоения основной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 к структуре основной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к условиям реализации основной 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Базируется на обеспечении соответствия учебной деятельности обучающихся их возрасту и индивидуальным  особенност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1988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Деятельностный подход ориентирует не только на усвоение знаний, но и на способы этого усвоения, на образцы и способы мышления  и  деятельности, на развитие  познавательных  сил  и  творческого  потенциала  ребё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642960" y="285840"/>
            <a:ext cx="767412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a1b1a"/>
                </a:solidFill>
                <a:latin typeface="Arial"/>
              </a:rPr>
              <a:t>Системно-деятельностный подход предполаг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71680" y="1643040"/>
            <a:ext cx="8001000" cy="47149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Воспитание и развитие качеств личности, отвечающих требования информационного общества, инновационной экономики, задачам построения толерантного гражданского об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Переход к стратегии социального проектирования в системе образования на основе разработки содержания и технологий образования, определяющих пути и способы достижения социально желаемого результата личностного и познавательного развития обуча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Ориентацию на результаты образования как системообразующий компонент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Признание решающей роли содержания образования  и способов организации образовательной деятельности и учебного сотрудничества в достижении целей личностного, социального и познавательного развития обуча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42960" y="285840"/>
            <a:ext cx="767412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a1b1a"/>
                </a:solidFill>
                <a:latin typeface="Arial"/>
              </a:rPr>
              <a:t>Системно-деятельностный подход предполаг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571680" y="1643040"/>
            <a:ext cx="8001000" cy="47149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Учет индивидуальных, возрастных, психологических и физиологических особенностей обучающихся., роли и значения видов деятельности и форм общения для определения целей образования и воспитания и путей их дост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Обеспечение преемственности дошкольного, начального общего, основного и среднего обще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Разнообразие индивидуальных образовательных траекторий и индивидуального развития каждого обучающегося. (и одаренных детей и детей с ОВЗ), обеспечивающих рост творческого потенциала, познавательных мотивов, обогащение форм учебного сотрудничества и расширение зоны ближайше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4:25:40Z</dcterms:created>
  <dc:creator>Сафонова Н.С.</dc:creator>
  <dc:description/>
  <dc:language>en-US</dc:language>
  <cp:lastModifiedBy>Корганен</cp:lastModifiedBy>
  <dcterms:modified xsi:type="dcterms:W3CDTF">2014-03-04T07:33:00Z</dcterms:modified>
  <cp:revision>179</cp:revision>
  <dc:subject/>
  <dc:title>Что такое компетентностный подход?</dc:title>
</cp:coreProperties>
</file>