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36A92-022C-431A-B38F-3429858175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DD007-18D8-411C-912E-5F6D94079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C7997-6910-4B02-9CE4-3B9298DC5B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B84E-3E69-4162-BEF1-9A6748E3C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05B50-F8C4-4128-930F-5FA4F6F01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A5AEC-3925-4C9B-B648-A30651F7D2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D6323-5D98-4F2A-A876-C612473DE5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2FBF9-DE84-4A4B-BDA5-B2E5B7382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A7151-4FF7-4F4C-AFB9-A9E9A226F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AF406-F3CD-4D44-BF68-83AF53ECD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9B190-1A1A-4554-8230-4207675283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1654B-BED5-4490-9D2D-06634E775D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0C4F7-81BE-4002-942E-C111C30FF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23146-3888-45E4-B269-8A1037604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C7A96-8AC8-4A9B-B4EC-6E3549324C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0DE9-0FE2-47F1-A0AC-0FD061853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900FE-91B1-4809-98DE-5951887AF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57AED-FFCC-4A61-9C96-1E215BCB8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0174-1907-4AFB-B9DB-8A37AF060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15FB7-DD72-4AB7-9513-E77F03DDC2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BA205-CE88-4A3E-B6A0-D9EA914DAE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3AC9-0C6F-4207-A1D1-219209E2A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40AE-E950-4E8C-B4B1-1ED074B3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0E84-7AEB-4FBE-B6DA-E34FFA7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1450-73E6-4C47-BE6B-AEB8FB90C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7B86-0828-47A9-A1E9-F8081A7E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EE63-5C50-412D-B0CD-3D70E2F4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0381-117D-4A56-B795-EA55FD9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EDAC-1C10-486D-BA8A-6FCECB65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A428-40D0-44AD-8531-4DC99DCF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3E3E-81F4-4033-85A2-C2ED133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0C65-2174-4554-8FCB-0075405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1F22-3DC1-4B0D-BAF2-C9EA6B8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07234F-6159-4DFA-A147-5021A86F3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4;&#1090;&#1083;&#1080;&#1095;&#1080;&#1103;%20&#1079;&#1085;&#1072;&#1085;&#1080;&#1077;&#1074;&#1086;&#1075;&#1086;%20&#1080;%20&#1089;&#1080;&#1089;&#1090;&#1077;&#1084;&#1085;&#1086;-&#1076;&#1077;&#1103;&#1090;&#1077;&#1083;&#1100;&#1085;&#1086;&#1089;&#1090;&#1085;&#1086;&#1075;&#1086;%20&#1087;&#1086;&#1076;&#1093;&#1086;&#1076;&#1086;&#1074;.doc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85880" y="357120"/>
            <a:ext cx="764388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МБОУ СОШ п. Надво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785880" y="2276640"/>
            <a:ext cx="7643880" cy="410508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-деятельностный подход  —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основа   стандартов второго поко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Обеспечивает достижение планируемых результатов освоения основной  образовательной программы и  создаёт основу  для самостоятельного успешного усвоения  обучающимися новых  знаний,  умений, компетенций, видов  и  способов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( ФГОС)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785880" y="201600"/>
            <a:ext cx="7673760" cy="105876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9760" indent="-509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09760" indent="-509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4689" t="5207" r="5469" b="833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14240" y="201600"/>
            <a:ext cx="7772400" cy="131112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Дидактические принци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714240" y="1643040"/>
            <a:ext cx="7786800" cy="502596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епреры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Целостного представления о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Минимак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Психологической комфорт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Вари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Твор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144360"/>
            <a:ext cx="8229600" cy="1401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Японская пословица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000760" y="1785960"/>
            <a:ext cx="3857400" cy="448308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2160" y="1719360"/>
            <a:ext cx="4900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Б. Шо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000680" y="2433600"/>
            <a:ext cx="4857480" cy="283716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Единственный путь, ведущий</a:t>
            </a:r>
            <a:br>
              <a:rPr sz="3600"/>
            </a:b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к знанию -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это деятельность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2600" y="1494000"/>
            <a:ext cx="436428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14240" y="357120"/>
            <a:ext cx="777240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Позиция ЮНЕС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85880" y="1500120"/>
            <a:ext cx="7643880" cy="47102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знать,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что подразумевает, что обучающийся ежедневно конструирует свое собственное знание, комбинируя внутренние и внешние эле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делать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фокусируется на практическом применении изуч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жить вместе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ктуализирует умения отказаться от любой дискриминации, когда все имеют равные возможности развивать себя, свою семью и свое со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читься быть: </a:t>
            </a:r>
            <a:r>
              <a:rPr b="0" i="1" lang="ru-RU" sz="2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кцентирует умения необходимые индивиду развивать свой потенц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14240" y="201600"/>
            <a:ext cx="7772400" cy="131112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Фундаментальные цели образования (ЮНЕСКО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714240" y="1643040"/>
            <a:ext cx="7786800" cy="45007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получать знания (учить учи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работать и зарабатывать (учение для тру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жить (учение для быт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научить жить вместе (учение для совместной жизн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85880" y="357120"/>
            <a:ext cx="7673760" cy="10000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Система требований ФГО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к результатам освоения основной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 к структуре основной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311212"/>
                </a:solidFill>
                <a:latin typeface="Times New Roman"/>
                <a:ea typeface="Times New Roman"/>
              </a:rPr>
              <a:t>Требования к условиям реализации основной  образовательной програм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Базируется на обеспечении соответствия учебной деятельности обучающихся их возрасту и индивидуальным  особенност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85880" y="214200"/>
            <a:ext cx="767376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Системно – деятельностный 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85880" y="1500120"/>
            <a:ext cx="7643880" cy="464364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1988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Деятельностный подход ориентирует не только на усвоение знаний, но и на способы этого усвоения, на образцы и способы мышления  и  деятельности, на развитие  познавательных  сил  и  творческого  потенциала  ребё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821720" y="513864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642960" y="285840"/>
            <a:ext cx="767412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a1b1a"/>
                </a:solidFill>
                <a:latin typeface="Arial"/>
              </a:rPr>
              <a:t>Системно-деятельностный подход предполаг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71680" y="1643040"/>
            <a:ext cx="8001000" cy="47149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Воспитание и развитие качеств личности, отвечающих требования информационного общества, инновационной экономики, задачам построения толерантного гражданского об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Переход к стратегии социального проектирования в системе образования на основе разработки содержания и технологий образования, определяющих пути и способы достижения социально желаемого результата личностного и познавательного развития обуча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Ориентацию на результаты образования как системообразующий компонент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Признание решающей роли содержания образования  и способов организации образовательной деятельности и учебного сотрудничества в достижении целей личностного, социального и познавательного развития обуча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42960" y="285840"/>
            <a:ext cx="7674120" cy="11430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a1b1a"/>
                </a:solidFill>
                <a:latin typeface="Arial"/>
              </a:rPr>
              <a:t>Системно-деятельностный подход предполаг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571680" y="1643040"/>
            <a:ext cx="8001000" cy="4714920"/>
          </a:xfrm>
          <a:prstGeom prst="rect">
            <a:avLst/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Учет индивидуальных, возрастных, психологических и физиологических особенностей обучающихся., роли и значения видов деятельности и форм общения для определения целей образования и воспитания и путей их дост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Обеспечение преемственности дошкольного, начального общего, основного и среднего обще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a1b1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a1b1a"/>
                </a:solidFill>
                <a:latin typeface="Arial"/>
              </a:rPr>
              <a:t>Разнообразие индивидуальных образовательных траекторий и индивидуального развития каждого обучающегося. (и одаренных детей и детей с ОВЗ), обеспечивающих рост творческого потенциала, познавательных мотивов, обогащение форм учебного сотрудничества и расширение зоны ближайше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4:25:40Z</dcterms:created>
  <dc:creator>Сафонова Н.С.</dc:creator>
  <dc:description/>
  <dc:language>en-US</dc:language>
  <cp:lastModifiedBy>Корганен</cp:lastModifiedBy>
  <dcterms:modified xsi:type="dcterms:W3CDTF">2014-03-04T07:33:00Z</dcterms:modified>
  <cp:revision>179</cp:revision>
  <dc:subject/>
  <dc:title>Что такое компетентностный подход?</dc:title>
</cp:coreProperties>
</file>