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A5133-5ACF-4CB2-B2D2-5D4C976677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BC2D6-05B7-47D0-BF94-B2F6B56B41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7FA30-387F-4D85-BB0A-42162EBC88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C656B-8BF2-4DB2-94A0-4D99A0DB64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AF8AE-20E0-4F02-B2BE-80004320F9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1B1D-ED60-444E-87F9-6480C7CB44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E9E14-0AC4-4D9F-BF01-338BCB5151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A6497-E6C6-4853-844E-2593369B69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6275A-0A01-4188-9023-E8130EA30E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AF25A-34AA-40FD-A581-F361BE08A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CC6E1-FF33-4CEE-A88F-47F7804FE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CD5E1-FF46-466F-9168-F9905B3AE1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2235C-93AD-49CA-A369-5A0495FA46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E1F07-FC81-4072-9365-2E04A527D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76707-86BB-4246-8A59-50B416D07A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3D876-8BD0-43C9-98DE-8EB3B1E0EF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C6286-658B-42BD-A0F0-635D133E7F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78814-0FF2-4897-881B-AED22C739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868CA-1B54-4216-AC19-B83B67638A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734ED-45C6-44EB-9B7B-7AF3F69EE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E9AE8-55BF-4BB8-A03F-C9EFA370EB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5AFA-640A-4957-B1F9-663B29487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D753-6D34-4A09-B1B1-FB15C402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4B45-F25D-4436-9451-0F79E70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D543-877E-4A1B-9189-269B5BFFF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528A-3381-4167-A836-92854710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6369-D70D-4363-BA8B-3661533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11C2-BD69-4471-A96E-4CE7C3DC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92D6-2B71-488D-9088-BF58748D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D19D-8D1D-41A8-A1AC-E86A4AF9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6151-24C9-40EC-AA07-FD02311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BD4C-AB9D-4668-A530-EA8643A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990D-36A4-4AA1-88D3-EC6119EA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E651F2-DBA7-4877-A74E-F5672F528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4;&#1090;&#1083;&#1080;&#1095;&#1080;&#1103;%20&#1079;&#1085;&#1072;&#1085;&#1080;&#1077;&#1074;&#1086;&#1075;&#1086;%20&#1080;%20&#1089;&#1080;&#1089;&#1090;&#1077;&#1084;&#1085;&#1086;-&#1076;&#1077;&#1103;&#1090;&#1077;&#1083;&#1100;&#1085;&#1086;&#1089;&#1090;&#1085;&#1086;&#1075;&#1086;%20&#1087;&#1086;&#1076;&#1093;&#1086;&#1076;&#1086;&#1074;.doc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85880" y="357120"/>
            <a:ext cx="764388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МБОУ СОШ п. Надво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785880" y="2276640"/>
            <a:ext cx="7643880" cy="410508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-деятельностный подход  —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основа   стандартов второго поко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Обеспечивает достижение планируемых результатов освоения основной  образовательной программы и  создаёт основу  для самостоятельного успешного усвоения  обучающимися новых  знаний,  умений, компетенций, видов  и  способов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( ФГОС)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785880" y="201600"/>
            <a:ext cx="7673760" cy="105876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9760" indent="-509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09760" indent="-509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4689" t="5207" r="5469" b="833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14240" y="201600"/>
            <a:ext cx="7772400" cy="131112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Дидактические принци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714240" y="1643040"/>
            <a:ext cx="7786800" cy="502596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епреры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Целостного представления о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Минимак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Психологической комфорт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Вариа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Твор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144360"/>
            <a:ext cx="8229600" cy="14018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Японская пословица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000760" y="1785960"/>
            <a:ext cx="3857400" cy="448308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Налови мне рыбы — и я буду сыт сегодня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 научи меня ловить рыбу — так я буду сыт до конца жизн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92160" y="1719360"/>
            <a:ext cx="4900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Б. Шо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000680" y="2433600"/>
            <a:ext cx="4857480" cy="283716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Единственный путь, ведущий</a:t>
            </a:r>
            <a:br>
              <a:rPr sz="3600"/>
            </a:b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к знанию -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это деятельность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2600" y="1494000"/>
            <a:ext cx="436428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14240" y="357120"/>
            <a:ext cx="777240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Позиция ЮНЕС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85880" y="1500120"/>
            <a:ext cx="7643880" cy="47102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знать,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что подразумевает, что обучающийся ежедневно конструирует свое собственное знание, комбинируя внутренние и внешние эле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делать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фокусируется на практическом применении изуч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жить вместе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ктуализирует умения отказаться от любой дискриминации, когда все имеют равные возможности развивать себя, свою семью и свое со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быть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кцентирует умения необходимые индивиду развивать свой потенц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14240" y="201600"/>
            <a:ext cx="7772400" cy="131112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Фундаментальные цели образования (ЮНЕСКО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714240" y="1643040"/>
            <a:ext cx="7786800" cy="45007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получать знания (учить учи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работать и зарабатывать (учение для тру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жить (учение для быт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жить вместе (учение для совместной жизн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85880" y="357120"/>
            <a:ext cx="767376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Система требований ФГО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к результатам освоения основной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 к структуре основной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к условиям реализации основной 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Базируется на обеспечении соответствия учебной деятельности обучающихся их возрасту и индивидуальным  особенност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1988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Деятельностный подход ориентирует не только на усвоение знаний, но и на способы этого усвоения, на образцы и способы мышления  и  деятельности, на развитие  познавательных  сил  и  творческого  потенциала  ребён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642960" y="285840"/>
            <a:ext cx="767412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a1b1a"/>
                </a:solidFill>
                <a:latin typeface="Arial"/>
              </a:rPr>
              <a:t>Системно-деятельностный подход предполага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71680" y="1643040"/>
            <a:ext cx="8001000" cy="47149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Воспитание и развитие качеств личности, отвечающих требования информационного общества, инновационной экономики, задачам построения толерантного гражданского об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Переход к стратегии социального проектирования в системе образования на основе разработки содержания и технологий образования, определяющих пути и способы достижения социально желаемого результата личностного и познавательного развития обуча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Ориентацию на результаты образования как системообразующий компонент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Признание решающей роли содержания образования  и способов организации образовательной деятельности и учебного сотрудничества в достижении целей личностного, социального и познавательного развития обуча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42960" y="285840"/>
            <a:ext cx="767412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a1b1a"/>
                </a:solidFill>
                <a:latin typeface="Arial"/>
              </a:rPr>
              <a:t>Системно-деятельностный подход предполага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571680" y="1643040"/>
            <a:ext cx="8001000" cy="47149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Учет индивидуальных, возрастных, психологических и физиологических особенностей обучающихся., роли и значения видов деятельности и форм общения для определения целей образования и воспитания и путей их дост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Обеспечение преемственности дошкольного, начального общего, основного и среднего обще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Разнообразие индивидуальных образовательных траекторий и индивидуального развития каждого обучающегося. (и одаренных детей и детей с ОВЗ), обеспечивающих рост творческого потенциала, познавательных мотивов, обогащение форм учебного сотрудничества и расширение зоны ближайше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4:25:40Z</dcterms:created>
  <dc:creator>Сафонова Н.С.</dc:creator>
  <dc:description/>
  <dc:language>en-US</dc:language>
  <cp:lastModifiedBy>Корганен</cp:lastModifiedBy>
  <dcterms:modified xsi:type="dcterms:W3CDTF">2014-03-04T07:33:00Z</dcterms:modified>
  <cp:revision>179</cp:revision>
  <dc:subject/>
  <dc:title>Что такое компетентностный подход?</dc:title>
</cp:coreProperties>
</file>