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5F1-FF0A-45E1-B548-16A8EE96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6F-4561-4565-9586-EFAAC089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DD9-742C-4AC9-ABB6-090980F3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31B-EEA0-457D-B28C-0A1D0F5E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3D5-C528-495E-8411-B1F35AAA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95B1-0C29-4A7D-BE0B-B0AB37F4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7441-86F0-42E5-8E4E-7E3967C5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1975-F4EC-46F6-84F5-F96F940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7B12-4326-4BB8-A80E-E5ABAF1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083-E8E9-43B4-B00A-1F57FFC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F08B-382F-4D38-89DA-4D9C6C2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2BA-6074-4FEE-A2FB-E61398DC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731-C6BA-4862-9985-F694040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3BD-E04A-429C-B4A7-94AAE9D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C26-862D-4834-8601-A3C28C3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15A3-D5BA-4D23-8285-24523DEA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E31-A50D-42F3-B926-BEC07C29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C8A-C336-4127-A49F-C6F95E55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080-2175-4CD5-909C-89C1C9A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25E-B329-4990-98B0-733B78A0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EF4-2332-41FB-9FFE-ACCC659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EBE-3193-4B0E-80CE-2880D2E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A5D-87C9-4689-B951-9EFC36A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335-9247-41D1-A817-390643E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340A-D3FA-4B19-9702-855E72753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6C2-E9B0-478D-B374-2F5641FA68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590920" y="4800600"/>
            <a:ext cx="6400800" cy="144792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У Н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12408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актика профессионального «выгорания» у педагогов. Тренинг «Путь  к гармонии»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«Частое дыхание»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Умение снимать мышечные зажимы позволяет снять нервно-психическое напряжение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5640" y="281952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бы достичь  максимального расслабления нужно напрячься  максимально сильно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6400800" cy="40388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“Мышечная энергия”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выработка навыков мышечного контроля)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400800" cy="49532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Лимон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 управление состоянием мышечного напряжения и расслабления)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6400800" cy="5486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Сосулька» или«Мороженое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управление состоянием мышечного напряжения и расслабления)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762120"/>
            <a:ext cx="6400800" cy="5333760"/>
          </a:xfrm>
          <a:prstGeom prst="rect">
            <a:avLst/>
          </a:prstGeom>
          <a:solidFill>
            <a:srgbClr val="d6bb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ильном нервно-психическом напряжении вы можете выполн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–3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еданий либ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жков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метод снятия психоэмоционального напряжения широко используется как спортсменами, так и артистами перед ответственными выступл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1036800"/>
            <a:ext cx="6388200" cy="39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b050"/>
                </a:solidFill>
                <a:latin typeface="Monotype Corsiva"/>
              </a:rPr>
              <a:t>Что могут мудры</a:t>
            </a:r>
            <a:br>
              <a:rPr sz="6600"/>
            </a:br>
            <a:endParaRPr b="0" lang="en-US" sz="6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623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удра помогает обрести внутреннюю силу и душевное спокойств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мудра устраняет хроническую усталость и чувство тревог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удра значительно улучшает эмоциональное состояние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удра избавляет от страха и гне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мудра способствует покою в сознан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• мудра облегчает и излечивает многие заболе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мудра благотворно воздействует на весь организ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60" y="-3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44444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Мудры. 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Общие рекомендации.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часто следует делать муд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долго выполнять мудру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МУДРА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"РАКОВИНА" </a:t>
            </a: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заболевания горла, гортани, охриплость голоса, брадикардия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ыполнении этой мудры усиливается голос, поэтому особенно рекомендуем певцам, артистам, учителям, ораторам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0" name="Содержимое 7" descr="Мудра &quot;Раковина&quot;"/>
          <p:cNvPicPr/>
          <p:nvPr/>
        </p:nvPicPr>
        <p:blipFill>
          <a:blip r:embed="rId1"/>
          <a:stretch/>
        </p:blipFill>
        <p:spPr>
          <a:xfrm>
            <a:off x="2438280" y="3352680"/>
            <a:ext cx="401004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Лекция с элементами тренинга «Что такое профессиональное выгорание?»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520" y="3123720"/>
            <a:ext cx="6172200" cy="2133720"/>
          </a:xfrm>
          <a:prstGeom prst="rect">
            <a:avLst/>
          </a:prstGeom>
          <a:solidFill>
            <a:srgbClr val="95fff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акие ассоциации у вас вызывает слово «РАБОТА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КОРОВЫ »</a:t>
            </a:r>
            <a:br>
              <a:rPr sz="4800"/>
            </a:b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вматические боли, радикулитные боли, заболевания сустав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2" name="Рисунок 2" descr="Мудра Коровы"/>
          <p:cNvPicPr/>
          <p:nvPr/>
        </p:nvPicPr>
        <p:blipFill>
          <a:blip r:embed="rId1"/>
          <a:stretch/>
        </p:blipFill>
        <p:spPr>
          <a:xfrm>
            <a:off x="4648320" y="2438280"/>
            <a:ext cx="42098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553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ЗНАНИЯ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мудра одна из наиболее важных. Снимает эмоциональное напряжение, тревогу, беспокойство, меланхолию, печаль, тоску и депрессию. Улучшает мышление, активизирует память, концентрирует потенциальные возможности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бессоннице или чрезмерной сонливости, высоком кровяном давлении. Эта мудра возрождает нас заново .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4" name="Рисунок 2" descr="Мудра Знания"/>
          <p:cNvPicPr/>
          <p:nvPr/>
        </p:nvPicPr>
        <p:blipFill>
          <a:blip r:embed="rId1"/>
          <a:stretch/>
        </p:blipFill>
        <p:spPr>
          <a:xfrm>
            <a:off x="4952880" y="33526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ПОДНИМАЮЩАЯ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" 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сяких простудных заболеваниях, воспалении горла, воспалении легких, кашле, насморке, гайморите. Выполнение этой мудры мобилизует защитные силы организма, повышает иммунитет и способствует быстрому выздоровлению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6" name="Рисунок 2" descr="Мудра &quot;Поднимающая&quot;"/>
          <p:cNvPicPr/>
          <p:nvPr/>
        </p:nvPicPr>
        <p:blipFill>
          <a:blip r:embed="rId1"/>
          <a:stretch/>
        </p:blipFill>
        <p:spPr>
          <a:xfrm>
            <a:off x="3962520" y="3429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СПАСАЮЩАЯ ЖИЗНЬ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ервая помощь при сердечном приступе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боли в сердце, сердечные приступы, сердцебиение, дискомфорт в области сердца с тревогой и тоской, инфаркт миокарда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8" name="Рисунок 4" descr="Мудра &quot;Спасающая Жизнь&quot;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ЖИЗНИ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этой мудры выравнивает энергетический потенциал всего организма, способствует усилению его жизненных сил. Повышает работоспособность, дает бодрость, выносливость, улучшает общее самочувстви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состояние быстрой утомляемости, 6ессилия, нарушение зрения, улучшает остроту зрения, лечение болезни глаз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0" name="Рисунок 3" descr="Мудра Жизни"/>
          <p:cNvPicPr/>
          <p:nvPr/>
        </p:nvPicPr>
        <p:blipFill>
          <a:blip r:embed="rId1"/>
          <a:stretch/>
        </p:blipFill>
        <p:spPr>
          <a:xfrm>
            <a:off x="5181480" y="3733920"/>
            <a:ext cx="36766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ЗЕМЛИ»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 ухудшение психофизического состояния организма, состояние психической слабости, стресса. Выполнение этой мудры улучшает объективную оценку собственной личности, доверие к себе, а также осуществляет защиту от негативных внешних энергетических воздействи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2" name="Рисунок 3" descr="Мудра Земли"/>
          <p:cNvPicPr/>
          <p:nvPr/>
        </p:nvPicPr>
        <p:blipFill>
          <a:blip r:embed="rId1"/>
          <a:stretch/>
        </p:blipFill>
        <p:spPr>
          <a:xfrm>
            <a:off x="3429000" y="3243240"/>
            <a:ext cx="43149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МУДРА "ЧЕРЕПАХА"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 астении, переутомлении, нарушении функции сердечно-сосудистой системы.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4" name="Рисунок 3" descr="Мудра &quot;Черепаха&quot;"/>
          <p:cNvPicPr/>
          <p:nvPr/>
        </p:nvPicPr>
        <p:blipFill>
          <a:blip r:embed="rId1"/>
          <a:stretch/>
        </p:blipFill>
        <p:spPr>
          <a:xfrm>
            <a:off x="4267080" y="25909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ДЛЯ ЛЕЧЕНИЯ НЕВРАСТЕНИИ»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лечебного средства данная мудра применяется в случае общего ослабления нервной системы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6" name="Рисунок 3" descr="Мудра для лечения неврастении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Аффирмации</a:t>
            </a:r>
            <a:r>
              <a:rPr b="1" lang="ru-RU" sz="4400" spc="-1" strike="noStrike">
                <a:solidFill>
                  <a:srgbClr val="4400a8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– это обыкновенные предложения, которые человек произносит себе осознанно или неосознанно в мыслях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Аффирмации представляют собой наиболее легкий способ влияния на подсознание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“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Аффирмация от усталости”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талантливый, открытый, добрый и оптимистичный человек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каждым днем я люблю себя все больше и больше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 меня огромный потенциал и запас жизненной энерги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уникальна во всей Вселенной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единственная в своем роде и неповторимая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аких как я больше нет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абсолютно уверенна в себе и своем будущем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контролирую свою судьбу. Я сама ее вершу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хозяйка своей жизн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свободная личность.</a:t>
            </a:r>
            <a:br>
              <a:rPr sz="2400"/>
            </a:br>
            <a:endParaRPr b="0" lang="en-US" sz="2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914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офессиональное выгорание -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это неблагоприятная реакция человека на стресс, полученный на раб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итерии действенной аффирмации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 rot="7119600">
            <a:off x="2400480" y="2019960"/>
            <a:ext cx="211140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6"/>
          <p:cNvSpPr/>
          <p:nvPr/>
        </p:nvSpPr>
        <p:spPr>
          <a:xfrm rot="4945800">
            <a:off x="5519160" y="2788920"/>
            <a:ext cx="328428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1600200" y="3200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СПОЛЬЗУЙТЕ ТОЛЬКО ПОЛОЖИТЕЛЬНЫЕ АФФИРМАЦИИ В УТВЕРДИТЕЛЬ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472428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ОБХОДИМО, ЧТОБЫ АФФИРМАЦИИ БЫЛИ КОРОТ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мните: </a:t>
            </a:r>
            <a:br>
              <a:rPr sz="4400"/>
            </a:b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чем чаще вы повторяете аффирмации, тем сильнее их влияние на вашу жизнь они оказывают.</a:t>
            </a: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29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читесь управлять собой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о всем ищите добрые начала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И, споря с трудною судьбой, 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мейте начинать сначала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Споткнувшись, самому вставать,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 себе самом искать оп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При быстром продвиженье в г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Друзей в пути не растерять…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злобствуйте, не исходите ядом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радуйтесь чужой бе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щите лишь добро вез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Особенно упорно в тех, кто рядом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умирайте, пока живы!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Поверьте, беды все уйдут: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счастья тоже устают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 завтра будет день счастливый!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24816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сельские и городские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важаемые педагоги!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обрые, злые и никакие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апитаны на мостике корабл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дебютанты и асы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! Особенно по утрам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огда вы входите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в детские группы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Одни — как в клетку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ругие — как в храм.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Р. Рождественский</a:t>
            </a: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2614680" y="139680"/>
            <a:ext cx="615132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62320" y="30456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физиологических потре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психологических потребностей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эмоциональных потребносте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духовных потре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ретение жизненного балан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109520"/>
            <a:ext cx="8010720" cy="54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7400" y="30492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арайтесь быть «позитив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ользуйте навыки аутотрен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сь ставить реальные це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гда хорошо высыпай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делайте что-то для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сслабьтесь, сделайте переры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рисуйте свои эмо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едите за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старайтесь выгов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мите душ или ван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льше гуляйте на свежем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743200" y="1066680"/>
            <a:ext cx="569592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Состоянию эмоционального выгорания обычно соответствуют следующие  признаки:</a:t>
            </a:r>
            <a:br>
              <a:rPr sz="2800"/>
            </a:b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Стрелка вправо 3"/>
          <p:cNvSpPr/>
          <p:nvPr/>
        </p:nvSpPr>
        <p:spPr>
          <a:xfrm rot="6316200">
            <a:off x="1822680" y="2683440"/>
            <a:ext cx="2689200" cy="37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4"/>
          <p:cNvSpPr/>
          <p:nvPr/>
        </p:nvSpPr>
        <p:spPr>
          <a:xfrm rot="5400000">
            <a:off x="4527360" y="2101680"/>
            <a:ext cx="166500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5"/>
          <p:cNvSpPr/>
          <p:nvPr/>
        </p:nvSpPr>
        <p:spPr>
          <a:xfrm rot="4413000">
            <a:off x="5960520" y="2602080"/>
            <a:ext cx="3006720" cy="37764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1981080" y="449568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4419720" y="3276720"/>
            <a:ext cx="1904760" cy="121896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Мы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6781680" y="457200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Arial"/>
              </a:rPr>
              <a:t>СТРЕСС   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          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ПРОФЕССИОНАЛЬНОЕ «ВЫГОРАНИЕ»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cxnSp>
        <p:nvCxnSpPr>
          <p:cNvPr id="100" name="Прямая со стрелкой 4"/>
          <p:cNvCxnSpPr/>
          <p:nvPr/>
        </p:nvCxnSpPr>
        <p:spPr>
          <a:xfrm>
            <a:off x="4114800" y="1980720"/>
            <a:ext cx="1905840" cy="213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Фазы стресса: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Нервное напря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Сопроти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Исто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1352520" y="566640"/>
            <a:ext cx="799308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 </a:t>
            </a:r>
            <a:br>
              <a:rPr sz="6000"/>
            </a:br>
            <a:br>
              <a:rPr sz="60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«ДЫШИТЕ ГЛУБЖЕ, ВЫ ВЗВОЛНОВАНЫ»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600"/>
            </a:br>
            <a:br>
              <a:rPr sz="6600"/>
            </a:b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« Медленное и глубокое дыхание» </a:t>
            </a:r>
            <a:endParaRPr b="0" lang="en-US" sz="5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негурочка</dc:creator>
  <dc:description/>
  <dc:language>en-US</dc:language>
  <cp:lastModifiedBy>и</cp:lastModifiedBy>
  <dcterms:modified xsi:type="dcterms:W3CDTF">2013-03-22T13:34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