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9DA-D6C6-43CB-8138-B23AC1D3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0D8-E9DC-4FCF-B5D3-8C183E4E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05C-3F19-48AD-BE98-0C2A298F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5764-F585-4D5F-BBC9-3F260114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9A6E-AD8E-4154-AE79-A5A8FAB5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60BB-F98B-4A5C-B890-6051F847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CC28-D245-4019-9521-4EF68AB8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915D-5CA1-493F-9EDD-BF3BF076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B98E-9A04-4F91-BBFE-F3C3EEAD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5750-174A-49BB-88E7-F353E28C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72CD-25AF-43D7-885E-340C5435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837-67A5-4B9A-AC1A-1908CDD3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B03F-841A-42C8-962A-C9A2D93F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CEBB-C115-4E0C-BFED-D75B4E8E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47B1-AFC4-4D85-9449-EF684466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FC70-EAB1-4C38-A642-1F8FD2C6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3CFD-9CFD-4144-B60A-E62ACFD7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E36-83CB-4A0A-B523-0CF0365E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C736-2FE3-4221-BB08-21756100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B256-BE76-489F-A4B9-B8E58AE1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C76-9687-4AFE-840E-97D8F611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E35-4791-4174-B152-7326C9E6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1B1-089A-4C15-9544-E4C2D3F8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17F-E839-4529-A522-934CCBEE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77474"/>
                </a:gs>
                <a:gs pos="100000">
                  <a:srgbClr val="e3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B5FD-BF5E-4B01-896E-1974AD0DF2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F24D-CA6C-42B0-B599-EBE30904ED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590920" y="4800600"/>
            <a:ext cx="6400800" cy="144792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дагог-псих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У Н.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12408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филактика профессионального «выгорания» у педагогов. Тренинг «Путь  к гармонии».</a:t>
            </a:r>
            <a:br>
              <a:rPr sz="5400"/>
            </a:br>
            <a:br>
              <a:rPr sz="5400"/>
            </a:br>
            <a:endParaRPr b="0" lang="en-US" sz="44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400a8"/>
                </a:solidFill>
                <a:latin typeface="Monotype Corsiva"/>
              </a:rPr>
              <a:t>Техника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«Частое дыхание»</a:t>
            </a:r>
            <a:endParaRPr b="0" lang="en-US" sz="48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6629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Умение снимать мышечные зажимы позволяет снять нервно-психическое напряжение.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5640" y="2819520"/>
            <a:ext cx="6553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Чтобы достичь  максимального расслабления нужно напрячься  максимально сильно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62320" y="1523520"/>
            <a:ext cx="6400800" cy="403884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Упражнение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“Мышечная энергия” 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(выработка навыков мышечного контроля)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837720"/>
            <a:ext cx="6400800" cy="495324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Упражнение 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«Лимон»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( управление состоянием мышечного напряжения и расслабления)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457200"/>
            <a:ext cx="6400800" cy="548640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Упражнение</a:t>
            </a: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 </a:t>
            </a: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«Сосулька» или«Мороженое»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(управление состоянием мышечного напряжения и расслабления).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438280" y="762120"/>
            <a:ext cx="6400800" cy="5333760"/>
          </a:xfrm>
          <a:prstGeom prst="rect">
            <a:avLst/>
          </a:prstGeom>
          <a:solidFill>
            <a:srgbClr val="d6bb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сильном нервно-психическом напряжении вы можете выполни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–3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еданий либ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–2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ыжков на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й метод снятия психоэмоционального напряжения широко используется как спортсменами, так и артистами перед ответственными выступл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Прямоугольник 3" descr=""/>
          <p:cNvPicPr/>
          <p:nvPr/>
        </p:nvPicPr>
        <p:blipFill>
          <a:blip r:embed="rId1"/>
          <a:stretch/>
        </p:blipFill>
        <p:spPr>
          <a:xfrm>
            <a:off x="2487600" y="1036800"/>
            <a:ext cx="6388200" cy="395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00b050"/>
                </a:solidFill>
                <a:latin typeface="Monotype Corsiva"/>
              </a:rPr>
              <a:t>Что могут мудры</a:t>
            </a:r>
            <a:br>
              <a:rPr sz="6600"/>
            </a:br>
            <a:endParaRPr b="0" lang="en-US" sz="6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362320" y="13716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удра помогает обрести внутреннюю силу и душевное спокойстви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мудра устраняет хроническую усталость и чувство тревог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мудра значительно улучшает эмоциональное состояние человек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мудра избавляет от страха и гнев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мудра способствует покою в сознании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• мудра облегчает и излечивает многие заболева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мудра благотворно воздействует на весь организм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2160" y="-36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44444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Мудры. </a:t>
            </a: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Общие рекомендации.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де занима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 занима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занима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 часто следует делать муд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 долго выполнять мудру?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14600" y="1522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Monotype Corsiva"/>
              </a:rPr>
              <a:t>МУДРА </a:t>
            </a:r>
            <a:br>
              <a:rPr sz="4800"/>
            </a:br>
            <a:r>
              <a:rPr b="0" lang="en-US" sz="4800" spc="-1" strike="noStrike">
                <a:solidFill>
                  <a:srgbClr val="000099"/>
                </a:solidFill>
                <a:latin typeface="Monotype Corsiva"/>
              </a:rPr>
              <a:t>"РАКОВИНА" </a:t>
            </a:r>
            <a:r>
              <a:rPr b="0" lang="en-US" sz="4800" spc="-1" strike="noStrike">
                <a:solidFill>
                  <a:srgbClr val="4400a8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заболевания горла, гортани, охриплость голоса, брадикардия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выполнении этой мудры усиливается голос, поэтому особенно рекомендуем певцам, артистам, учителям, ораторам. </a:t>
            </a:r>
            <a:br>
              <a:rPr sz="2000"/>
            </a:b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20" name="Содержимое 7" descr="Мудра &quot;Раковина&quot;"/>
          <p:cNvPicPr/>
          <p:nvPr/>
        </p:nvPicPr>
        <p:blipFill>
          <a:blip r:embed="rId1"/>
          <a:stretch/>
        </p:blipFill>
        <p:spPr>
          <a:xfrm>
            <a:off x="2438280" y="3352680"/>
            <a:ext cx="4010040" cy="31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Лекция с элементами тренинга «Что такое профессиональное выгорание?»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666520" y="3123720"/>
            <a:ext cx="6172200" cy="2133720"/>
          </a:xfrm>
          <a:prstGeom prst="rect">
            <a:avLst/>
          </a:prstGeom>
          <a:solidFill>
            <a:srgbClr val="95fff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Какие ассоциации у вас вызывает слово «РАБОТА»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800" spc="-1" strike="noStrike">
                <a:solidFill>
                  <a:srgbClr val="4400a8"/>
                </a:solidFill>
                <a:latin typeface="Monotype Corsiva"/>
              </a:rPr>
              <a:t>МУДРА «КОРОВЫ »</a:t>
            </a:r>
            <a:br>
              <a:rPr sz="4800"/>
            </a:b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вматические боли, радикулитные боли, заболевания суставо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600"/>
            </a:b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22" name="Рисунок 2" descr="Мудра Коровы"/>
          <p:cNvPicPr/>
          <p:nvPr/>
        </p:nvPicPr>
        <p:blipFill>
          <a:blip r:embed="rId1"/>
          <a:stretch/>
        </p:blipFill>
        <p:spPr>
          <a:xfrm>
            <a:off x="4648320" y="2438280"/>
            <a:ext cx="42098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55308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4800" spc="-1" strike="noStrike">
                <a:solidFill>
                  <a:srgbClr val="4400a8"/>
                </a:solidFill>
                <a:latin typeface="Monotype Corsiva"/>
              </a:rPr>
              <a:t>МУДРА «ЗНАНИЯ 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а мудра одна из наиболее важных. Снимает эмоциональное напряжение, тревогу, беспокойство, меланхолию, печаль, тоску и депрессию. Улучшает мышление, активизирует память, концентрирует потенциальные возможности.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бессоннице или чрезмерной сонливости, высоком кровяном давлении. Эта мудра возрождает нас заново .</a:t>
            </a:r>
            <a:br>
              <a:rPr sz="2000"/>
            </a:b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24" name="Рисунок 2" descr="Мудра Знания"/>
          <p:cNvPicPr/>
          <p:nvPr/>
        </p:nvPicPr>
        <p:blipFill>
          <a:blip r:embed="rId1"/>
          <a:stretch/>
        </p:blipFill>
        <p:spPr>
          <a:xfrm>
            <a:off x="4952880" y="3352680"/>
            <a:ext cx="396252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4400a8"/>
                </a:solidFill>
                <a:latin typeface="Monotype Corsiva"/>
              </a:rPr>
              <a:t>МУДРА "ПОДНИМАЮЩАЯ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" 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всяких простудных заболеваниях, воспалении горла, воспалении легких, кашле, насморке, гайморите. Выполнение этой мудры мобилизует защитные силы организма, повышает иммунитет и способствует быстрому выздоровлению. </a:t>
            </a:r>
            <a:br>
              <a:rPr sz="2000"/>
            </a:b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26" name="Рисунок 2" descr="Мудра &quot;Поднимающая&quot;"/>
          <p:cNvPicPr/>
          <p:nvPr/>
        </p:nvPicPr>
        <p:blipFill>
          <a:blip r:embed="rId1"/>
          <a:stretch/>
        </p:blipFill>
        <p:spPr>
          <a:xfrm>
            <a:off x="3962520" y="34290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2481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00a8"/>
                </a:solidFill>
                <a:latin typeface="Monotype Corsiva"/>
              </a:rPr>
              <a:t>МУДРА "СПАСАЮЩАЯ ЖИЗНЬ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первая помощь при сердечном приступе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казания:  боли в сердце, сердечные приступы, сердцебиение, дискомфорт в области сердца с тревогой и тоской, инфаркт миокарда. </a:t>
            </a:r>
            <a:br>
              <a:rPr sz="2000"/>
            </a:b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28" name="Рисунок 4" descr="Мудра &quot;Спасающая Жизнь&quot;"/>
          <p:cNvPicPr/>
          <p:nvPr/>
        </p:nvPicPr>
        <p:blipFill>
          <a:blip r:embed="rId1"/>
          <a:stretch/>
        </p:blipFill>
        <p:spPr>
          <a:xfrm>
            <a:off x="4343400" y="320040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647676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a8"/>
                </a:solidFill>
                <a:latin typeface="Monotype Corsiva"/>
              </a:rPr>
              <a:t>МУДРА «ЖИЗНИ 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ение этой мудры выравнивает энергетический потенциал всего организма, способствует усилению его жизненных сил. Повышает работоспособность, дает бодрость, выносливость, улучшает общее самочувствие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казания:  состояние быстрой утомляемости, 6ессилия, нарушение зрения, улучшает остроту зрения, лечение болезни глаз. </a:t>
            </a:r>
            <a:br>
              <a:rPr sz="2000"/>
            </a:b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30" name="Рисунок 3" descr="Мудра Жизни"/>
          <p:cNvPicPr/>
          <p:nvPr/>
        </p:nvPicPr>
        <p:blipFill>
          <a:blip r:embed="rId1"/>
          <a:stretch/>
        </p:blipFill>
        <p:spPr>
          <a:xfrm>
            <a:off x="5181480" y="3733920"/>
            <a:ext cx="36766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47676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a8"/>
                </a:solidFill>
                <a:latin typeface="Monotype Corsiva"/>
              </a:rPr>
              <a:t>МУДРА «ЗЕМЛИ»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 ухудшение психофизического состояния организма, состояние психической слабости, стресса. Выполнение этой мудры улучшает объективную оценку собственной личности, доверие к себе, а также осуществляет защиту от негативных внешних энергетических воздействи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32" name="Рисунок 3" descr="Мудра Земли"/>
          <p:cNvPicPr/>
          <p:nvPr/>
        </p:nvPicPr>
        <p:blipFill>
          <a:blip r:embed="rId1"/>
          <a:stretch/>
        </p:blipFill>
        <p:spPr>
          <a:xfrm>
            <a:off x="3429000" y="3243240"/>
            <a:ext cx="4314960" cy="36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55344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00a8"/>
                </a:solidFill>
                <a:latin typeface="Monotype Corsiva"/>
              </a:rPr>
              <a:t>МУДРА "ЧЕРЕПАХА" 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 астении, переутомлении, нарушении функции сердечно-сосудистой системы.</a:t>
            </a: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34" name="Рисунок 3" descr="Мудра &quot;Черепаха&quot;"/>
          <p:cNvPicPr/>
          <p:nvPr/>
        </p:nvPicPr>
        <p:blipFill>
          <a:blip r:embed="rId1"/>
          <a:stretch/>
        </p:blipFill>
        <p:spPr>
          <a:xfrm>
            <a:off x="4267080" y="2590920"/>
            <a:ext cx="434340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a8"/>
                </a:solidFill>
                <a:latin typeface="Monotype Corsiva"/>
              </a:rPr>
              <a:t>МУДРА «ДЛЯ ЛЕЧЕНИЯ НЕВРАСТЕНИИ»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ачестве лечебного средства данная мудра применяется в случае общего ослабления нервной системы</a:t>
            </a: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36" name="Рисунок 3" descr="Мудра для лечения неврастении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Аффирмации</a:t>
            </a:r>
            <a:r>
              <a:rPr b="1" lang="ru-RU" sz="4400" spc="-1" strike="noStrike">
                <a:solidFill>
                  <a:srgbClr val="4400a8"/>
                </a:solidFill>
                <a:latin typeface="Monotype Corsiv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– это обыкновенные предложения, которые человек произносит себе осознанно или неосознанно в мыслях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Аффирмации представляют собой наиболее легкий способ влияния на подсознание.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647676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“ 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Аффирмация от усталости”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– талантливый, открытый, добрый и оптимистичный человек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 каждым днем я люблю себя все больше и больше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 меня огромный потенциал и запас жизненной энергии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уникальна во всей Вселенной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единственная в своем роде и неповторимая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аких как я больше нет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абсолютно уверенна в себе и своем будущем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контролирую свою судьбу. Я сама ее вершу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– хозяйка своей жизни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– свободная личность.</a:t>
            </a:r>
            <a:br>
              <a:rPr sz="2400"/>
            </a:br>
            <a:endParaRPr b="0" lang="en-US" sz="24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9140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Профессиональное выгорание -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3623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это неблагоприятная реакция человека на стресс, полученный на работ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4767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ритерии действенной аффирмации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40" name="Стрелка вправо 5"/>
          <p:cNvSpPr/>
          <p:nvPr/>
        </p:nvSpPr>
        <p:spPr>
          <a:xfrm rot="7119600">
            <a:off x="2400480" y="2019960"/>
            <a:ext cx="211140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8a8a"/>
          </a:solidFill>
          <a:ln w="25560">
            <a:solidFill>
              <a:srgbClr val="00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право 6"/>
          <p:cNvSpPr/>
          <p:nvPr/>
        </p:nvSpPr>
        <p:spPr>
          <a:xfrm rot="4945800">
            <a:off x="5519160" y="2788920"/>
            <a:ext cx="3284280" cy="4842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8a8a"/>
          </a:solidFill>
          <a:ln w="25560">
            <a:solidFill>
              <a:srgbClr val="00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>
            <a:off x="1600200" y="32004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ИСПОЛЬЗУЙТЕ ТОЛЬКО ПОЛОЖИТЕЛЬНЫЕ АФФИРМАЦИИ В УТВЕРДИТЕЛЬ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0"/>
          <p:cNvSpPr/>
          <p:nvPr/>
        </p:nvSpPr>
        <p:spPr>
          <a:xfrm>
            <a:off x="4724280" y="48006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НЕОБХОДИМО, ЧТОБЫ АФФИРМАЦИИ БЫЛИ КОРОТК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Помните: </a:t>
            </a:r>
            <a:br>
              <a:rPr sz="4400"/>
            </a:br>
            <a:r>
              <a:rPr b="0" lang="ru-RU" sz="4400" spc="-1" strike="noStrike">
                <a:solidFill>
                  <a:srgbClr val="4400a8"/>
                </a:solidFill>
                <a:latin typeface="Monotype Corsiva"/>
              </a:rPr>
              <a:t>чем чаще вы повторяете аффирмации, тем сильнее их влияние на вашу жизнь они оказывают.</a:t>
            </a:r>
            <a:endParaRPr b="0" lang="en-US" sz="44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6629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Учитесь управлять собой.</a:t>
            </a: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Во всем ищите добрые начала.</a:t>
            </a: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И, споря с трудною судьбой, </a:t>
            </a: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Умейте начинать сначала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Споткнувшись, самому вставать,</a:t>
            </a: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В себе самом искать опору</a:t>
            </a: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При быстром продвиженье в гору</a:t>
            </a: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Друзей в пути не растерять…</a:t>
            </a:r>
            <a:br>
              <a:rPr sz="3200"/>
            </a:br>
            <a:br>
              <a:rPr sz="1000"/>
            </a:b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Не злобствуйте, не исходите ядом,</a:t>
            </a: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Не радуйтесь чужой беде,</a:t>
            </a: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Ищите лишь добро везде,</a:t>
            </a: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Особенно упорно в тех, кто рядом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Не умирайте, пока живы!</a:t>
            </a: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Поверьте, беды все уйдут:</a:t>
            </a: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Несчастья тоже устают,</a:t>
            </a: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И завтра будет день счастливый! </a:t>
            </a: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24816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Удачи вам, сельские и городские,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Уважаемые педагоги!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Добрые, злые и никакие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Капитаны на мостике корабля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Удачи вам, дебютанты и асы, 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Удачи! Особенно по утрам,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Когда вы входите 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в детские группы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Одни — как в клетку, 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другие — как в храм.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Р. Рождественский</a:t>
            </a:r>
            <a:endParaRPr b="0" lang="en-US" sz="28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Прямоугольник 2" descr=""/>
          <p:cNvPicPr/>
          <p:nvPr/>
        </p:nvPicPr>
        <p:blipFill>
          <a:blip r:embed="rId1"/>
          <a:stretch/>
        </p:blipFill>
        <p:spPr>
          <a:xfrm>
            <a:off x="2614680" y="139680"/>
            <a:ext cx="6151320" cy="417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362320" y="30456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довлетворение физиологических потреб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довлетворение психологических потребностей 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довлетворение эмоциональных потребносте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довлетворение духовных потреб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бретение жизненного баланс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3" descr=""/>
          <p:cNvPicPr/>
          <p:nvPr/>
        </p:nvPicPr>
        <p:blipFill>
          <a:blip r:embed="rId1"/>
          <a:stretch/>
        </p:blipFill>
        <p:spPr>
          <a:xfrm>
            <a:off x="1206360" y="1109520"/>
            <a:ext cx="8010720" cy="54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057400" y="30492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арайтесь быть «позитивн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спользуйте навыки аутотренин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читесь ставить реальные цел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сегда хорошо высыпайте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делайте что-то для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асслабьтесь, сделайте переры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рисуйте свои эмо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ледите за пит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старайтесь выговор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имите душ или ван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ольше гуляйте на свежем воздух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743200" y="1066680"/>
            <a:ext cx="569592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Состоянию эмоционального выгорания обычно соответствуют следующие  признаки:</a:t>
            </a:r>
            <a:br>
              <a:rPr sz="2800"/>
            </a:br>
            <a:endParaRPr b="0" lang="en-US" sz="28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3" name="Стрелка вправо 3"/>
          <p:cNvSpPr/>
          <p:nvPr/>
        </p:nvSpPr>
        <p:spPr>
          <a:xfrm rot="6316200">
            <a:off x="1822680" y="2683440"/>
            <a:ext cx="2689200" cy="376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6a94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право 4"/>
          <p:cNvSpPr/>
          <p:nvPr/>
        </p:nvSpPr>
        <p:spPr>
          <a:xfrm rot="5400000">
            <a:off x="4527360" y="2101680"/>
            <a:ext cx="1665000" cy="35748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ff0000"/>
          </a:solidFill>
          <a:ln w="25560">
            <a:solidFill>
              <a:srgbClr val="6a94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право 5"/>
          <p:cNvSpPr/>
          <p:nvPr/>
        </p:nvSpPr>
        <p:spPr>
          <a:xfrm rot="4413000">
            <a:off x="5960520" y="2602080"/>
            <a:ext cx="3006720" cy="37764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25560">
            <a:solidFill>
              <a:srgbClr val="6a94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7"/>
          <p:cNvSpPr/>
          <p:nvPr/>
        </p:nvSpPr>
        <p:spPr>
          <a:xfrm>
            <a:off x="1981080" y="4495680"/>
            <a:ext cx="1905120" cy="1219320"/>
          </a:xfrm>
          <a:prstGeom prst="roundRect">
            <a:avLst>
              <a:gd name="adj" fmla="val 16667"/>
            </a:avLst>
          </a:prstGeom>
          <a:solidFill>
            <a:srgbClr val="e3ff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 области Чув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9"/>
          <p:cNvSpPr/>
          <p:nvPr/>
        </p:nvSpPr>
        <p:spPr>
          <a:xfrm>
            <a:off x="4419720" y="3276720"/>
            <a:ext cx="1904760" cy="1218960"/>
          </a:xfrm>
          <a:prstGeom prst="roundRect">
            <a:avLst>
              <a:gd name="adj" fmla="val 16667"/>
            </a:avLst>
          </a:prstGeom>
          <a:solidFill>
            <a:srgbClr val="e3ff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 области Мыс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1"/>
          <p:cNvSpPr/>
          <p:nvPr/>
        </p:nvSpPr>
        <p:spPr>
          <a:xfrm>
            <a:off x="6781680" y="4572000"/>
            <a:ext cx="1905120" cy="1219320"/>
          </a:xfrm>
          <a:prstGeom prst="roundRect">
            <a:avLst>
              <a:gd name="adj" fmla="val 16667"/>
            </a:avLst>
          </a:prstGeom>
          <a:solidFill>
            <a:srgbClr val="e3ff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 области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2320" y="380880"/>
            <a:ext cx="64008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400a8"/>
                </a:solidFill>
                <a:latin typeface="Arial"/>
              </a:rPr>
              <a:t>СТРЕСС   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           </a:t>
            </a: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4400a8"/>
                </a:solidFill>
                <a:latin typeface="Arial"/>
              </a:rPr>
              <a:t>ПРОФЕССИОНАЛЬНОЕ «ВЫГОРАНИЕ»</a:t>
            </a:r>
            <a:endParaRPr b="0" lang="en-US" sz="4000" spc="-1" strike="noStrike">
              <a:solidFill>
                <a:srgbClr val="4400a8"/>
              </a:solidFill>
              <a:latin typeface="Arial"/>
            </a:endParaRPr>
          </a:p>
        </p:txBody>
      </p:sp>
      <p:cxnSp>
        <p:nvCxnSpPr>
          <p:cNvPr id="100" name="Прямая со стрелкой 4"/>
          <p:cNvCxnSpPr/>
          <p:nvPr/>
        </p:nvCxnSpPr>
        <p:spPr>
          <a:xfrm>
            <a:off x="4114800" y="1980720"/>
            <a:ext cx="1905840" cy="2134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400a8"/>
                </a:solidFill>
                <a:latin typeface="Arial"/>
              </a:rPr>
              <a:t>Фазы стресса:</a:t>
            </a:r>
            <a:endParaRPr b="0" lang="en-US" sz="48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Нервное напря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Сопроти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Истощ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3" descr=""/>
          <p:cNvPicPr/>
          <p:nvPr/>
        </p:nvPicPr>
        <p:blipFill>
          <a:blip r:embed="rId1"/>
          <a:stretch/>
        </p:blipFill>
        <p:spPr>
          <a:xfrm>
            <a:off x="1352520" y="566640"/>
            <a:ext cx="799308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400a8"/>
                </a:solidFill>
                <a:latin typeface="Monotype Corsiva"/>
              </a:rPr>
              <a:t>Техника </a:t>
            </a:r>
            <a:br>
              <a:rPr sz="6000"/>
            </a:br>
            <a:br>
              <a:rPr sz="60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«ДЫШИТЕ ГЛУБЖЕ, ВЫ ВЗВОЛНОВАНЫ»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400a8"/>
                </a:solidFill>
                <a:latin typeface="Monotype Corsiva"/>
              </a:rPr>
              <a:t>Техника</a:t>
            </a:r>
            <a:br>
              <a:rPr sz="6600"/>
            </a:br>
            <a:br>
              <a:rPr sz="6600"/>
            </a:b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« Медленное и глубокое дыхание» </a:t>
            </a:r>
            <a:endParaRPr b="0" lang="en-US" sz="54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негурочка</dc:creator>
  <dc:description/>
  <dc:language>en-US</dc:language>
  <cp:lastModifiedBy>и</cp:lastModifiedBy>
  <dcterms:modified xsi:type="dcterms:W3CDTF">2013-03-22T13:34:5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