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B1C-5FA5-45D0-82C4-0DFED9A1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941-0BD5-4EAA-874A-9A6E66AD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1AB-CE4D-4250-8133-20A74EF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145-249E-4B49-BF70-1D7B8D08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235-09D6-4FAA-9563-E292547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AE23-3706-4883-8849-A4C64E5E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3893-F77E-4AC8-9294-B4BEAE5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B10-B757-4B21-8F09-93A9ACF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A5A-B295-4295-AC52-2D64130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1569-9C7B-41DE-9377-6F785B3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CE2-DF23-402B-920D-C83F48C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549-122D-4C0A-A094-1748BB7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C904-AB62-43E1-86BB-1F78EAB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87A-C8A2-4ED8-982D-DF695569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87C-8B8A-458C-A008-AF0C7AA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349-141A-4645-8EE2-0A994FD2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7686-1A3D-4AD4-9A6D-5BF85241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E25-79A0-48DD-9151-F2E16455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87F-826C-4E02-8306-47E21CE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02B-B05C-42B1-B6EF-267C7514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652-A7FC-4E86-820A-572C9B2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CA3-FBD6-441B-AA87-56AC31E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3D6-4EF9-4182-A513-8AF9F28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547-E261-4434-AE08-355DC6A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80C-712F-4262-B477-811FD6B207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997-C5BC-4515-9F7A-C16F8F41C9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9228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Что надо знать о речевых нарушениях ребенка?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В последние годы резко увеличилось количество детей с задержкой речевого развитии и с различными речевыми нарушениями. Родители двухлетнего малыша видят, что сверстники произносят предложение, а их говорит только "мама", "папа". Родители четырехлетнего малыша видят, что сверстники свободно общаются, а у их ребенка "каша во рту". Почему это происходит именно с моим ребенком? Что делать? К какому специалисту идти? Насколько это серьезно? Подобные вопросы начинают терзать мам, пап, бабушек и дедуш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486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Что является причинами задержки речевого развития и различных речевых нарушений речи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развития или поражения мозга, а так же центральной нервной системы во внутриутробном периоде, в момент родов или после рожд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акторами, приводящими к дальнейшим проблемам в развитии, являются: угроза выкидыша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тельный токсикоз; перенесенные беременной простудные и инфекционные заболева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ем лекарств, противопоказанных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у беременной хронических заболеваний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вредных привычек (табак, алкоголь, наркотики); гипоксия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ремительные или наоборот затяжные род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ношенность плода или наоборо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совместимость крови матери и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сфикс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авма во время родов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утричерепное давление,внутричерепные кровоизлия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яд инфекционных заболеваний, перенесенных ребенком до двух ле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репно-мозговые травмы и др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Родители должны знать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одному году в словарном запасе ребенка должно быть 8-12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2 годам – 250-300 слов, должно сформироваться умение говорить целыми фразами; в это же время активно развиваются словарь, фраза, фонематический слу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4-5 года звукопроизношение у ребенка должно быть полностью сформировано (исключение составляет звук [Р] – 5-6 л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5-6 лет должно быть сформировано фонематическое восприятие, звуковой анализ, синте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к 2 годам ребенок не заговорил, стоит показать его специалистам (логопед, невролог, лор), чтобы вовремя обнаружить причину «немоты». Вполне вероятно, что у него частичное снижение слуха или укорочена подъязычная уздеч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Милую картавость» и прочие «очаровательные» дефекты речи ликвидировать нужно обязательно. Это свидетельство Вашей культуры Вашего уважительного          отношения к собственному ребен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озрастные нормы речевого развития ребё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4 годам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уже правильно произносит свистящие звуки [с], [с'], [з], [з'], использует в речи сложноподчиненные предложения («Я люблю рисовать красками, потому что они разноцветные»). Он с удовольствием рассказывает о том, что видел на прогулке или по телевизору, что ему прочитали. Не настаивайте, чтобы ребенок правильно произносил в этом возрасте звук [р]. Очень часто желание мамы и папы научить ребенка овладеть сложным звуком и неумение делать это приводят к возникновению серьезного нарушения звукопроиз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5 годам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правильно произносит шипящие звуки [ш], [ж], почти не допускает в речи грамматических ошибок, может связно рассказать о том, что изображено на серии картинок или на одной картин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ебенку 4 года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чевое развитие в норме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ладеет словарем примерно 1500 слов. Начинает употреблять сложные предложения. Говорит предложениями из 4-5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дает много вопросов, использует слова «Кто?» и «Почему?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пользует выражения типа: «я думаю, что....»,  «я надеюсь, что....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авильно употребляет глаголы в прошедшем време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обходима помощь логопеда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4 года не знает названия цветов, не считает в пределах пяти, не слушает длинные сказки, не может рассказать ни одного стихотво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ребенка очень скудный словарный запас (в норме – около 2000 слов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не может запомнить четверостишье, совсем не рассказывает собственных историй (при этом отсутствие связной речи, ошибки в предложениях, все еще проблемы со «сложными» звуками – норма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70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ГДА НЕОБХОДИМО ПРОКОНСУЛЬТИРОВАТЬСЯ С НЕВРОЛОГ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плохо приживается в коллективе, с трудом привыкает к новой обстановке;                                                                  •Кажется неловким и неуклюжим, не вписывается в подвижные игры, требующие слаженности движений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Быстро стаптывает обувь, при ходьбе чуть косолапит, ставя ноги носками внутрь, нагружает не всю стопу целиком, а только ее внутренний край и носоч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Заикается или неправильно произносит слова, не так хорошо, как хотелось бы, запоминает детские стихи, не может внятно пересказать отрывок из только что прочитанной сказ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ед засыпанием ритмично покачивает головой или раскачивает туловищем, сосет пальцы, обкусывает ногти, машинально перекатывает в руках мелкие предметы или наматывает прядь волос на палец, гримасничает - словом, замечен во "вредных привычках«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асто бывает не в настроении, плачет и капризничает по малейшему поводу, выглядит хмурым, отличается рассеянностью и частой сменой настроен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иодически жалуется на головную боль, носит шапки и панамки большего размера, чем сверстн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какие логопеды не добьются быстрых результатов без эффективной и умелой помощи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нятия по исправлению и постановке звуков нужно проводить ежедневно по 10-15 минут (артикуляционная гимнастика, массаж, логоритм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бенок должен стремиться сам научиться правильно произносить зву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ните, что малыш испытывает огромные трудности и не может сразу придать нужное положение губам, языку, выполнить то или иное упражн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во время занятий ребенок не потерял интерес, поощряйте малейший его успе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жде чем приступить к работе над звуком, сами перед зеркалом изучите правильное положение губ, языка, зубов при его произно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3:29:38Z</dcterms:created>
  <dc:creator>User</dc:creator>
  <dc:description/>
  <dc:language>en-US</dc:language>
  <cp:lastModifiedBy>User</cp:lastModifiedBy>
  <dcterms:modified xsi:type="dcterms:W3CDTF">2013-10-15T15:22:02Z</dcterms:modified>
  <cp:revision>4</cp:revision>
  <dc:subject/>
  <dc:title>«Что надо знать о речевых нарушениях ребенка?»</dc:title>
</cp:coreProperties>
</file>