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9DA-9947-4682-977C-8027325A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554-AB9C-4632-8FA6-2083570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F4E-868F-49DC-88E5-F2BA68B6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13C-6898-42AC-B78C-A1E7BA07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D853-69EC-407A-959E-5D09D745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4D82-7C45-44FB-9553-DF05AD28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5721-2536-4777-9ADB-D131CF00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148E-1086-4A54-A7D9-0086F607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8612-6DA6-45F0-919E-D0402901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EC8D-9C53-428A-B081-059142B9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A32B-F56A-4AAA-BBDD-13784E0A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885-F51C-4E7D-81AE-03F4C0C0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D243-842D-4120-8C3C-6E18098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4C67-AEEA-44CE-A59F-4D3A105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E45B-0C59-45DE-BB4D-43A008D9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0B4A-5942-46A1-908E-920A3E5D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0F46-D81A-49D7-AE57-45F86797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1F9-1DAF-46BF-99CB-4A8588AA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082-80FF-4AA5-B3EC-EE85267C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A1A-8686-4A5F-99F9-90EF7A4D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833-F7CF-42E9-B6D5-AD14EBE2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9B3-A267-44B8-989E-6E43E1C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22B-81B3-4C01-80D4-E9785BB6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0B4-2C49-4071-AABC-FAA99FFC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6C87-A8F7-4983-8566-9B522A55855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7AD6-F3FA-42CF-9B48-5FF54B87B4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9228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Что надо знать о речевых нарушениях ребенка?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В последние годы резко увеличилось количество детей с задержкой речевого развитии и с различными речевыми нарушениями. Родители двухлетнего малыша видят, что сверстники произносят предложение, а их говорит только "мама", "папа". Родители четырехлетнего малыша видят, что сверстники свободно общаются, а у их ребенка "каша во рту". Почему это происходит именно с моим ребенком? Что делать? К какому специалисту идти? Насколько это серьезно? Подобные вопросы начинают терзать мам, пап, бабушек и дедуш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4865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Что является причинами задержки речевого развития и различных речевых нарушений речи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доразвития или поражения мозга, а так же центральной нервной системы во внутриутробном периоде, в момент родов или после рожд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акторами, приводящими к дальнейшим проблемам в развитии, являются: угроза выкидыша во время беременности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ительный токсикоз; перенесенные беременной простудные и инфекционные заболевания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ем лекарств, противопоказанных во время беременности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личие у беременной хронических заболеваний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личие вредных привычек (табак, алкоголь, наркотики); гипоксия плода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ремительные или наоборот затяжные род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доношенность плода или наоборот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совместимость крови матери и плода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сфиксия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равма во время родов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нутричерепное давление,внутричерепные кровоизлияния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яд инфекционных заболеваний, перенесенных ребенком до двух лет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репно-мозговые травмы и др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Родители должны знать 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одному году в словарном запасе ребенка должно быть 8-12 сл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2 годам – 250-300 слов, должно сформироваться умение говорить целыми фразами; в это же время активно развиваются словарь, фраза, фонематический слу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4-5 года звукопроизношение у ребенка должно быть полностью сформировано (исключение составляет звук [Р] – 5-6 лет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5-6 лет должно быть сформировано фонематическое восприятие, звуковой анализ, синтез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к 2 годам ребенок не заговорил, стоит показать его специалистам (логопед, невролог, лор), чтобы вовремя обнаружить причину «немоты». Вполне вероятно, что у него частичное снижение слуха или укорочена подъязычная уздеч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Милую картавость» и прочие «очаровательные» дефекты речи ликвидировать нужно обязательно. Это свидетельство Вашей культуры Вашего уважительного          отношения к собственному ребенк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озрастные нормы речевого развития ребён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 4 годам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лыш уже правильно произносит свистящие звуки [с], [с'], [з], [з'], использует в речи сложноподчиненные предложения («Я люблю рисовать красками, потому что они разноцветные»). Он с удовольствием рассказывает о том, что видел на прогулке или по телевизору, что ему прочитали. Не настаивайте, чтобы ребенок правильно произносил в этом возрасте звук [р]. Очень часто желание мамы и папы научить ребенка овладеть сложным звуком и неумение делать это приводят к возникновению серьезного нарушения звукопроизнош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 5 годам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лыш правильно произносит шипящие звуки [ш], [ж], почти не допускает в речи грамматических ошибок, может связно рассказать о том, что изображено на серии картинок или на одной картин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Ребенку 4 года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ечевое развитие в норме, если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ладеет словарем примерно 1500 слов. Начинает употреблять сложные предложения. Говорит предложениями из 4-5 сл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дает много вопросов, использует слова «Кто?» и «Почему?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спользует выражения типа: «я думаю, что....»,  «я надеюсь, что....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авильно употребляет глаголы в прошедшем времен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еобходима помощь логопеда, если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4 года не знает названия цветов, не считает в пределах пяти, не слушает длинные сказки, не может рассказать ни одного стихотвор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 ребенка очень скудный словарный запас (в норме – около 2000 слов)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бенок не может запомнить четверостишье, совсем не рассказывает собственных историй (при этом отсутствие связной речи, ошибки в предложениях, все еще проблемы со «сложными» звуками – норма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270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КОГДА НЕОБХОДИМО ПРОКОНСУЛЬТИРОВАТЬСЯ С НЕВРОЛОГОМ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•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бенок плохо приживается в коллективе, с трудом привыкает к новой обстановке;                                                                  •Кажется неловким и неуклюжим, не вписывается в подвижные игры, требующие слаженности движений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Быстро стаптывает обувь, при ходьбе чуть косолапит, ставя ноги носками внутрь, нагружает не всю стопу целиком, а только ее внутренний край и носочки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Заикается или неправильно произносит слова, не так хорошо, как хотелось бы, запоминает детские стихи, не может внятно пересказать отрывок из только что прочитанной сказки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Перед засыпанием ритмично покачивает головой или раскачивает туловищем, сосет пальцы, обкусывает ногти, машинально перекатывает в руках мелкие предметы или наматывает прядь волос на палец, гримасничает - словом, замечен во "вредных привычках«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Часто бывает не в настроении, плачет и капризничает по малейшему поводу, выглядит хмурым, отличается рассеянностью и частой сменой настроения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Периодически жалуется на головную боль, носит шапки и панамки большего размера, чем сверстн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омните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икакие логопеды не добьются быстрых результатов без эффективной и умелой помощи родит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нятия по исправлению и постановке звуков нужно проводить ежедневно по 10-15 минут (артикуляционная гимнастика, массаж, логоритмик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бенок должен стремиться сам научиться правильно произносить зву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ните, что малыш испытывает огромные трудности и не может сразу придать нужное положение губам, языку, выполнить то или иное упражне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во время занятий ребенок не потерял интерес, поощряйте малейший его успе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жде чем приступить к работе над звуком, сами перед зеркалом изучите правильное положение губ, языка, зубов при его произнош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3:29:38Z</dcterms:created>
  <dc:creator>User</dc:creator>
  <dc:description/>
  <dc:language>en-US</dc:language>
  <cp:lastModifiedBy>User</cp:lastModifiedBy>
  <dcterms:modified xsi:type="dcterms:W3CDTF">2013-10-15T15:22:02Z</dcterms:modified>
  <cp:revision>4</cp:revision>
  <dc:subject/>
  <dc:title>«Что надо знать о речевых нарушениях ребенка?»</dc:title>
</cp:coreProperties>
</file>