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682-3962-4CBA-8F6F-E35FDC29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273-2810-44A1-9758-2B89E54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85F-7638-4D1D-BA07-7D002F78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602-BDC6-4B74-A560-B8EF1FCB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F53A-0140-4C2F-9D09-0FAD9B27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C0DE-7D6B-4F99-AB40-A1729943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EE7C-2DC6-4085-B821-FB405EE4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81DF-EB1B-402A-89E8-3FE21BCB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7BC4-6A69-4411-AB85-278BA502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DBD6-F772-4505-A966-38BF893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3D19-D50C-474B-AA21-23931DA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E4B-C6C3-412A-A427-FD1FC065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EC12-5C1D-40F2-BA51-554C6F71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7A76-DE9C-4964-9745-1826C98C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6C25-A652-4DC4-AF59-B77D9DC2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44CA-E1B4-4281-A3D8-8747131A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AB9C-DDA3-48EB-813E-3243914C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74A-3EC7-4C90-BCCE-D2D7EF13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2CD-09DF-46A9-983A-48F49325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9FC-4856-4270-BFE4-EB860879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A82-D038-40C5-927D-F9768048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3B0-547A-4AC4-B798-D139A65D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B5C-C8FD-4C9F-9144-E4B08FF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F7B-4438-462C-9915-63BBBE7D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215E-3A12-45B9-8E37-7E22C24CBD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89D1-68CC-4E02-9216-16155E3DE9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9228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Что надо знать о речевых нарушениях ребенка?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В последние годы резко увеличилось количество детей с задержкой речевого развитии и с различными речевыми нарушениями. Родители двухлетнего малыша видят, что сверстники произносят предложение, а их говорит только "мама", "папа". Родители четырехлетнего малыша видят, что сверстники свободно общаются, а у их ребенка "каша во рту". Почему это происходит именно с моим ребенком? Что делать? К какому специалисту идти? Насколько это серьезно? Подобные вопросы начинают терзать мам, пап, бабушек и дедуш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4865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Что является причинами задержки речевого развития и различных речевых нарушений речи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доразвития или поражения мозга, а так же центральной нервной системы во внутриутробном периоде, в момент родов или после рожд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акторами, приводящими к дальнейшим проблемам в развитии, являются: угроза выкидыша во время беременности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ительный токсикоз; перенесенные беременной простудные и инфекционные заболевания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ем лекарств, противопоказанных во время беременности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личие у беременной хронических заболеваний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личие вредных привычек (табак, алкоголь, наркотики); гипоксия плода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ремительные или наоборот затяжные род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доношенность плода или наоборот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совместимость крови матери и плода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сфиксия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равма во время родов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нутричерепное давление,внутричерепные кровоизлияния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яд инфекционных заболеваний, перенесенных ребенком до двух лет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репно-мозговые травмы и др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Родители должны знать 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одному году в словарном запасе ребенка должно быть 8-12 сл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2 годам – 250-300 слов, должно сформироваться умение говорить целыми фразами; в это же время активно развиваются словарь, фраза, фонематический слу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4-5 года звукопроизношение у ребенка должно быть полностью сформировано (исключение составляет звук [Р] – 5-6 лет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5-6 лет должно быть сформировано фонематическое восприятие, звуковой анализ, синтез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к 2 годам ребенок не заговорил, стоит показать его специалистам (логопед, невролог, лор), чтобы вовремя обнаружить причину «немоты». Вполне вероятно, что у него частичное снижение слуха или укорочена подъязычная уздеч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Милую картавость» и прочие «очаровательные» дефекты речи ликвидировать нужно обязательно. Это свидетельство Вашей культуры Вашего уважительного          отношения к собственному ребенк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озрастные нормы речевого развития ребён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 4 годам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лыш уже правильно произносит свистящие звуки [с], [с'], [з], [з'], использует в речи сложноподчиненные предложения («Я люблю рисовать красками, потому что они разноцветные»). Он с удовольствием рассказывает о том, что видел на прогулке или по телевизору, что ему прочитали. Не настаивайте, чтобы ребенок правильно произносил в этом возрасте звук [р]. Очень часто желание мамы и папы научить ребенка овладеть сложным звуком и неумение делать это приводят к возникновению серьезного нарушения звукопроизнош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 5 годам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лыш правильно произносит шипящие звуки [ш], [ж], почти не допускает в речи грамматических ошибок, может связно рассказать о том, что изображено на серии картинок или на одной картин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Ребенку 4 года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ечевое развитие в норме, если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ладеет словарем примерно 1500 слов. Начинает употреблять сложные предложения. Говорит предложениями из 4-5 сл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дает много вопросов, использует слова «Кто?» и «Почему?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спользует выражения типа: «я думаю, что....»,  «я надеюсь, что....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авильно употребляет глаголы в прошедшем времен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еобходима помощь логопеда, если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4 года не знает названия цветов, не считает в пределах пяти, не слушает длинные сказки, не может рассказать ни одного стихотвор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 ребенка очень скудный словарный запас (в норме – около 2000 слов)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бенок не может запомнить четверостишье, совсем не рассказывает собственных историй (при этом отсутствие связной речи, ошибки в предложениях, все еще проблемы со «сложными» звуками – норма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270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КОГДА НЕОБХОДИМО ПРОКОНСУЛЬТИРОВАТЬСЯ С НЕВРОЛОГОМ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•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бенок плохо приживается в коллективе, с трудом привыкает к новой обстановке;                                                                  •Кажется неловким и неуклюжим, не вписывается в подвижные игры, требующие слаженности движений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Быстро стаптывает обувь, при ходьбе чуть косолапит, ставя ноги носками внутрь, нагружает не всю стопу целиком, а только ее внутренний край и носочки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Заикается или неправильно произносит слова, не так хорошо, как хотелось бы, запоминает детские стихи, не может внятно пересказать отрывок из только что прочитанной сказки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Перед засыпанием ритмично покачивает головой или раскачивает туловищем, сосет пальцы, обкусывает ногти, машинально перекатывает в руках мелкие предметы или наматывает прядь волос на палец, гримасничает - словом, замечен во "вредных привычках«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Часто бывает не в настроении, плачет и капризничает по малейшему поводу, выглядит хмурым, отличается рассеянностью и частой сменой настроения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Периодически жалуется на головную боль, носит шапки и панамки большего размера, чем сверстн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омните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икакие логопеды не добьются быстрых результатов без эффективной и умелой помощи родит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нятия по исправлению и постановке звуков нужно проводить ежедневно по 10-15 минут (артикуляционная гимнастика, массаж, логоритмик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бенок должен стремиться сам научиться правильно произносить зву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ните, что малыш испытывает огромные трудности и не может сразу придать нужное положение губам, языку, выполнить то или иное упражне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во время занятий ребенок не потерял интерес, поощряйте малейший его успе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жде чем приступить к работе над звуком, сами перед зеркалом изучите правильное положение губ, языка, зубов при его произнош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3:29:38Z</dcterms:created>
  <dc:creator>User</dc:creator>
  <dc:description/>
  <dc:language>en-US</dc:language>
  <cp:lastModifiedBy>User</cp:lastModifiedBy>
  <dcterms:modified xsi:type="dcterms:W3CDTF">2013-10-15T15:22:02Z</dcterms:modified>
  <cp:revision>4</cp:revision>
  <dc:subject/>
  <dc:title>«Что надо знать о речевых нарушениях ребенка?»</dc:title>
</cp:coreProperties>
</file>