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.png" ContentType="image/png"/>
  <Override PartName="/ppt/media/image3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2B1-1337-4764-A38A-B4E46CEE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DCB-BD39-4468-9EF3-A4BB3595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8A8-58E3-441F-92E3-DA594B91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A0C-41C1-41F7-A166-86970CC1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043F-69CC-4987-A9D0-F5847EDD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5140-9688-456F-9050-5D62AEBC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9843-EA28-4106-BA75-7BCE3032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79CA-EC71-42C6-9460-BE83B337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6286-63AB-430E-B83C-17A486DA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4945-1964-4CDC-B36D-C6947921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9771-C273-4FC1-8809-1E18F859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056-3DEE-4660-B059-EF5FC5FF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2CD9-DED7-40A0-BA34-9A7C452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D95-F942-476E-AAF8-B1624870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D8A3-200D-4F02-8EEC-3D0EDCA5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842E-1C72-4E9B-A9BC-27AC780D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AACD-8130-45C1-BA78-1B2269CB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E35-8031-4CB5-B128-DDB76FD0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2E4-88A9-449A-8262-E17135E2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BA9-778D-45B5-AFE8-4629053D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972-A8CF-408A-A7FE-52B55DFF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5A3-6B57-4DF2-96A0-AFDE01DC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304-3B58-455F-918B-5A5F4059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F48-1D57-40D2-BC09-B03F782F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2223-14AE-441D-B1D4-807CED19ACE6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FC22-90A1-4869-9496-C830A1D32721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400068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«Азбука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общения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ограмма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занятий для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оррекции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детско-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родительских отношений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99840" y="5857920"/>
            <a:ext cx="61405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езденежных Ирина Юрьевна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дагог-психолог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286000" y="428760"/>
            <a:ext cx="65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СУ АО «Приводинский СРЦН «Улитка»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ложение 1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57120" y="1285920"/>
            <a:ext cx="8572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нкета участников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цените, пожалуйста, ваши взаимоотношения с ребёнком в настоящее время, обозначив условно выбранное положение на шкалах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асто                                               Редко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граем вместе       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соримся               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нимаем друг друга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могаем друг другу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тмечаем праздники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уляем (отдыхаем)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итаем книги         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бсуждаем фильмы, передачи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нтересуемся делами друг друга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____________________________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____________________________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____________________________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и последние шкалы остались пустыми. Заполните их так, как вы считаете нужным и оцените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999720"/>
            <a:ext cx="7924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ложение 2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4240" y="1643040"/>
            <a:ext cx="7858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тодика «Рисунок семьи»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етодика является своеобразным тестом на определение эмоционального благополучия, помогает глубже понять ребёнка, его восприятие окружающего мира, семьи и самих родителей, а также отношение ребёнка к составу семьи и восприятие его места в данной общности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ебёнку дают стандартный лист бумаги, простой и цветные карандаши и просят нарисовать свою семью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нтерпретация проводится согласно методике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Приложение 3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071720" y="1857240"/>
            <a:ext cx="757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ллективная работа «Наш мир»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ль: Диагностика и коррекция межличностных отношений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бота предполагает совместное рисование вначале маленького «мира» в диаде, затем – большого коллективного «мира» с помощью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рт-терапевтической техник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Послесловие</a:t>
            </a:r>
            <a:r>
              <a:rPr b="0" lang="ru-RU" sz="4800" spc="-1" strike="noStrike">
                <a:solidFill>
                  <a:srgbClr val="9966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4929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ждый ребёнок рождается безгрешным.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решить учим мы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т тревожных, агрессивных, озлобленных детей изначально.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аковыми их делаем мы, взрослые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57268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147"/>
                </a:solidFill>
                <a:latin typeface="Arial Black"/>
              </a:rPr>
              <a:t>Цель – формирование желания и способностей взаимодействовать друг с другом посредством коррекции детско-родительских отношений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5480" y="2714760"/>
            <a:ext cx="86439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Развивать коммуникативные способност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Способствовать выработке «коммуникативных маячков»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Развивать чувства: эмпатии, альтруизма, сопереживания, внимательного отношения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Дать родителям познавательный материал улучшения взаимодействия с ребёнком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Обучить родителей приёмам развития памяти, внимания, мышления, творческих способностей ребёнка в игровой форме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Способствовать применению полученных знаний в жизн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840" y="114264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Условия проведения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явление проблемы до начала занятий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иада: ребёнок – родитель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6 -8 занятий (1 раз в неделю)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ость занятия - 1 час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раст детей – от 7 до 14 лет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ощадь помещения не менее 40 кв.м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вёр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льшой стол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гнитофон с записями музыкальных фрагментов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ические игры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умага для рисования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аски, цветные карандаш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яч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ягкие игрушк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Структура занятия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160" y="1642680"/>
            <a:ext cx="8181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Приветствие участников занятия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ра на развитие коммуникативных навыков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ра или упражнение на развитие доверительных отношений и сплочённости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Упражнение на развитие познавательных способностей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Упражнение для коррекции самооценки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ра для создания творческой атмосферы и развития творческого мышления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Обсуждение и рефлексия для создания возможности коррекции самооценки и получения обратной связ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68320"/>
            <a:ext cx="79246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Формы работы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91" name="Содержимое 4" descr="P2280041.JPG"/>
          <p:cNvPicPr/>
          <p:nvPr/>
        </p:nvPicPr>
        <p:blipFill>
          <a:blip r:embed="rId1"/>
          <a:stretch/>
        </p:blipFill>
        <p:spPr>
          <a:xfrm>
            <a:off x="1411200" y="16430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P2280040.JPG"/>
          <p:cNvPicPr/>
          <p:nvPr/>
        </p:nvPicPr>
        <p:blipFill>
          <a:blip r:embed="rId2"/>
          <a:stretch/>
        </p:blipFill>
        <p:spPr>
          <a:xfrm>
            <a:off x="5357880" y="164304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АБ\Мои документы\Мои рисунки\фотки с работы\P2280028.JPG"/>
          <p:cNvPicPr/>
          <p:nvPr/>
        </p:nvPicPr>
        <p:blipFill>
          <a:blip r:embed="rId3"/>
          <a:stretch/>
        </p:blipFill>
        <p:spPr>
          <a:xfrm>
            <a:off x="928800" y="4143240"/>
            <a:ext cx="3340080" cy="235764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4857840" y="1643040"/>
            <a:ext cx="35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ндивидуаль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5" name="Picture 3" descr="C:\Documents and Settings\АБ\Мои документы\Мои рисунки\фотки с работы\P3050084.JPG"/>
          <p:cNvPicPr/>
          <p:nvPr/>
        </p:nvPicPr>
        <p:blipFill>
          <a:blip r:embed="rId4"/>
          <a:stretch/>
        </p:blipFill>
        <p:spPr>
          <a:xfrm>
            <a:off x="5715000" y="4143240"/>
            <a:ext cx="307188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79246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Формы работы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97" name="Содержимое 7" descr="P2280060.JPG"/>
          <p:cNvPicPr/>
          <p:nvPr/>
        </p:nvPicPr>
        <p:blipFill>
          <a:blip r:embed="rId1"/>
          <a:stretch/>
        </p:blipFill>
        <p:spPr>
          <a:xfrm>
            <a:off x="642960" y="1714680"/>
            <a:ext cx="3000240" cy="2400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4500720" y="2071800"/>
            <a:ext cx="35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уппов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9" name="Picture 2" descr="C:\Documents and Settings\АБ\Мои документы\Мои рисунки\фотки с работы\P3050088.JPG"/>
          <p:cNvPicPr/>
          <p:nvPr/>
        </p:nvPicPr>
        <p:blipFill>
          <a:blip r:embed="rId2"/>
          <a:stretch/>
        </p:blipFill>
        <p:spPr>
          <a:xfrm>
            <a:off x="5214960" y="4000680"/>
            <a:ext cx="3400560" cy="2428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АБ\Мои документы\Мои рисунки\фотки с работы\P3050089.JPG"/>
          <p:cNvPicPr/>
          <p:nvPr/>
        </p:nvPicPr>
        <p:blipFill>
          <a:blip r:embed="rId3"/>
          <a:stretch/>
        </p:blipFill>
        <p:spPr>
          <a:xfrm>
            <a:off x="5857920" y="1714680"/>
            <a:ext cx="3087720" cy="218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0" y="1928880"/>
            <a:ext cx="357120" cy="409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АБ\Мои документы\Мои рисунки\фотки с работы\P3050095.JPG"/>
          <p:cNvPicPr/>
          <p:nvPr/>
        </p:nvPicPr>
        <p:blipFill>
          <a:blip r:embed="rId5"/>
          <a:stretch/>
        </p:blipFill>
        <p:spPr>
          <a:xfrm>
            <a:off x="966960" y="4143240"/>
            <a:ext cx="326052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Формы работы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4" name="Содержимое 5" descr="P2280036.JPG"/>
          <p:cNvPicPr/>
          <p:nvPr/>
        </p:nvPicPr>
        <p:blipFill>
          <a:blip r:embed="rId1"/>
          <a:stretch/>
        </p:blipFill>
        <p:spPr>
          <a:xfrm>
            <a:off x="5214960" y="2657520"/>
            <a:ext cx="3243240" cy="243216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9" descr="P3050077.JPG"/>
          <p:cNvPicPr/>
          <p:nvPr/>
        </p:nvPicPr>
        <p:blipFill>
          <a:blip r:embed="rId2"/>
          <a:stretch/>
        </p:blipFill>
        <p:spPr>
          <a:xfrm>
            <a:off x="533520" y="2657520"/>
            <a:ext cx="3252600" cy="2440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286160" y="2214720"/>
            <a:ext cx="35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лектив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369080" y="121428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928800" y="1903320"/>
            <a:ext cx="771516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знакомиться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общаться!» (вербальные средства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общаться!» (невербальные средства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наблюда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говори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сочиня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вспомина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прощаться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Заключительный этап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14240" y="2071800"/>
            <a:ext cx="7858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вершает работу коллективная работа «Наш мир», где каждая диада представляет вначале своё  видение маленького изолированного мира внутри семьи, а затем объединяет это видение в рамки общечеловеческих отношений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ллективная работа проводится методом арт-терапи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тесном «семейном» кругу за чашечкой чая каждый сможет осмыслить свою роль в цикле занятий, свои достижения, свой резерв для дальнейшего развития или преобразований внутри семь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4:53:43Z</dcterms:created>
  <dc:creator>АБ</dc:creator>
  <dc:description/>
  <cp:keywords/>
  <dc:language>en-US</dc:language>
  <cp:lastModifiedBy>АБ</cp:lastModifiedBy>
  <dcterms:modified xsi:type="dcterms:W3CDTF">2011-05-18T18:36:32Z</dcterms:modified>
  <cp:revision>23</cp:revision>
  <dc:subject/>
  <dc:title> «Азбука  общения»  (программа  занятий для  коррекции детско- родительских отношений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