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C45-2765-4A77-8E7F-4F05ED3C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1D7-4FD5-4A8F-9023-D775A71E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029-2F52-4925-9358-6430CAB1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D60-E094-4F41-8A60-91E0BC0C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07FC-65AE-47C8-843F-6DB0C2EF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3D2-A0D3-43E8-B68B-6C5376B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47D1-F63A-4EF4-90F2-A692D12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D7E-0714-414B-BFD2-B64520F8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FE8-E095-4B9F-A1D5-64104FB7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0261-BFB1-4BEF-9DCC-17AA077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FA3-144C-4CB0-9DA7-B982693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349-0737-4D21-8AE8-860725A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B62-2F86-4C7F-83B4-ACF5D3A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A301-AE67-46B6-BBE7-BAA9F01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D894-5D41-46D6-8373-DC740CA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A20-4623-4682-86A2-C4502B68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611E-83B1-4948-842D-EB3713D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BAB-8F2F-4E5E-9229-5E7EE4CF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C9C-6044-4649-85A2-1AF0CDC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1B2-559A-44DD-BCB3-B8C3FC9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71B-03E8-4B4B-A86D-C7249DC9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73F-9A11-4BED-86FF-118772A5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2DC-699A-4219-8A3A-8734F30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D6A-31F5-4354-95ED-01AEB0F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9E5-3A96-43D3-A42C-A31B1B42462E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532D-F27A-4761-95BB-5D280A00A08E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40006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«Азбук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общения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занятий для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орре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етско-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родительских отношений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99840" y="5857920"/>
            <a:ext cx="614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зденежных Ирина Юрьевна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дагог-психолог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286000" y="428760"/>
            <a:ext cx="65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СУ АО «Приводинский СРЦН «Улитка»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1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57120" y="1285920"/>
            <a:ext cx="8572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нкета участников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цените, пожалуйста, ваши взаимоотношения с ребёнком в настоящее время, обозначив условно выбранное положение на шкалах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асто                                               Редко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граем вместе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соримся      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нимаем друг друга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огаем друг другу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мечаем праздники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уляем (отдыхаем)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итаем книги                              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суждаем фильмы, передачи   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тересуемся делами друг друга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____________________________          ________________________________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и последние шкалы остались пустыми. Заполните их так, как вы считаете нужным и оценит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999720"/>
            <a:ext cx="7924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ложение 2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1643040"/>
            <a:ext cx="7858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тодика «Рисунок семьи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одика является своеобразным тестом на определение эмоционального благополучия, помогает глубже понять ребёнка, его восприятие окружающего мира, семьи и самих родителей, а также отношение ребёнка к составу семьи и восприятие его места в данной общности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бёнку дают стандартный лист бумаги, простой и цветные карандаши и просят нарисовать свою семью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нтерпретация проводится согласно методике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иложение 3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071720" y="185724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«Наш мир»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ль: Диагностика и коррекция межличностных отношений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бота предполагает совместное рисование вначале маленького «мира» в диаде, затем – большого коллективного «мира» с помощью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рт-терапевтической техник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Послесловие</a:t>
            </a:r>
            <a:r>
              <a:rPr b="0" lang="ru-RU" sz="4800" spc="-1" strike="noStrike">
                <a:solidFill>
                  <a:srgbClr val="9966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4929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аждый ребёнок рождается безгрешным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решить учим мы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т тревожных, агрессивных, озлобленных детей изначально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аковыми их делаем мы, взрослые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147"/>
                </a:solidFill>
                <a:latin typeface="Arial Black"/>
              </a:rPr>
              <a:t>Цель – формирование желания и способностей взаимодействовать друг с другом посредством коррекции детско-родительских отношений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5480" y="271476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коммуникативные способ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выработке «коммуникативных маячков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вивать чувства: эмпатии, альтруизма, сопереживания, внимательного отноше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Дать родителям познавательный материал улучшения взаимодействия с ребёнко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бучить родителей приёмам развития памяти, внимания, мышления, творческих способностей ребёнка в игровой форме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пособствовать применению полученных знаний в жизн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Условия проведения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явление проблемы до начала занятий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иада: ребёнок – родитель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 -8 занятий (1 раз в неделю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ость занятия - 1 час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раст детей – от 7 до 14 лет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ощадь помещения не менее 40 кв.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вёр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льшой стол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гнитофон с записями музыкальных фрагментов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ические игры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мага для рисова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ки, цветные карандаш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ч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ягкие игрушк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Структура занятия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1642680"/>
            <a:ext cx="8181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риветствие участников занят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на развитие коммуникативных навыков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или упражнение на развитие доверительных отношений и сплочённост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на развитие познавательных способностей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Упражнение для коррекции самооценки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ра для создания творческой атмосферы и развития творческого мышления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бсуждение и рефлексия для создания возможности коррекции самооценки и получения обратной связ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6832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1" name="Содержимое 4" descr="P2280041.JPG"/>
          <p:cNvPicPr/>
          <p:nvPr/>
        </p:nvPicPr>
        <p:blipFill>
          <a:blip r:embed="rId1"/>
          <a:stretch/>
        </p:blipFill>
        <p:spPr>
          <a:xfrm>
            <a:off x="1411200" y="16430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P2280040.JPG"/>
          <p:cNvPicPr/>
          <p:nvPr/>
        </p:nvPicPr>
        <p:blipFill>
          <a:blip r:embed="rId2"/>
          <a:stretch/>
        </p:blipFill>
        <p:spPr>
          <a:xfrm>
            <a:off x="5357880" y="16430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АБ\Мои документы\Мои рисунки\фотки с работы\P2280028.JPG"/>
          <p:cNvPicPr/>
          <p:nvPr/>
        </p:nvPicPr>
        <p:blipFill>
          <a:blip r:embed="rId3"/>
          <a:stretch/>
        </p:blipFill>
        <p:spPr>
          <a:xfrm>
            <a:off x="928800" y="4143240"/>
            <a:ext cx="3340080" cy="2357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4857840" y="1643040"/>
            <a:ext cx="35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дивидуаль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5" name="Picture 3" descr="C:\Documents and Settings\АБ\Мои документы\Мои рисунки\фотки с работы\P3050084.JPG"/>
          <p:cNvPicPr/>
          <p:nvPr/>
        </p:nvPicPr>
        <p:blipFill>
          <a:blip r:embed="rId4"/>
          <a:stretch/>
        </p:blipFill>
        <p:spPr>
          <a:xfrm>
            <a:off x="5715000" y="4143240"/>
            <a:ext cx="30718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7924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97" name="Содержимое 7" descr="P2280060.JPG"/>
          <p:cNvPicPr/>
          <p:nvPr/>
        </p:nvPicPr>
        <p:blipFill>
          <a:blip r:embed="rId1"/>
          <a:stretch/>
        </p:blipFill>
        <p:spPr>
          <a:xfrm>
            <a:off x="642960" y="1714680"/>
            <a:ext cx="3000240" cy="2400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4500720" y="2071800"/>
            <a:ext cx="35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ппов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9" name="Picture 2" descr="C:\Documents and Settings\АБ\Мои документы\Мои рисунки\фотки с работы\P3050088.JPG"/>
          <p:cNvPicPr/>
          <p:nvPr/>
        </p:nvPicPr>
        <p:blipFill>
          <a:blip r:embed="rId2"/>
          <a:stretch/>
        </p:blipFill>
        <p:spPr>
          <a:xfrm>
            <a:off x="5214960" y="4000680"/>
            <a:ext cx="3400560" cy="2428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АБ\Мои документы\Мои рисунки\фотки с работы\P3050089.JPG"/>
          <p:cNvPicPr/>
          <p:nvPr/>
        </p:nvPicPr>
        <p:blipFill>
          <a:blip r:embed="rId3"/>
          <a:stretch/>
        </p:blipFill>
        <p:spPr>
          <a:xfrm>
            <a:off x="5857920" y="1714680"/>
            <a:ext cx="308772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1928880"/>
            <a:ext cx="357120" cy="409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АБ\Мои документы\Мои рисунки\фотки с работы\P3050095.JPG"/>
          <p:cNvPicPr/>
          <p:nvPr/>
        </p:nvPicPr>
        <p:blipFill>
          <a:blip r:embed="rId5"/>
          <a:stretch/>
        </p:blipFill>
        <p:spPr>
          <a:xfrm>
            <a:off x="966960" y="4143240"/>
            <a:ext cx="326052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Формы работы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04" name="Содержимое 5" descr="P2280036.JPG"/>
          <p:cNvPicPr/>
          <p:nvPr/>
        </p:nvPicPr>
        <p:blipFill>
          <a:blip r:embed="rId1"/>
          <a:stretch/>
        </p:blipFill>
        <p:spPr>
          <a:xfrm>
            <a:off x="5214960" y="2657520"/>
            <a:ext cx="3243240" cy="24321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9" descr="P3050077.JPG"/>
          <p:cNvPicPr/>
          <p:nvPr/>
        </p:nvPicPr>
        <p:blipFill>
          <a:blip r:embed="rId2"/>
          <a:stretch/>
        </p:blipFill>
        <p:spPr>
          <a:xfrm>
            <a:off x="533520" y="2657520"/>
            <a:ext cx="3252600" cy="2440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86160" y="2214720"/>
            <a:ext cx="35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лективная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369080" y="121428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28800" y="1903320"/>
            <a:ext cx="77151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знакоми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общаться!» (невербальные средства)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наблюд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говори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сочиня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вспоминать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авайте прощаться!»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Заключительный этап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2071800"/>
            <a:ext cx="785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вершает работу коллективная работа «Наш мир», где каждая диада представляет вначале своё  видение маленького изолированного мира внутри семьи, а затем объединяет это видение в рамки общечеловеческих отношений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ллективная работа проводится методом арт-терапи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тесном «семейном» кругу за чашечкой чая каждый сможет осмыслить свою роль в цикле занятий, свои достижения, свой резерв для дальнейшего развития или преобразований внутри семь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4:53:43Z</dcterms:created>
  <dc:creator>АБ</dc:creator>
  <dc:description/>
  <cp:keywords/>
  <dc:language>en-US</dc:language>
  <cp:lastModifiedBy>АБ</cp:lastModifiedBy>
  <dcterms:modified xsi:type="dcterms:W3CDTF">2011-05-18T18:36:32Z</dcterms:modified>
  <cp:revision>23</cp:revision>
  <dc:subject/>
  <dc:title> «Азбука  общения»  (программа  занятий для  коррекции детско- родительских отношений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