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139-90CC-4D5C-A2B6-5A46C92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969-E8AB-4455-9765-9D78BB2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956-1DAD-43EF-92D9-BBE40081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B42-633F-4593-A247-BB04DD1D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A900-A5F1-45FF-AF4F-329AF74A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66A8-4BAF-4BAD-A3BD-2173BCB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DD9-FE5B-4ADD-A64B-53F57E6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C5E-B85C-4323-96EA-39A1501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FF5A-74CD-493C-B629-52B827E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148-F9B3-497A-AE76-C00C987D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B64B-8E5C-469A-AB14-522427B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4B2-A99D-4367-9BE4-C65EF92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D5F2-5AE8-4080-866E-909D922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C71-57CC-48B3-AF5F-6A50272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4341-7388-4823-A110-F2F8468C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E9A-5F1A-4F28-BB99-84F09299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2FED-4D3A-4848-86D3-D35330DB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DD8-EA2D-4E2A-BE6C-087B08B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184-761C-44CE-8791-F42FABE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FB7-F5E1-4643-91E0-CC8E025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1EE-8628-474A-88CC-C9D2938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DB2-EE7A-41B5-B56F-63C023ED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E37-E63E-4FCE-9FB3-F7025C0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78E-79C5-4EEC-9134-A3A72FC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D423-8D87-40D4-819C-94732270EDE7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FFAD-E3B8-4F2E-872A-803A75456529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40006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«Азбук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общения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занятий для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орре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етско-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родительских отношений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99840" y="5857920"/>
            <a:ext cx="614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зденежных Ирина Юрьевна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дагог-психолог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86000" y="428760"/>
            <a:ext cx="65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СУ АО «Приводинский СРЦН «Улитка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1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57120" y="1285920"/>
            <a:ext cx="8572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нкета участников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цените, пожалуйста, ваши взаимоотношения с ребёнком в настоящее время, обозначив условно выбранное положение на шкалах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асто                                               Редко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граем вместе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соримся      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нимаем друг друга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огаем друг другу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мечаем праздники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уляем (отдыхаем)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итаем книги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суждаем фильмы, передачи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тересуемся делами друг друга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и последние шкалы остались пустыми. Заполните их так, как вы считаете нужным и оценит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999720"/>
            <a:ext cx="7924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2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1643040"/>
            <a:ext cx="7858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тодика «Рисунок семьи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одика является своеобразным тестом на определение эмоционального благополучия, помогает глубже понять ребёнка, его восприятие окружающего мира, семьи и самих родителей, а также отношение ребёнка к составу семьи и восприятие его места в данной общности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бёнку дают стандартный лист бумаги, простой и цветные карандаши и просят нарисовать свою семью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нтерпретация проводится согласно методике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иложение 3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71720" y="185724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«Наш мир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ль: Диагностика и коррекция межличностных отношений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бота предполагает совместное рисование вначале маленького «мира» в диаде, затем – большого коллективного «мира» с помощью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рт-терапевтической техник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Послесловие</a:t>
            </a:r>
            <a:r>
              <a:rPr b="0" lang="ru-RU" sz="4800" spc="-1" strike="noStrike">
                <a:solidFill>
                  <a:srgbClr val="9966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4929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ждый ребёнок рождается безгрешным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ешить учим мы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т тревожных, агрессивных, озлобленных детей изначально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аковыми их делаем мы, взрослые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147"/>
                </a:solidFill>
                <a:latin typeface="Arial Black"/>
              </a:rPr>
              <a:t>Цель – формирование желания и способностей взаимодействовать друг с другом посредством коррекции детско-родительских отношений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5480" y="271476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коммуникативные способ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выработке «коммуникативных маячков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чувства: эмпатии, альтруизма, сопереживания, внимательного отноше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Дать родителям познавательный материал улучшения взаимодействия с ребёнко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бучить родителей приёмам развития памяти, внимания, мышления, творческих способностей ребёнка в игровой форме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применению полученных знаний в жизн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словия проведения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явление проблемы до начала занятий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иада: ребёнок – родитель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 -8 занятий (1 раз в неделю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ость занятия - 1 час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раст детей – от 7 до 14 лет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ощадь помещения не менее 40 кв.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вёр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льшой сто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гнитофон с записями музыкальных фрагментов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ические игры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мага для рисова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ки, цветные карандаш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ч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гкие игрушк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Структура занят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1642680"/>
            <a:ext cx="8181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риветствие участников занят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на развитие коммуникативных навыков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или упражнение на развитие доверительных отношений и сплочённост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на развитие познавательных способностей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для коррекции самооценк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для создания творческой атмосферы и развития творческого мышлен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бсуждение и рефлексия для создания возможности коррекции самооценки и получения обратной связ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6832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1" name="Содержимое 4" descr="P2280041.JPG"/>
          <p:cNvPicPr/>
          <p:nvPr/>
        </p:nvPicPr>
        <p:blipFill>
          <a:blip r:embed="rId1"/>
          <a:stretch/>
        </p:blipFill>
        <p:spPr>
          <a:xfrm>
            <a:off x="1411200" y="16430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P2280040.JPG"/>
          <p:cNvPicPr/>
          <p:nvPr/>
        </p:nvPicPr>
        <p:blipFill>
          <a:blip r:embed="rId2"/>
          <a:stretch/>
        </p:blipFill>
        <p:spPr>
          <a:xfrm>
            <a:off x="5357880" y="16430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АБ\Мои документы\Мои рисунки\фотки с работы\P2280028.JPG"/>
          <p:cNvPicPr/>
          <p:nvPr/>
        </p:nvPicPr>
        <p:blipFill>
          <a:blip r:embed="rId3"/>
          <a:stretch/>
        </p:blipFill>
        <p:spPr>
          <a:xfrm>
            <a:off x="928800" y="4143240"/>
            <a:ext cx="3340080" cy="2357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4857840" y="1643040"/>
            <a:ext cx="35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дивидуаль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5" name="Picture 3" descr="C:\Documents and Settings\АБ\Мои документы\Мои рисунки\фотки с работы\P3050084.JPG"/>
          <p:cNvPicPr/>
          <p:nvPr/>
        </p:nvPicPr>
        <p:blipFill>
          <a:blip r:embed="rId4"/>
          <a:stretch/>
        </p:blipFill>
        <p:spPr>
          <a:xfrm>
            <a:off x="5715000" y="4143240"/>
            <a:ext cx="30718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7" name="Содержимое 7" descr="P2280060.JPG"/>
          <p:cNvPicPr/>
          <p:nvPr/>
        </p:nvPicPr>
        <p:blipFill>
          <a:blip r:embed="rId1"/>
          <a:stretch/>
        </p:blipFill>
        <p:spPr>
          <a:xfrm>
            <a:off x="642960" y="1714680"/>
            <a:ext cx="3000240" cy="2400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4500720" y="2071800"/>
            <a:ext cx="35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ппов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9" name="Picture 2" descr="C:\Documents and Settings\АБ\Мои документы\Мои рисунки\фотки с работы\P3050088.JPG"/>
          <p:cNvPicPr/>
          <p:nvPr/>
        </p:nvPicPr>
        <p:blipFill>
          <a:blip r:embed="rId2"/>
          <a:stretch/>
        </p:blipFill>
        <p:spPr>
          <a:xfrm>
            <a:off x="5214960" y="4000680"/>
            <a:ext cx="3400560" cy="2428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АБ\Мои документы\Мои рисунки\фотки с работы\P3050089.JPG"/>
          <p:cNvPicPr/>
          <p:nvPr/>
        </p:nvPicPr>
        <p:blipFill>
          <a:blip r:embed="rId3"/>
          <a:stretch/>
        </p:blipFill>
        <p:spPr>
          <a:xfrm>
            <a:off x="5857920" y="1714680"/>
            <a:ext cx="308772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1928880"/>
            <a:ext cx="357120" cy="409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АБ\Мои документы\Мои рисунки\фотки с работы\P3050095.JPG"/>
          <p:cNvPicPr/>
          <p:nvPr/>
        </p:nvPicPr>
        <p:blipFill>
          <a:blip r:embed="rId5"/>
          <a:stretch/>
        </p:blipFill>
        <p:spPr>
          <a:xfrm>
            <a:off x="966960" y="4143240"/>
            <a:ext cx="32605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4" name="Содержимое 5" descr="P2280036.JPG"/>
          <p:cNvPicPr/>
          <p:nvPr/>
        </p:nvPicPr>
        <p:blipFill>
          <a:blip r:embed="rId1"/>
          <a:stretch/>
        </p:blipFill>
        <p:spPr>
          <a:xfrm>
            <a:off x="5214960" y="2657520"/>
            <a:ext cx="3243240" cy="24321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9" descr="P3050077.JPG"/>
          <p:cNvPicPr/>
          <p:nvPr/>
        </p:nvPicPr>
        <p:blipFill>
          <a:blip r:embed="rId2"/>
          <a:stretch/>
        </p:blipFill>
        <p:spPr>
          <a:xfrm>
            <a:off x="533520" y="2657520"/>
            <a:ext cx="3252600" cy="2440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86160" y="2214720"/>
            <a:ext cx="35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лект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369080" y="12142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28800" y="1903320"/>
            <a:ext cx="77151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знакоми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не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наблюд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говори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сочиня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вспомин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проща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Заключительный этап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2071800"/>
            <a:ext cx="785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вершает работу коллективная работа «Наш мир», где каждая диада представляет вначале своё  видение маленького изолированного мира внутри семьи, а затем объединяет это видение в рамки общечеловеческих отношений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проводится методом арт-терапи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тесном «семейном» кругу за чашечкой чая каждый сможет осмыслить свою роль в цикле занятий, свои достижения, свой резерв для дальнейшего развития или преобразований внутри семь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4:53:43Z</dcterms:created>
  <dc:creator>АБ</dc:creator>
  <dc:description/>
  <cp:keywords/>
  <dc:language>en-US</dc:language>
  <cp:lastModifiedBy>АБ</cp:lastModifiedBy>
  <dcterms:modified xsi:type="dcterms:W3CDTF">2011-05-18T18:36:32Z</dcterms:modified>
  <cp:revision>23</cp:revision>
  <dc:subject/>
  <dc:title> «Азбука  общения»  (программа  занятий для  коррекции детско- родительских отношений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