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009-90E9-4FA9-8E6F-1EDB9B82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C81-B103-46DA-8AAA-99AF3446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D8C-14C0-4388-8885-53B63A5E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F00-F610-4B2C-AA42-8F469BA0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DB7-7ED3-4B1D-B243-BB05C62C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094-A48D-40E5-A7C7-32394AAF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80D-9BDC-4B31-AEF7-98AD337E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B75-83E3-4789-9033-6733CFCD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C19-D757-4845-8228-F4FC2B5E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85A-93AF-417F-B0FF-EC85CB2F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895-2722-4A19-9E02-7987D8A2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BCE-5190-409A-8758-8AAAE249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E53B-B6EF-4A5B-B793-48510D1E8B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terfax-region.ru/" TargetMode="External"/><Relationship Id="rId2" Type="http://schemas.openxmlformats.org/officeDocument/2006/relationships/hyperlink" Target="http://www.interfax-region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250920" y="907920"/>
            <a:ext cx="8713800" cy="496908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916280"/>
            <a:ext cx="8893080" cy="30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«Духовно-нравственное воспитание в современной</a:t>
            </a:r>
            <a:br>
              <a:rPr sz="4800"/>
            </a:b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школе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028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844280"/>
            <a:ext cx="82310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57160" y="357120"/>
            <a:ext cx="771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духовно-нравственного развития и воспитания личности гражданина России. /А.Я.Данилюк, А.М.Кондаков, В.А.Тишков. / Стандарты второго поколения. – М.: Просвещение,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включения в новое поколение стандартов общего среднего образования учебного предмета «Православная культура» в составе новой образоательной области учебного плана «Духовно-нравственная культура» //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://www.interfax-region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00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орин А. О ключевых понятиях духовно-нравственного воспитания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http://www.pravoslavie.ru/gurna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инский К.Д. О нравственном элементе в русском воспитании. – Спб., 18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0000ff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50920" y="18900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0099cc">
              <a:alpha val="35000"/>
            </a:srgbClr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Актуальность проблемы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духовно-нравственного вос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91628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ество нуждается в подготовке широко образованных, высоко нравственных людей, обладающих не только знаниями, но и прекрасными чертами лич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временном мире ребенок развивается, окруженный множеством разнообразных источников сильного воздействия на него как позитивного, так и негативного характера на еще только формирующуюся сферу нравствен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 по себе образование не гарантирует высокого уровня нравственной воспитан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равственные знания информируют ребенка о нормах поведения в современном обществе, дают представления о последствиях нарушения этих норм или последствиях данного поступка для окружающих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1258920" y="189000"/>
            <a:ext cx="6553080" cy="1295280"/>
          </a:xfrm>
          <a:custGeom>
            <a:avLst/>
            <a:gdLst>
              <a:gd name="textAreaLeft" fmla="*/ 152640 w 6553080"/>
              <a:gd name="textAreaRight" fmla="*/ 6400440 w 655308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092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5654" y="21600"/>
                </a:lnTo>
                <a:arcTo wR="3600" hR="3600" stAng="10800000" swAng="5400000"/>
                <a:lnTo>
                  <a:pt x="109254" y="3600"/>
                </a:lnTo>
                <a:arcTo wR="3600" hR="3600" stAng="5400000" swAng="5400000"/>
                <a:close/>
              </a:path>
            </a:pathLst>
          </a:custGeom>
          <a:solidFill>
            <a:srgbClr val="808000">
              <a:alpha val="41000"/>
            </a:srgbClr>
          </a:solidFill>
          <a:ln w="316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национальный воспитательный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иде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1499760"/>
            <a:ext cx="87138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006600"/>
                </a:solidFill>
                <a:uFillTx/>
                <a:latin typeface="Calibri"/>
              </a:rPr>
              <a:t> </a:t>
            </a:r>
            <a:r>
              <a:rPr b="1" lang="ru-RU" sz="2600" spc="-1" strike="noStrike" u="sng">
                <a:solidFill>
                  <a:srgbClr val="006600"/>
                </a:solidFill>
                <a:uFillTx/>
                <a:latin typeface="Calibri"/>
              </a:rPr>
              <a:t>средние века: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Calibri"/>
              </a:rPr>
              <a:t>XVIII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век: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                 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Calibri"/>
              </a:rPr>
              <a:t>Советский пери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ик православ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 государственный  всесторонне развитая личнос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вятой Рус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уга царю и Отечеству           подчиняющая свою жизн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ии и нар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Calibri"/>
              </a:rPr>
              <a:t>Современнос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конравственный, творческий, компетентный гражданин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принимающий судьбу Отечества как свою личную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знающий ответственность за настоящее и будущее своей страны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укоренённый в духовных и культурных традиция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многонационального народ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339933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21384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Воспитание, социально-педагогическая поддержка становления и развития высоконравственного, ответственного, творческого, инициативного, компетентного гражданина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хема 5" descr=""/>
          <p:cNvPicPr/>
          <p:nvPr/>
        </p:nvPicPr>
        <p:blipFill>
          <a:blip r:embed="rId1"/>
          <a:stretch/>
        </p:blipFill>
        <p:spPr>
          <a:xfrm>
            <a:off x="2054160" y="2414520"/>
            <a:ext cx="613260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9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4" descr=""/>
          <p:cNvPicPr/>
          <p:nvPr/>
        </p:nvPicPr>
        <p:blipFill>
          <a:blip r:embed="rId1"/>
          <a:stretch/>
        </p:blipFill>
        <p:spPr>
          <a:xfrm>
            <a:off x="341280" y="1706400"/>
            <a:ext cx="8534520" cy="49435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214200" y="214200"/>
            <a:ext cx="8713800" cy="1428840"/>
          </a:xfrm>
          <a:custGeom>
            <a:avLst/>
            <a:gdLst>
              <a:gd name="textAreaLeft" fmla="*/ 194760 w 8713800"/>
              <a:gd name="textAreaRight" fmla="*/ 8519040 w 8713800"/>
              <a:gd name="textAreaTop" fmla="*/ 194760 h 1428840"/>
              <a:gd name="textAreaBottom" fmla="*/ 1234080 h 1428840"/>
            </a:gdLst>
            <a:ahLst/>
            <a:rect l="textAreaLeft" t="textAreaTop" r="textAreaRight" b="textAreaBottom"/>
            <a:pathLst>
              <a:path w="131700" h="21600">
                <a:moveTo>
                  <a:pt x="4165" y="0"/>
                </a:moveTo>
                <a:arcTo wR="4165" hR="4165" stAng="0" swAng="5400000"/>
                <a:lnTo>
                  <a:pt x="0" y="17435"/>
                </a:lnTo>
                <a:arcTo wR="4165" hR="4165" stAng="16200000" swAng="5400000"/>
                <a:lnTo>
                  <a:pt x="127535" y="21600"/>
                </a:lnTo>
                <a:arcTo wR="4165" hR="4165" stAng="10800000" swAng="5400000"/>
                <a:lnTo>
                  <a:pt x="131700" y="4165"/>
                </a:lnTo>
                <a:arcTo wR="4165" hR="4165" stAng="5400000" swAng="5400000"/>
                <a:close/>
              </a:path>
            </a:pathLst>
          </a:custGeom>
          <a:solidFill>
            <a:srgbClr val="9933ff">
              <a:alpha val="50000"/>
            </a:srgbClr>
          </a:solidFill>
          <a:ln w="316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115920"/>
            <a:ext cx="87138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Arial"/>
              </a:rPr>
              <a:t>Основные принципы организации духовно-нравственного развития 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33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циальные и общие личностные (идейность, гражданственность, нравственность, педагогическая направленность и эстетическая культур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фессионально-педаг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дивидуальные особенности познавательных процессов и их педагогическая направленность (педагогическая наблюдательность, мышление, память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моциональная отзывчив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евые ка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 темпера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стояние здоровь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ое мышл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алоговое об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Преобразовательные» 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дагогическая рефлекс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ожительные этические качества (добродетел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сокие ценностные установки (патриотизм, гражданственность, любовь к детя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042920" y="115920"/>
            <a:ext cx="7489800" cy="1414440"/>
          </a:xfrm>
          <a:custGeom>
            <a:avLst/>
            <a:gdLst>
              <a:gd name="textAreaLeft" fmla="*/ 166680 w 7489800"/>
              <a:gd name="textAreaRight" fmla="*/ 7323120 w 7489800"/>
              <a:gd name="textAreaTop" fmla="*/ 166680 h 1414440"/>
              <a:gd name="textAreaBottom" fmla="*/ 1247760 h 1414440"/>
            </a:gdLst>
            <a:ahLst/>
            <a:rect l="textAreaLeft" t="textAreaTop" r="textAreaRight" b="textAreaBottom"/>
            <a:pathLst>
              <a:path w="1143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0754" y="21600"/>
                </a:lnTo>
                <a:arcTo wR="3600" hR="3600" stAng="10800000" swAng="5400000"/>
                <a:lnTo>
                  <a:pt x="114354" y="3600"/>
                </a:lnTo>
                <a:arcTo wR="3600" hR="3600" stAng="5400000" swAng="5400000"/>
                <a:close/>
              </a:path>
            </a:pathLst>
          </a:custGeom>
          <a:solidFill>
            <a:srgbClr val="9933ff">
              <a:alpha val="50000"/>
            </a:srgbClr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189000"/>
            <a:ext cx="6770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Группы качеств личности педагога, влияющие на нравственное воспит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5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5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3300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250920" y="0"/>
            <a:ext cx="8642160" cy="1511280"/>
          </a:xfrm>
          <a:custGeom>
            <a:avLst/>
            <a:gdLst>
              <a:gd name="textAreaLeft" fmla="*/ 177840 w 8642160"/>
              <a:gd name="textAreaRight" fmla="*/ 8464320 w 864216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1234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894" y="21600"/>
                </a:lnTo>
                <a:arcTo wR="3600" hR="3600" stAng="10800000" swAng="5400000"/>
                <a:lnTo>
                  <a:pt x="123494" y="3600"/>
                </a:lnTo>
                <a:arcTo wR="3600" hR="3600" stAng="5400000" swAng="5400000"/>
                <a:close/>
              </a:path>
            </a:pathLst>
          </a:custGeom>
          <a:solidFill>
            <a:srgbClr val="cc99ff">
              <a:alpha val="35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harisma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 </a:t>
            </a:r>
            <a:br>
              <a:rPr sz="4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ак высшая степень педагогической одар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4920" y="1483920"/>
            <a:ext cx="8218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0066"/>
                </a:solidFill>
                <a:uFillTx/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ркая индивидуально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овь к детя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енняя сила, цельность, целеустремленность, притягивающая детей и взрослы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рганизационное и эмоциональное" лидерств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ность генерировать идеи и увлекать и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та и глубина интересов, целостное мировоззрени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ренность в своей миссии, в правильности избранного им пу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окая степень напряженности внутренней жизни, устремленность, возвышенный характер духовно-нравственной сферы (духовность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орческое отношение к детям, к своему делу, к миру в цел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орческое отношение к самому себе как личности - использование собственных возможностей достигает в таком учителе своей высшей фор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уманистический приори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5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250920" y="0"/>
            <a:ext cx="8642160" cy="1511280"/>
          </a:xfrm>
          <a:custGeom>
            <a:avLst/>
            <a:gdLst>
              <a:gd name="textAreaLeft" fmla="*/ 177840 w 8642160"/>
              <a:gd name="textAreaRight" fmla="*/ 8464320 w 864216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1234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894" y="21600"/>
                </a:lnTo>
                <a:arcTo wR="3600" hR="3600" stAng="10800000" swAng="5400000"/>
                <a:lnTo>
                  <a:pt x="123494" y="3600"/>
                </a:lnTo>
                <a:arcTo wR="3600" hR="3600" stAng="5400000" swAng="5400000"/>
                <a:close/>
              </a:path>
            </a:pathLst>
          </a:custGeom>
          <a:solidFill>
            <a:srgbClr val="cc99ff">
              <a:alpha val="35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я чувств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едагогической любв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4920" y="1557360"/>
            <a:ext cx="8218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Постараться понять, что они - дети, потому и ведут себя как обычные д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Постараться принять ребенка таким, каков он есть на самом деле - с "плюсами" и "мину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Возможно более полно узнать, почему он стал "таким", и постараться "выработать" в себе понимание, сострадание и сочувствие к ребен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Найти позитивное в личности ребенка, выразить ему доверие, постараться включить его в общую деятельность (с заранее прогнозируемой позитивной оценко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Установить личный контакт с помощью средств невербального общения, создавать "ситуации успеха", оказывать ребенку позитивную словесную поддерж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Не упустить момент словесного или эмоционального отклика с его стороны, принять действенное участие в проблемах и трудностях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Не стесняться проявлять свою любовь к детям, открыто откликаться на проявление ответной любви, закреплять дружеский, сердечный, искренний тон в практике повседневного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50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5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50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чность 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екласс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утрисемейные отно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кус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комство с жизнью, деятельностью, нравственными позициями выдающихся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щно-предметное простран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395280" y="189000"/>
            <a:ext cx="8353440" cy="1295280"/>
          </a:xfrm>
          <a:custGeom>
            <a:avLst/>
            <a:gdLst>
              <a:gd name="textAreaLeft" fmla="*/ 152640 w 8353440"/>
              <a:gd name="textAreaRight" fmla="*/ 8200800 w 835344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392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35669" y="21600"/>
                </a:lnTo>
                <a:arcTo wR="3600" hR="3600" stAng="10800000" swAng="5400000"/>
                <a:lnTo>
                  <a:pt x="139269" y="3600"/>
                </a:lnTo>
                <a:arcTo wR="3600" hR="3600" stAng="5400000" swAng="5400000"/>
                <a:close/>
              </a:path>
            </a:pathLst>
          </a:custGeom>
          <a:solidFill>
            <a:srgbClr val="ccecff">
              <a:alpha val="31000"/>
            </a:srgbClr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Основные источники нравственн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4:08:23Z</dcterms:created>
  <dc:creator>flex</dc:creator>
  <dc:description/>
  <dc:language>en-US</dc:language>
  <cp:lastModifiedBy>настя власенко</cp:lastModifiedBy>
  <dcterms:modified xsi:type="dcterms:W3CDTF">2011-11-27T16:16:14Z</dcterms:modified>
  <cp:revision>62</cp:revision>
  <dc:subject/>
  <dc:title>Документы  для подготовки  к проведению ЕГЭ</dc:title>
</cp:coreProperties>
</file>