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5E8-10A1-4DD7-ACD1-24451A1B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CE1-041C-45F0-8174-53CC2AD2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3E4-DCE7-452C-89C2-D474263D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183-75C6-4E7F-AD61-5A6197E3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43A4-C4E1-41EC-8A72-5A3D6418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051-E061-46D0-B8FA-90EDA13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8D9-A943-4904-95C9-7F9BFC0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95F-AB85-4591-AE7A-44CBF5F5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A56-4B1B-43DF-A9D2-C241B50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BB5-0A5C-49FF-ADAD-7A64A95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8C2-C28A-4CEF-A2DE-E0DF6D4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5E0-F1C6-435F-AF8D-D0D06BD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7620-62FC-4C05-80F8-B15786E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89E8-8765-4864-A6C8-BCF2847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3F30-7951-4BE1-893D-3381832D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2B8-3BF4-4EA8-9E48-8EBDF900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F20-1340-491A-A63E-B775EA5D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6C60-5137-4E29-994B-2B4F556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FA26-690A-4574-B654-DAE01281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31A3-0FFF-4443-9890-B56AFE9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6117-48BB-40D8-B32C-1C89898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E11A-5D3C-4A93-A088-A5A0E34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552-54B0-4A93-B4CB-0676697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E96A-ED90-4916-BBBE-4CBBC072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B3EE-5461-41C1-B490-38FFA182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F4AC-DE8A-47F7-B939-1DD1F4B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3755-F851-40AD-8834-FE53231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73E9-1451-434F-A3DD-FA4D441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BE8C-3F48-432E-91BC-9944F619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0117-054B-4A44-8A8E-3522924A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BA8B-3AE7-4B1B-A5C0-1D2F774E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2989-7D23-4719-B333-C97C849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A75C-B8F7-4DF4-9341-CD7567D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378-CD94-4ED0-98C8-E2145123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5F62-9567-47E5-9E4B-C14B877F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DDF6-F3AA-4B26-97BB-EC6CE98B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64DE-DD38-441C-A226-80B78096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6668-7D50-421E-877C-0BB926C5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D49A-C9E2-4EBB-BCD3-FC8B73D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6347-1DCE-4A23-BAF6-4ED819B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8DA5-F86C-4C9E-A69D-A92D7F0D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EB34-0652-4C5F-9F4A-1115AC1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C051-77E8-416F-A9EC-B185F00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2C1-CF6D-4097-A82F-3AEFE14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BBE-8913-4889-97C7-85D2234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0F4-5E21-4889-B8F6-7C085B7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7C9-33D0-4D7F-AFE4-64E289DE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F56-E5B3-481F-903B-42ACDE2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FB67-5C00-43DA-A121-69F4A8AC26E8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2C6-68ED-4D57-B408-1F1CA98B4EFB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DC2-CD0E-4CFF-8AC3-D886C7E81120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090-0293-4A3C-B034-DBC2CBFA9456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" TargetMode="External"/><Relationship Id="rId2" Type="http://schemas.openxmlformats.org/officeDocument/2006/relationships/hyperlink" Target="http://www.google.ru/imgres?imgurl" TargetMode="External"/><Relationship Id="rId3" Type="http://schemas.openxmlformats.org/officeDocument/2006/relationships/hyperlink" Target="http://www.google.ru/imgres?imgurl" TargetMode="External"/><Relationship Id="rId4" Type="http://schemas.openxmlformats.org/officeDocument/2006/relationships/hyperlink" Target="http://www.google.ru/imgres?imgurl" TargetMode="External"/><Relationship Id="rId5" Type="http://schemas.openxmlformats.org/officeDocument/2006/relationships/hyperlink" Target="http://www.google.ru/imgres?imgurl" TargetMode="External"/><Relationship Id="rId6" Type="http://schemas.openxmlformats.org/officeDocument/2006/relationships/hyperlink" Target="https://www.google.ru/searc" TargetMode="External"/><Relationship Id="rId7" Type="http://schemas.openxmlformats.org/officeDocument/2006/relationships/hyperlink" Target="https://www.google.ru/searc" TargetMode="External"/><Relationship Id="rId8" Type="http://schemas.openxmlformats.org/officeDocument/2006/relationships/hyperlink" Target="https://www.google.ru/searc" TargetMode="External"/><Relationship Id="rId9" Type="http://schemas.openxmlformats.org/officeDocument/2006/relationships/hyperlink" Target="https://www.google.ru/searc" TargetMode="External"/><Relationship Id="rId10" Type="http://schemas.openxmlformats.org/officeDocument/2006/relationships/hyperlink" Target="https://www.google.ru/searc" TargetMode="Externa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488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МУНИЦИПАЛЬНОЕ ДОШКОЛЬНОЕ ОБРАЗОВАТЕЛЬНОЕ БЮДЖЕТНОЕ УЧРЕЖДЕНИЕ  «ЦЕНТР РАЗВИТИЯ РЕБЕНКА-  ДЕТСКИЙ САД №5 ЛЕСОЗАВОДСКОГО ГОРОДСКОГО ОКРУГА»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       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1547640" y="1700280"/>
            <a:ext cx="6192720" cy="3243240"/>
            <a:chOff x="1547640" y="1700280"/>
            <a:chExt cx="6192720" cy="324324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 rot="10800000">
              <a:off x="1548720" y="1701000"/>
              <a:ext cx="619164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47640" y="1700280"/>
              <a:ext cx="6191280" cy="32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За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  </a:t>
              </a: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о развитию представлени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об эмоциональных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роявлениях у дете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старшего дошкольного возра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6"/>
          <p:cNvSpPr/>
          <p:nvPr/>
        </p:nvSpPr>
        <p:spPr>
          <a:xfrm flipV="1" rot="10789200">
            <a:off x="5505840" y="5119200"/>
            <a:ext cx="36115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втор составител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валёва Надия Измаило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рший воспитатель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ысшей квалификацио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ЧУВСТВО ИСПЫТЫВАЕТ МАЛЬЧИК? ДЕВОЧКА? НАЗОВИТЕ ЧУВСТВО ПРОТИВОПОЛОЖНОЕ ТОМУ ,ЧТО ИСПЫТЫВАЕТ ДЕВОЧ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4" descr="DSC06567"/>
          <p:cNvPicPr/>
          <p:nvPr/>
        </p:nvPicPr>
        <p:blipFill>
          <a:blip r:embed="rId1"/>
          <a:stretch/>
        </p:blipFill>
        <p:spPr>
          <a:xfrm>
            <a:off x="395280" y="1197000"/>
            <a:ext cx="3672000" cy="511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DSC06564"/>
          <p:cNvPicPr/>
          <p:nvPr/>
        </p:nvPicPr>
        <p:blipFill>
          <a:blip r:embed="rId2"/>
          <a:stretch/>
        </p:blipFill>
        <p:spPr>
          <a:xfrm>
            <a:off x="4716360" y="1197000"/>
            <a:ext cx="388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ОГДА ЧЕЛОВЕК ИСПЫТЫВАЕТ УДОВОЛЬСТВИЕ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КАЖИ ПРИ ПОМОЩИ МИМИКИ ,ЧТО  ИСПЫТЫВАЕШЬ УДОВОЛЬСТВИЕ? КОГДА ТЫ ИСПЫТЫВАЕШЬ ОТВРАЩЕНИЕ? ПОКАЖИ ОТВРАЩЕНИЕ С ПОМОЩЬЮ МИМИК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6" name="Picture 4" descr="удовольствие"/>
          <p:cNvPicPr/>
          <p:nvPr/>
        </p:nvPicPr>
        <p:blipFill>
          <a:blip r:embed="rId1"/>
          <a:stretch/>
        </p:blipFill>
        <p:spPr>
          <a:xfrm>
            <a:off x="1214280" y="533520"/>
            <a:ext cx="5193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4560" y="115920"/>
            <a:ext cx="6554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 ЭМОЦИОНАЛЬНОЕ СОСТОЯНИЕ МАЛЬЧИК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4" descr="Изображение 101"/>
          <p:cNvPicPr/>
          <p:nvPr/>
        </p:nvPicPr>
        <p:blipFill>
          <a:blip r:embed="rId1"/>
          <a:stretch/>
        </p:blipFill>
        <p:spPr>
          <a:xfrm>
            <a:off x="2340000" y="876240"/>
            <a:ext cx="4824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684036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РЕБЕНОК ТОЖЕ  ЗАДУМАЛСЯ? КАКОЕ НАСТРОЕНИЕ У МАЛЬЧИКА НА ВТОРОМ ФОТО 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ОГАДАЛСЯ? ПОПРОБУЙ ЗАДУМАТЬСЯ О ЧЕМ ЛИБ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Picture 4" descr="задумчивость"/>
          <p:cNvPicPr/>
          <p:nvPr/>
        </p:nvPicPr>
        <p:blipFill>
          <a:blip r:embed="rId1"/>
          <a:stretch/>
        </p:blipFill>
        <p:spPr>
          <a:xfrm>
            <a:off x="609480" y="1622520"/>
            <a:ext cx="3457800" cy="4610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4716360" y="1622520"/>
            <a:ext cx="3638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87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ТОБЫ ТЫ ПОЧУВСТВОВАЛ, ЕСЛИ БЫ УВИДЕЛ ТАКУЮ МОЛНИЮ НА САМОМ ДЕЛ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Picture 7" descr="141"/>
          <p:cNvPicPr/>
          <p:nvPr/>
        </p:nvPicPr>
        <p:blipFill>
          <a:blip r:embed="rId1"/>
          <a:stretch/>
        </p:blipFill>
        <p:spPr>
          <a:xfrm>
            <a:off x="1547640" y="782640"/>
            <a:ext cx="75963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3120" y="1123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ИЗ ФОТО ДЕВОЧКЕ СТРАШНО? ПОКАЖИ, ЧТО ТЕБЕ СТРАШНО. КАК МОЖНО ПОМОЧЬ ДЕВОЧКЕ СПРАВИТЬСЯ СО СВОИМ СТРАХОМ? КАК НУЖНО ВЕСТИ СЕБЯ ,ЕСЛИ УВИДИШЬ  МОЛНИЮ НА УЛИЦ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5" descr="страх"/>
          <p:cNvPicPr/>
          <p:nvPr/>
        </p:nvPicPr>
        <p:blipFill>
          <a:blip r:embed="rId1"/>
          <a:stretch/>
        </p:blipFill>
        <p:spPr>
          <a:xfrm>
            <a:off x="4932360" y="1268280"/>
            <a:ext cx="3672000" cy="4972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573120" y="1268280"/>
            <a:ext cx="3695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3468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 ,ЧТО ЭТО? УДИВЛЯЕТ ЛИ ТЕБЯ ЭТО ЯВЛЕНИЕ ПРИРОДЫ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6" descr="вулкан"/>
          <p:cNvPicPr/>
          <p:nvPr/>
        </p:nvPicPr>
        <p:blipFill>
          <a:blip r:embed="rId1"/>
          <a:stretch/>
        </p:blipFill>
        <p:spPr>
          <a:xfrm>
            <a:off x="826920" y="847800"/>
            <a:ext cx="8317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3482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НАЗЫВАЕТСЯ ЭТО ЯВЛЕНИЕ ПРИРОДЫ? ЧТО БЫ ПОЧУВСТВОВАЛ ТЫ, ЕСЛИ БЫ УВИДЕЛ ТАКОЕ ЯВЛЕНИ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4" descr="удивительное явление"/>
          <p:cNvPicPr/>
          <p:nvPr/>
        </p:nvPicPr>
        <p:blipFill>
          <a:blip r:embed="rId1"/>
          <a:stretch/>
        </p:blipFill>
        <p:spPr>
          <a:xfrm>
            <a:off x="22320" y="1197000"/>
            <a:ext cx="9121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ЙДИ ФОТО, ГДЕ РЕБЕНОК УДИВЛЯЕТСЯ. КАКОЕ НАСТРОЕНИЕ У ДРУГОГО РЕБЕНКА? ПОКАЖИ ,КАК ТЫ ЗЛИШЬСЯ? КОГДА ЛЮДИ ЗЛЯТСЯ, ХОРОШО ЛИ  ПРОЯВЛЯТЬ ЗЛОБУ? КАК МОЖНО ПОСТУПИТЬ ПО-ДРУГОМУ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233280" y="1152360"/>
            <a:ext cx="8677440" cy="561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4645080" y="1600200"/>
            <a:ext cx="43416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202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ТЕ ЭМОЦИИ ЭТИХ ДЕТЕЙ?  ПОКАЖИ ПРИ ПОМОЩИ МИМИКИ И ЖЕСТА, КАК БУДТО  ТЕБЕ СТЫДНО? ЧТО ДОЛЖЕН СДЕЛАТЬ РЕБЕНОК ,ЧТОБЫ ЕГО ПРОСТИЛИ. ПОЧЕМУ БЫВАЕТ ВЕСЕЛО? О ЧЕМ МОЖНО ЗАДУМАТЬС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6" name="Picture 4" descr="Изображение 103"/>
          <p:cNvPicPr/>
          <p:nvPr/>
        </p:nvPicPr>
        <p:blipFill>
          <a:blip r:embed="rId1"/>
          <a:stretch/>
        </p:blipFill>
        <p:spPr>
          <a:xfrm>
            <a:off x="3341520" y="1557360"/>
            <a:ext cx="274968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Изображение 101"/>
          <p:cNvPicPr/>
          <p:nvPr/>
        </p:nvPicPr>
        <p:blipFill>
          <a:blip r:embed="rId2"/>
          <a:stretch/>
        </p:blipFill>
        <p:spPr>
          <a:xfrm>
            <a:off x="6300720" y="1557360"/>
            <a:ext cx="259704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DSC06566"/>
          <p:cNvPicPr/>
          <p:nvPr/>
        </p:nvPicPr>
        <p:blipFill>
          <a:blip r:embed="rId3"/>
          <a:stretch/>
        </p:blipFill>
        <p:spPr>
          <a:xfrm>
            <a:off x="395280" y="155736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Дружок, сегодня мы с тобой отправимся в увлекательное путешествие в мир эмоций. Ты научишься не только отличать на фото одно эмоциональное состояние от другого , но и попробуешь сам изобразить разные эмоци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У тебя получиться управлять ими в жизни.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5563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ВЫЗЫВАЕТ ЭТА КАРТИНКА? ПОЧЕМУ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веселое лето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3480" y="115560"/>
            <a:ext cx="68072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У РЕБЯТ НА ЭТОЙ КАРТИНКЕ? ПОКАЖИ, КАК ТЫ УМЕЕШЬ РАДОВАТЬС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Picture 4" descr="zima_01"/>
          <p:cNvPicPr/>
          <p:nvPr/>
        </p:nvPicPr>
        <p:blipFill>
          <a:blip r:embed="rId1"/>
          <a:stretch/>
        </p:blipFill>
        <p:spPr>
          <a:xfrm>
            <a:off x="576360" y="1211400"/>
            <a:ext cx="827856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3840" y="115560"/>
            <a:ext cx="65563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 КАКОЕ  НАСТРОЕНИЕ ВЫЗЫВАЕТ ЭТО ВРЕМЯ ГОДА? ПОЧЕМУ? ПОКАЖИ КАК ТЫ ГРУСТИШЬ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4" name="Picture 4" descr="IMG_7724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6699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МАЛЬЧИКОВ ГРУСТНОЕ НАСТРОЕНИЕ? ПОЧЕМУ ТЫ ТАК РЕШИЛ? КАК МОЖНО ЕМУ ПОМОЧЬ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Picture 5" descr="Изображение 125"/>
          <p:cNvPicPr/>
          <p:nvPr/>
        </p:nvPicPr>
        <p:blipFill>
          <a:blip r:embed="rId1"/>
          <a:stretch/>
        </p:blipFill>
        <p:spPr>
          <a:xfrm>
            <a:off x="395280" y="1268280"/>
            <a:ext cx="3816360" cy="482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Изображение 122"/>
          <p:cNvPicPr/>
          <p:nvPr/>
        </p:nvPicPr>
        <p:blipFill>
          <a:blip r:embed="rId2"/>
          <a:stretch/>
        </p:blipFill>
        <p:spPr>
          <a:xfrm>
            <a:off x="4859280" y="1268280"/>
            <a:ext cx="381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60" name="Picture 4" descr="Букетик"/>
          <p:cNvPicPr/>
          <p:nvPr/>
        </p:nvPicPr>
        <p:blipFill>
          <a:blip r:embed="rId1"/>
          <a:stretch/>
        </p:blipFill>
        <p:spPr>
          <a:xfrm>
            <a:off x="826920" y="3500280"/>
            <a:ext cx="2592720" cy="302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Книфки"/>
          <p:cNvPicPr/>
          <p:nvPr/>
        </p:nvPicPr>
        <p:blipFill>
          <a:blip r:embed="rId2"/>
          <a:stretch/>
        </p:blipFill>
        <p:spPr>
          <a:xfrm>
            <a:off x="385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Машинка"/>
          <p:cNvPicPr/>
          <p:nvPr/>
        </p:nvPicPr>
        <p:blipFill>
          <a:blip r:embed="rId3"/>
          <a:stretch/>
        </p:blipFill>
        <p:spPr>
          <a:xfrm>
            <a:off x="826920" y="404640"/>
            <a:ext cx="2953080" cy="2562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Мячи"/>
          <p:cNvPicPr/>
          <p:nvPr/>
        </p:nvPicPr>
        <p:blipFill>
          <a:blip r:embed="rId4"/>
          <a:stretch/>
        </p:blipFill>
        <p:spPr>
          <a:xfrm>
            <a:off x="6767640" y="2825640"/>
            <a:ext cx="2376360" cy="403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Шары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солнце"/>
          <p:cNvPicPr/>
          <p:nvPr/>
        </p:nvPicPr>
        <p:blipFill>
          <a:blip r:embed="rId6"/>
          <a:stretch/>
        </p:blipFill>
        <p:spPr>
          <a:xfrm>
            <a:off x="3924360" y="189000"/>
            <a:ext cx="2952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Какого времени года не было на       картинках?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НАСТРОЕНИЕ ВЫЗЫВАЕТ ЭТО ВРЕМЯ ГОДА? КАКАЯ МЕЛОДИЯ ПОДХОДИТ К ЭТОМУ ВРЕМЕНИ ГОД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270" name="грустная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85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Д КАКУЮ МЕЛОДИЮ ТЕБЕ СЕГОДНЯ ХОЧЕТСЯ ПОТАНЦЕВАТЬ?ЕСЛИ ХОЧЕШЬ ПОТАНЦУЙ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2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273" name="04 пусть будет всем хорошо -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245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ИСПОЛЬЗУЕМЫЕ В ПРЕЗЕНТАЦИИ ИНТЕРНЕТ РЕСУРСЫ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160" y="242100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3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5"/>
              </a:rPr>
              <a:t>imgres?imgur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6"/>
              </a:rPr>
              <a:t>https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7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8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0"/>
              </a:rPr>
              <a:t>searc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a304a"/>
                </a:solidFill>
                <a:uFillTx/>
                <a:latin typeface="Century Gothic"/>
              </a:rPr>
              <a:t>http://divmir.ru/etot-udivitelniy-mir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Примечание: 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Использование в презентации фотографий дошкольников,  посещающих МДОБУ «Центр развития ребенка №5 согласовано с родителями воспитанников.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33520" y="533160"/>
            <a:ext cx="8286480" cy="41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ЭОР можно использовать дополнительно для реализации задач образовательных областей: «Познание, «Коммуникация», «Социализация»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ДЕТЕЙ НАСТРОЕНИЕ ТАКОЕ ЖЕ, КАК У ТЕБЯ СЕГОДНЯ? ИЛИ У ТЕБЯ ДРУГОЕ НАСТРОЕНИЕ И ТАКОГО ЖЕ НА ФОТО НЕТ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Picture 6" descr="злоба"/>
          <p:cNvPicPr/>
          <p:nvPr/>
        </p:nvPicPr>
        <p:blipFill>
          <a:blip r:embed="rId1"/>
          <a:stretch/>
        </p:blipFill>
        <p:spPr>
          <a:xfrm>
            <a:off x="395280" y="836640"/>
            <a:ext cx="2952720" cy="2954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Изображение 125"/>
          <p:cNvPicPr/>
          <p:nvPr/>
        </p:nvPicPr>
        <p:blipFill>
          <a:blip r:embed="rId2"/>
          <a:stretch/>
        </p:blipFill>
        <p:spPr>
          <a:xfrm>
            <a:off x="4211640" y="69228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Изображение 109"/>
          <p:cNvPicPr/>
          <p:nvPr/>
        </p:nvPicPr>
        <p:blipFill>
          <a:blip r:embed="rId3"/>
          <a:stretch/>
        </p:blipFill>
        <p:spPr>
          <a:xfrm>
            <a:off x="0" y="3500280"/>
            <a:ext cx="3152880" cy="316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Изображение 101"/>
          <p:cNvPicPr/>
          <p:nvPr/>
        </p:nvPicPr>
        <p:blipFill>
          <a:blip r:embed="rId4"/>
          <a:stretch/>
        </p:blipFill>
        <p:spPr>
          <a:xfrm>
            <a:off x="6915240" y="404640"/>
            <a:ext cx="2228760" cy="36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Изображение 120"/>
          <p:cNvPicPr/>
          <p:nvPr/>
        </p:nvPicPr>
        <p:blipFill>
          <a:blip r:embed="rId5"/>
          <a:stretch/>
        </p:blipFill>
        <p:spPr>
          <a:xfrm>
            <a:off x="3780000" y="365760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страшно"/>
          <p:cNvPicPr/>
          <p:nvPr/>
        </p:nvPicPr>
        <p:blipFill>
          <a:blip r:embed="rId6"/>
          <a:stretch/>
        </p:blipFill>
        <p:spPr>
          <a:xfrm>
            <a:off x="6084720" y="3789360"/>
            <a:ext cx="3059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8160" y="13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ЧЕМУ ДЕДУШКА ОБНИМАЕТ ВНУЧКУ? КАК НАЗЫВАЕТСЯ ЭТО ЧУВСТВ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692000" y="-2187720"/>
            <a:ext cx="62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8" name="Picture 4" descr="DSC00742"/>
          <p:cNvPicPr/>
          <p:nvPr/>
        </p:nvPicPr>
        <p:blipFill>
          <a:blip r:embed="rId1"/>
          <a:stretch/>
        </p:blipFill>
        <p:spPr>
          <a:xfrm>
            <a:off x="2050920" y="1601640"/>
            <a:ext cx="4903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0440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Й ИЗ КАРТИНОК ЛЮДИ ПРОЯВЛЯЮТ ПОХОЖИЕ ЧУВСТВА, ПОЧЕМУ  ТЫ ТАК РЕШИЛ?</a:t>
            </a: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4" descr="SAM_0440"/>
          <p:cNvPicPr/>
          <p:nvPr/>
        </p:nvPicPr>
        <p:blipFill>
          <a:blip r:embed="rId1"/>
          <a:stretch/>
        </p:blipFill>
        <p:spPr>
          <a:xfrm>
            <a:off x="468360" y="1628640"/>
            <a:ext cx="3639960" cy="475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19"/>
          <p:cNvPicPr/>
          <p:nvPr/>
        </p:nvPicPr>
        <p:blipFill>
          <a:blip r:embed="rId2"/>
          <a:stretch/>
        </p:blipFill>
        <p:spPr>
          <a:xfrm>
            <a:off x="4970520" y="1628640"/>
            <a:ext cx="3490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МОЛОДЕЦ ,ТЫ ПРАВИЛЬНО ОТВЕТИЛ НА ВОПРОС. КОГО ЛЮБИШЬ ТЫ? ЛЮБОВЬ-ЭТО ХОРОШО ИЛИ ПЛОХ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4" descr="SAM_0440"/>
          <p:cNvPicPr/>
          <p:nvPr/>
        </p:nvPicPr>
        <p:blipFill>
          <a:blip r:embed="rId1"/>
          <a:stretch/>
        </p:blipFill>
        <p:spPr>
          <a:xfrm>
            <a:off x="1547640" y="1125360"/>
            <a:ext cx="6034320" cy="54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 ПОХОЖИ ЭТИ ФОТО ? КАКИЕ ЭМОЦИИ ПРОЯВЛЯЮТ ДЕТИ НА  ФОТО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ЗНАЙТЕ ДЕТЕЙ НАШЕГО ДЕТСКОГО САД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4" descr="119"/>
          <p:cNvPicPr/>
          <p:nvPr/>
        </p:nvPicPr>
        <p:blipFill>
          <a:blip r:embed="rId1"/>
          <a:stretch/>
        </p:blipFill>
        <p:spPr>
          <a:xfrm>
            <a:off x="4500720" y="189000"/>
            <a:ext cx="4392360" cy="504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Изображение 114"/>
          <p:cNvPicPr/>
          <p:nvPr/>
        </p:nvPicPr>
        <p:blipFill>
          <a:blip r:embed="rId2"/>
          <a:stretch/>
        </p:blipFill>
        <p:spPr>
          <a:xfrm>
            <a:off x="0" y="1413000"/>
            <a:ext cx="435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96480"/>
            <a:ext cx="6480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, ЧЕМУ РАДУЮТСЯ ДЕТИ? 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У ЕЩЕ МОЖНО ОБРАДОВАТЬСЯ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Д ЧЕМ СМЕЯТЬСЯ НЕЛЬЗ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4" descr="Изображение 114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У ДЕТЕЙ РАДОСТНОЕ НАСТРОЕНИЕ? ПОЧЕМУ? ЧТО ИСПЫТЫВАЕТ МАЛЫШ НА ВТОРОЙ КАРТИНК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Picture 8" descr="удовольствие"/>
          <p:cNvPicPr/>
          <p:nvPr/>
        </p:nvPicPr>
        <p:blipFill>
          <a:blip r:embed="rId1"/>
          <a:stretch/>
        </p:blipFill>
        <p:spPr>
          <a:xfrm>
            <a:off x="4572000" y="1268280"/>
            <a:ext cx="3887640" cy="4572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3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0:27:34Z</dcterms:created>
  <dc:creator>я</dc:creator>
  <dc:description/>
  <dc:language>en-US</dc:language>
  <cp:lastModifiedBy>я</cp:lastModifiedBy>
  <dcterms:modified xsi:type="dcterms:W3CDTF">2013-03-11T04:57:17Z</dcterms:modified>
  <cp:revision>24</cp:revision>
  <dc:subject/>
  <dc:title>Почему дедушка обнимает внучку? Как называется это чувство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f0000000000010250600207f78002e0015000</vt:lpwstr>
  </property>
</Properties>
</file>