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6B2-A1CF-4E7D-B798-72B63E2D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34C-F54C-49E3-A230-EB9B5863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501-70EB-4AA2-A2EB-21920B26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54A-65F5-4DED-9724-644F26F1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F9F7-9CAC-4E9E-9EE3-271A14DB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1678-F54D-4632-B94F-68643C6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1060-BC65-4D6F-9235-D085F111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7B92-A094-4FD4-8765-391EAD5D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D0A6-7CF4-4758-853E-B235B0A3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9DDE-0494-4218-8720-F5803054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144C-AB5A-4EF5-8C2C-A6BB5256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0DC-25C7-47C2-A137-40784B33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FD62-F2D2-448E-8916-3916259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A16C-EBCD-4F02-9A6E-580519F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EEB2-657C-459D-9FB0-C9DAE3F7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8763-ACB8-42BE-96C0-7CCA00FC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031C-DF2C-4C69-8D29-9102ECDA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D2B4-B851-4275-8B7B-E0F6A8FC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D14E-32AA-4CAA-937A-6799FDAE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9EFE-7957-48B7-A5DF-CBEC91E8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F562D-519F-4CFA-B77B-A19CDBFA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8BB4-B47C-470F-A94F-D9BF5D58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039-2EEC-4139-9742-CDF545CB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39A8-208F-49CE-969E-FBDA7D99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6EB5-D09D-4365-B1BB-BD6DAFBE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3745-9B33-4B8D-AB84-5F9E52E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197F-4098-4CFF-BC12-6E307D93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D946-B4A6-4075-9E32-2F21AE34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BE0C-E250-42AA-AD6F-8D3B95DC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BC82-3A7A-4BAB-AA09-76364C67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119E-6A3D-4FC7-B16D-5928EE04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91EFD-5D61-469D-8EBF-123AA64E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6D86D-CAFE-4EFD-A98F-ED192D72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01E-7C19-4299-A3A9-E899D44A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C2407-2523-40EE-B306-54002E0F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A885-B741-4630-A189-0431D71A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C2FD-D7BA-4FFE-8787-951453BC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96EA-6A28-42BC-9163-C29B4A4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849A-55EE-4927-99EE-302CBB1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DBD5-F774-41A8-888E-09E39E33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AF5F3-F99D-46EF-8884-A7C4D279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AA88-EA62-43E5-888B-D8685B15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ABED-01CF-4238-BFF4-4B2E2B6D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592-2BEC-4C6A-8D2A-9E57667E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7A1-A4E2-48CC-8DC0-CCB50D32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42B-8D01-405D-B0D7-7F1FCB7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495-1351-4FEF-A393-36CA0DC2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0F2-3479-4F23-AC5C-6BA75B5E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6D54-7EDD-4677-87BC-D99F0DC22F9C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C07C-D7A3-485F-B1E4-EEA0D8558A27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4800-8871-4CFC-BE69-4B683609A6FE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9E53-A79B-413D-820E-5641363A2248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" TargetMode="External"/><Relationship Id="rId2" Type="http://schemas.openxmlformats.org/officeDocument/2006/relationships/hyperlink" Target="http://www.google.ru/imgres?imgurl" TargetMode="External"/><Relationship Id="rId3" Type="http://schemas.openxmlformats.org/officeDocument/2006/relationships/hyperlink" Target="http://www.google.ru/imgres?imgurl" TargetMode="External"/><Relationship Id="rId4" Type="http://schemas.openxmlformats.org/officeDocument/2006/relationships/hyperlink" Target="http://www.google.ru/imgres?imgurl" TargetMode="External"/><Relationship Id="rId5" Type="http://schemas.openxmlformats.org/officeDocument/2006/relationships/hyperlink" Target="http://www.google.ru/imgres?imgurl" TargetMode="External"/><Relationship Id="rId6" Type="http://schemas.openxmlformats.org/officeDocument/2006/relationships/hyperlink" Target="https://www.google.ru/searc" TargetMode="External"/><Relationship Id="rId7" Type="http://schemas.openxmlformats.org/officeDocument/2006/relationships/hyperlink" Target="https://www.google.ru/searc" TargetMode="External"/><Relationship Id="rId8" Type="http://schemas.openxmlformats.org/officeDocument/2006/relationships/hyperlink" Target="https://www.google.ru/searc" TargetMode="External"/><Relationship Id="rId9" Type="http://schemas.openxmlformats.org/officeDocument/2006/relationships/hyperlink" Target="https://www.google.ru/searc" TargetMode="External"/><Relationship Id="rId10" Type="http://schemas.openxmlformats.org/officeDocument/2006/relationships/hyperlink" Target="https://www.google.ru/searc" TargetMode="External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488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МУНИЦИПАЛЬНОЕ ДОШКОЛЬНОЕ ОБРАЗОВАТЕЛЬНОЕ БЮДЖЕТНОЕ УЧРЕЖДЕНИЕ  «ЦЕНТР РАЗВИТИЯ РЕБЕНКА-  ДЕТСКИЙ САД №5 ЛЕСОЗАВОДСКОГО ГОРОДСКОГО ОКРУГА»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       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grpSp>
        <p:nvGrpSpPr>
          <p:cNvPr id="194" name="WordArt 5"/>
          <p:cNvGrpSpPr/>
          <p:nvPr/>
        </p:nvGrpSpPr>
        <p:grpSpPr>
          <a:xfrm>
            <a:off x="1547640" y="1700280"/>
            <a:ext cx="6192720" cy="3243240"/>
            <a:chOff x="1547640" y="1700280"/>
            <a:chExt cx="6192720" cy="3243240"/>
          </a:xfrm>
        </p:grpSpPr>
        <p:pic>
          <p:nvPicPr>
            <p:cNvPr id="195" name="WordArt 5" descr=""/>
            <p:cNvPicPr/>
            <p:nvPr/>
          </p:nvPicPr>
          <p:blipFill>
            <a:blip r:embed="rId1"/>
            <a:stretch/>
          </p:blipFill>
          <p:spPr>
            <a:xfrm rot="10800000">
              <a:off x="1548720" y="1701000"/>
              <a:ext cx="6191640" cy="32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47640" y="1700280"/>
              <a:ext cx="6191280" cy="32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Зад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  </a:t>
              </a: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по развитию представлений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об эмоциональных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проявлениях у детей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e82"/>
                  </a:solidFill>
                  <a:latin typeface="Arial"/>
                  <a:ea typeface="Arial"/>
                </a:rPr>
                <a:t>старшего дошкольного возрас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Rectangle 6"/>
          <p:cNvSpPr/>
          <p:nvPr/>
        </p:nvSpPr>
        <p:spPr>
          <a:xfrm flipV="1" rot="10789200">
            <a:off x="5505840" y="5119200"/>
            <a:ext cx="36115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втор составител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овалёва Надия Измаилова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тарший воспитатель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ысшей квалификацион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атего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08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ЧУВСТВО ИСПЫТЫВАЕТ МАЛЬЧИК? ДЕВОЧКА? НАЗОВИТЕ ЧУВСТВО ПРОТИВОПОЛОЖНОЕ ТОМУ ,ЧТО ИСПЫТЫВАЕТ ДЕВОЧ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4" descr="DSC06567"/>
          <p:cNvPicPr/>
          <p:nvPr/>
        </p:nvPicPr>
        <p:blipFill>
          <a:blip r:embed="rId1"/>
          <a:stretch/>
        </p:blipFill>
        <p:spPr>
          <a:xfrm>
            <a:off x="395280" y="1197000"/>
            <a:ext cx="3672000" cy="511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DSC06564"/>
          <p:cNvPicPr/>
          <p:nvPr/>
        </p:nvPicPr>
        <p:blipFill>
          <a:blip r:embed="rId2"/>
          <a:stretch/>
        </p:blipFill>
        <p:spPr>
          <a:xfrm>
            <a:off x="4716360" y="1197000"/>
            <a:ext cx="388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ОГДА ЧЕЛОВЕК ИСПЫТЫВАЕТ УДОВОЛЬСТВИЕ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ПОКАЖИ ПРИ ПОМОЩИ МИМИКИ ,ЧТО  ИСПЫТЫВАЕШЬ УДОВОЛЬСТВИЕ? КОГДА ТЫ ИСПЫТЫВАЕШЬ ОТВРАЩЕНИЕ? ПОКАЖИ ОТВРАЩЕНИЕ С ПОМОЩЬЮ МИМИК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6" name="Picture 4" descr="удовольствие"/>
          <p:cNvPicPr/>
          <p:nvPr/>
        </p:nvPicPr>
        <p:blipFill>
          <a:blip r:embed="rId1"/>
          <a:stretch/>
        </p:blipFill>
        <p:spPr>
          <a:xfrm>
            <a:off x="1214280" y="533520"/>
            <a:ext cx="5193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4560" y="115920"/>
            <a:ext cx="6554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ЗОВИ ЭМОЦИОНАЛЬНОЕ СОСТОЯНИЕ МАЛЬЧИКА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4" descr="Изображение 101"/>
          <p:cNvPicPr/>
          <p:nvPr/>
        </p:nvPicPr>
        <p:blipFill>
          <a:blip r:embed="rId1"/>
          <a:stretch/>
        </p:blipFill>
        <p:spPr>
          <a:xfrm>
            <a:off x="2340000" y="876240"/>
            <a:ext cx="4824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684036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М ФОТО РЕБЕНОК ТОЖЕ  ЗАДУМАЛСЯ? КАКОЕ НАСТРОЕНИЕ У МАЛЬЧИКА НА ВТОРОМ ФОТО 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ТЫ ДОГАДАЛСЯ? ПОПРОБУЙ ЗАДУМАТЬСЯ О ЧЕМ ЛИБО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0" name="Picture 4" descr="задумчивость"/>
          <p:cNvPicPr/>
          <p:nvPr/>
        </p:nvPicPr>
        <p:blipFill>
          <a:blip r:embed="rId1"/>
          <a:stretch/>
        </p:blipFill>
        <p:spPr>
          <a:xfrm>
            <a:off x="609480" y="1622520"/>
            <a:ext cx="3457800" cy="4610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4716360" y="1622520"/>
            <a:ext cx="3638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187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ЧТОБЫ ТЫ ПОЧУВСТВОВАЛ, ЕСЛИ БЫ УВИДЕЛ ТАКУЮ МОЛНИЮ НА САМОМ ДЕЛЕ? ПОКАЖ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Picture 7" descr="141"/>
          <p:cNvPicPr/>
          <p:nvPr/>
        </p:nvPicPr>
        <p:blipFill>
          <a:blip r:embed="rId1"/>
          <a:stretch/>
        </p:blipFill>
        <p:spPr>
          <a:xfrm>
            <a:off x="1547640" y="782640"/>
            <a:ext cx="75963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3120" y="1123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М ИЗ ФОТО ДЕВОЧКЕ СТРАШНО? ПОКАЖИ, ЧТО ТЕБЕ СТРАШНО. КАК МОЖНО ПОМОЧЬ ДЕВОЧКЕ СПРАВИТЬСЯ СО СВОИМ СТРАХОМ? КАК НУЖНО ВЕСТИ СЕБЯ ,ЕСЛИ УВИДИШЬ  МОЛНИЮ НА УЛИЦЕ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Picture 5" descr="страх"/>
          <p:cNvPicPr/>
          <p:nvPr/>
        </p:nvPicPr>
        <p:blipFill>
          <a:blip r:embed="rId1"/>
          <a:stretch/>
        </p:blipFill>
        <p:spPr>
          <a:xfrm>
            <a:off x="4932360" y="1268280"/>
            <a:ext cx="3672000" cy="49723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2"/>
          <a:stretch/>
        </p:blipFill>
        <p:spPr>
          <a:xfrm>
            <a:off x="573120" y="1268280"/>
            <a:ext cx="36957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63468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ТЫ ДУМАЕШЬ ,ЧТО ЭТО? УДИВЛЯЕТ ЛИ ТЕБЯ ЭТО ЯВЛЕНИЕ ПРИРОДЫ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8" name="Picture 6" descr="вулкан"/>
          <p:cNvPicPr/>
          <p:nvPr/>
        </p:nvPicPr>
        <p:blipFill>
          <a:blip r:embed="rId1"/>
          <a:stretch/>
        </p:blipFill>
        <p:spPr>
          <a:xfrm>
            <a:off x="826920" y="847800"/>
            <a:ext cx="83170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3482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НАЗЫВАЕТСЯ ЭТО ЯВЛЕНИЕ ПРИРОДЫ? ЧТО БЫ ПОЧУВСТВОВАЛ ТЫ, ЕСЛИ БЫ УВИДЕЛ ТАКОЕ ЯВЛЕНИЕ? ПОКАЖ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Picture 4" descr="удивительное явление"/>
          <p:cNvPicPr/>
          <p:nvPr/>
        </p:nvPicPr>
        <p:blipFill>
          <a:blip r:embed="rId1"/>
          <a:stretch/>
        </p:blipFill>
        <p:spPr>
          <a:xfrm>
            <a:off x="22320" y="1197000"/>
            <a:ext cx="91216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ЙДИ ФОТО, ГДЕ РЕБЕНОК УДИВЛЯЕТСЯ. КАКОЕ НАСТРОЕНИЕ У ДРУГОГО РЕБЕНКА? ПОКАЖИ ,КАК ТЫ ЗЛИШЬСЯ? КОГДА ЛЮДИ ЗЛЯТСЯ, ХОРОШО ЛИ  ПРОЯВЛЯТЬ ЗЛОБУ? КАК МОЖНО ПОСТУПИТЬ ПО-ДРУГОМУ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233280" y="1152360"/>
            <a:ext cx="8677440" cy="561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4645080" y="1600200"/>
            <a:ext cx="43416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202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ЗОВИТЕ ЭМОЦИИ ЭТИХ ДЕТЕЙ?  ПОКАЖИ ПРИ ПОМОЩИ МИМИКИ И ЖЕСТА, КАК БУДТО  ТЕБЕ СТЫДНО? ЧТО ДОЛЖЕН СДЕЛАТЬ РЕБЕНОК ,ЧТОБЫ ЕГО ПРОСТИЛИ. ПОЧЕМУ БЫВАЕТ ВЕСЕЛО? О ЧЕМ МОЖНО ЗАДУМАТЬСЯ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6" name="Picture 4" descr="Изображение 103"/>
          <p:cNvPicPr/>
          <p:nvPr/>
        </p:nvPicPr>
        <p:blipFill>
          <a:blip r:embed="rId1"/>
          <a:stretch/>
        </p:blipFill>
        <p:spPr>
          <a:xfrm>
            <a:off x="3341520" y="1557360"/>
            <a:ext cx="2749680" cy="4572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Изображение 101"/>
          <p:cNvPicPr/>
          <p:nvPr/>
        </p:nvPicPr>
        <p:blipFill>
          <a:blip r:embed="rId2"/>
          <a:stretch/>
        </p:blipFill>
        <p:spPr>
          <a:xfrm>
            <a:off x="6300720" y="1557360"/>
            <a:ext cx="2597040" cy="4572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DSC06566"/>
          <p:cNvPicPr/>
          <p:nvPr/>
        </p:nvPicPr>
        <p:blipFill>
          <a:blip r:embed="rId3"/>
          <a:stretch/>
        </p:blipFill>
        <p:spPr>
          <a:xfrm>
            <a:off x="395280" y="1557360"/>
            <a:ext cx="280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a304a"/>
                </a:solidFill>
                <a:latin typeface="Century Gothic"/>
              </a:rPr>
              <a:t>Дружок, сегодня мы с тобой отправимся в увлекательное путешествие в мир эмоций. Ты научишься не только отличать на фото одно эмоциональное состояние от другого , но и попробуешь сам изобразить разные эмоци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a304a"/>
                </a:solidFill>
                <a:latin typeface="Century Gothic"/>
              </a:rPr>
              <a:t>У тебя получиться управлять ими в жизни..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5563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ВРЕМЯ ГОДА НА КАРТИНКЕ? КАКОЕ НАСТРОЕНИЕ ВЫЗЫВАЕТ ЭТА КАРТИНКА? ПОЧЕМУ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4" descr="веселое лето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3480" y="115560"/>
            <a:ext cx="68072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ВРЕМЯ ГОДА НА КАРТИНКЕ? КАКОЕ НАСТРОЕНИЕ У РЕБЯТ НА ЭТОЙ КАРТИНКЕ? ПОКАЖИ, КАК ТЫ УМЕЕШЬ РАДОВАТЬСЯ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Picture 4" descr="zima_01"/>
          <p:cNvPicPr/>
          <p:nvPr/>
        </p:nvPicPr>
        <p:blipFill>
          <a:blip r:embed="rId1"/>
          <a:stretch/>
        </p:blipFill>
        <p:spPr>
          <a:xfrm>
            <a:off x="576360" y="1211400"/>
            <a:ext cx="827856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3840" y="115560"/>
            <a:ext cx="655632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ВРЕМЯ ГОДА НА КАРТИНКЕ?  КАКОЕ  НАСТРОЕНИЕ ВЫЗЫВАЕТ ЭТО ВРЕМЯ ГОДА? ПОЧЕМУ? ПОКАЖИ КАК ТЫ ГРУСТИШЬ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4" name="Picture 4" descr="IMG_7724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6699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У КОГО ИЗ МАЛЬЧИКОВ ГРУСТНОЕ НАСТРОЕНИЕ? ПОЧЕМУ ТЫ ТАК РЕШИЛ? КАК МОЖНО ЕМУ ПОМОЧЬ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Picture 5" descr="Изображение 125"/>
          <p:cNvPicPr/>
          <p:nvPr/>
        </p:nvPicPr>
        <p:blipFill>
          <a:blip r:embed="rId1"/>
          <a:stretch/>
        </p:blipFill>
        <p:spPr>
          <a:xfrm>
            <a:off x="395280" y="1268280"/>
            <a:ext cx="3816360" cy="4824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Изображение 122"/>
          <p:cNvPicPr/>
          <p:nvPr/>
        </p:nvPicPr>
        <p:blipFill>
          <a:blip r:embed="rId2"/>
          <a:stretch/>
        </p:blipFill>
        <p:spPr>
          <a:xfrm>
            <a:off x="4859280" y="1268280"/>
            <a:ext cx="3816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60" name="Picture 4" descr="Букетик"/>
          <p:cNvPicPr/>
          <p:nvPr/>
        </p:nvPicPr>
        <p:blipFill>
          <a:blip r:embed="rId1"/>
          <a:stretch/>
        </p:blipFill>
        <p:spPr>
          <a:xfrm>
            <a:off x="826920" y="3500280"/>
            <a:ext cx="2592720" cy="302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Книфки"/>
          <p:cNvPicPr/>
          <p:nvPr/>
        </p:nvPicPr>
        <p:blipFill>
          <a:blip r:embed="rId2"/>
          <a:stretch/>
        </p:blipFill>
        <p:spPr>
          <a:xfrm>
            <a:off x="385128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Машинка"/>
          <p:cNvPicPr/>
          <p:nvPr/>
        </p:nvPicPr>
        <p:blipFill>
          <a:blip r:embed="rId3"/>
          <a:stretch/>
        </p:blipFill>
        <p:spPr>
          <a:xfrm>
            <a:off x="826920" y="404640"/>
            <a:ext cx="2953080" cy="2562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Мячи"/>
          <p:cNvPicPr/>
          <p:nvPr/>
        </p:nvPicPr>
        <p:blipFill>
          <a:blip r:embed="rId4"/>
          <a:stretch/>
        </p:blipFill>
        <p:spPr>
          <a:xfrm>
            <a:off x="6767640" y="2825640"/>
            <a:ext cx="2376360" cy="4032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Шары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2637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солнце"/>
          <p:cNvPicPr/>
          <p:nvPr/>
        </p:nvPicPr>
        <p:blipFill>
          <a:blip r:embed="rId6"/>
          <a:stretch/>
        </p:blipFill>
        <p:spPr>
          <a:xfrm>
            <a:off x="3924360" y="189000"/>
            <a:ext cx="29527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a304a"/>
                </a:solidFill>
                <a:latin typeface="Century Gothic"/>
              </a:rPr>
              <a:t>Какого времени года не было на       картинках?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01760" y="7920"/>
            <a:ext cx="655632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ОЕ НАСТРОЕНИЕ ВЫЗЫВАЕТ ЭТО ВРЕМЯ ГОДА? КАКАЯ МЕЛОДИЯ ПОДХОДИТ К ЭТОМУ ВРЕМЕНИ ГОДА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9" name="Picture 4" descr="Весна_в_Новомиргороді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8920"/>
          </a:xfrm>
          <a:prstGeom prst="rect">
            <a:avLst/>
          </a:prstGeom>
          <a:ln w="0">
            <a:noFill/>
          </a:ln>
        </p:spPr>
      </p:pic>
      <p:pic>
        <p:nvPicPr>
          <p:cNvPr id="270" name="грустная.mp3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85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01760" y="7920"/>
            <a:ext cx="655632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ПОД КАКУЮ МЕЛОДИЮ ТЕБЕ СЕГОДНЯ ХОЧЕТСЯ ПОТАНЦЕВАТЬ?ЕСЛИ ХОЧЕШЬ ПОТАНЦУЙ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2" name="Picture 4" descr="Весна_в_Новомиргороді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273" name="04 пусть будет всем хорошо -.mp3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245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40464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a304a"/>
                </a:solidFill>
                <a:latin typeface="Century Gothic"/>
              </a:rPr>
              <a:t>ИСПОЛЬЗУЕМЫЕ В ПРЕЗЕНТАЦИИ ИНТЕРНЕТ РЕСУРСЫ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160" y="242100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3"/>
              </a:rPr>
              <a:t>www.google.ru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5"/>
              </a:rPr>
              <a:t>imgres?imgur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6"/>
              </a:rPr>
              <a:t>https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7"/>
              </a:rPr>
              <a:t>:/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8"/>
              </a:rPr>
              <a:t>www.google.ru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9"/>
              </a:rPr>
              <a:t>/</a:t>
            </a:r>
            <a:r>
              <a:rPr b="0" lang="ru-RU" sz="2000" spc="-1" strike="noStrike" u="sng">
                <a:solidFill>
                  <a:srgbClr val="0d2e46"/>
                </a:solidFill>
                <a:uFillTx/>
                <a:latin typeface="Century Gothic"/>
                <a:hlinkClick r:id="rId10"/>
              </a:rPr>
              <a:t>searc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0a304a"/>
                </a:solidFill>
                <a:uFillTx/>
                <a:latin typeface="Century Gothic"/>
              </a:rPr>
              <a:t>http://divmir.ru/etot-udivitelniy-mir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a304a"/>
                </a:solidFill>
                <a:latin typeface="Century Gothic"/>
              </a:rPr>
              <a:t>Примечание: 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a304a"/>
                </a:solidFill>
                <a:latin typeface="Century Gothic"/>
              </a:rPr>
              <a:t>Использование в презентации фотографий дошкольников,  посещающих МДОБУ «Центр развития ребенка №5 согласовано с родителями воспитанников.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33520" y="533160"/>
            <a:ext cx="8286480" cy="41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a304a"/>
                </a:solidFill>
                <a:latin typeface="Century Gothic"/>
              </a:rPr>
              <a:t>ЭОР можно использовать дополнительно для реализации задач образовательных областей: «Познание, «Коммуникация», «Социализация»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У КОГО ИЗ ДЕТЕЙ НАСТРОЕНИЕ ТАКОЕ ЖЕ, КАК У ТЕБЯ СЕГОДНЯ? ИЛИ У ТЕБЯ ДРУГОЕ НАСТРОЕНИЕ И ТАКОГО ЖЕ НА ФОТО НЕТ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0" name="Picture 6" descr="злоба"/>
          <p:cNvPicPr/>
          <p:nvPr/>
        </p:nvPicPr>
        <p:blipFill>
          <a:blip r:embed="rId1"/>
          <a:stretch/>
        </p:blipFill>
        <p:spPr>
          <a:xfrm>
            <a:off x="395280" y="836640"/>
            <a:ext cx="2952720" cy="2954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Изображение 125"/>
          <p:cNvPicPr/>
          <p:nvPr/>
        </p:nvPicPr>
        <p:blipFill>
          <a:blip r:embed="rId2"/>
          <a:stretch/>
        </p:blipFill>
        <p:spPr>
          <a:xfrm>
            <a:off x="4211640" y="692280"/>
            <a:ext cx="2247840" cy="3200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Изображение 109"/>
          <p:cNvPicPr/>
          <p:nvPr/>
        </p:nvPicPr>
        <p:blipFill>
          <a:blip r:embed="rId3"/>
          <a:stretch/>
        </p:blipFill>
        <p:spPr>
          <a:xfrm>
            <a:off x="0" y="3500280"/>
            <a:ext cx="3152880" cy="3168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Изображение 101"/>
          <p:cNvPicPr/>
          <p:nvPr/>
        </p:nvPicPr>
        <p:blipFill>
          <a:blip r:embed="rId4"/>
          <a:stretch/>
        </p:blipFill>
        <p:spPr>
          <a:xfrm>
            <a:off x="6915240" y="404640"/>
            <a:ext cx="2228760" cy="367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Изображение 120"/>
          <p:cNvPicPr/>
          <p:nvPr/>
        </p:nvPicPr>
        <p:blipFill>
          <a:blip r:embed="rId5"/>
          <a:stretch/>
        </p:blipFill>
        <p:spPr>
          <a:xfrm>
            <a:off x="3780000" y="3657600"/>
            <a:ext cx="2247840" cy="320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страшно"/>
          <p:cNvPicPr/>
          <p:nvPr/>
        </p:nvPicPr>
        <p:blipFill>
          <a:blip r:embed="rId6"/>
          <a:stretch/>
        </p:blipFill>
        <p:spPr>
          <a:xfrm>
            <a:off x="6084720" y="3789360"/>
            <a:ext cx="30592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38160" y="13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ПОЧЕМУ ДЕДУШКА ОБНИМАЕТ ВНУЧКУ? КАК НАЗЫВАЕТСЯ ЭТО ЧУВСТВО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692000" y="-2187720"/>
            <a:ext cx="626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8" name="Picture 4" descr="DSC00742"/>
          <p:cNvPicPr/>
          <p:nvPr/>
        </p:nvPicPr>
        <p:blipFill>
          <a:blip r:embed="rId1"/>
          <a:stretch/>
        </p:blipFill>
        <p:spPr>
          <a:xfrm>
            <a:off x="2050920" y="1601640"/>
            <a:ext cx="4903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0440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Й ИЗ КАРТИНОК ЛЮДИ ПРОЯВЛЯЮТ ПОХОЖИЕ ЧУВСТВА, ПОЧЕМУ  ТЫ ТАК РЕШИЛ?</a:t>
            </a:r>
            <a:r>
              <a:rPr b="0" lang="en-US" sz="1800" spc="-1" strike="noStrike">
                <a:solidFill>
                  <a:srgbClr val="0a304a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Picture 4" descr="SAM_0440"/>
          <p:cNvPicPr/>
          <p:nvPr/>
        </p:nvPicPr>
        <p:blipFill>
          <a:blip r:embed="rId1"/>
          <a:stretch/>
        </p:blipFill>
        <p:spPr>
          <a:xfrm>
            <a:off x="468360" y="1628640"/>
            <a:ext cx="3639960" cy="4753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119"/>
          <p:cNvPicPr/>
          <p:nvPr/>
        </p:nvPicPr>
        <p:blipFill>
          <a:blip r:embed="rId2"/>
          <a:stretch/>
        </p:blipFill>
        <p:spPr>
          <a:xfrm>
            <a:off x="4970520" y="1628640"/>
            <a:ext cx="34909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МОЛОДЕЦ ,ТЫ ПРАВИЛЬНО ОТВЕТИЛ НА ВОПРОС. КОГО ЛЮБИШЬ ТЫ? ЛЮБОВЬ-ЭТО ХОРОШО ИЛИ ПЛОХО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4" descr="SAM_0440"/>
          <p:cNvPicPr/>
          <p:nvPr/>
        </p:nvPicPr>
        <p:blipFill>
          <a:blip r:embed="rId1"/>
          <a:stretch/>
        </p:blipFill>
        <p:spPr>
          <a:xfrm>
            <a:off x="1547640" y="1125360"/>
            <a:ext cx="6034320" cy="547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ЧЕМ ПОХОЖИ ЭТИ ФОТО ? КАКИЕ ЭМОЦИИ ПРОЯВЛЯЮТ ДЕТИ НА  ФОТО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УЗНАЙТЕ ДЕТЕЙ НАШЕГО ДЕТСКОГО САД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5" name="Picture 4" descr="119"/>
          <p:cNvPicPr/>
          <p:nvPr/>
        </p:nvPicPr>
        <p:blipFill>
          <a:blip r:embed="rId1"/>
          <a:stretch/>
        </p:blipFill>
        <p:spPr>
          <a:xfrm>
            <a:off x="4500720" y="189000"/>
            <a:ext cx="4392360" cy="504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Изображение 114"/>
          <p:cNvPicPr/>
          <p:nvPr/>
        </p:nvPicPr>
        <p:blipFill>
          <a:blip r:embed="rId2"/>
          <a:stretch/>
        </p:blipFill>
        <p:spPr>
          <a:xfrm>
            <a:off x="0" y="1413000"/>
            <a:ext cx="4356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96480"/>
            <a:ext cx="6480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КАК ТЫ ДУМАЕШЬ, ЧЕМУ РАДУЮТСЯ ДЕТИ? 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ЧЕМУ ЕЩЕ МОЖНО ОБРАДОВАТЬСЯ?</a:t>
            </a:r>
            <a:br>
              <a:rPr sz="1400"/>
            </a:b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Д ЧЕМ СМЕЯТЬСЯ НЕЛЬЗЯ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Picture 4" descr="Изображение 114"/>
          <p:cNvPicPr/>
          <p:nvPr/>
        </p:nvPicPr>
        <p:blipFill>
          <a:blip r:embed="rId1"/>
          <a:stretch/>
        </p:blipFill>
        <p:spPr>
          <a:xfrm>
            <a:off x="1332000" y="1484280"/>
            <a:ext cx="648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a304a"/>
                </a:solidFill>
                <a:latin typeface="Century Gothic"/>
              </a:rPr>
              <a:t>НА КАКОМ ФОТО У ДЕТЕЙ РАДОСТНОЕ НАСТРОЕНИЕ? ПОЧЕМУ? ЧТО ИСПЫТЫВАЕТ МАЛЫШ НА ВТОРОЙ КАРТИНКЕ?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0" name="Picture 8" descr="удовольствие"/>
          <p:cNvPicPr/>
          <p:nvPr/>
        </p:nvPicPr>
        <p:blipFill>
          <a:blip r:embed="rId1"/>
          <a:stretch/>
        </p:blipFill>
        <p:spPr>
          <a:xfrm>
            <a:off x="4572000" y="1268280"/>
            <a:ext cx="3887640" cy="4572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32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0:27:34Z</dcterms:created>
  <dc:creator>я</dc:creator>
  <dc:description/>
  <dc:language>en-US</dc:language>
  <cp:lastModifiedBy>я</cp:lastModifiedBy>
  <dcterms:modified xsi:type="dcterms:W3CDTF">2013-03-11T04:57:17Z</dcterms:modified>
  <cp:revision>24</cp:revision>
  <dc:subject/>
  <dc:title>Почему дедушка обнимает внучку? Как называется это чувство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f0000000000010250600207f78002e0015000</vt:lpwstr>
  </property>
</Properties>
</file>