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D81-2983-4AFD-9B28-7867F0EF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B9F-FD9A-47D5-8525-6A9818BE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940-757A-439B-98CB-6911998F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3F9-6EBF-4F35-A77E-0BAD6D7E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3993-C945-4552-A4D6-49CDA813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C3B4-ACD0-4575-B396-C5274A8B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970D-02A0-4B7E-93DC-9B1AB1DB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94CF-D5D2-447C-AD9C-7E1E146A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AD75-63E7-4D72-9D29-71679B85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F2ED-A6CE-49B2-97B6-27E5587F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D67E-F5AD-4796-A5EF-D7CC28F2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723-40E0-4059-9B4D-37BB1349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4A5F-6D4E-4BC7-8057-10BE49FD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8595-E395-473C-BE42-1277C923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22A0-6E38-4CD8-A1D6-3BAADA89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2B53-906A-4F84-A080-81B46498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00FB-ECA4-45FB-BFF5-C3C57593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5C74D-03AE-4DB3-8B9F-75ED9D10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8F37F-EF67-4965-A709-2D733553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99478-C2C9-4BA2-B04C-E78F2C8A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127F9-1011-46A0-8D7E-7CF43FFC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4921-9D7C-4FC7-B259-C1DC5346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E09-912B-49F6-8219-80F4ED3E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AA8DB-9781-4863-9F98-87592DB9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CC2C-AF05-4206-98E0-F6DA48CE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3261-F009-4C26-AB04-4CA68D40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ABCA9-F0FA-405C-B530-65D1601C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8EFC6-1A36-4FB1-A477-0677C799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A9D57-8C28-47B3-95E4-91C1E1AD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C0BF7-B4E3-445C-87F1-274BB51C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D70CF-A1BC-40FE-8D9F-008CA1FB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E598D-BF50-48B5-A7AE-0106BAA0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FD86E-A935-48FA-9DEE-3214ACDF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23E-1390-42D7-8E05-5633C105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B92BB-B7DD-42B7-A9C6-46095E48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80320-E1E2-4573-805B-583EA552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F9E07-8C58-4510-8CD6-32F79D13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0EF27-638E-4C94-8005-D29D6F3A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848AA-8EAC-4076-81D4-67D8FC9B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2A3BB-2DDB-4ADE-82F7-8474D9A3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FE854-163C-407B-B51F-B90E8000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2F9E3-9F4B-4329-8F0D-CBC59205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64731-A001-42C3-A84A-317FDA46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FF8-344A-4AB2-88E6-606FE5F7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D6A-F52E-43A8-9C38-CC4C88DE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AC1-BC3F-4691-AF38-E4B88EB1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5A7-5BF2-43D6-B192-9DAB8F10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5AD-5D4A-40C8-8E58-8A3D31DF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A71F-1EEA-4EE8-A5CA-1F63ED47A6C8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BBFC-A795-48FC-ADA6-2990A2B2453B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2EA1-5B90-4D51-A0DD-ED3EC5D6B644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5BB1-81BD-46E6-AE59-CB7E9BC8F86A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" TargetMode="External"/><Relationship Id="rId2" Type="http://schemas.openxmlformats.org/officeDocument/2006/relationships/hyperlink" Target="http://www.google.ru/imgres?imgurl" TargetMode="External"/><Relationship Id="rId3" Type="http://schemas.openxmlformats.org/officeDocument/2006/relationships/hyperlink" Target="http://www.google.ru/imgres?imgurl" TargetMode="External"/><Relationship Id="rId4" Type="http://schemas.openxmlformats.org/officeDocument/2006/relationships/hyperlink" Target="http://www.google.ru/imgres?imgurl" TargetMode="External"/><Relationship Id="rId5" Type="http://schemas.openxmlformats.org/officeDocument/2006/relationships/hyperlink" Target="http://www.google.ru/imgres?imgurl" TargetMode="External"/><Relationship Id="rId6" Type="http://schemas.openxmlformats.org/officeDocument/2006/relationships/hyperlink" Target="https://www.google.ru/searc" TargetMode="External"/><Relationship Id="rId7" Type="http://schemas.openxmlformats.org/officeDocument/2006/relationships/hyperlink" Target="https://www.google.ru/searc" TargetMode="External"/><Relationship Id="rId8" Type="http://schemas.openxmlformats.org/officeDocument/2006/relationships/hyperlink" Target="https://www.google.ru/searc" TargetMode="External"/><Relationship Id="rId9" Type="http://schemas.openxmlformats.org/officeDocument/2006/relationships/hyperlink" Target="https://www.google.ru/searc" TargetMode="External"/><Relationship Id="rId10" Type="http://schemas.openxmlformats.org/officeDocument/2006/relationships/hyperlink" Target="https://www.google.ru/searc" TargetMode="External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55488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МУНИЦИПАЛЬНОЕ ДОШКОЛЬНОЕ ОБРАЗОВАТЕЛЬНОЕ БЮДЖЕТНОЕ УЧРЕЖДЕНИЕ  «ЦЕНТР РАЗВИТИЯ РЕБЕНКА-  ДЕТСКИЙ САД №5 ЛЕСОЗАВОДСКОГО ГОРОДСКОГО ОКРУГА»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       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grpSp>
        <p:nvGrpSpPr>
          <p:cNvPr id="194" name="WordArt 5"/>
          <p:cNvGrpSpPr/>
          <p:nvPr/>
        </p:nvGrpSpPr>
        <p:grpSpPr>
          <a:xfrm>
            <a:off x="1547640" y="1700280"/>
            <a:ext cx="6192720" cy="3243240"/>
            <a:chOff x="1547640" y="1700280"/>
            <a:chExt cx="6192720" cy="3243240"/>
          </a:xfrm>
        </p:grpSpPr>
        <p:pic>
          <p:nvPicPr>
            <p:cNvPr id="195" name="WordArt 5" descr=""/>
            <p:cNvPicPr/>
            <p:nvPr/>
          </p:nvPicPr>
          <p:blipFill>
            <a:blip r:embed="rId1"/>
            <a:stretch/>
          </p:blipFill>
          <p:spPr>
            <a:xfrm rot="10800000">
              <a:off x="1548720" y="1701000"/>
              <a:ext cx="6191640" cy="32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547640" y="1700280"/>
              <a:ext cx="6191280" cy="32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Зада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  </a:t>
              </a: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по развитию представлений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об эмоциональных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проявлениях у детей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старшего дошкольного возраст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Rectangle 6"/>
          <p:cNvSpPr/>
          <p:nvPr/>
        </p:nvSpPr>
        <p:spPr>
          <a:xfrm flipV="1" rot="10789200">
            <a:off x="5505840" y="5119200"/>
            <a:ext cx="36115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втор составитель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овалёва Надия Измаилова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тарший воспитатель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ысшей квалификацион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атего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087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ОЕ ЧУВСТВО ИСПЫТЫВАЕТ МАЛЬЧИК? ДЕВОЧКА? НАЗОВИТЕ ЧУВСТВО ПРОТИВОПОЛОЖНОЕ ТОМУ ,ЧТО ИСПЫТЫВАЕТ ДЕВОЧК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Picture 4" descr="DSC06567"/>
          <p:cNvPicPr/>
          <p:nvPr/>
        </p:nvPicPr>
        <p:blipFill>
          <a:blip r:embed="rId1"/>
          <a:stretch/>
        </p:blipFill>
        <p:spPr>
          <a:xfrm>
            <a:off x="395280" y="1197000"/>
            <a:ext cx="3672000" cy="5111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DSC06564"/>
          <p:cNvPicPr/>
          <p:nvPr/>
        </p:nvPicPr>
        <p:blipFill>
          <a:blip r:embed="rId2"/>
          <a:stretch/>
        </p:blipFill>
        <p:spPr>
          <a:xfrm>
            <a:off x="4716360" y="1197000"/>
            <a:ext cx="3888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ОГДА ЧЕЛОВЕК ИСПЫТЫВАЕТ УДОВОЛЬСТВИЕ?</a:t>
            </a:r>
            <a:br>
              <a:rPr sz="1400"/>
            </a:b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ПОКАЖИ ПРИ ПОМОЩИ МИМИКИ ,ЧТО  ИСПЫТЫВАЕШЬ УДОВОЛЬСТВИЕ? КОГДА ТЫ ИСПЫТЫВАЕШЬ ОТВРАЩЕНИЕ? ПОКАЖИ ОТВРАЩЕНИЕ С ПОМОЩЬЮ МИМИК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6" name="Picture 4" descr="удовольствие"/>
          <p:cNvPicPr/>
          <p:nvPr/>
        </p:nvPicPr>
        <p:blipFill>
          <a:blip r:embed="rId1"/>
          <a:stretch/>
        </p:blipFill>
        <p:spPr>
          <a:xfrm>
            <a:off x="1214280" y="533520"/>
            <a:ext cx="51930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4560" y="115920"/>
            <a:ext cx="65545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ЗОВИ ЭМОЦИОНАЛЬНОЕ СОСТОЯНИЕ МАЛЬЧИКА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8" name="Picture 4" descr="Изображение 101"/>
          <p:cNvPicPr/>
          <p:nvPr/>
        </p:nvPicPr>
        <p:blipFill>
          <a:blip r:embed="rId1"/>
          <a:stretch/>
        </p:blipFill>
        <p:spPr>
          <a:xfrm>
            <a:off x="2340000" y="876240"/>
            <a:ext cx="48243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301320"/>
            <a:ext cx="684036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 КАКОМ ФОТО РЕБЕНОК ТОЖЕ  ЗАДУМАЛСЯ? КАКОЕ НАСТРОЕНИЕ У МАЛЬЧИКА НА ВТОРОМ ФОТО ?</a:t>
            </a:r>
            <a:br>
              <a:rPr sz="1400"/>
            </a:b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 ТЫ ДОГАДАЛСЯ? ПОПРОБУЙ ЗАДУМАТЬСЯ О ЧЕМ ЛИБО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0" name="Picture 4" descr="задумчивость"/>
          <p:cNvPicPr/>
          <p:nvPr/>
        </p:nvPicPr>
        <p:blipFill>
          <a:blip r:embed="rId1"/>
          <a:stretch/>
        </p:blipFill>
        <p:spPr>
          <a:xfrm>
            <a:off x="609480" y="1622520"/>
            <a:ext cx="3457800" cy="4610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4716360" y="1622520"/>
            <a:ext cx="36385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187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ЧТОБЫ ТЫ ПОЧУВСТВОВАЛ, ЕСЛИ БЫ УВИДЕЛ ТАКУЮ МОЛНИЮ НА САМОМ ДЕЛЕ? ПОКАЖ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3" name="Picture 7" descr="141"/>
          <p:cNvPicPr/>
          <p:nvPr/>
        </p:nvPicPr>
        <p:blipFill>
          <a:blip r:embed="rId1"/>
          <a:stretch/>
        </p:blipFill>
        <p:spPr>
          <a:xfrm>
            <a:off x="1547640" y="782640"/>
            <a:ext cx="759636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3120" y="1123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 КАКОМ ИЗ ФОТО ДЕВОЧКЕ СТРАШНО? ПОКАЖИ, ЧТО ТЕБЕ СТРАШНО. КАК МОЖНО ПОМОЧЬ ДЕВОЧКЕ СПРАВИТЬСЯ СО СВОИМ СТРАХОМ? КАК НУЖНО ВЕСТИ СЕБЯ ,ЕСЛИ УВИДИШЬ  МОЛНИЮ НА УЛИЦЕ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5" name="Picture 5" descr="страх"/>
          <p:cNvPicPr/>
          <p:nvPr/>
        </p:nvPicPr>
        <p:blipFill>
          <a:blip r:embed="rId1"/>
          <a:stretch/>
        </p:blipFill>
        <p:spPr>
          <a:xfrm>
            <a:off x="4932360" y="1268280"/>
            <a:ext cx="3672000" cy="49723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" descr=""/>
          <p:cNvPicPr/>
          <p:nvPr/>
        </p:nvPicPr>
        <p:blipFill>
          <a:blip r:embed="rId2"/>
          <a:stretch/>
        </p:blipFill>
        <p:spPr>
          <a:xfrm>
            <a:off x="573120" y="1268280"/>
            <a:ext cx="36957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63468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 ТЫ ДУМАЕШЬ ,ЧТО ЭТО? УДИВЛЯЕТ ЛИ ТЕБЯ ЭТО ЯВЛЕНИЕ ПРИРОДЫ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8" name="Picture 6" descr="вулкан"/>
          <p:cNvPicPr/>
          <p:nvPr/>
        </p:nvPicPr>
        <p:blipFill>
          <a:blip r:embed="rId1"/>
          <a:stretch/>
        </p:blipFill>
        <p:spPr>
          <a:xfrm>
            <a:off x="826920" y="847800"/>
            <a:ext cx="831708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3482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 НАЗЫВАЕТСЯ ЭТО ЯВЛЕНИЕ ПРИРОДЫ? ЧТО БЫ ПОЧУВСТВОВАЛ ТЫ, ЕСЛИ БЫ УВИДЕЛ ТАКОЕ ЯВЛЕНИЕ? ПОКАЖ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0" name="Picture 4" descr="удивительное явление"/>
          <p:cNvPicPr/>
          <p:nvPr/>
        </p:nvPicPr>
        <p:blipFill>
          <a:blip r:embed="rId1"/>
          <a:stretch/>
        </p:blipFill>
        <p:spPr>
          <a:xfrm>
            <a:off x="22320" y="1197000"/>
            <a:ext cx="91216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ЙДИ ФОТО, ГДЕ РЕБЕНОК УДИВЛЯЕТСЯ. КАКОЕ НАСТРОЕНИЕ У ДРУГОГО РЕБЕНКА? ПОКАЖИ ,КАК ТЫ ЗЛИШЬСЯ? КОГДА ЛЮДИ ЗЛЯТСЯ, ХОРОШО ЛИ  ПРОЯВЛЯТЬ ЗЛОБУ? КАК МОЖНО ПОСТУПИТЬ ПО-ДРУГОМУ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233280" y="1152360"/>
            <a:ext cx="8677440" cy="5612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4645080" y="1600200"/>
            <a:ext cx="43416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2025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ЗОВИТЕ ЭМОЦИИ ЭТИХ ДЕТЕЙ?  ПОКАЖИ ПРИ ПОМОЩИ МИМИКИ И ЖЕСТА, КАК БУДТО  ТЕБЕ СТЫДНО? ЧТО ДОЛЖЕН СДЕЛАТЬ РЕБЕНОК ,ЧТОБЫ ЕГО ПРОСТИЛИ. ПОЧЕМУ БЫВАЕТ ВЕСЕЛО? О ЧЕМ МОЖНО ЗАДУМАТЬСЯ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6" name="Picture 4" descr="Изображение 103"/>
          <p:cNvPicPr/>
          <p:nvPr/>
        </p:nvPicPr>
        <p:blipFill>
          <a:blip r:embed="rId1"/>
          <a:stretch/>
        </p:blipFill>
        <p:spPr>
          <a:xfrm>
            <a:off x="3341520" y="1557360"/>
            <a:ext cx="2749680" cy="4572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Изображение 101"/>
          <p:cNvPicPr/>
          <p:nvPr/>
        </p:nvPicPr>
        <p:blipFill>
          <a:blip r:embed="rId2"/>
          <a:stretch/>
        </p:blipFill>
        <p:spPr>
          <a:xfrm>
            <a:off x="6300720" y="1557360"/>
            <a:ext cx="2597040" cy="4572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DSC06566"/>
          <p:cNvPicPr/>
          <p:nvPr/>
        </p:nvPicPr>
        <p:blipFill>
          <a:blip r:embed="rId3"/>
          <a:stretch/>
        </p:blipFill>
        <p:spPr>
          <a:xfrm>
            <a:off x="395280" y="1557360"/>
            <a:ext cx="280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a304a"/>
                </a:solidFill>
                <a:latin typeface="Century Gothic"/>
              </a:rPr>
              <a:t>Дружок, сегодня мы с тобой отправимся в увлекательное путешествие в мир эмоций. Ты научишься не только отличать на фото одно эмоциональное состояние от другого , но и попробуешь сам изобразить разные эмоции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a304a"/>
                </a:solidFill>
                <a:latin typeface="Century Gothic"/>
              </a:rPr>
              <a:t>У тебя получиться управлять ими в жизни..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55632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ОЕ ВРЕМЯ ГОДА НА КАРТИНКЕ? КАКОЕ НАСТРОЕНИЕ ВЫЗЫВАЕТ ЭТА КАРТИНКА? ПОЧЕМУ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0" name="Picture 4" descr="веселое лето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3480" y="115560"/>
            <a:ext cx="680724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ОЕ ВРЕМЯ ГОДА НА КАРТИНКЕ? КАКОЕ НАСТРОЕНИЕ У РЕБЯТ НА ЭТОЙ КАРТИНКЕ? ПОКАЖИ, КАК ТЫ УМЕЕШЬ РАДОВАТЬСЯ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Picture 4" descr="zima_01"/>
          <p:cNvPicPr/>
          <p:nvPr/>
        </p:nvPicPr>
        <p:blipFill>
          <a:blip r:embed="rId1"/>
          <a:stretch/>
        </p:blipFill>
        <p:spPr>
          <a:xfrm>
            <a:off x="576360" y="1211400"/>
            <a:ext cx="827856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93840" y="115560"/>
            <a:ext cx="655632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ОЕ ВРЕМЯ ГОДА НА КАРТИНКЕ?  КАКОЕ  НАСТРОЕНИЕ ВЫЗЫВАЕТ ЭТО ВРЕМЯ ГОДА? ПОЧЕМУ? ПОКАЖИ КАК ТЫ ГРУСТИШЬ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4" name="Picture 4" descr="IMG_7724"/>
          <p:cNvPicPr/>
          <p:nvPr/>
        </p:nvPicPr>
        <p:blipFill>
          <a:blip r:embed="rId1"/>
          <a:stretch/>
        </p:blipFill>
        <p:spPr>
          <a:xfrm>
            <a:off x="0" y="116532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31640" y="115920"/>
            <a:ext cx="6699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У КОГО ИЗ МАЛЬЧИКОВ ГРУСТНОЕ НАСТРОЕНИЕ? ПОЧЕМУ ТЫ ТАК РЕШИЛ? КАК МОЖНО ЕМУ ПОМОЧЬ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6" name="Picture 5" descr="Изображение 125"/>
          <p:cNvPicPr/>
          <p:nvPr/>
        </p:nvPicPr>
        <p:blipFill>
          <a:blip r:embed="rId1"/>
          <a:stretch/>
        </p:blipFill>
        <p:spPr>
          <a:xfrm>
            <a:off x="395280" y="1268280"/>
            <a:ext cx="3816360" cy="4824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Изображение 122"/>
          <p:cNvPicPr/>
          <p:nvPr/>
        </p:nvPicPr>
        <p:blipFill>
          <a:blip r:embed="rId2"/>
          <a:stretch/>
        </p:blipFill>
        <p:spPr>
          <a:xfrm>
            <a:off x="4859280" y="1268280"/>
            <a:ext cx="3816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60" name="Picture 4" descr="Букетик"/>
          <p:cNvPicPr/>
          <p:nvPr/>
        </p:nvPicPr>
        <p:blipFill>
          <a:blip r:embed="rId1"/>
          <a:stretch/>
        </p:blipFill>
        <p:spPr>
          <a:xfrm>
            <a:off x="826920" y="3500280"/>
            <a:ext cx="2592720" cy="3024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Книфки"/>
          <p:cNvPicPr/>
          <p:nvPr/>
        </p:nvPicPr>
        <p:blipFill>
          <a:blip r:embed="rId2"/>
          <a:stretch/>
        </p:blipFill>
        <p:spPr>
          <a:xfrm>
            <a:off x="3851280" y="4005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Машинка"/>
          <p:cNvPicPr/>
          <p:nvPr/>
        </p:nvPicPr>
        <p:blipFill>
          <a:blip r:embed="rId3"/>
          <a:stretch/>
        </p:blipFill>
        <p:spPr>
          <a:xfrm>
            <a:off x="826920" y="404640"/>
            <a:ext cx="2953080" cy="2562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Мячи"/>
          <p:cNvPicPr/>
          <p:nvPr/>
        </p:nvPicPr>
        <p:blipFill>
          <a:blip r:embed="rId4"/>
          <a:stretch/>
        </p:blipFill>
        <p:spPr>
          <a:xfrm>
            <a:off x="6767640" y="2825640"/>
            <a:ext cx="2376360" cy="4032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Шары"/>
          <p:cNvPicPr/>
          <p:nvPr/>
        </p:nvPicPr>
        <p:blipFill>
          <a:blip r:embed="rId5"/>
          <a:stretch/>
        </p:blipFill>
        <p:spPr>
          <a:xfrm>
            <a:off x="6732720" y="0"/>
            <a:ext cx="2411280" cy="2637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солнце"/>
          <p:cNvPicPr/>
          <p:nvPr/>
        </p:nvPicPr>
        <p:blipFill>
          <a:blip r:embed="rId6"/>
          <a:stretch/>
        </p:blipFill>
        <p:spPr>
          <a:xfrm>
            <a:off x="3924360" y="189000"/>
            <a:ext cx="295272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a304a"/>
                </a:solidFill>
                <a:latin typeface="Century Gothic"/>
              </a:rPr>
              <a:t>Какого времени года не было на       картинках?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01760" y="7920"/>
            <a:ext cx="655632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ОЕ НАСТРОЕНИЕ ВЫЗЫВАЕТ ЭТО ВРЕМЯ ГОДА? КАКАЯ МЕЛОДИЯ ПОДХОДИТ К ЭТОМУ ВРЕМЕНИ ГОДА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9" name="Picture 4" descr="Весна_в_Новомиргороді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8920"/>
          </a:xfrm>
          <a:prstGeom prst="rect">
            <a:avLst/>
          </a:prstGeom>
          <a:ln w="0">
            <a:noFill/>
          </a:ln>
        </p:spPr>
      </p:pic>
      <p:pic>
        <p:nvPicPr>
          <p:cNvPr id="270" name="грустная.mp3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85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01760" y="7920"/>
            <a:ext cx="655632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ПОД КАКУЮ МЕЛОДИЮ ТЕБЕ СЕГОДНЯ ХОЧЕТСЯ ПОТАНЦЕВАТЬ?ЕСЛИ ХОЧЕШЬ ПОТАНЦУЙ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2" name="Picture 4" descr="Весна_в_Новомиргороді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273" name="04 пусть будет всем хорошо -.mp3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245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40464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a304a"/>
                </a:solidFill>
                <a:latin typeface="Century Gothic"/>
              </a:rPr>
              <a:t>ИСПОЛЬЗУЕМЫЕ В ПРЕЗЕНТАЦИИ ИНТЕРНЕТ РЕСУРСЫ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160" y="242100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3"/>
              </a:rPr>
              <a:t>www.google.ru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5"/>
              </a:rPr>
              <a:t>imgres?imgur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6"/>
              </a:rPr>
              <a:t>https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7"/>
              </a:rPr>
              <a:t>://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8"/>
              </a:rPr>
              <a:t>www.google.ru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9"/>
              </a:rPr>
              <a:t>/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10"/>
              </a:rPr>
              <a:t>searc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0a304a"/>
                </a:solidFill>
                <a:uFillTx/>
                <a:latin typeface="Century Gothic"/>
              </a:rPr>
              <a:t>http://divmir.ru/etot-udivitelniy-mir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a304a"/>
                </a:solidFill>
                <a:latin typeface="Century Gothic"/>
              </a:rPr>
              <a:t>Примечание: 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a304a"/>
                </a:solidFill>
                <a:latin typeface="Century Gothic"/>
              </a:rPr>
              <a:t>Использование в презентации фотографий дошкольников,  посещающих МДОБУ «Центр развития ребенка №5 согласовано с родителями воспитанников.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533520" y="533160"/>
            <a:ext cx="8286480" cy="41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a304a"/>
                </a:solidFill>
                <a:latin typeface="Century Gothic"/>
              </a:rPr>
              <a:t>ЭОР можно использовать дополнительно для реализации задач образовательных областей: «Познание, «Коммуникация», «Социализация».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У КОГО ИЗ ДЕТЕЙ НАСТРОЕНИЕ ТАКОЕ ЖЕ, КАК У ТЕБЯ СЕГОДНЯ? ИЛИ У ТЕБЯ ДРУГОЕ НАСТРОЕНИЕ И ТАКОГО ЖЕ НА ФОТО НЕТ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0" name="Picture 6" descr="злоба"/>
          <p:cNvPicPr/>
          <p:nvPr/>
        </p:nvPicPr>
        <p:blipFill>
          <a:blip r:embed="rId1"/>
          <a:stretch/>
        </p:blipFill>
        <p:spPr>
          <a:xfrm>
            <a:off x="395280" y="836640"/>
            <a:ext cx="2952720" cy="2954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Изображение 125"/>
          <p:cNvPicPr/>
          <p:nvPr/>
        </p:nvPicPr>
        <p:blipFill>
          <a:blip r:embed="rId2"/>
          <a:stretch/>
        </p:blipFill>
        <p:spPr>
          <a:xfrm>
            <a:off x="4211640" y="692280"/>
            <a:ext cx="2247840" cy="3200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Изображение 109"/>
          <p:cNvPicPr/>
          <p:nvPr/>
        </p:nvPicPr>
        <p:blipFill>
          <a:blip r:embed="rId3"/>
          <a:stretch/>
        </p:blipFill>
        <p:spPr>
          <a:xfrm>
            <a:off x="0" y="3500280"/>
            <a:ext cx="3152880" cy="3168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Изображение 101"/>
          <p:cNvPicPr/>
          <p:nvPr/>
        </p:nvPicPr>
        <p:blipFill>
          <a:blip r:embed="rId4"/>
          <a:stretch/>
        </p:blipFill>
        <p:spPr>
          <a:xfrm>
            <a:off x="6915240" y="404640"/>
            <a:ext cx="2228760" cy="367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Изображение 120"/>
          <p:cNvPicPr/>
          <p:nvPr/>
        </p:nvPicPr>
        <p:blipFill>
          <a:blip r:embed="rId5"/>
          <a:stretch/>
        </p:blipFill>
        <p:spPr>
          <a:xfrm>
            <a:off x="3780000" y="3657600"/>
            <a:ext cx="2247840" cy="320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страшно"/>
          <p:cNvPicPr/>
          <p:nvPr/>
        </p:nvPicPr>
        <p:blipFill>
          <a:blip r:embed="rId6"/>
          <a:stretch/>
        </p:blipFill>
        <p:spPr>
          <a:xfrm>
            <a:off x="6084720" y="3789360"/>
            <a:ext cx="30592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38160" y="13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ПОЧЕМУ ДЕДУШКА ОБНИМАЕТ ВНУЧКУ? КАК НАЗЫВАЕТСЯ ЭТО ЧУВСТВО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692000" y="-2187720"/>
            <a:ext cx="6264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8" name="Picture 4" descr="DSC00742"/>
          <p:cNvPicPr/>
          <p:nvPr/>
        </p:nvPicPr>
        <p:blipFill>
          <a:blip r:embed="rId1"/>
          <a:stretch/>
        </p:blipFill>
        <p:spPr>
          <a:xfrm>
            <a:off x="2050920" y="1601640"/>
            <a:ext cx="4903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920" y="10440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 КАКОЙ ИЗ КАРТИНОК ЛЮДИ ПРОЯВЛЯЮТ ПОХОЖИЕ ЧУВСТВА, ПОЧЕМУ  ТЫ ТАК РЕШИЛ?</a:t>
            </a:r>
            <a:r>
              <a:rPr b="0" lang="en-US" sz="1800" spc="-1" strike="noStrike">
                <a:solidFill>
                  <a:srgbClr val="0a304a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0" name="Picture 4" descr="SAM_0440"/>
          <p:cNvPicPr/>
          <p:nvPr/>
        </p:nvPicPr>
        <p:blipFill>
          <a:blip r:embed="rId1"/>
          <a:stretch/>
        </p:blipFill>
        <p:spPr>
          <a:xfrm>
            <a:off x="468360" y="1628640"/>
            <a:ext cx="3639960" cy="4753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119"/>
          <p:cNvPicPr/>
          <p:nvPr/>
        </p:nvPicPr>
        <p:blipFill>
          <a:blip r:embed="rId2"/>
          <a:stretch/>
        </p:blipFill>
        <p:spPr>
          <a:xfrm>
            <a:off x="4970520" y="1628640"/>
            <a:ext cx="34909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МОЛОДЕЦ ,ТЫ ПРАВИЛЬНО ОТВЕТИЛ НА ВОПРОС. КОГО ЛЮБИШЬ ТЫ? ЛЮБОВЬ-ЭТО ХОРОШО ИЛИ ПЛОХО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4" descr="SAM_0440"/>
          <p:cNvPicPr/>
          <p:nvPr/>
        </p:nvPicPr>
        <p:blipFill>
          <a:blip r:embed="rId1"/>
          <a:stretch/>
        </p:blipFill>
        <p:spPr>
          <a:xfrm>
            <a:off x="1547640" y="1125360"/>
            <a:ext cx="6034320" cy="547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37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ЧЕМ ПОХОЖИ ЭТИ ФОТО ? КАКИЕ ЭМОЦИИ ПРОЯВЛЯЮТ ДЕТИ НА  ФОТО?</a:t>
            </a:r>
            <a:br>
              <a:rPr sz="1400"/>
            </a:b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УЗНАЙТЕ ДЕТЕЙ НАШЕГО ДЕТСКОГО САД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5" name="Picture 4" descr="119"/>
          <p:cNvPicPr/>
          <p:nvPr/>
        </p:nvPicPr>
        <p:blipFill>
          <a:blip r:embed="rId1"/>
          <a:stretch/>
        </p:blipFill>
        <p:spPr>
          <a:xfrm>
            <a:off x="4500720" y="189000"/>
            <a:ext cx="4392360" cy="504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Изображение 114"/>
          <p:cNvPicPr/>
          <p:nvPr/>
        </p:nvPicPr>
        <p:blipFill>
          <a:blip r:embed="rId2"/>
          <a:stretch/>
        </p:blipFill>
        <p:spPr>
          <a:xfrm>
            <a:off x="0" y="1413000"/>
            <a:ext cx="4356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96480"/>
            <a:ext cx="6480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 ТЫ ДУМАЕШЬ, ЧЕМУ РАДУЮТСЯ ДЕТИ? </a:t>
            </a:r>
            <a:br>
              <a:rPr sz="1400"/>
            </a:b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ЧЕМУ ЕЩЕ МОЖНО ОБРАДОВАТЬСЯ?</a:t>
            </a:r>
            <a:br>
              <a:rPr sz="1400"/>
            </a:b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Д ЧЕМ СМЕЯТЬСЯ НЕЛЬЗЯ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8" name="Picture 4" descr="Изображение 114"/>
          <p:cNvPicPr/>
          <p:nvPr/>
        </p:nvPicPr>
        <p:blipFill>
          <a:blip r:embed="rId1"/>
          <a:stretch/>
        </p:blipFill>
        <p:spPr>
          <a:xfrm>
            <a:off x="1332000" y="1484280"/>
            <a:ext cx="6480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 КАКОМ ФОТО У ДЕТЕЙ РАДОСТНОЕ НАСТРОЕНИЕ? ПОЧЕМУ? ЧТО ИСПЫТЫВАЕТ МАЛЫШ НА ВТОРОЙ КАРТИНКЕ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0" name="Picture 8" descr="удовольствие"/>
          <p:cNvPicPr/>
          <p:nvPr/>
        </p:nvPicPr>
        <p:blipFill>
          <a:blip r:embed="rId1"/>
          <a:stretch/>
        </p:blipFill>
        <p:spPr>
          <a:xfrm>
            <a:off x="4572000" y="1268280"/>
            <a:ext cx="3887640" cy="4572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32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0:27:34Z</dcterms:created>
  <dc:creator>я</dc:creator>
  <dc:description/>
  <dc:language>en-US</dc:language>
  <cp:lastModifiedBy>я</cp:lastModifiedBy>
  <dcterms:modified xsi:type="dcterms:W3CDTF">2013-03-11T04:57:17Z</dcterms:modified>
  <cp:revision>24</cp:revision>
  <dc:subject/>
  <dc:title>Почему дедушка обнимает внучку? Как называется это чувство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f0000000000010250600207f78002e0015000</vt:lpwstr>
  </property>
</Properties>
</file>