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636-DD6F-49DE-9B77-34B15B27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923-0B08-4279-A370-29DA33D1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B83-2DB8-477B-B605-15EBB28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86B-9EAA-46C7-89F7-B2244952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29E-5C2E-4238-9C0E-49F9AF47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03CB-B848-4303-BE67-B105017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E50-3EF5-40FE-BAAB-26F5D53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153-D650-4744-BAE3-3D789A2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B9F5-7A2F-4C63-B2E1-4D326E0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6837-D20F-4291-84F1-55CD71DE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EDA0-1B61-45EE-A5E8-C8C5945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472-29FA-4F75-A060-F9C4883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0C3-6DF4-4735-963E-7A64072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BB0-2B44-441A-A3B7-EDDEF18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259F-FFA9-446A-ACAA-DA1678DC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742D-BAFE-419B-8763-AC498223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03D0-7C05-4842-923D-7A7E4EEF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DDE8-344E-492D-8986-E41E8EA9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BC34-2EBA-40D8-B2BF-F3C4708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3183-1603-4913-9D62-5FEF813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7AC2-EEE5-4831-BFB1-5149ADCB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6246-5D2D-4C27-BAF0-23870764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B97-7209-4D83-B050-D20CBBC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8953-C0B9-4272-A249-86C2F3F8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5B35-7920-4378-B8A8-D11B64A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8526-0204-4884-AB50-B120924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EE3D-CFBB-43B2-8065-D7BAE94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8D0D-F06E-460E-8066-AE8BB55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AB9F-19F5-4F72-B861-C91F9F5A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4345-140A-4C64-AF99-9B1345DF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4E63-C8D0-4D04-91A5-1D6F3EAA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E061-5FBC-402D-A63A-AD00C63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962E-A0BB-4457-BF67-BAE4C9E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CC1-5478-41B2-9461-8855276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B5B6-990D-4DB5-B461-C8A04FB4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31E7-A3DD-4ABD-8BCD-39008EBA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2365C-D163-4EFF-91D3-19AB725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AC4B-3916-4B2D-9803-731C4D2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4BEF-CD5B-474C-B9E7-966B47F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49E3-7F86-47D9-B255-2BE7EED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7048-B618-4A58-8C45-905AF971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46BE-418A-4F0A-ABF4-B51FF503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8745-AFB6-4AB4-B314-502922E4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821D-A174-4B97-911E-6BB451BD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E74-712D-4C69-9481-52CDE54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0D58-4327-4D6B-8601-0651735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1F1D-38CB-4FDD-9209-462E186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83FB-FEE3-4401-9F9F-269DA2A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6391-D225-44EA-A817-E82900F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43B6-8368-445F-BC54-31019D2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3C0B-B79B-4E5D-A311-72E0DCF7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EC34-24C9-423A-8779-CF26BBA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DA45-FF48-466B-8282-77CDD51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0EC5-CAFD-40E0-9487-9127C07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FA6D-8EDB-42D1-99CC-FF20CB9D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17D-9D43-448A-9B20-341A041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75A9-2602-4EDC-A1F1-57DBAF96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171A-D9AA-48B2-8BA5-CF01DCBA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D21A-CCDB-49F5-B03A-1F53B31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29ED-4FB1-43BE-B742-E84D468F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FBE0-BC13-423B-AC74-DE2A825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A737-2180-401D-9CCB-559C618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1C1C-9ABB-4233-BE43-110D612D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A8A81-43A0-4F65-BC07-2A84596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EDDE-3F55-459A-B4BE-29E7BCA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F980-84E1-4A44-A21D-446657E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60C-F6F2-4196-B238-99A2A45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DF96-5546-456E-BA1A-FEAFD14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02C04-F315-40DA-B8BF-736468F3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253F6-D62F-4241-826F-1D00290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593F-40AA-4A26-A86D-A2AE3D3B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8140-6245-4476-ACA8-5C14D7E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8602-1224-498E-A011-F0AF835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45A1-9A52-4010-84D2-379E118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0D4A-F8E9-494A-BC5B-9495B33C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39F3-866E-4C3B-9504-4ADDD0D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6F69-794F-456E-89E0-FB82AA3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23F-F54F-4C33-BD16-901C6A9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AA36-F18A-4B5E-8D6E-143043E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F3230-C14D-4EDF-A59D-F6CE74B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54E92-F1EF-4A54-9D2B-2BF11651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58B3-AC9B-4DFF-B408-9E3A5BB6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1A54-68DF-4B38-BD8C-86BD7328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FA08-93E8-4FD7-8A5C-AC3E6BBB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5B7F7-5596-4750-8A2B-319A721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87E74-B40C-4868-A7CA-0CAB720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18DD-6B92-4A6C-8959-08F43AEC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68F60-7DBA-4737-BF07-E0E427F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1A3-D2FD-4755-9B10-154D26F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2F076-B7C1-4467-800B-D026C5C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1B15-EA28-4599-A506-A1E222D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BF96D-6008-45AA-A8B3-4BA72C9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104E-6BD1-45A4-A8A9-91EBCAA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A960D-9C86-4955-AEA4-A706C81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B007-D36A-4D9E-80AF-29B296B8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DB63-D49E-4FF2-A641-4CEC0868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C39-34F5-48ED-95F0-FF70057FDA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30D-C314-47F4-9464-B9DC1930D4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B0BA-95CB-42D1-A0E6-5A44B1400B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AC15-91D1-48F5-BF6E-2EB6EDFC7F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55D-1C38-41F1-BCED-FFDA460B5A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F20-C012-49E7-9769-12B9265C1A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956-292E-484F-929D-97314F1573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6F9-F1B2-4907-8F37-F8D471C36B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ризывный крик ребёнка в колыбел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мудрой старости докучливые стрелы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прощать, любить и ненавидеть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сострадать и сложность в жизни видет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еренести печаль и боль утрат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Опять вставать и ошибаться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так всю жизн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Но только не сдаваться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носительно устойчивое явление, включающее в себя альтернативные элементы эмоционально-ценностного отношения и способного изменяться в определённых предел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начимая группа чувств, занимающих особое место в жизни человек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 противоречивы, реализуются в родительском отношении и родительски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ставляют собой реальную направленность взаимодействия с ребёнком, в основе которой лежит сознательная и бессознательная оценка ребёнка. Родительские позиции реализуются в подвижных коммуникативны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ветственность перед социу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 своей совесть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ая ответственность возникает в контроле своего поведения и семейной ситуации; характеризуется занимаемой ролью в семейном воспитан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является выразителем взаимодействия перечисленны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ше компонентов, его проявления наиболее очевидны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много обширнее, чем другие компоненты родитель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овышение компетентности родителей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ормирование у них необходимых знаний, обучение их навыкам общения с детьми, разрешению конфликтных ситуаций, улучшению стиля родительского поведения и т. п.) – одно из направлений педагогической помощи семье, цель которого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формировать у родителей более высокий уровень самосознания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мочь родителям в применении дисциплинарных методов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илить коммуникацию родителей и детей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пособствовать тому, чтобы члены семьи как можно больше времени проводили вмест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оставить родителям полезную информацию о развитии дет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кажи мне  –  и я забуд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кажи мне  –  и я запомню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й сделать  –  и я пойму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 Китайская притч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– это обучение, погруженное в общение. При этом "погруженное" не означает "замещенное". Оно  видоизменяет формы с транслирующих на диалоговые, т.е. включающие в себя обмен информацией, основанной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ые методы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ломают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традиционные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ереотипы родительского собрания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: 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х применение повышает готовность родителей к взаимодействию с педаго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и использовании интерактивных методов роль учителя резко меняется, перестаёт быть центральной, он лишь регулирует 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частники обращаются к социальному опыту – собственному и других людей, при этом им приходится вступать в коммуникацию друг с другом, совместно решать поставленные задачи, преодолевать конфликты, находить общие точки соприкосновения, идти на компромиссы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 позволяет проявляться творческому базису личности, так как активизирует внутренние ее механизм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71520" y="176040"/>
            <a:ext cx="848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верительные, по крайней мере, позитивные отношения между обучающим и обучающимис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еский стил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, обучающихся между собо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</a:rPr>
              <a:t>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 31 марта 2009 года по теме «Взаимодействие семьи и школы в учебно-воспитательном процесс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ь к сведению и использовать в работ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2. Заместителю директора школы по ВР Сусловой Е.В.  и социальному педагогу Зиминой Т.А. определить критерии и показатели эффективности социально-педагогической деятельности классного руководителя по работе с родителями. и оценке работы педагогического коллектива школ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 – до  25 мая 2009 го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3.В плане инспекционно-контрольной деятельности администрации школы в 2009-2010 учебном году предусмотреть изучение работы классных руководителей 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4. Провести семинары классных руководителей по вопросам организации работы классного руководителя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2009 - 2010 учебный г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5. Проанализировать выполнение проекта «Семья» в рамках реализации Программы развит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июнь 2009 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сокая мотивация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чность знаний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ворчество и фантаз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муникаб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тивная жизненная позиц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андный дух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Ценность индивидуальности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вобода самовыражен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цент на деят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заимоуважение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4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бращение к Интернет- возможностям психолого-педагогической поддержки возникает не случайно, они позволяют решить несколько важных запросов и проблем родителей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е всегда родители готовы обратиться лично к психолог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рой родители не знают, куда обратить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сихологи не в состоянии лично всем и каждому отвечать на те вопросы, которые появляются у родителей, тем более, что очень часто они сходны и целесообразнее выставить в открытый доступ примерные ответы, чем по многу раз отвечать одно и тож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частую родители не могут найти время для личного посещения психолога, но при этом готовы общаться посредством Интернет- технолог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ние системы Интернет- поддержки родителе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ширяет спектр оказываемых услуг для родителей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ет возможность активно формироваться родительскому сообществу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числе преимуществ Интернет–технологий в организации поддержки родителей можно отметить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нонимность и безопасность поддержк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крытость границ и доступность, возможность получить поддержку из любого уголка земного шар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поддержку, не выходя из дом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еративность реагир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широкий доступ к ресурсам, возможность получения доступа к многим ресурсам, из которых можно выбрать необходимы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вариантность поддержки, можно получить разнообразную помощь по одному и тому же вопросу из разных источ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ресурсы, не вступая в активную коммуникацию, что является явным преимуществом для людей с трудностями общения и взаимодейств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 страничку для родителей на школьном сайте «Родительский университет», где были бы размещены материалы для родител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овать консультации для родителей в дистанционном режиме через скайп, ICQ, vkontakte.r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интерактивную карту идеальных отношений, показывающую детский взгляд на проблему отношений между детьми и ро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2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основном ничего нового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«Начни с себя. Хочешь изменить мир – измени себя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рудные ситуации в воспитании детей – дело обычное и нормальное в жизни любого человек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ысли о своей родительской компетентности для тех, кто предпочитает думать во благо своих детей и… </a:t>
            </a:r>
            <a:r>
              <a:rPr b="1" lang="ru-RU" sz="36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йств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ы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к  сведению и используются в работе классных руководител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    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2. Заместителем директора школы по ВР Сусловой Е.В.  и социальным педагогом Зиминой Т.А. разработаны критерии и показатели эффективности социально-педагогической деятельности классного руководителя по работе с родителям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тематических родительских собраний не реже 1 раза в четвер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личие протоколов  родительских собраний , оформленных согласно требования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заседаний  родительского комитета класса с оформлением протокола заседан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совместных с родителями мероприятий  с использование различных  форм работ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зучение семей учащихся с посещением семьи и организация индивидуальной работы с семьями, нуждающимися в педагогической поддержк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индивидуальных консультаций и бесед с родителями  с обязательной фиксацией данной беседы в плане воспитательной работы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3. В плане инспекционно – контрольной деятельности завучем по ВР  Сусловой и соуиальным педагогом Зиминой Т.А. в 2009-2010 учебном году  изучена работа классных руководителей  с семьёй.  Составлена справ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4. В марте 2010 года для классных руководителей запланирован семинар по вопросам организации работы с семьёй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5. При подведении итогов работы школы по реализации Программы развития школы проведён анализ выполнения проекта «Семья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чество образования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к результат сформированности компетенций родителей- участников образовательного процесса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петентный родитель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– это человек, который не испытывает страха за то, что он «плохой» родитель и не переносит чувство страха и вины на своего ребен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готовый видеть реальную ситуацию, в которой растет его ребенок и предпринимать усилия для того, чтобы ее меня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который знает, что если не помогает одно – надо пробовать другое. Компетентный родитель понимает, что для изменения развития ребенка в более благоприятную сторону надо меняться самому, пробовать, искать, в общем – учи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сихологический аспект проблем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определению Р. В. Овчаровой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тво -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циально-психологиче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еномен, представляющий собой эмоционально и оценочно окрашенную совокупность знаний, представлений и убеждений относительно себя как родителя, реализующуюся во всех проявлениях поведенческой составляющ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обенность в том, что они являютс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новополагающими для остальных компонентов родительства и реализуются 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правленности личности родителя и направленности его повед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ают в себя три уровня презент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епродуктивные установки, установки и ожидания в детско-родительских отношениях, установки и ожидания в отношении образа собственного ребён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мнению Э. Мэш, Д. Вольфа и др., родительские установки зависят от тех традиций, ценностей, норм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жиданий, которые свойственны социальной, культурной, национальной и религиозной среде, к которой принадлежит та или иная семья. Именно все эти факторы во многом определяют особенности родительского по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4T13:43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