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2C3-0F07-4643-B683-7E551F06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5CF-F6DC-43F3-8794-C994DAB4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250-1388-4308-9A76-DA16419C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BA6-D752-497E-9375-FB595F23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2D6C-57F1-4A65-A73A-178C4D19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BDF6-A6AC-4CE4-9B3F-C334DAA7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0BEE-E18A-4153-93D5-CB51A591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701C-3DDE-424F-9C4D-2B3D8583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EB9F-886A-4321-9B0B-3505DA2E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9703-0ECA-46A7-86B3-41C5F585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E987-21C6-4230-93D9-65B6E799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8AB-AD1B-4DB9-8A46-3B6B47D2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4FA8-5676-4D9D-A938-E273CF2F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C407-633A-466C-AF90-3E256C37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2AA1-C745-4ECA-A05E-CC761448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520A-B2E6-44F4-A5BF-CB8E9D34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93C7-7A65-49C9-8D4A-645D0A28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851B3-0901-4CE5-8325-E0A3AC8C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8D0F-519A-4AF0-9C8F-127C5651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DB25-5CD9-4BE6-B0FE-D94AC61F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43642-821B-4A93-8B37-6A8E9A21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6FA93-B449-4B87-A13F-A942C3F0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2DB-AED0-4A18-B798-E6CC9F6E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6DD9-A8FF-49F5-A7A8-1925C8EA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4E236-24DA-4F9A-A6CA-799B7C66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36D9-F0C3-426A-9F89-9932EDB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0BA1-72A4-4394-B0B0-90BD4DC1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C221B-10C2-4CEA-8201-F76FA47D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575D9-D363-4917-808E-91D385C2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ACB56-E42F-4B3C-A712-C347F0D7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FA270-57E9-443B-8E49-4E7DF6D3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B6E10-B0EC-41D4-A10E-564A94BE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35DEA-2F70-4B23-A06E-594B69EB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B23-79AB-4DB9-8064-52A6D13C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0FB24-16EC-4AAD-BF68-AF5EEA93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C5584-FDAC-403B-BD86-FF25FD88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FA44-52E7-4C14-AFE6-8FA43FFB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032A-236B-405B-9BD5-A76D82A4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1871-DC02-4DBA-8702-28BE3314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45FD-1239-4FB2-90EA-AD7BAD08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85495-8DC2-4DF1-B6DA-AE16C553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9D8D-6930-49FF-A349-53FD7A36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51BE-25A2-4C09-81DF-0C3E8C1D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B3AB-FECD-4FD2-91FD-1AC314A1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3FB-0C7C-4659-8D40-55237D1C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4179C-F57B-4DB0-9E99-8A183908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CF2A3-FE3B-45F5-B1CA-52D3E907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FFA57-046D-4C99-B720-61693575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AEA67-336C-491B-90F2-96085D1C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2A4D7-D7A7-41D6-BAFD-7E41FC6F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5E527-1CA0-45C2-AE6F-A9E53E45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DB0A8-A96F-40F0-85D9-693104C7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3E6AB-FF01-4CA7-8DA5-D2B27015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89F48-F98C-4260-9D16-D4993C20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617BC-95DA-411C-8AFD-463FCFE6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546-349C-4381-B64C-12EF72AF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35450-A453-4C66-8C30-F19318E3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A9000-2EC6-407D-9CC4-EC9590D4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AFE89-8DD4-40E9-B658-477B3112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A1D67-6C03-4142-AC20-6CD06B14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5ACAC-CC47-4161-8105-DB7FA520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0BC8-D3C2-4005-8444-DE451734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A05DB-1EF9-4C2B-993E-412C5AA0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D63A0-64A2-460A-B3D4-E5A49C78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F7606-363D-442E-85C8-948E2EEB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615C4-A68B-4A8B-A559-F30358B7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06D-E972-43C2-964D-81DE44DA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4D34-08DC-4290-93E2-8C880D62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10257-F8A8-4F45-ACA8-1CD46B30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505F5-0959-486E-9606-29910464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0762E-2667-4672-B320-A5F0DEA3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CFDB6-33F6-4BF5-8B42-55314731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9AA9D-998C-4FA9-949A-D9FF20CE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EBC57-F627-411D-ADF7-F564D5DE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4D793-BBEB-49DF-9B65-446583C2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4A763-D316-41D3-8205-5C67665A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675F6-A1BF-4FB1-948B-33E90BCB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B91-E7A4-40FB-9925-EDF7E18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3DA32-3DE2-4A54-8B32-9B02BC31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5D962-8F28-4EF0-B0C2-BA4A6FEB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3ADBD-EFC8-473F-AEDA-7728A4E8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5D231-9F02-4375-9414-EE7B25AF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78F5F-8B45-4ED4-A7E6-5FAE0D8B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ED87E-7D03-426F-AB88-68585270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AABA5-716C-49E1-8674-C7820C40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CA3C7-CB08-4F5D-A4A8-F0BAA75D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6F9C5-C599-4F81-BE32-E29D6A5D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D4A1A-CDA5-419F-BDFB-D9FCFA77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948-581D-4B5B-8759-A97E7F2E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AB23B-856D-4060-BB8F-E7F5B15B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21AF8-ECB3-4C3F-99E8-A3322152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0FAD1-AA2C-4D86-940D-582B3BC2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65D8D-4AF8-41F9-B42C-DA2281EB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F76CF-2B6A-4D37-8BF3-43A8C7D8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78621-5F6E-49CA-80B8-F3787D81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C41BA-A15C-45E1-8E36-2E36C055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D857-2DA6-4BCB-8C7D-F2BFC65953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741E-66A0-48E9-BCBB-342C5C3E550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4618-5444-41FC-98DC-A52F7D2203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E116-225A-4FBB-8D8E-FD5107A4EF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0CED-CFEA-4792-8039-6FC0A15598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43F6-020D-4B26-A375-3CB279DF08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1B12-415E-48B4-9F1D-9459A0CF02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FFE9-19F6-4388-AD70-9F9FBDD7780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Призывный крик ребёнка в колыбели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И мудрой старости докучливые стрелы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Умение прощать, любить и ненавидеть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Умение сострадать и сложность в жизни видеть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Перенести печаль и боль утрат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Опять вставать и ошибаться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И так всю жизнь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Но только не сдаваться!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!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носительно устойчивое явление, включающее в себя альтернативные элементы эмоционально-ценностного отношения и способного изменяться в определённых пределах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начимая группа чувств, занимающих особое место в жизни человек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 противоречивы, реализуются в родительском отношении и родительских позиц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едставляют собой реальную направленность взаимодействия с ребёнком, в основе которой лежит сознательная и бессознательная оценка ребёнка. Родительские позиции реализуются в подвижных коммуникативных позиц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ветственность перед социу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 своей совестью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ая ответственность возникает в контроле своего поведения и семейной ситуации; характеризуется занимаемой ролью в семейном воспитани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является выразителем взаимодействия перечисленны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ыше компонентов, его проявления наиболее очевидны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много обширнее, чем другие компоненты родитель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227a8f"/>
                </a:solidFill>
                <a:uFillTx/>
                <a:latin typeface="Times New Roman"/>
                <a:ea typeface="Times New Roman"/>
              </a:rPr>
              <a:t>Повышение компетентности родителей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формирование у них необходимых знаний, обучение их навыкам общения с детьми, разрешению конфликтных ситуаций, улучшению стиля родительского поведения и т. п.) – одно из направлений педагогической помощи семье, цель которого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формировать у родителей более высокий уровень самосознания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мочь родителям в применении дисциплинарных методов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илить коммуникацию родителей и детей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пособствовать тому, чтобы члены семьи как можно больше времени проводили вместе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едоставить родителям полезную информацию о развитии дет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98072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кажи мне  –  и я забуд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кажи мне  –  и я запомню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ай сделать  –  и я пойму. 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( Китайская притч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ое обучение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– это обучение, погруженное в общение. При этом "погруженное" не означает "замещенное". Оно  видоизменяет формы с транслирующих на диалоговые, т.е. включающие в себя обмен информацией, основанной на взаимопонимании и взаимодейств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0"/>
            <a:ext cx="82296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ые методы 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ломают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традиционные 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ереотипы родительского собрания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: оно становится не просто местом, где сообщают оценки и собирают деньги на «классные нужды», а особым пространством, наделенным специфическим смыслом и содержание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х применение повышает готовность родителей к взаимодействию с педагого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и использовании интерактивных методов роль учителя резко меняется, перестаёт быть центральной, он лишь регулирует  процесс и занимается его общей организацией, готовит заранее необходимые задания и формулирует вопросы или темы для обсуждения в группах, даёт консультации, контролирует время и порядок выполнения намеченного план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частники обращаются к социальному опыту – собственному и других людей, при этом им приходится вступать в коммуникацию друг с другом, совместно решать поставленные задачи, преодолевать конфликты, находить общие точки соприкосновения, идти на компромиссы. 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ое обучение позволяет проявляться творческому базису личности, так как активизирует внутренние ее механизм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71520" y="176040"/>
            <a:ext cx="84805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оверительные, по крайней мере, позитивные отношения между обучающим и обучающимис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мократический стиль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трудничество в процессе общения обучающего и обучающихся, обучающихся между собо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пора на личный ("педагогический") опыт обучающихся, включение в учебный процесс ярких примеров, фактов, образ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ногообразие форм и методов представления информации, форм деятельности обучающихся, их мобильность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ключение внешней и внутренней мотивации деятельности, а также взаимомотивации обучающихс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</a:rPr>
              <a:t>Проект решения педагогического совет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 31 марта 2009 года по теме «Взаимодействие семьи и школы в учебно-воспитательном процессе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1. Рекомендации по взаимодействию семьи и школы в учебно-воспитательном процессе принять к сведению и использовать в работе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2. Заместителю директора школы по ВР Сусловой Е.В.  и социальному педагогу Зиминой Т.А. определить критерии и показатели эффективности социально-педагогической деятельности классного руководителя по работе с родителями. и оценке работы педагогического коллектива школы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 – до  25 мая 2009 год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3.В плане инспекционно-контрольной деятельности администрации школы в 2009-2010 учебном году предусмотреть изучение работы классных руководителей  с семьё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4. Провести семинары классных руководителей по вопросам организации работы классного руководителя с семьё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, Зимина Т.А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: 2009 - 2010 учебный го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5. Проанализировать выполнение проекта «Семья» в рамках реализации Программы развит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, Зимина Т.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: июнь 2009 г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ысокая мотивация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чность знаний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Творчество и фантаз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муникабель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ктивная жизненная позиц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андный дух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Ценность индивидуальности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вобода самовыражен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кцент на деятель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заимоуважение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мократич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444600" y="268200"/>
            <a:ext cx="8248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20570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бращение к Интернет- возможностям психолого-педагогической поддержки возникает не случайно, они позволяют решить несколько важных запросов и проблем родителей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е всегда родители готовы обратиться лично к психологу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рой родители не знают, куда обратиться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сихологи не в состоянии лично всем и каждому отвечать на те вопросы, которые появляются у родителей, тем более, что очень часто они сходны и целесообразнее выставить в открытый доступ примерные ответы, чем по многу раз отвечать одно и тож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ачастую родители не могут найти время для личного посещения психолога, но при этом готовы общаться посредством Интернет- технолог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369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ние системы Интернет- поддержки родителей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асширяет спектр оказываемых услуг для родителей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ает возможность активно формироваться родительскому сообществу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 числе преимуществ Интернет–технологий в организации поддержки родителей можно отметить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нонимность и безопасность поддержки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крытость границ и доступность, возможность получить поддержку из любого уголка земного шара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озможность получить поддержку, не выходя из дома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перативность реагирования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широкий доступ к ресурсам, возможность получения доступа к многим ресурсам, из которых можно выбрать необходимые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ноговариантность поддержки, можно получить разнообразную помощь по одному и тому же вопросу из разных источников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озможность получить ресурсы, не вступая в активную коммуникацию, что является явным преимуществом для людей с трудностями общения и взаимодейств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2133360"/>
            <a:ext cx="822960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ть  страничку для родителей на школьном сайте «Родительский университет», где были бы размещены материалы для родител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овать консультации для родителей в дистанционном режиме через скайп, ICQ, vkontakte.ru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ть интерактивную карту идеальных отношений, показывающую детский взгляд на проблему отношений между детьми и родителя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24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 основном ничего нового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«Начни с себя. Хочешь изменить мир – измени себя»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Трудные ситуации в воспитании детей – дело обычное и нормальное в жизни любого человека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ысли о своей родительской компетентности для тех, кто предпочитает думать во благо своих детей и… </a:t>
            </a:r>
            <a:r>
              <a:rPr b="1" lang="ru-RU" sz="36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йствова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1. Рекомендации по взаимодействию семьи и школы в учебно-воспитательном процессе приняты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к  сведению и используются в работе классных руководителей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    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2. Заместителем директора школы по ВР Сусловой Е.В.  и социальным педагогом Зиминой Т.А. разработаны критерии и показатели эффективности социально-педагогической деятельности классного руководителя по работе с родителями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ведение тематических родительских собраний не реже 1 раза в четверть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личие протоколов  родительских собраний , оформленных согласно требованиям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ведение заседаний  родительского комитета класса с оформлением протокола заседани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ация совместных с родителями мероприятий  с использование различных  форм работ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зучение семей учащихся с посещением семьи и организация индивидуальной работы с семьями, нуждающимися в педагогической поддержке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ация индивидуальных консультаций и бесед с родителями  с обязательной фиксацией данной беседы в плане воспитательной работы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3. В плане инспекционно – контрольной деятельности завучем по ВР  Сусловой и соуиальным педагогом Зиминой Т.А. в 2009-2010 учебном году  изучена работа классных руководителей  с семьёй.  Составлена справка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4. В марте 2010 года для классных руководителей запланирован семинар по вопросам организации работы с семьёй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5. При подведении итогов работы школы по реализации Программы развития школы проведён анализ выполнения проекта «Семья»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7a8f"/>
                </a:solidFill>
                <a:latin typeface="Times New Roman"/>
              </a:rPr>
              <a:t>Качество образования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7a8f"/>
                </a:solidFill>
                <a:latin typeface="Times New Roman"/>
              </a:rPr>
              <a:t>как результат сформированности компетенций родителей- участников образовательного процесса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петентный родитель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– это человек, который не испытывает страха за то, что он «плохой» родитель и не переносит чувство страха и вины на своего ребен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Это человек, готовый видеть реальную ситуацию, в которой растет его ребенок и предпринимать усилия для того, чтобы ее меня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Это человек, который знает, что если не помогает одно – надо пробовать другое. Компетентный родитель понимает, что для изменения развития ребенка в более благоприятную сторону надо меняться самому, пробовать, искать, в общем – учитьс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7a8f"/>
                </a:solidFill>
                <a:uFillTx/>
                <a:latin typeface="Times New Roman"/>
                <a:ea typeface="Times New Roman"/>
              </a:rPr>
              <a:t>Психологический аспект проблемы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 определению Р. В. Овчаровой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тво -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циально-психологически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феномен, представляющий собой эмоционально и оценочно окрашенную совокупность знаний, представлений и убеждений относительно себя как родителя, реализующуюся во всех проявлениях поведенческой составляющей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 стадии развитой формы родительство включает в себя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ценности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тановки и ожидания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ое отношение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позиции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ую ответственность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600" y="3805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 стадии развитой формы родительство включает в себя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ценност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тановки и ожидания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ое отношени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позици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ую ответственность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собенность в том, что они являютс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сновополагающими для остальных компонентов родительства и реализуются в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правленности личности родителя и направленности его поведени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ключают в себя три уровня презентации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епродуктивные установки, установки и ожидания в детско-родительских отношениях, установки и ожидания в отношении образа собственного ребёнк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 мнению Э. Мэш, Д. Вольфа и др., родительские установки зависят от тех традиций, ценностей, норм 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жиданий, которые свойственны социальной, культурной, национальной и религиозной среде, к которой принадлежит та или иная семья. Именно все эти факторы во многом определяют особенности родительского повед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225360" y="30240"/>
            <a:ext cx="846792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3-11-24T13:43:4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