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937-89CB-4E6D-9F92-B22E7550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DAE-F9F1-47F4-8485-3C642800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727-2CBA-4544-AB4F-D0A7BFF2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4AE-03AE-43BD-A973-6FF81136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2D68-4EF5-42D4-86EC-FB1CB9F2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4ECD-E93B-45D6-A29E-56CE3C25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E09E-D661-43C6-ABD6-69C29CD1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6E0F-DDCC-4CBB-BA4D-61EC8B55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BB6D-8813-4F04-95C4-15A1D97E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481B-B26B-4951-AD2F-80E232C7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F01B-D5E9-4457-A84A-AFDA64C5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336-5AF4-425C-B8E3-FB630ED0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0FE4-045D-43F2-B9BD-B44946F9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2018-0D74-4A11-B966-CC998D78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E7D1-5A62-4D79-BD37-6A97DA3A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63BA-E9BD-498A-86EA-67DC75A4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0906-E14C-479A-8D75-976052D3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E879F-37C5-4158-9B41-D8E29CB5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0DA9-A1A0-46D8-979E-D81DFC02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61AC-49EB-4761-B8E8-498200EC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D168-EE9C-4838-859C-912B26DC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CDB2-7C23-45B5-A2B1-898B9391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9A2-1A60-4492-95A2-5E5DF649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8DDC-D395-4170-9139-B76E01E8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CF74-9979-46CE-9BFF-731BEAC1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2B58-CC08-40D0-A097-23160BE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8AC3-2726-4A84-BF9B-95DEAE4B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4A2C-A038-4EA4-A17C-3E073162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18CB-DEF7-4EE5-BC0A-5C8CF934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93AA-9EAE-4572-BEF8-F6DB9026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E790-F05B-4C9C-80BF-2167DEFC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6AFB-50E1-43D9-9665-0581840E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C624-D361-4D32-979F-448043C0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869-FDDD-4275-A662-DC6618BA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FA982-0C6A-4D6A-9011-9EDB10C3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DE5C1-45D8-421B-918B-BFEB9EDA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262A8-A46F-48BF-B08C-24D862FF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90F9-ED91-430B-87C7-60C2204E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AC91-D3F4-43D0-AA41-835A349C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4E744-DB37-4DB3-B409-A9DC1E58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6A67-447C-4928-9BB7-684E27C9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CE652-0FFC-4403-8731-A5ADF6E8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92FB9-3627-491D-B367-0202264D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0DDD7-96B9-4251-B8F1-45574796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D48-288E-4286-B7DF-E17C257A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C6E9F-F2A1-4EBF-BDA2-EF330CE1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02521-E4E0-42FD-B548-BA971FC7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32B2A-C7C5-4203-94DD-6BE9B90D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933D6-F33D-4275-9DC4-2082A9BC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B3EAA-DD8A-48F0-8567-E39AE0A2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69638-E988-45FF-B985-1DDFE256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33F4B-7780-4F9F-8C80-E47D4496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2DC06-2C07-46C7-882B-CACF77C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3A032-AEF7-478B-AE0D-4486644F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98237-4066-43FA-83D9-F2CE59C9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C3D-6484-4927-BA6B-BCB79543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5C6D6-4AB1-4997-AFDF-1A129B39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E328A-BEEC-428D-AD04-079C19B0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4BC40-7DC0-4102-A561-EC43F1F3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E0C27-FDDD-4D91-935E-CE31BB56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AFB0E-B4FB-4603-9C5B-7A96A5E1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37FFA-61D9-4641-9823-0492B84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8F0C7-6F95-4970-B120-1D793E1D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C0D5-6DCC-4FE6-BE30-AFBD4EA7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C597-AF70-41FC-B93C-D08595CB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222CE-CBA4-4C39-8CAB-9F326922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506-0274-44F7-A7D5-9B707223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46445-9EB2-44DB-9A45-DB894FE6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CB878-3203-40E4-80DC-49A1D383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AB6D1-F933-485E-94A8-825656ED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EAA57-0036-4075-8A7A-E8C7A24F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88A1-5034-42A3-858E-6F0A348D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E51E2-613F-4404-B087-4D11D078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BF537-3F3D-4D28-87DF-44EF88B9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FDD32-DD3A-4B17-9B75-C5FFF5AA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A8D38-528E-4C3C-84CB-DD68E290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36B81-98B5-4AA0-8E5F-967306DE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1C7-7AFC-46CF-B230-B2D5209E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A265D-D280-40AB-A34B-C991C404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F7F26-8124-45AD-945B-42456170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B908F-A569-4FB6-AF0A-FD3336A0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45829-1D23-42D9-ABBF-CF865045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7545A-CF7A-4E0F-9617-CEBA76E6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6AC1A-9881-473F-8144-8AD2EB45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8AA4-36C0-41CB-A67F-AF0E6FE2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10878-EDA7-4270-AF1B-312BAE01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0139D-82CE-487F-8D58-6F452B5E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D0011-3661-4B3F-AD7A-04B5C405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265-1FCE-4FCA-9CE2-CEE242F0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7DF1E-69E6-43AF-8255-677C1AAE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D0D18-872B-4B89-8FB4-41CE6E9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23CD6-A3D0-4EDC-ABF9-903D51BF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45355-B412-4CF9-88F8-93472B8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CDF23-70F3-48D3-8B71-F14601C4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36E03-9217-4A4E-B286-92512C29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625CE-4EB3-4D32-9FDF-6ACD109A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357A-2AD1-4162-8127-365DE67A77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70B5-84EC-43C9-8C56-0F8CA2CB3C0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C9C3-01B3-4B11-9851-E5CEC247ED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63DB-2451-43D3-BAC5-6B377F82F1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383B-4649-4D14-95D2-C8DE4FD821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69BE-97BA-493C-B432-66D5046A5A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413A-5E49-4E89-A6EC-DD0739B394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B7A8-1E09-4EBF-850D-3BE61FC5B09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Призывный крик ребёнка в колыбели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И мудрой старости докучливые стрелы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Умение прощать, любить и ненавидеть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Умение сострадать и сложность в жизни видеть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Перенести печаль и боль утрат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Опять вставать и ошибаться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И так всю жизнь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Но только не сдаваться!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!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носительно устойчивое явление, включающее в себя альтернативные элементы эмоционально-ценностного отношения и способного изменяться в определённых пределах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начимая группа чувств, занимающих особое место в жизни человек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 противоречивы, реализуются в родительском отношении и родительских позиц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едставляют собой реальную направленность взаимодействия с ребёнком, в основе которой лежит сознательная и бессознательная оценка ребёнка. Родительские позиции реализуются в подвижных коммуникативных позиц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ветственность перед социу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 своей совестью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ая ответственность возникает в контроле своего поведения и семейной ситуации; характеризуется занимаемой ролью в семейном воспитани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является выразителем взаимодействия перечисленны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ыше компонентов, его проявления наиболее очевидны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много обширнее, чем другие компоненты родитель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227a8f"/>
                </a:solidFill>
                <a:uFillTx/>
                <a:latin typeface="Times New Roman"/>
                <a:ea typeface="Times New Roman"/>
              </a:rPr>
              <a:t>Повышение компетентности родителей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формирование у них необходимых знаний, обучение их навыкам общения с детьми, разрешению конфликтных ситуаций, улучшению стиля родительского поведения и т. п.) – одно из направлений педагогической помощи семье, цель которого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формировать у родителей более высокий уровень самосознания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мочь родителям в применении дисциплинарных методов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илить коммуникацию родителей и детей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пособствовать тому, чтобы члены семьи как можно больше времени проводили вместе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едоставить родителям полезную информацию о развитии дет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9807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кажи мне  –  и я забуд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кажи мне  –  и я запомню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ай сделать  –  и я пойму. 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( Китайская притч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ое обучение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– это обучение, погруженное в общение. При этом "погруженное" не означает "замещенное". Оно  видоизменяет формы с транслирующих на диалоговые, т.е. включающие в себя обмен информацией, основанной на взаимопонимании и взаимодейств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0"/>
            <a:ext cx="82296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ые методы 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ломают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традиционные 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ереотипы родительского собрания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: оно становится не просто местом, где сообщают оценки и собирают деньги на «классные нужды», а особым пространством, наделенным специфическим смыслом и содержание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х применение повышает готовность родителей к взаимодействию с педагого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и использовании интерактивных методов роль учителя резко меняется, перестаёт быть центральной, он лишь регулирует  процесс и занимается его общей организацией, готовит заранее необходимые задания и формулирует вопросы или темы для обсуждения в группах, даёт консультации, контролирует время и порядок выполнения намеченного план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частники обращаются к социальному опыту – собственному и других людей, при этом им приходится вступать в коммуникацию друг с другом, совместно решать поставленные задачи, преодолевать конфликты, находить общие точки соприкосновения, идти на компромиссы. 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ое обучение позволяет проявляться творческому базису личности, так как активизирует внутренние ее механизм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71520" y="176040"/>
            <a:ext cx="84805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оверительные, по крайней мере, позитивные отношения между обучающим и обучающимис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мократический стил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трудничество в процессе общения обучающего и обучающихся, обучающихся между собо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пора на личный ("педагогический") опыт обучающихся, включение в учебный процесс ярких примеров, фактов, образ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ногообразие форм и методов представления информации, форм деятельности обучающихся, их мобильност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ключение внешней и внутренней мотивации деятельности, а также взаимомотивации обучающихс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</a:rPr>
              <a:t>Проект решения педагогического совет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 31 марта 2009 года по теме «Взаимодействие семьи и школы в учебно-воспитательном процессе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1. Рекомендации по взаимодействию семьи и школы в учебно-воспитательном процессе принять к сведению и использовать в работ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2. Заместителю директора школы по ВР Сусловой Е.В.  и социальному педагогу Зиминой Т.А. определить критерии и показатели эффективности социально-педагогической деятельности классного руководителя по работе с родителями. и оценке работы педагогического коллектива школы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 – до  25 мая 2009 год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3.В плане инспекционно-контрольной деятельности администрации школы в 2009-2010 учебном году предусмотреть изучение работы классных руководителей  с семьё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4. Провести семинары классных руководителей по вопросам организации работы классного руководителя с семьё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, Зимина Т.А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: 2009 - 2010 учебный го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5. Проанализировать выполнение проекта «Семья» в рамках реализации Программы развит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, Зимина Т.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: июнь 2009 г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ысокая мотивация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чность знаний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Творчество и фантаз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муникабель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ктивная жизненная позиц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андный дух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Ценность индивидуальности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вобода самовыражен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кцент на деятель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заимоуважение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мократич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444600" y="268200"/>
            <a:ext cx="8248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20570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бращение к Интернет- возможностям психолого-педагогической поддержки возникает не случайно, они позволяют решить несколько важных запросов и проблем родителей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е всегда родители готовы обратиться лично к психологу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рой родители не знают, куда обратитьс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сихологи не в состоянии лично всем и каждому отвечать на те вопросы, которые появляются у родителей, тем более, что очень часто они сходны и целесообразнее выставить в открытый доступ примерные ответы, чем по многу раз отвечать одно и тож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ачастую родители не могут найти время для личного посещения психолога, но при этом готовы общаться посредством Интернет- технолог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369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ние системы Интернет- поддержки родителей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асширяет спектр оказываемых услуг для родителей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ает возможность активно формироваться родительскому сообществу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 числе преимуществ Интернет–технологий в организации поддержки родителей можно отметить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нонимность и безопасность поддержки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крытость границ и доступность, возможность получить поддержку из любого уголка земного шара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озможность получить поддержку, не выходя из дома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перативность реагирования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широкий доступ к ресурсам, возможность получения доступа к многим ресурсам, из которых можно выбрать необходимые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ноговариантность поддержки, можно получить разнообразную помощь по одному и тому же вопросу из разных источников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озможность получить ресурсы, не вступая в активную коммуникацию, что является явным преимуществом для людей с трудностями общения и взаимодейств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2133360"/>
            <a:ext cx="822960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ть  страничку для родителей на школьном сайте «Родительский университет», где были бы размещены материалы для родител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овать консультации для родителей в дистанционном режиме через скайп, ICQ, vkontakte.ru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ть интерактивную карту идеальных отношений, показывающую детский взгляд на проблему отношений между детьми и родителя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2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 основном ничего нового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«Начни с себя. Хочешь изменить мир – измени себя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Трудные ситуации в воспитании детей – дело обычное и нормальное в жизни любого человека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ысли о своей родительской компетентности для тех, кто предпочитает думать во благо своих детей и… </a:t>
            </a:r>
            <a:r>
              <a:rPr b="1" lang="ru-RU" sz="36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йствова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1. Рекомендации по взаимодействию семьи и школы в учебно-воспитательном процессе приняты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к  сведению и используются в работе классных руководителей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    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2. Заместителем директора школы по ВР Сусловой Е.В.  и социальным педагогом Зиминой Т.А. разработаны критерии и показатели эффективности социально-педагогической деятельности классного руководителя по работе с родителями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ведение тематических родительских собраний не реже 1 раза в четверть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личие протоколов  родительских собраний , оформленных согласно требованиям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ведение заседаний  родительского комитета класса с оформлением протокола заседан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ация совместных с родителями мероприятий  с использование различных  форм работ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зучение семей учащихся с посещением семьи и организация индивидуальной работы с семьями, нуждающимися в педагогической поддержке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ация индивидуальных консультаций и бесед с родителями  с обязательной фиксацией данной беседы в плане воспитательной работы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3. В плане инспекционно – контрольной деятельности завучем по ВР  Сусловой и соуиальным педагогом Зиминой Т.А. в 2009-2010 учебном году  изучена работа классных руководителей  с семьёй.  Составлена справка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4. В марте 2010 года для классных руководителей запланирован семинар по вопросам организации работы с семьёй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5. При подведении итогов работы школы по реализации Программы развития школы проведён анализ выполнения проекта «Семья»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7a8f"/>
                </a:solidFill>
                <a:latin typeface="Times New Roman"/>
              </a:rPr>
              <a:t>Качество образования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7a8f"/>
                </a:solidFill>
                <a:latin typeface="Times New Roman"/>
              </a:rPr>
              <a:t>как результат сформированности компетенций родителей- участников образовательного процесса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петентный родитель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– это человек, который не испытывает страха за то, что он «плохой» родитель и не переносит чувство страха и вины на своего ребен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Это человек, готовый видеть реальную ситуацию, в которой растет его ребенок и предпринимать усилия для того, чтобы ее меня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Это человек, который знает, что если не помогает одно – надо пробовать другое. Компетентный родитель понимает, что для изменения развития ребенка в более благоприятную сторону надо меняться самому, пробовать, искать, в общем – учитьс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7a8f"/>
                </a:solidFill>
                <a:uFillTx/>
                <a:latin typeface="Times New Roman"/>
                <a:ea typeface="Times New Roman"/>
              </a:rPr>
              <a:t>Психологический аспект проблемы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 определению Р. В. Овчаровой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тво -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циально-психологически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феномен, представляющий собой эмоционально и оценочно окрашенную совокупность знаний, представлений и убеждений относительно себя как родителя, реализующуюся во всех проявлениях поведенческой составляюще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 стадии развитой формы родительство включает в себя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ценности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тановки и ожидания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ое отношение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позиции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ую ответственность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600" y="3805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 стадии развитой формы родительство включает в себя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ценност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тановки и ожидания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ое отношени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позици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ую ответственность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собенность в том, что они являютс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сновополагающими для остальных компонентов родительства и реализуются в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правленности личности родителя и направленности его поведен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ключают в себя три уровня презентации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епродуктивные установки, установки и ожидания в детско-родительских отношениях, установки и ожидания в отношении образа собственного ребёнк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 мнению Э. Мэш, Д. Вольфа и др., родительские установки зависят от тех традиций, ценностей, норм 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жиданий, которые свойственны социальной, культурной, национальной и религиозной среде, к которой принадлежит та или иная семья. Именно все эти факторы во многом определяют особенности родительского пове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225360" y="30240"/>
            <a:ext cx="846792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3-11-24T13:43:4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