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984-352E-47A2-A577-B2B393C8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68B-E48C-4B92-8D3F-1727824C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289-187C-4A8D-B1D9-6A85764C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BE1-4B44-4408-B8F2-C1E57F7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0FA-F4D0-49A9-8E65-9B3ED84D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593-233A-4CFA-BD17-D2272853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E68C-DE6E-4CF0-BBB9-526A374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030E-E756-4722-8459-4F75499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D64-64C4-479D-8CC4-ADCF949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E0E4-E0EA-4D2A-8D0D-66890CD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131-0A1A-4EB0-8AB6-A069BF7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FF0-F241-4EF1-9633-792BBEF0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1592-3C50-4EE5-8EA4-DE9D3661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BFA-C563-4F1C-8D63-8BE58C9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3C7-2A3A-48E6-A5BF-D498DAA1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BD3-BBDB-4B2A-B3E8-054FBA8C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1645-7505-451E-9FAA-C80C81BE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AE8-213B-4AD8-912C-DA5C5FC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CBF-6A0E-472E-85E8-D739BB6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B29-FEF8-427D-997D-42E72F0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966-D846-4680-B92F-22E7662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26B-53F3-47EC-BE14-7E3797C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21B-288A-4287-A382-A90D8E7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829-1264-4DD9-B59B-1CF7949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97F-C637-4841-A4FA-188B12016E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B6A-F84C-496E-A0F3-EACCDAF1ED8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8928000" cy="6553080"/>
          </a:xfrm>
          <a:prstGeom prst="rect">
            <a:avLst/>
          </a:prstGeom>
          <a:solidFill>
            <a:srgbClr val="0066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ТРОВСКИЙ РАЙ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ЫТ РАБО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ОСПИТАТЕЛЬНО-ОБРАЗОВАТЕЛЬНЫЙ ПРОЦЕСС В ПОЛИКУЛЬТУРНОМ ПРОСТРАНСТВЕ ОБРАЗОВАТЕЛЬНЫХ УЧРЕЖДЕНИЙ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ленкина О.М. МКОУ СОШ №6 с. Гофиц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ысина Г.В. МКОУ СОШ№13 с. Орехов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ернышева Н.Н. МКОУ СОШ №15 п. Прикалаусск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ибисова Е.И.МКОУ СОШ №11 с. Константиновс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OurNewSchool"/>
          <p:cNvPicPr/>
          <p:nvPr/>
        </p:nvPicPr>
        <p:blipFill>
          <a:blip r:embed="rId1"/>
          <a:stretch/>
        </p:blipFill>
        <p:spPr>
          <a:xfrm>
            <a:off x="395280" y="333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жджджддддддi"/>
          <p:cNvPicPr/>
          <p:nvPr/>
        </p:nvPicPr>
        <p:blipFill>
          <a:blip r:embed="rId2"/>
          <a:stretch/>
        </p:blipFill>
        <p:spPr>
          <a:xfrm>
            <a:off x="6858000" y="1000080"/>
            <a:ext cx="20160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90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4"/>
          <p:cNvSpPr/>
          <p:nvPr/>
        </p:nvSpPr>
        <p:spPr>
          <a:xfrm>
            <a:off x="380880" y="2514600"/>
            <a:ext cx="83822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5840" y="714240"/>
          <a:ext cx="8501040" cy="55562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льклорные концерты с исполнением национальных песен и танц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фольклорных произведений, приобщение к изучению фольклора молодого поко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и укрепление культурных связей, воспитание уважения к национальным традициям других культур, формирование у молодежи позитивных установок на этническое многообразие и повышение интереса к традициям, обычаям и культуре различных этнос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857920" y="4357800"/>
            <a:ext cx="2859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965320" cy="222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539640" y="26128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МИССИЯ ВОСПИТАТЕЛЬНО-ОБРАЗОВАТЕЛЬНОГО ПРОЦЕССА В ПОЛИКУЛЬТУРНОМ ПРОСТРАНСТВЕ ОБРАЗОВАТЕЛЬНЫХ УЧРЕЖДЕНИ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ФОРМИРОВАНИЕ ЭТНОКУЛЬТУРНОЙ КОМПЕТЕНТНОСТИ ОБУЧАЮЩИХСЯ В ПОЛИЭТНИЧЕСКОЙ ОБРАЗОВАТЕЛЬНОЙ СРЕД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Ф087"/>
          <p:cNvPicPr/>
          <p:nvPr/>
        </p:nvPicPr>
        <p:blipFill>
          <a:blip r:embed="rId1"/>
          <a:stretch/>
        </p:blipFill>
        <p:spPr>
          <a:xfrm>
            <a:off x="6072120" y="2786040"/>
            <a:ext cx="25862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НАЦИОНАЛЬНЫЙ ПАСПОРТ РАЙОН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рус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табасара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рмя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вар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дарг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гу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лезг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осет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кумы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укра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белору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цыга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чече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апотаi"/>
          <p:cNvPicPr/>
          <p:nvPr/>
        </p:nvPicPr>
        <p:blipFill>
          <a:blip r:embed="rId1"/>
          <a:stretch/>
        </p:blipFill>
        <p:spPr>
          <a:xfrm>
            <a:off x="3000240" y="4643280"/>
            <a:ext cx="1575000" cy="186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P8191336"/>
          <p:cNvPicPr/>
          <p:nvPr/>
        </p:nvPicPr>
        <p:blipFill>
          <a:blip r:embed="rId2"/>
          <a:stretch/>
        </p:blipFill>
        <p:spPr>
          <a:xfrm>
            <a:off x="5072040" y="128592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SC00186"/>
          <p:cNvPicPr/>
          <p:nvPr/>
        </p:nvPicPr>
        <p:blipFill>
          <a:blip r:embed="rId3"/>
          <a:stretch/>
        </p:blipFill>
        <p:spPr>
          <a:xfrm>
            <a:off x="5357880" y="407196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91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Участники образовательного пространств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0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ет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даго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ственность и представ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ых религиозных конфесс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iuiuiuii"/>
          <p:cNvPicPr/>
          <p:nvPr/>
        </p:nvPicPr>
        <p:blipFill>
          <a:blip r:embed="rId1"/>
          <a:stretch/>
        </p:blipFill>
        <p:spPr>
          <a:xfrm>
            <a:off x="1835280" y="1125360"/>
            <a:ext cx="1800000" cy="134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ывывыi"/>
          <p:cNvPicPr/>
          <p:nvPr/>
        </p:nvPicPr>
        <p:blipFill>
          <a:blip r:embed="rId2"/>
          <a:stretch/>
        </p:blipFill>
        <p:spPr>
          <a:xfrm>
            <a:off x="6372360" y="1268280"/>
            <a:ext cx="1944720" cy="117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папаваi"/>
          <p:cNvPicPr/>
          <p:nvPr/>
        </p:nvPicPr>
        <p:blipFill>
          <a:blip r:embed="rId3"/>
          <a:stretch/>
        </p:blipFill>
        <p:spPr>
          <a:xfrm>
            <a:off x="4284720" y="2349360"/>
            <a:ext cx="15192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аоваi"/>
          <p:cNvPicPr/>
          <p:nvPr/>
        </p:nvPicPr>
        <p:blipFill>
          <a:blip r:embed="rId4"/>
          <a:stretch/>
        </p:blipFill>
        <p:spPr>
          <a:xfrm>
            <a:off x="928800" y="3714840"/>
            <a:ext cx="2232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BD06662_"/>
          <p:cNvPicPr/>
          <p:nvPr/>
        </p:nvPicPr>
        <p:blipFill>
          <a:blip r:embed="rId1"/>
          <a:stretch/>
        </p:blipFill>
        <p:spPr>
          <a:xfrm>
            <a:off x="214200" y="5267160"/>
            <a:ext cx="1797120" cy="1590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1680" y="43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едагогические риски и способы их миним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и организации </a:t>
            </a:r>
            <a:r>
              <a:rPr b="1" lang="ru-RU" sz="1800" spc="-1" strike="noStrike">
                <a:solidFill>
                  <a:srgbClr val="ffffff"/>
                </a:solidFill>
                <a:latin typeface="'times new roman'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спитательно-образова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оцесса в поликультурном пространс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1680" y="1071720"/>
          <a:ext cx="8001000" cy="514332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93400">
                <a:tc>
                  <a:txBody>
                    <a:bodyPr lIns="9360" rIns="9360" tIns="9360" bIns="936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дагогические ри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ы их миним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лохая успеваемость обучающегося, в связи с плохим владением русским язык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полнительные индивидуальные занятия по русскому языку, вовлечение в дополнительное образование (кружки, объедин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28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желание принимать участие в праздниках других нар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влечение обучающегося в демонстрацию показа своего  народного творчества в рамках мероприятия (танец, песня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7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фликты между детьми на национальной осно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воспитательных профилактических мероприятий, знакомящих детей с традициями и устоями разных народов, мероприятий, тренингов по бесконфликтному общ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уппировки по национальному призн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массовых мероприятий для детей (фестивали, проекты, конкурсы, игры, викторины) с условием рассредоточения их по разным группам для участия в совместной творческ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b9efee"/>
                </a:solidFill>
                <a:latin typeface="Garamond"/>
              </a:rPr>
              <a:t>ФОРМЫ ВОСПИТАТЕЛЬНОЙ РАБОТ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498760" cy="1873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428760" y="3105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авки по достижениям национальн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500040" y="38577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тивные соревнования по национальным видам спорта (игра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00040" y="464328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льклорные концерты с исполнением национальных песен и танцев, фестивали народного творч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571680" y="57150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сы на лучшее приготовление национальн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Фото027"/>
          <p:cNvPicPr/>
          <p:nvPr/>
        </p:nvPicPr>
        <p:blipFill>
          <a:blip r:embed="rId2"/>
          <a:stretch/>
        </p:blipFill>
        <p:spPr>
          <a:xfrm>
            <a:off x="7072200" y="4143240"/>
            <a:ext cx="165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28760" y="428760"/>
          <a:ext cx="8143920" cy="62355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воспитательно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ки по достижениям национальной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омство с национально-культурным развитием народностей, проживающих  на данной   территории ; содействие сохранению и развитию  культурного наследия: материального (традиционные ремесла, народные промыслы и пр.) и духовного (язык, фольклор, обычаи, обряды, песенно - хореографическое искусство и др..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4" descr="DSC02989"/>
          <p:cNvPicPr/>
          <p:nvPr/>
        </p:nvPicPr>
        <p:blipFill>
          <a:blip r:embed="rId1"/>
          <a:stretch/>
        </p:blipFill>
        <p:spPr>
          <a:xfrm>
            <a:off x="6143760" y="4357800"/>
            <a:ext cx="2485800" cy="186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2855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71680" y="214200"/>
          <a:ext cx="7715160" cy="5929560"/>
        </p:xfrm>
        <a:graphic>
          <a:graphicData uri="http://schemas.openxmlformats.org/drawingml/2006/table">
            <a:tbl>
              <a:tblPr/>
              <a:tblGrid>
                <a:gridCol w="2571480"/>
                <a:gridCol w="2571840"/>
                <a:gridCol w="2571840"/>
              </a:tblGrid>
              <a:tr h="59295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е соревнования по национальным видам спорта (игра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орые  виды спорта имеют многовековую историю и развились из самобытных физических упражнений в трудовой и военной деятельности разных народов. Цель спортивных соревнований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грыш в соревновании или игре может привести к разногласию между представителями разных национальностей, любые соревнования подразумевают победителей и побежденных, а этот момент негативно влияет на отношения учени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85880" y="857160"/>
          <a:ext cx="7929360" cy="500076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5000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ы на лучшее приготовление национальных блю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ующим звеном между народами является их кухня. Кавказ – это место, где соединились кухни многих народов, в традициях любой семьи – гостеприимств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ть результаты могут не все , так как  у разных национальностей есть некоторые ограничения по употреблению отдельных проду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22:47Z</dcterms:created>
  <dc:creator>tarEV</dc:creator>
  <dc:description/>
  <dc:language>en-US</dc:language>
  <cp:lastModifiedBy>user</cp:lastModifiedBy>
  <dcterms:modified xsi:type="dcterms:W3CDTF">2012-10-09T19:01:31Z</dcterms:modified>
  <cp:revision>40</cp:revision>
  <dc:subject/>
  <dc:title>Слайд 1</dc:title>
</cp:coreProperties>
</file>