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B2B-BA87-4A7A-877C-EE00D7CC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5ED-545C-48E7-AD5C-D52AE56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8E1-C122-438F-A97B-E8E5F5D4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A05-35B5-4FEE-A9F0-58510327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ECC8-33DA-42DC-AE66-0918FD52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9AEA-80E3-4AE9-A48F-0E00E4BB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184-98D2-4D77-99C8-55E116A6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A7D-0B6E-4273-8925-C440C9A7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A09E-E72C-4E4C-A8D5-85E9A497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2205-7D21-4477-9C34-F5FBA4AB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2A19-6872-4F60-B6A9-9548B8F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01A-66A5-4401-B21A-125285C2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0C53-76B3-4C08-9FB3-001120A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E0C7-8FC3-4A45-904F-31A02B4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37DD-27DD-4A8F-BB47-04C964CD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5173-A3B1-414E-8064-EC2DF694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75A5-4763-4979-9906-63A65315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676-D976-40A2-A72D-655DF1C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4C1-75C9-4264-B9ED-EBC888C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780-A3FD-4747-9DDA-9FDFF5B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48D-2E4B-4C67-B37D-092788E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A32-DAC9-4C5F-BDCE-BEC2AEC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8A4-A63F-4420-A4DC-893A538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A19-4FDB-4394-A9D7-1E88B41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DB89-57B5-42F1-AEF4-03265FF2E2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1C5-EC93-4CB0-B8DC-45D0FEF4807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8928000" cy="6553080"/>
          </a:xfrm>
          <a:prstGeom prst="rect">
            <a:avLst/>
          </a:prstGeom>
          <a:solidFill>
            <a:srgbClr val="0066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ТРОВСКИЙ РАЙ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ЫТ РАБО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ОСПИТАТЕЛЬНО-ОБРАЗОВАТЕЛЬНЫЙ ПРОЦЕСС В ПОЛИКУЛЬТУРНОМ ПРОСТРАНСТВЕ ОБРАЗОВАТЕЛЬНЫХ УЧРЕЖДЕНИЙ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ленкина О.М. МКОУ СОШ №6 с. Гофицк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ысина Г.В. МКОУ СОШ№13 с. Орехов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Чернышева Н.Н. МКОУ СОШ №15 п. Прикалаусски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Чибисова Е.И.МКОУ СОШ №11 с. Константиновск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OurNewSchool"/>
          <p:cNvPicPr/>
          <p:nvPr/>
        </p:nvPicPr>
        <p:blipFill>
          <a:blip r:embed="rId1"/>
          <a:stretch/>
        </p:blipFill>
        <p:spPr>
          <a:xfrm>
            <a:off x="395280" y="333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жджджддддддi"/>
          <p:cNvPicPr/>
          <p:nvPr/>
        </p:nvPicPr>
        <p:blipFill>
          <a:blip r:embed="rId2"/>
          <a:stretch/>
        </p:blipFill>
        <p:spPr>
          <a:xfrm>
            <a:off x="6858000" y="1000080"/>
            <a:ext cx="20160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90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4"/>
          <p:cNvSpPr/>
          <p:nvPr/>
        </p:nvSpPr>
        <p:spPr>
          <a:xfrm>
            <a:off x="380880" y="2514600"/>
            <a:ext cx="83822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5840" y="714240"/>
          <a:ext cx="8501040" cy="55562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558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льклорные концерты с исполнением национальных песен и танц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фольклорных произведений, приобщение к изучению фольклора молодого поко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и укрепление культурных связей, воспитание уважения к национальным традициям других культур, формирование у молодежи позитивных установок на этническое многообразие и повышение интереса к традициям, обычаям и культуре различных этнос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маю данная форма воспитательной работы не имеет отрицательных момен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857920" y="4357800"/>
            <a:ext cx="2859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965320" cy="2224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539640" y="26128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МИССИЯ ВОСПИТАТЕЛЬНО-ОБРАЗОВАТЕЛЬНОГО ПРОЦЕССА В ПОЛИКУЛЬТУРНОМ ПРОСТРАНСТВЕ ОБРАЗОВАТЕЛЬНЫХ УЧРЕЖДЕНИЙ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ФОРМИРОВАНИЕ ЭТНОКУЛЬТУРНОЙ КОМПЕТЕНТНОСТИ ОБУЧАЮЩИХСЯ В ПОЛИЭТНИЧЕСКОЙ ОБРАЗОВАТЕЛЬНОЙ СРЕД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Ф087"/>
          <p:cNvPicPr/>
          <p:nvPr/>
        </p:nvPicPr>
        <p:blipFill>
          <a:blip r:embed="rId1"/>
          <a:stretch/>
        </p:blipFill>
        <p:spPr>
          <a:xfrm>
            <a:off x="6072120" y="2786040"/>
            <a:ext cx="25862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НАЦИОНАЛЬНЫЙ ПАСПОРТ РАЙОН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рус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табасара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рмя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вар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дарги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агу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лезг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осет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кумы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украи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белору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цыга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чеченц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апотаi"/>
          <p:cNvPicPr/>
          <p:nvPr/>
        </p:nvPicPr>
        <p:blipFill>
          <a:blip r:embed="rId1"/>
          <a:stretch/>
        </p:blipFill>
        <p:spPr>
          <a:xfrm>
            <a:off x="3000240" y="4643280"/>
            <a:ext cx="1575000" cy="1860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P8191336"/>
          <p:cNvPicPr/>
          <p:nvPr/>
        </p:nvPicPr>
        <p:blipFill>
          <a:blip r:embed="rId2"/>
          <a:stretch/>
        </p:blipFill>
        <p:spPr>
          <a:xfrm>
            <a:off x="5072040" y="128592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SC00186"/>
          <p:cNvPicPr/>
          <p:nvPr/>
        </p:nvPicPr>
        <p:blipFill>
          <a:blip r:embed="rId3"/>
          <a:stretch/>
        </p:blipFill>
        <p:spPr>
          <a:xfrm>
            <a:off x="5357880" y="407196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91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Участники образовательного пространств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07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ет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д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даго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ственность и представ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ых религиозных конфесс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iuiuiuii"/>
          <p:cNvPicPr/>
          <p:nvPr/>
        </p:nvPicPr>
        <p:blipFill>
          <a:blip r:embed="rId1"/>
          <a:stretch/>
        </p:blipFill>
        <p:spPr>
          <a:xfrm>
            <a:off x="1835280" y="1125360"/>
            <a:ext cx="1800000" cy="134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ывывыi"/>
          <p:cNvPicPr/>
          <p:nvPr/>
        </p:nvPicPr>
        <p:blipFill>
          <a:blip r:embed="rId2"/>
          <a:stretch/>
        </p:blipFill>
        <p:spPr>
          <a:xfrm>
            <a:off x="6372360" y="1268280"/>
            <a:ext cx="1944720" cy="117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апапаваi"/>
          <p:cNvPicPr/>
          <p:nvPr/>
        </p:nvPicPr>
        <p:blipFill>
          <a:blip r:embed="rId3"/>
          <a:stretch/>
        </p:blipFill>
        <p:spPr>
          <a:xfrm>
            <a:off x="4284720" y="2349360"/>
            <a:ext cx="151920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аоваi"/>
          <p:cNvPicPr/>
          <p:nvPr/>
        </p:nvPicPr>
        <p:blipFill>
          <a:blip r:embed="rId4"/>
          <a:stretch/>
        </p:blipFill>
        <p:spPr>
          <a:xfrm>
            <a:off x="928800" y="3714840"/>
            <a:ext cx="2232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BD06662_"/>
          <p:cNvPicPr/>
          <p:nvPr/>
        </p:nvPicPr>
        <p:blipFill>
          <a:blip r:embed="rId1"/>
          <a:stretch/>
        </p:blipFill>
        <p:spPr>
          <a:xfrm>
            <a:off x="214200" y="5267160"/>
            <a:ext cx="1797120" cy="1590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1680" y="432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едагогические риски и способы их миним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и организации </a:t>
            </a:r>
            <a:r>
              <a:rPr b="1" lang="ru-RU" sz="1800" spc="-1" strike="noStrike">
                <a:solidFill>
                  <a:srgbClr val="ffffff"/>
                </a:solidFill>
                <a:latin typeface="'times new roman'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оспитательно-образова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оцесса в поликультурном пространст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1680" y="1071720"/>
          <a:ext cx="8001000" cy="514332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293400">
                <a:tc>
                  <a:txBody>
                    <a:bodyPr lIns="9360" rIns="9360" tIns="9360" bIns="936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дагогические ри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ы их миним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224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лохая успеваемость обучающегося, в связи с плохим владением русским язык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полнительные индивидуальные занятия по русскому языку, вовлечение в дополнительное образование (кружки, объедин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28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желание принимать участие в праздниках других нар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влечение обучающегося в демонстрацию показа своего  народного творчества в рамках мероприятия (танец, песня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720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нфликты между детьми на национальной осно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ведение воспитательных профилактических мероприятий, знакомящих детей с традициями и устоями разных народов, мероприятий, тренингов по бесконфликтному общ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0">
                <a:tc>
                  <a:txBody>
                    <a:bodyPr lIns="9360" rIns="9360" tIns="9360" bIns="9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уппировки по национальному призн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8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ведение массовых мероприятий для детей (фестивали, проекты, конкурсы, игры, викторины) с условием рассредоточения их по разным группам для участия в совместной творческой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b9efee"/>
                </a:solidFill>
                <a:latin typeface="Garamond"/>
              </a:rPr>
              <a:t>ФОРМЫ ВОСПИТАТЕЛЬНОЙ РАБОТ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498760" cy="18730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428760" y="31050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авки по достижениям национальн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500040" y="38577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тивные соревнования по национальным видам спорта (игра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500040" y="464328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льклорные концерты с исполнением национальных песен и танцев, фестивали народного творче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571680" y="57150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сы на лучшее приготовление национальн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Фото027"/>
          <p:cNvPicPr/>
          <p:nvPr/>
        </p:nvPicPr>
        <p:blipFill>
          <a:blip r:embed="rId2"/>
          <a:stretch/>
        </p:blipFill>
        <p:spPr>
          <a:xfrm>
            <a:off x="7072200" y="4143240"/>
            <a:ext cx="165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28760" y="428760"/>
          <a:ext cx="8143920" cy="623556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воспитательной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тавки по достижениям национальной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комство с национально-культурным развитием народностей, проживающих  на данной   территории ; содействие сохранению и развитию  культурного наследия: материального (традиционные ремесла, народные промыслы и пр.) и духовного (язык, фольклор, обычаи, обряды, песенно - хореографическое искусство и др..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маю данная форма воспитательной работы не имеет отрицательных момен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4" descr="DSC02989"/>
          <p:cNvPicPr/>
          <p:nvPr/>
        </p:nvPicPr>
        <p:blipFill>
          <a:blip r:embed="rId1"/>
          <a:stretch/>
        </p:blipFill>
        <p:spPr>
          <a:xfrm>
            <a:off x="6143760" y="4357800"/>
            <a:ext cx="2485800" cy="186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28558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71680" y="214200"/>
          <a:ext cx="7715160" cy="5929560"/>
        </p:xfrm>
        <a:graphic>
          <a:graphicData uri="http://schemas.openxmlformats.org/drawingml/2006/table">
            <a:tbl>
              <a:tblPr/>
              <a:tblGrid>
                <a:gridCol w="2571480"/>
                <a:gridCol w="2571840"/>
                <a:gridCol w="2571840"/>
              </a:tblGrid>
              <a:tr h="59295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е соревнования по национальным видам спорта (игра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орые  виды спорта имеют многовековую историю и развились из самобытных физических упражнений в трудовой и военной деятельности разных народов. Цель спортивных соревнований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грыш в соревновании или игре может привести к разногласию между представителями разных национальностей, любые соревнования подразумевают победителей и побежденных, а этот момент негативно влияет на отношения учени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85880" y="857160"/>
          <a:ext cx="7929360" cy="500076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500076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сы на лучшее приготовление национальных блю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4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ующим звеном между народами является их кухня. Кавказ – это место, где соединились кухни многих народов, в традициях любой семьи – гостеприимств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4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ть результаты могут не все , так как  у разных национальностей есть некоторые ограничения по употреблению отдельных проду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22:47Z</dcterms:created>
  <dc:creator>tarEV</dc:creator>
  <dc:description/>
  <dc:language>en-US</dc:language>
  <cp:lastModifiedBy>user</cp:lastModifiedBy>
  <dcterms:modified xsi:type="dcterms:W3CDTF">2012-10-09T19:01:31Z</dcterms:modified>
  <cp:revision>40</cp:revision>
  <dc:subject/>
  <dc:title>Слайд 1</dc:title>
</cp:coreProperties>
</file>