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0BE-BD2F-4077-AE59-48F7F5FF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90A-CA62-48F0-A8A4-8B91DA02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D48-7A87-4DB4-A9D1-BEBDB86C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390-2577-4634-8ACC-D6D6BD76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2227-79B0-4A22-A35C-8C69A6DF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B6DB-1F12-49E2-A377-AE253A23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36EB-BE34-4917-A05C-697FF2B0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B28A-71AD-439E-BF8D-BD022F62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4C41-B4FE-4EA2-8D33-787F38E1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4A51-EE8C-4B9C-90BA-22F0CCB4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0EDD-7D51-4521-AB89-0F7C7C63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A57-C70F-4A84-BAFD-5E687DD2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5D9F-8A78-4DC5-BBDC-F7B23E3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6603-1FEF-46AE-A568-115C19B4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7D51-595A-4AE7-A2B6-2AB76E2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E3D3-4D1F-47DE-98D6-60A3D35E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0C7D-1E26-4D7A-8F1B-EB6CA17E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7D3-907D-4573-9A3C-6779311C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E38-CDC3-4046-AEB1-9B823A47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471-CE1E-4FB3-A260-CCEC23CF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9C9-715F-435F-81C1-4BBEDBAE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192-62EE-4DD9-9367-0CF89584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68C-D912-46D2-9770-CF6FB031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AE6-2B1F-483A-B7C2-116F3BFD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D09A-BBE9-4EAE-A538-CF8C88A69C3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4140-56FB-414B-B12D-56A3F1308AC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0" y="0"/>
            <a:ext cx="8928000" cy="6553080"/>
          </a:xfrm>
          <a:prstGeom prst="rect">
            <a:avLst/>
          </a:prstGeom>
          <a:solidFill>
            <a:srgbClr val="0066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ЕТРОВСКИЙ РАЙ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ЫТ РАБО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ВОСПИТАТЕЛЬНО-ОБРАЗОВАТЕЛЬНЫЙ ПРОЦЕСС В ПОЛИКУЛЬТУРНОМ ПРОСТРАНСТВЕ ОБРАЗОВАТЕЛЬНЫХ УЧРЕЖДЕНИЙ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ленкина О.М. МКОУ СОШ №6 с. Гофицк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ысина Г.В. МКОУ СОШ№13 с. Орехов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Чернышева Н.Н. МКОУ СОШ №15 п. Прикалаусски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Чибисова Е.И.МКОУ СОШ №11 с. Константиновск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OurNewSchool"/>
          <p:cNvPicPr/>
          <p:nvPr/>
        </p:nvPicPr>
        <p:blipFill>
          <a:blip r:embed="rId1"/>
          <a:stretch/>
        </p:blipFill>
        <p:spPr>
          <a:xfrm>
            <a:off x="395280" y="33336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жджджддддддi"/>
          <p:cNvPicPr/>
          <p:nvPr/>
        </p:nvPicPr>
        <p:blipFill>
          <a:blip r:embed="rId2"/>
          <a:stretch/>
        </p:blipFill>
        <p:spPr>
          <a:xfrm>
            <a:off x="6858000" y="1000080"/>
            <a:ext cx="2016000" cy="1494000"/>
          </a:xfrm>
          <a:prstGeom prst="rect">
            <a:avLst/>
          </a:prstGeom>
          <a:ln w="0">
            <a:noFill/>
          </a:ln>
        </p:spPr>
      </p:pic>
    </p:spTree>
  </p:cSld>
  <p:transition spd="slow" advTm="90000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4"/>
          <p:cNvSpPr/>
          <p:nvPr/>
        </p:nvSpPr>
        <p:spPr>
          <a:xfrm>
            <a:off x="380880" y="2514600"/>
            <a:ext cx="838224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85840" y="714240"/>
          <a:ext cx="8501040" cy="555624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55587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льклорные концерты с исполнением национальных песен и танц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фольклорных произведений, приобщение к изучению фольклора молодого поко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и укрепление культурных связей, воспитание уважения к национальным традициям других культур, формирование у молодежи позитивных установок на этническое многообразие и повышение интереса к традициям, обычаям и культуре различных этнос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маю данная форма воспитательной работы не имеет отрицательных момен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857920" y="4357800"/>
            <a:ext cx="2859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965320" cy="2224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539640" y="26128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Times New Roman"/>
              </a:rPr>
              <a:t>МИССИЯ ВОСПИТАТЕЛЬНО-ОБРАЗОВАТЕЛЬНОГО ПРОЦЕССА В ПОЛИКУЛЬТУРНОМ ПРОСТРАНСТВЕ ОБРАЗОВАТЕЛЬНЫХ УЧРЕЖДЕНИЙ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ФОРМИРОВАНИЕ ЭТНОКУЛЬТУРНОЙ КОМПЕТЕНТНОСТИ ОБУЧАЮЩИХСЯ В ПОЛИЭТНИЧЕСКОЙ ОБРАЗОВАТЕЛЬНОЙ СРЕД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Ф087"/>
          <p:cNvPicPr/>
          <p:nvPr/>
        </p:nvPicPr>
        <p:blipFill>
          <a:blip r:embed="rId1"/>
          <a:stretch/>
        </p:blipFill>
        <p:spPr>
          <a:xfrm>
            <a:off x="6072120" y="2786040"/>
            <a:ext cx="25862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Times New Roman"/>
              </a:rPr>
              <a:t>НАЦИОНАЛЬНЫЙ ПАСПОРТ РАЙОН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рус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табасара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армя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авар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дарги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агул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лезг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осет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кумы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украи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белорус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цыга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чече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апотаi"/>
          <p:cNvPicPr/>
          <p:nvPr/>
        </p:nvPicPr>
        <p:blipFill>
          <a:blip r:embed="rId1"/>
          <a:stretch/>
        </p:blipFill>
        <p:spPr>
          <a:xfrm>
            <a:off x="3000240" y="4643280"/>
            <a:ext cx="1575000" cy="1860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P8191336"/>
          <p:cNvPicPr/>
          <p:nvPr/>
        </p:nvPicPr>
        <p:blipFill>
          <a:blip r:embed="rId2"/>
          <a:stretch/>
        </p:blipFill>
        <p:spPr>
          <a:xfrm>
            <a:off x="5072040" y="128592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DSC00186"/>
          <p:cNvPicPr/>
          <p:nvPr/>
        </p:nvPicPr>
        <p:blipFill>
          <a:blip r:embed="rId3"/>
          <a:stretch/>
        </p:blipFill>
        <p:spPr>
          <a:xfrm>
            <a:off x="5357880" y="4071960"/>
            <a:ext cx="32194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914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Участники образовательного пространств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07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ети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одите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даго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ственность и представите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ных религиозных конфесс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5" descr="iuiuiuii"/>
          <p:cNvPicPr/>
          <p:nvPr/>
        </p:nvPicPr>
        <p:blipFill>
          <a:blip r:embed="rId1"/>
          <a:stretch/>
        </p:blipFill>
        <p:spPr>
          <a:xfrm>
            <a:off x="1835280" y="1125360"/>
            <a:ext cx="1800000" cy="134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вывывыi"/>
          <p:cNvPicPr/>
          <p:nvPr/>
        </p:nvPicPr>
        <p:blipFill>
          <a:blip r:embed="rId2"/>
          <a:stretch/>
        </p:blipFill>
        <p:spPr>
          <a:xfrm>
            <a:off x="6372360" y="1268280"/>
            <a:ext cx="1944720" cy="1179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апапаваi"/>
          <p:cNvPicPr/>
          <p:nvPr/>
        </p:nvPicPr>
        <p:blipFill>
          <a:blip r:embed="rId3"/>
          <a:stretch/>
        </p:blipFill>
        <p:spPr>
          <a:xfrm>
            <a:off x="4284720" y="2349360"/>
            <a:ext cx="151920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аоваi"/>
          <p:cNvPicPr/>
          <p:nvPr/>
        </p:nvPicPr>
        <p:blipFill>
          <a:blip r:embed="rId4"/>
          <a:stretch/>
        </p:blipFill>
        <p:spPr>
          <a:xfrm>
            <a:off x="928800" y="3714840"/>
            <a:ext cx="2232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BD06662_"/>
          <p:cNvPicPr/>
          <p:nvPr/>
        </p:nvPicPr>
        <p:blipFill>
          <a:blip r:embed="rId1"/>
          <a:stretch/>
        </p:blipFill>
        <p:spPr>
          <a:xfrm>
            <a:off x="214200" y="5267160"/>
            <a:ext cx="1797120" cy="1590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1680" y="432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едагогические риски и способы их миним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и организации </a:t>
            </a:r>
            <a:r>
              <a:rPr b="1" lang="ru-RU" sz="1800" spc="-1" strike="noStrike">
                <a:solidFill>
                  <a:srgbClr val="ffffff"/>
                </a:solidFill>
                <a:latin typeface="'times new roman'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оспитательно-образовате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оцесса в поликультурном пространств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1680" y="1071720"/>
          <a:ext cx="8001000" cy="514332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293400">
                <a:tc>
                  <a:txBody>
                    <a:bodyPr lIns="9360" rIns="9360" tIns="9360" bIns="936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едагогические ри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ы их миним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224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лохая успеваемость обучающегося, в связи с плохим владением русским язык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ополнительные индивидуальные занятия по русскому языку, вовлечение в дополнительное образование (кружки, объединен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28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 желание принимать участие в праздниках других нар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влечение обучающегося в демонстрацию показа своего  народного творчества в рамках мероприятия (танец, песня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720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нфликты между детьми на национальной основ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ведение воспитательных профилактических мероприятий, знакомящих детей с традициями и устоями разных народов, мероприятий, тренингов по бесконфликтному обще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руппировки по национальному призна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ведение массовых мероприятий для детей (фестивали, проекты, конкурсы, игры, викторины) с условием рассредоточения их по разным группам для участия в совместной творческ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216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b9efee"/>
                </a:solidFill>
                <a:latin typeface="Garamond"/>
              </a:rPr>
              <a:t>ФОРМЫ ВОСПИТАТЕЛЬНОЙ РАБОТ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2498760" cy="18730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428760" y="31050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тавки по достижениям национальной куль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500040" y="38577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ртивные соревнования по национальным видам спорта (игра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500040" y="4643280"/>
            <a:ext cx="55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льклорные концерты с исполнением национальных песен и танцев, фестивали народного творчест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571680" y="57150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курсы на лучшее приготовление национальных блю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Фото027"/>
          <p:cNvPicPr/>
          <p:nvPr/>
        </p:nvPicPr>
        <p:blipFill>
          <a:blip r:embed="rId2"/>
          <a:stretch/>
        </p:blipFill>
        <p:spPr>
          <a:xfrm>
            <a:off x="7072200" y="4143240"/>
            <a:ext cx="1657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28760" y="428760"/>
          <a:ext cx="8143920" cy="623556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760"/>
              </a:tblGrid>
              <a:tr h="68004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воспитательной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7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тавки по достижениям национальной 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комство с национально-культурным развитием народностей, проживающих  на данной   территории ; содействие сохранению и развитию  культурного наследия: материального (традиционные ремесла, народные промыслы и пр.) и духовного (язык, фольклор, обычаи, обряды, песенно - хореографическое искусство и др..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маю данная форма воспитательной работы не имеет отрицательных момен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4" descr="DSC02989"/>
          <p:cNvPicPr/>
          <p:nvPr/>
        </p:nvPicPr>
        <p:blipFill>
          <a:blip r:embed="rId1"/>
          <a:stretch/>
        </p:blipFill>
        <p:spPr>
          <a:xfrm>
            <a:off x="6143760" y="4357800"/>
            <a:ext cx="2485800" cy="186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214200" y="3357720"/>
            <a:ext cx="28558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71680" y="214200"/>
          <a:ext cx="7715160" cy="5929560"/>
        </p:xfrm>
        <a:graphic>
          <a:graphicData uri="http://schemas.openxmlformats.org/drawingml/2006/table">
            <a:tbl>
              <a:tblPr/>
              <a:tblGrid>
                <a:gridCol w="2571480"/>
                <a:gridCol w="2571840"/>
                <a:gridCol w="2571840"/>
              </a:tblGrid>
              <a:tr h="59295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ивные соревнования по национальным видам спорта (игра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орые  виды спорта имеют многовековую историю и развились из самобытных физических упражнений в трудовой и военной деятельности разных народов. Цель спортивных соревнований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грыш в соревновании или игре может привести к разногласию между представителями разных национальностей, любые соревнования подразумевают победителей и побежденных, а этот момент негативно влияет на отношения учени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785880" y="857160"/>
          <a:ext cx="7929360" cy="500076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120"/>
              </a:tblGrid>
              <a:tr h="50007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урсы на лучшее приготовление национальных блю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4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язующим звеном между народами является их кухня. Кавказ – это место, где соединились кухни многих народов, в традициях любой семьи – гостеприимство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4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ть результаты могут не все , так как  у разных национальностей есть некоторые ограничения по употреблению отдельных продук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4:22:47Z</dcterms:created>
  <dc:creator>tarEV</dc:creator>
  <dc:description/>
  <dc:language>en-US</dc:language>
  <cp:lastModifiedBy>user</cp:lastModifiedBy>
  <dcterms:modified xsi:type="dcterms:W3CDTF">2012-10-09T19:01:31Z</dcterms:modified>
  <cp:revision>40</cp:revision>
  <dc:subject/>
  <dc:title>Слайд 1</dc:title>
</cp:coreProperties>
</file>