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0EC9-D711-4D5D-AAEE-21B295B8C4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DFBC-8DA4-486E-B1EA-44B7CA975A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B6C9-1D36-4F48-B7C1-458F21144B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7109-66EE-49A9-8E13-F5DA6B22A3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7163-29AE-4ADF-81DB-0BF79D408D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783E-1052-4C3C-BF63-B00C213384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621E-9235-4190-9B12-EB6D23F97B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A012-4B6A-4DFF-91F5-123BC0C09E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5CE1-485A-42FF-AC07-44817369D3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2B89-5FF3-4E16-82A4-CDE9AEC8F6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EB73-1EA6-47DA-9787-FE064E99F6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2C1-FA5A-4C29-BC5E-928C86AA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B05-DCC2-4608-BAFF-4E0DFA2F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2F3-720E-4589-8421-58043FDB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F08-B9FB-405D-B5CD-597EFCA8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D52D-9907-4128-8237-EFC9D1F3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53C6-30C0-4860-9C41-BE4CF363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8F17-003E-47B7-8ACA-998B8E12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EF86-6306-4B68-8F1C-F367513E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3AE2-AF60-4B8A-A6E2-EEE82B03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3E6A-B285-4C07-9F12-0E650B76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C2F5-CDBD-4485-BC2A-55C0EFF8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5F6-84AC-484C-A670-E687A75D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50FD-798E-4225-920B-76CB31C5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5BCA-413C-498D-BC00-E23F9015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93F-4771-43C1-B859-227FB544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F8AE-AE58-4F72-9CDC-C59802B2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0E86-47D4-43F9-89CA-884CB5D1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463-1923-477D-9F2D-6AE748A8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D45-9795-4CCF-92B5-6083776D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CBA-9CEE-4042-8ABF-B08F63A2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FC0-0C3E-459F-A9E0-84E2E435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EE6-E721-410C-8430-AE5DD1D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336-B7B9-4AC8-A170-2C15F099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589-A2E6-4FBE-B607-1A59099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a575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8B47-E530-4AC3-9E3E-AF2CCACE5C25}" type="slidenum">
              <a:rPr b="0" lang="ru-RU" sz="1200" spc="-1" strike="noStrike">
                <a:solidFill>
                  <a:srgbClr val="3a575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a575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FD63-BBB4-4E2E-9CA2-B1E4DA784C66}" type="slidenum">
              <a:rPr b="0" lang="ru-RU" sz="1200" spc="-1" strike="noStrike">
                <a:solidFill>
                  <a:srgbClr val="3a575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5248440"/>
            <a:ext cx="6858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263a35"/>
              </a:solidFill>
              <a:latin typeface="Verdana"/>
            </a:endParaRPr>
          </a:p>
        </p:txBody>
      </p:sp>
      <p:pic>
        <p:nvPicPr>
          <p:cNvPr id="90" name="Picture 7" descr="examen_logo2"/>
          <p:cNvPicPr/>
          <p:nvPr/>
        </p:nvPicPr>
        <p:blipFill>
          <a:blip r:embed="rId1"/>
          <a:stretch/>
        </p:blipFill>
        <p:spPr>
          <a:xfrm>
            <a:off x="4572000" y="0"/>
            <a:ext cx="439272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Галина\Desktop\картинки с шаттерстока\shutterstock_100451341.jpg"/>
          <p:cNvPicPr/>
          <p:nvPr/>
        </p:nvPicPr>
        <p:blipFill>
          <a:blip r:embed="rId2"/>
          <a:stretch/>
        </p:blipFill>
        <p:spPr>
          <a:xfrm>
            <a:off x="179280" y="907920"/>
            <a:ext cx="8785440" cy="5834160"/>
          </a:xfrm>
          <a:prstGeom prst="rect">
            <a:avLst/>
          </a:prstGeom>
          <a:ln w="0">
            <a:noFill/>
          </a:ln>
        </p:spPr>
      </p:pic>
      <p:sp>
        <p:nvSpPr>
          <p:cNvPr id="92" name="WordArt 6"/>
          <p:cNvSpPr txBox="1"/>
          <p:nvPr/>
        </p:nvSpPr>
        <p:spPr>
          <a:xfrm>
            <a:off x="539640" y="5373720"/>
            <a:ext cx="828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Вопросы и от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0" y="907920"/>
            <a:ext cx="3857760" cy="13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Как оценить последовательность изложения содержания тек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716360" y="1052640"/>
            <a:ext cx="41418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Что необходимо учитывать при выставлении оценки по критерию ИК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79280" y="2205000"/>
            <a:ext cx="3888000" cy="30200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ценивая последовательность изложения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ослушанного текста,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необходимо опираться на исходный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и его композиционно-логическую струк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643280" y="2060640"/>
            <a:ext cx="4248360" cy="423108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ценивая логическую связь между единицами текста из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чащегося, нужно иметь в виду, что она не дол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отиворечить логике исходного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 то же время, оценивая речевую связность и прав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абзацного членения изложения, </a:t>
            </a:r>
            <a:r>
              <a:rPr b="0" lang="ru-RU" sz="1600" spc="-1" strike="noStrike">
                <a:solidFill>
                  <a:srgbClr val="0000cc"/>
                </a:solidFill>
                <a:latin typeface="Arial Black"/>
              </a:rPr>
              <a:t>необходимо рассматривать э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 Black"/>
              </a:rPr>
              <a:t>параметры применительно к тексту работы учащегося, то есть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 Black"/>
              </a:rPr>
              <a:t>созданному экзаменуемым тексту изложения, а не сопоставлять текст, написанный выпускником, с оригина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45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324000" y="1055520"/>
            <a:ext cx="4105080" cy="100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лияют ли речевые ошибки на оценку по критерию ИК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4643280" y="1055520"/>
            <a:ext cx="4176720" cy="400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179280" y="2133720"/>
            <a:ext cx="4824360" cy="173988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чевые ошибки не влияют на оценку по критерию ИК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292720" y="2133720"/>
            <a:ext cx="3851280" cy="30780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52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9" descr="C:\Users\Галина\Desktop\картинки с шаттерстока\shutterstock_66519703.jpg"/>
          <p:cNvPicPr/>
          <p:nvPr/>
        </p:nvPicPr>
        <p:blipFill>
          <a:blip r:embed="rId2"/>
          <a:stretch/>
        </p:blipFill>
        <p:spPr>
          <a:xfrm>
            <a:off x="5292720" y="981000"/>
            <a:ext cx="3672000" cy="561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96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-360"/>
            <a:ext cx="8507520" cy="66690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о материалам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«Учебно-методических материалов для подготовки председателей и членов территориальных предметных комиссий по заданий с развернутым ответом.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Государственная (итоговая) аттестация выпускников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X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лассов общеобразовательных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чреждений (в новой форме)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2012 год (ФИПИ)»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WordArt 6" descr=""/>
          <p:cNvPicPr/>
          <p:nvPr/>
        </p:nvPicPr>
        <p:blipFill>
          <a:blip r:embed="rId2"/>
          <a:stretch/>
        </p:blipFill>
        <p:spPr>
          <a:xfrm>
            <a:off x="676440" y="1547640"/>
            <a:ext cx="7864200" cy="484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Галина\Desktop\картинки с шаттерстока\shutterstock_55532596.jpg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79280" y="981000"/>
            <a:ext cx="43214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От какого лица писать текст сжатого изложения – от 1-го или от 3-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751280" y="907920"/>
            <a:ext cx="4392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Что устанавливает эксперт в работе ученика, начиная её чит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79280" y="2060640"/>
            <a:ext cx="4248360" cy="35060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кзаменуемый должен писать изложение </a:t>
            </a: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от того лица, от кото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идёт повествование в исходном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572000" y="1916280"/>
            <a:ext cx="4392720" cy="36601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Эксперт устанавл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) соответствие количества микротем в работе экзаменуемого 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икротем в информации о тек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) последовательность микротем в работе экзаменуемого, которая долж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ответствовать последовательности микротем в информации о тек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) точность передачи информации в каждой из микро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02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179280" y="981000"/>
            <a:ext cx="43214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 каком случае не снижается количество баллов по критерию ИК1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981000"/>
            <a:ext cx="43578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Влияет ли грамотность работы на оценку по критерию ИК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79280" y="1989000"/>
            <a:ext cx="4248360" cy="3751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ередко экзаменуемые передают все важные для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сходного текста микротемы, однако при этом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нарушают абзац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ленение текста. Это не должно вести к снижению коли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баллов по критерию ИК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0" y="2060640"/>
            <a:ext cx="4392720" cy="2653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Уровень правописной и речевой грамотности работы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не дол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лиять на выставление оценки по критерию ИК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09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79280" y="981000"/>
            <a:ext cx="432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643280" y="981000"/>
            <a:ext cx="42865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ие фактические ошибки не учитываются при выставлении оценки по критерию ИК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95280" y="1989000"/>
            <a:ext cx="4176720" cy="48488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еточно понятая микротема свидетельствует о том, что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лавного содержания исходного текста осталась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кзаменуемого недоступной, следовательно,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оценка по кри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ИК1 должна быть сниж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643280" y="2421000"/>
            <a:ext cx="4249800" cy="3751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актические ошибки, </a:t>
            </a: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не ведущие к искажению осн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содержания и смысла исходного текста или какой-либо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икротемы,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не учитываются при выставлении оценки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ритерию ИК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16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3"/>
          <p:cNvSpPr/>
          <p:nvPr/>
        </p:nvSpPr>
        <p:spPr>
          <a:xfrm>
            <a:off x="179280" y="981000"/>
            <a:ext cx="43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 быть, если ученик неточно понял микрот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179280" y="1055520"/>
            <a:ext cx="42498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  быть, если ученик расширил информацию текста, добавив микрот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79280" y="2060640"/>
            <a:ext cx="4392720" cy="490248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 работе возможно некоторое расширение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сходного текста за счёт прибавления экзаменуемым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одержащейся в прослушанном тексте микротемы, кото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жет быть как связана, так и не связана по смыслу с исход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екстом. Такое прибавление микротемы часто ведёт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скажению авторского замысла всего текста в целом.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В э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случае количество баллов по критерию ИК1 сниж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43280" y="2205000"/>
            <a:ext cx="4321440" cy="45745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работе экзаменуемого возможно сочетание пр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икротем и прибавления к тексту не содержащейся в 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формации, которая может быть тематически связана или не связана с текстом. Однако это не компенсирует недостатков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нимании прослушанного текста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и не может служить по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для повышения оценки по критерию ИК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WordArt 11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23" name="WordArt 11" descr=""/>
            <p:cNvPicPr/>
            <p:nvPr/>
          </p:nvPicPr>
          <p:blipFill>
            <a:blip r:embed="rId2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3"/>
          <p:cNvSpPr/>
          <p:nvPr/>
        </p:nvSpPr>
        <p:spPr>
          <a:xfrm>
            <a:off x="4716360" y="981000"/>
            <a:ext cx="424980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ожно ли повысить оценку по критерию ИК1, если ученик прибавил информацию к текст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71680" y="1055520"/>
            <a:ext cx="385740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Что оценивать по критерию ИК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72040" y="1055520"/>
            <a:ext cx="385776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На что следует ориентироваться, оценивая степень сжатия тес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179280" y="2060640"/>
            <a:ext cx="4248360" cy="3717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о, какими приёмами компрессии текста пользу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экзаменуемый, зависит не только от уровня его умений, но 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характера текста. Чаще всего для сжатия удаётся использ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иём исключения, реже всего – обобщения. </a:t>
            </a: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Критерий ИК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позволяет оценить уровень компрессионных ум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девятиклассника применительно к любому тек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публицистического или научного (научно-популярного) стилей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0" y="1916280"/>
            <a:ext cx="4248000" cy="4300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тепень сжатия исходного текста в изложении может не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ниться.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Важно при оценивании работы по данному кри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ориентироваться не на количество слов в изложении, 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уровень владения экзаменуемым приёмами сжатия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31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250920" y="1055520"/>
            <a:ext cx="417816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Как определить, правильно ли сжат тек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716360" y="1055520"/>
            <a:ext cx="421344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огда снижается оценка по критерию ИК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79280" y="1844640"/>
            <a:ext cx="4248360" cy="43628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оценке сжатия текста необходимо оценивать не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личие приёмов компрессии в изложении, но и прави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х применения. При правильном использовании приё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рессии исходного текста </a:t>
            </a:r>
            <a:r>
              <a:rPr b="0" lang="ru-RU" sz="2000" spc="-1" strike="noStrike">
                <a:solidFill>
                  <a:srgbClr val="0000cc"/>
                </a:solidFill>
                <a:latin typeface="Arial Black"/>
              </a:rPr>
              <a:t>в экзаменационном из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 Black"/>
              </a:rPr>
              <a:t>сохраняется адекватность авторской мысли и возможность е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 Black"/>
              </a:rPr>
              <a:t>восприятия чит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500720" y="2349360"/>
            <a:ext cx="4390920" cy="3751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ценка по критерию ИК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нижается на 1 балл,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даже если в изложении при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только одна из ошибок: или 1 логическая ошибка, или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нарушение абзацного членения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38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8:18:09Z</dcterms:created>
  <dc:creator/>
  <dc:description/>
  <dc:language>en-US</dc:language>
  <cp:lastModifiedBy/>
  <dcterms:modified xsi:type="dcterms:W3CDTF">2012-12-20T21:36:52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631049</vt:lpwstr>
  </property>
</Properties>
</file>