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4508-7DCF-402F-97EF-8606E8D32A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D10C-1313-4E55-92AA-26C76F9F5E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25ED-5FD0-4CF1-8A91-6D7365F2DB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E1CF-8D81-4774-8C38-9DC7456962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355E-4A63-4416-99CC-B73CBC2338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B79F-EC4B-4863-8A2F-80ADE9AE5B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69DE-6776-4239-9DCF-080E6B269F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49DF-B7D6-4ED4-8A94-C8818690A2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5FE9-E497-4920-BB5D-E60B42EC8B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7C45-C0B3-47EF-B7FF-5EDE51A43C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ABB4-E3AB-4A8F-9244-17F5155724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287-7999-4BF9-85E7-99CB9AB6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4F5-F16C-4870-BAF0-6D8030B8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10D-3598-4DD3-87A8-5C39486D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36D-9498-4C38-98E2-427182E7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7875-1846-402C-BC9A-BB76D025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1ED9-EED6-4848-90C6-717D22EB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F35B-4411-4A69-95FA-65389DE7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B37B-E5F4-41BE-8DBF-68E1E461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AB82-C2CC-4D8C-BD2D-BFEF59F0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6691-F2CE-4974-831D-BDABB707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73FC-F968-42B3-BF6E-8EF216E5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589-6B08-4813-A481-1DAB7DF6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C6D4-1953-44AC-B0DA-C01522AE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5E92-7F17-4E9E-955D-78617F6D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B2F2-FA58-4962-BD4A-23ABAFB7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98A0-28D1-473C-947B-E00994E6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D549-C969-432C-9CF4-15845E87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15A-5629-41DE-8F09-DBFF4C89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237-81AE-4CC0-A3FD-19E9B428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B7C-8494-4893-B64E-4A3D4F0A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A2B-C18A-4E3D-9E49-6547EEE9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D81-1F58-487B-BCB6-A0E5E9EB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AB9-DFC6-4A4A-A5E6-60E9E438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01F-8226-4143-A334-B70B8E76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75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a575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75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0769-492A-4405-9DD4-736046B2F7E7}" type="slidenum">
              <a:rPr b="0" lang="ru-RU" sz="1200" spc="-1" strike="noStrike">
                <a:solidFill>
                  <a:srgbClr val="3a575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75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a575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75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329B-BBE7-4905-B9E5-BE6C2872B0DA}" type="slidenum">
              <a:rPr b="0" lang="ru-RU" sz="1200" spc="-1" strike="noStrike">
                <a:solidFill>
                  <a:srgbClr val="3a575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43000" y="5248440"/>
            <a:ext cx="685800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263a35"/>
              </a:solidFill>
              <a:latin typeface="Verdana"/>
            </a:endParaRPr>
          </a:p>
        </p:txBody>
      </p:sp>
      <p:pic>
        <p:nvPicPr>
          <p:cNvPr id="90" name="Picture 7" descr="examen_logo2"/>
          <p:cNvPicPr/>
          <p:nvPr/>
        </p:nvPicPr>
        <p:blipFill>
          <a:blip r:embed="rId1"/>
          <a:stretch/>
        </p:blipFill>
        <p:spPr>
          <a:xfrm>
            <a:off x="4572000" y="0"/>
            <a:ext cx="439272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Галина\Desktop\картинки с шаттерстока\shutterstock_100451341.jpg"/>
          <p:cNvPicPr/>
          <p:nvPr/>
        </p:nvPicPr>
        <p:blipFill>
          <a:blip r:embed="rId2"/>
          <a:stretch/>
        </p:blipFill>
        <p:spPr>
          <a:xfrm>
            <a:off x="179280" y="907920"/>
            <a:ext cx="8785440" cy="5834160"/>
          </a:xfrm>
          <a:prstGeom prst="rect">
            <a:avLst/>
          </a:prstGeom>
          <a:ln w="0">
            <a:noFill/>
          </a:ln>
        </p:spPr>
      </p:pic>
      <p:sp>
        <p:nvSpPr>
          <p:cNvPr id="92" name="WordArt 6"/>
          <p:cNvSpPr txBox="1"/>
          <p:nvPr/>
        </p:nvSpPr>
        <p:spPr>
          <a:xfrm>
            <a:off x="539640" y="5373720"/>
            <a:ext cx="8282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Impact"/>
              </a:rPr>
              <a:t>Вопросы и от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0" y="907920"/>
            <a:ext cx="3857760" cy="131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Как оценить последовательность изложения содержания тек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716360" y="1052640"/>
            <a:ext cx="41418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Что необходимо учитывать при выставлении оценки по критерию ИК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79280" y="2205000"/>
            <a:ext cx="3888000" cy="302004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ценивая последовательность изложения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ослушанного текста,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необходимо опираться на исходный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и его композиционно-логическую струк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643280" y="2060640"/>
            <a:ext cx="4248360" cy="423108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ценивая логическую связь между единицами текста из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чащегося, нужно иметь в виду, что она не долж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отиворечить логике исходного тек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 то же время, оценивая речевую связность и прави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абзацного членения изложения, </a:t>
            </a:r>
            <a:r>
              <a:rPr b="0" lang="ru-RU" sz="1600" spc="-1" strike="noStrike">
                <a:solidFill>
                  <a:srgbClr val="0000cc"/>
                </a:solidFill>
                <a:latin typeface="Arial Black"/>
              </a:rPr>
              <a:t>необходимо рассматривать э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 Black"/>
              </a:rPr>
              <a:t>параметры применительно к тексту работы учащегося, то есть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 Black"/>
              </a:rPr>
              <a:t>созданному экзаменуемым тексту изложения, а не сопоставлять текст, написанный выпускником, с оригина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45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324000" y="1055520"/>
            <a:ext cx="4105080" cy="100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лияют ли речевые ошибки на оценку по критерию ИК3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4643280" y="1055520"/>
            <a:ext cx="4176720" cy="400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179280" y="2133720"/>
            <a:ext cx="4824360" cy="173988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ечевые ошибки не влияют на оценку по критерию ИК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5292720" y="2133720"/>
            <a:ext cx="3851280" cy="30780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52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9" descr="C:\Users\Галина\Desktop\картинки с шаттерстока\shutterstock_66519703.jpg"/>
          <p:cNvPicPr/>
          <p:nvPr/>
        </p:nvPicPr>
        <p:blipFill>
          <a:blip r:embed="rId2"/>
          <a:stretch/>
        </p:blipFill>
        <p:spPr>
          <a:xfrm>
            <a:off x="5292720" y="981000"/>
            <a:ext cx="3672000" cy="561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396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-360"/>
            <a:ext cx="8507520" cy="666900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По материалам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«Учебно-методических материалов для подготовки председателей и членов территориальных предметных комиссий по заданий с развернутым ответом.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Государственная (итоговая) аттестация выпускников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X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классов общеобразовательных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чреждений (в новой форме)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2012 год (ФИПИ)»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WordArt 6" descr=""/>
          <p:cNvPicPr/>
          <p:nvPr/>
        </p:nvPicPr>
        <p:blipFill>
          <a:blip r:embed="rId2"/>
          <a:stretch/>
        </p:blipFill>
        <p:spPr>
          <a:xfrm>
            <a:off x="676440" y="1547640"/>
            <a:ext cx="7864200" cy="484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Галина\Desktop\картинки с шаттерстока\shutterstock_55532596.jpg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79280" y="981000"/>
            <a:ext cx="43214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От какого лица писать текст сжатого изложения – от 1-го или от 3-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751280" y="907920"/>
            <a:ext cx="4392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Что устанавливает эксперт в работе ученика, начиная её чит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79280" y="2060640"/>
            <a:ext cx="4248360" cy="350604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Экзаменуемый должен писать изложение </a:t>
            </a: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от того лица, от котор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идёт повествование в исходном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572000" y="1916280"/>
            <a:ext cx="4392720" cy="36601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Эксперт устанавл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) соответствие количества микротем в работе экзаменуемого 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икротем в информации о тек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) последовательность микротем в работе экзаменуемого, которая долж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ответствовать последовательности микротем в информации о тек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) точность передачи информации в каждой из микро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02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179280" y="981000"/>
            <a:ext cx="43214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 каком случае не снижается количество баллов по критерию ИК1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981000"/>
            <a:ext cx="43578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Влияет ли грамотность работы на оценку по критерию ИК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179280" y="1989000"/>
            <a:ext cx="4248360" cy="3751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ередко экзаменуемые передают все важные для вос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сходного текста микротемы, однако при этом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нарушают абзац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членение текста. Это не должно вести к снижению коли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баллов по критерию ИК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72000" y="2060640"/>
            <a:ext cx="4392720" cy="2653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Уровень правописной и речевой грамотности работы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не дол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влиять на выставление оценки по критерию ИК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09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179280" y="981000"/>
            <a:ext cx="4321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643280" y="981000"/>
            <a:ext cx="42865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акие фактические ошибки не учитываются при выставлении оценки по критерию ИК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95280" y="1989000"/>
            <a:ext cx="4176720" cy="484884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еточно понятая микротема свидетельствует о том, что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лавного содержания исходного текста осталась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экзаменуемого недоступной, следовательно,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оценка по крите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ИК1 должна быть сниж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643280" y="2421000"/>
            <a:ext cx="4249800" cy="3751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актические ошибки, </a:t>
            </a: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не ведущие к искажению осно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содержания и смысла исходного текста или какой-либо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микротемы,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не учитываются при выставлении оценки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ритерию ИК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16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3"/>
          <p:cNvSpPr/>
          <p:nvPr/>
        </p:nvSpPr>
        <p:spPr>
          <a:xfrm>
            <a:off x="179280" y="981000"/>
            <a:ext cx="43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ак быть, если ученик неточно понял микрот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179280" y="1055520"/>
            <a:ext cx="42498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ак  быть, если ученик расширил информацию текста, добавив микрот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79280" y="2060640"/>
            <a:ext cx="4392720" cy="490248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 работе возможно некоторое расширение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сходного текста за счёт прибавления экзаменуемым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одержащейся в прослушанном тексте микротемы, кото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жет быть как связана, так и не связана по смыслу с исход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екстом. Такое прибавление микротемы часто ведёт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скажению авторского замысла всего текста в целом. 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В э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случае количество баллов по критерию ИК1 сниж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643280" y="2205000"/>
            <a:ext cx="4321440" cy="45745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работе экзаменуемого возможно сочетание пропу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икротем и прибавления к тексту не содержащейся в н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формации, которая может быть тематически связана или не связана с текстом. Однако это не компенсирует недостатков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нимании прослушанного текста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и не может служить пов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для повышения оценки по критерию ИК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WordArt 11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23" name="WordArt 11" descr=""/>
            <p:cNvPicPr/>
            <p:nvPr/>
          </p:nvPicPr>
          <p:blipFill>
            <a:blip r:embed="rId2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3"/>
          <p:cNvSpPr/>
          <p:nvPr/>
        </p:nvSpPr>
        <p:spPr>
          <a:xfrm>
            <a:off x="4716360" y="981000"/>
            <a:ext cx="424980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ожно ли повысить оценку по критерию ИК1, если ученик прибавил информацию к текст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571680" y="1055520"/>
            <a:ext cx="385740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Что оценивать по критерию ИК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72040" y="1055520"/>
            <a:ext cx="385776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На что следует ориентироваться, оценивая степень сжатия тес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179280" y="2060640"/>
            <a:ext cx="4248360" cy="3717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о, какими приёмами компрессии текста пользу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экзаменуемый, зависит не только от уровня его умений, но и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характера текста. Чаще всего для сжатия удаётся использ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иём исключения, реже всего – обобщения. </a:t>
            </a:r>
            <a:r>
              <a:rPr b="0" lang="ru-RU" sz="1800" spc="-1" strike="noStrike">
                <a:solidFill>
                  <a:srgbClr val="0000cc"/>
                </a:solidFill>
                <a:latin typeface="Arial Black"/>
              </a:rPr>
              <a:t>Критерий ИК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 Black"/>
              </a:rPr>
              <a:t>позволяет оценить уровень компрессионных ум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 Black"/>
              </a:rPr>
              <a:t>девятиклассника применительно к любому текс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 Black"/>
              </a:rPr>
              <a:t>публицистического или научного (научно-популярного) стилей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572000" y="1916280"/>
            <a:ext cx="4248000" cy="4300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тепень сжатия исходного текста в изложении может не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ниться.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Важно при оценивании работы по данному крите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ориентироваться не на количество слов в изложении, а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уровень владения экзаменуемым приёмами сжатия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31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250920" y="1055520"/>
            <a:ext cx="417816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Как определить, правильно ли сжат текс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716360" y="1055520"/>
            <a:ext cx="421344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огда снижается оценка по критерию ИК3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179280" y="1844640"/>
            <a:ext cx="4248360" cy="436284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оценке сжатия текста необходимо оценивать не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личие приёмов компрессии в изложении, но и прави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х применения. При правильном использовании приё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мпрессии исходного текста </a:t>
            </a:r>
            <a:r>
              <a:rPr b="0" lang="ru-RU" sz="2000" spc="-1" strike="noStrike">
                <a:solidFill>
                  <a:srgbClr val="0000cc"/>
                </a:solidFill>
                <a:latin typeface="Arial Black"/>
              </a:rPr>
              <a:t>в экзаменационном из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 Black"/>
              </a:rPr>
              <a:t>сохраняется адекватность авторской мысли и возможность е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 Black"/>
              </a:rPr>
              <a:t>восприятия чита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500720" y="2349360"/>
            <a:ext cx="4390920" cy="375156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ценка по критерию ИК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нижается на 1 балл, 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даже если в изложении при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только одна из ошибок: или 1 логическая ошибка, или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нарушение абзацного членения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WordArt 6"/>
          <p:cNvGrpSpPr/>
          <p:nvPr/>
        </p:nvGrpSpPr>
        <p:grpSpPr>
          <a:xfrm>
            <a:off x="195120" y="208080"/>
            <a:ext cx="8747280" cy="749160"/>
            <a:chOff x="195120" y="208080"/>
            <a:chExt cx="8747280" cy="749160"/>
          </a:xfrm>
        </p:grpSpPr>
        <p:pic>
          <p:nvPicPr>
            <p:cNvPr id="138" name="WordArt 6" descr=""/>
            <p:cNvPicPr/>
            <p:nvPr/>
          </p:nvPicPr>
          <p:blipFill>
            <a:blip r:embed="rId1"/>
            <a:stretch/>
          </p:blipFill>
          <p:spPr>
            <a:xfrm>
              <a:off x="195120" y="208080"/>
              <a:ext cx="8747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6000" y="225360"/>
              <a:ext cx="871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Impact"/>
                </a:rPr>
                <a:t>Вопросы и отв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8:18:09Z</dcterms:created>
  <dc:creator/>
  <dc:description/>
  <dc:language>en-US</dc:language>
  <cp:lastModifiedBy/>
  <dcterms:modified xsi:type="dcterms:W3CDTF">2012-12-20T21:36:52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631049</vt:lpwstr>
  </property>
</Properties>
</file>