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3F58-A510-4481-A5AE-06F75F735B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6D98-E294-4EEF-B2AF-AE54F8EABA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9C13-FF25-44DF-AE08-6973BFDE6C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1598-1E8C-4EAC-9E06-16BE7F23AC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5DB4-6943-4747-A235-6489450870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524E-EF07-48E6-A239-297D1B45E7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7B08-0686-4341-8103-CFA91D33A2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E8D2-17B5-4CBD-AD94-9A23FF9ED3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5939-21C2-4142-A84D-A8F084A4F3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40C5-8417-4109-A5F7-18D1C01D7A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2115-C642-4171-80A9-5DD2055985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5C0-DCCD-44B1-A612-14B71C1C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091-B0E7-4A01-8108-E9569F69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C402-7EC1-4743-AE82-1B3F9F49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676-253C-4629-9AA5-9D6706B4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6C1C-BF33-4028-AF91-C0725FC8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EEC6-D9F2-4104-B7EA-806BFDDB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4837-8FBC-4420-9D6F-61C19B2E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9A93-40AB-4986-80A9-3C2BF393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5A68-9084-4796-A488-B07F6E89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6B5C-9180-4860-A4A2-A4C04C79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1B35-D90A-4D73-A167-E0E68F9C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FB3-EDB3-48D6-9020-38163086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96B0-78C4-48C1-87D5-48C9811A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B2EE-0505-44DC-9850-497282F3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EBE7-87ED-4B2D-879D-F42A808F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3E98-9FCE-4CAB-9767-A7155092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819A-1B41-4C1A-B931-1C22ADCF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03F-A294-41EB-A7F0-61FBB98D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186-B357-4F27-B982-659D2431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ACD-5884-44CE-9679-2150A0DC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1ED-76D6-413C-A117-D4129CFB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387-5DE1-415E-8312-42262719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939-A72A-4412-B55B-18FF6E14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5439-98BC-4C51-A111-BBFF18B7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575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a575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575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05D5-855D-42B6-A2F2-AD1E6B582BC8}" type="slidenum">
              <a:rPr b="0" lang="ru-RU" sz="1200" spc="-1" strike="noStrike">
                <a:solidFill>
                  <a:srgbClr val="3a575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575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a575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575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C010-56DC-424A-961A-B7BEEA146753}" type="slidenum">
              <a:rPr b="0" lang="ru-RU" sz="1200" spc="-1" strike="noStrike">
                <a:solidFill>
                  <a:srgbClr val="3a575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43000" y="5248440"/>
            <a:ext cx="685800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263a35"/>
              </a:solidFill>
              <a:latin typeface="Verdana"/>
            </a:endParaRPr>
          </a:p>
        </p:txBody>
      </p:sp>
      <p:pic>
        <p:nvPicPr>
          <p:cNvPr id="90" name="Picture 7" descr="examen_logo2"/>
          <p:cNvPicPr/>
          <p:nvPr/>
        </p:nvPicPr>
        <p:blipFill>
          <a:blip r:embed="rId1"/>
          <a:stretch/>
        </p:blipFill>
        <p:spPr>
          <a:xfrm>
            <a:off x="4572000" y="0"/>
            <a:ext cx="439272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Галина\Desktop\картинки с шаттерстока\shutterstock_100451341.jpg"/>
          <p:cNvPicPr/>
          <p:nvPr/>
        </p:nvPicPr>
        <p:blipFill>
          <a:blip r:embed="rId2"/>
          <a:stretch/>
        </p:blipFill>
        <p:spPr>
          <a:xfrm>
            <a:off x="179280" y="907920"/>
            <a:ext cx="8785440" cy="5834160"/>
          </a:xfrm>
          <a:prstGeom prst="rect">
            <a:avLst/>
          </a:prstGeom>
          <a:ln w="0">
            <a:noFill/>
          </a:ln>
        </p:spPr>
      </p:pic>
      <p:sp>
        <p:nvSpPr>
          <p:cNvPr id="92" name="WordArt 6"/>
          <p:cNvSpPr txBox="1"/>
          <p:nvPr/>
        </p:nvSpPr>
        <p:spPr>
          <a:xfrm>
            <a:off x="539640" y="5373720"/>
            <a:ext cx="8282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Impact"/>
              </a:rPr>
              <a:t>Вопросы и от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0" y="907920"/>
            <a:ext cx="3857760" cy="131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Как оценить последовательность изложения содержания тек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4716360" y="1052640"/>
            <a:ext cx="414180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Что необходимо учитывать при выставлении оценки по критерию ИК3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79280" y="2205000"/>
            <a:ext cx="3888000" cy="302004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ценивая последовательность изложения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ослушанного текста,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необходимо опираться на исходный 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и его композиционно-логическую струк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643280" y="2060640"/>
            <a:ext cx="4248360" cy="423108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ценивая логическую связь между единицами текста из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учащегося, нужно иметь в виду, что она не долж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отиворечить логике исходного тек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 то же время, оценивая речевую связность и прави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абзацного членения изложения, </a:t>
            </a:r>
            <a:r>
              <a:rPr b="0" lang="ru-RU" sz="1600" spc="-1" strike="noStrike">
                <a:solidFill>
                  <a:srgbClr val="0000cc"/>
                </a:solidFill>
                <a:latin typeface="Arial Black"/>
              </a:rPr>
              <a:t>необходимо рассматривать э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 Black"/>
              </a:rPr>
              <a:t>параметры применительно к тексту работы учащегося, то есть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 Black"/>
              </a:rPr>
              <a:t>созданному экзаменуемым тексту изложения, а не сопоставлять текст, написанный выпускником, с оригина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45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324000" y="1055520"/>
            <a:ext cx="4105080" cy="100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Влияют ли речевые ошибки на оценку по критерию ИК3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4643280" y="1055520"/>
            <a:ext cx="4176720" cy="400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179280" y="2133720"/>
            <a:ext cx="4824360" cy="173988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ечевые ошибки не влияют на оценку по критерию ИК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5292720" y="2133720"/>
            <a:ext cx="3851280" cy="30780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52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9" descr="C:\Users\Галина\Desktop\картинки с шаттерстока\shutterstock_66519703.jpg"/>
          <p:cNvPicPr/>
          <p:nvPr/>
        </p:nvPicPr>
        <p:blipFill>
          <a:blip r:embed="rId2"/>
          <a:stretch/>
        </p:blipFill>
        <p:spPr>
          <a:xfrm>
            <a:off x="5292720" y="981000"/>
            <a:ext cx="3672000" cy="561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396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-360"/>
            <a:ext cx="8507520" cy="666900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По материалам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«Учебно-методических материалов для подготовки председателей и членов территориальных предметных комиссий по заданий с развернутым ответом.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Государственная (итоговая) аттестация выпускников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IX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классов общеобразовательных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учреждений (в новой форме)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2012 год (ФИПИ)»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WordArt 6" descr=""/>
          <p:cNvPicPr/>
          <p:nvPr/>
        </p:nvPicPr>
        <p:blipFill>
          <a:blip r:embed="rId2"/>
          <a:stretch/>
        </p:blipFill>
        <p:spPr>
          <a:xfrm>
            <a:off x="676440" y="1547640"/>
            <a:ext cx="7864200" cy="484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Галина\Desktop\картинки с шаттерстока\shutterstock_55532596.jpg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79280" y="981000"/>
            <a:ext cx="432144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От какого лица писать текст сжатого изложения – от 1-го или от 3-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751280" y="907920"/>
            <a:ext cx="4392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Что устанавливает эксперт в работе ученика, начиная её чит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179280" y="2060640"/>
            <a:ext cx="4248360" cy="350604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Экзаменуемый должен писать изложение </a:t>
            </a: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от того лица, от котор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идёт повествование в исходном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572000" y="1916280"/>
            <a:ext cx="4392720" cy="36601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Эксперт устанавли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) соответствие количества микротем в работе экзаменуемого коли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икротем в информации о тек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) последовательность микротем в работе экзаменуемого, которая долж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ответствовать последовательности микротем в информации о тек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) точность передачи информации в каждой из микро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02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179280" y="981000"/>
            <a:ext cx="432144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 каком случае не снижается количество баллов по критерию ИК1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0" y="981000"/>
            <a:ext cx="43578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Влияет ли грамотность работы на оценку по критерию ИК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179280" y="1989000"/>
            <a:ext cx="4248360" cy="375156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ередко экзаменуемые передают все важные для вос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сходного текста микротемы, однако при этом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нарушают абзац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членение текста. Это не должно вести к снижению коли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баллов по критерию ИК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572000" y="2060640"/>
            <a:ext cx="4392720" cy="265356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Уровень правописной и речевой грамотности работы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не дол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влиять на выставление оценки по критерию ИК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09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179280" y="981000"/>
            <a:ext cx="43214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643280" y="981000"/>
            <a:ext cx="42865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акие фактические ошибки не учитываются при выставлении оценки по критерию ИК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95280" y="1989000"/>
            <a:ext cx="4176720" cy="484884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еточно понятая микротема свидетельствует о том, что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лавного содержания исходного текста осталась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экзаменуемого недоступной, следовательно,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оценка по крите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ИК1 должна быть сниж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643280" y="2421000"/>
            <a:ext cx="4249800" cy="375156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актические ошибки, </a:t>
            </a: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не ведущие к искажению основ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содержания и смысла исходного текста или какой-либо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микротемы,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не учитываются при выставлении оценки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ритерию ИК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16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3"/>
          <p:cNvSpPr/>
          <p:nvPr/>
        </p:nvSpPr>
        <p:spPr>
          <a:xfrm>
            <a:off x="179280" y="981000"/>
            <a:ext cx="43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ак быть, если ученик неточно понял микрот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179280" y="1055520"/>
            <a:ext cx="424980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ак  быть, если ученик расширил информацию текста, добавив микрот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79280" y="2060640"/>
            <a:ext cx="4392720" cy="490248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 работе возможно некоторое расширение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сходного текста за счёт прибавления экзаменуемым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содержащейся в прослушанном тексте микротемы, кото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ожет быть как связана, так и не связана по смыслу с исход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екстом. Такое прибавление микротемы часто ведёт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скажению авторского замысла всего текста в целом. 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В э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случае количество баллов по критерию ИК1 сниж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643280" y="2205000"/>
            <a:ext cx="4321440" cy="45745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работе экзаменуемого возможно сочетание пропу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икротем и прибавления к тексту не содержащейся в н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нформации, которая может быть тематически связана или не связана с текстом. Однако это не компенсирует недостатков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нимании прослушанного текста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и не может служить пов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для повышения оценки по критерию ИК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WordArt 11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23" name="WordArt 11" descr=""/>
            <p:cNvPicPr/>
            <p:nvPr/>
          </p:nvPicPr>
          <p:blipFill>
            <a:blip r:embed="rId2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3"/>
          <p:cNvSpPr/>
          <p:nvPr/>
        </p:nvSpPr>
        <p:spPr>
          <a:xfrm>
            <a:off x="4716360" y="981000"/>
            <a:ext cx="424980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ожно ли повысить оценку по критерию ИК1, если ученик прибавил информацию к текст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571680" y="1055520"/>
            <a:ext cx="385740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Что оценивать по критерию ИК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72040" y="1055520"/>
            <a:ext cx="385776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На что следует ориентироваться, оценивая степень сжатия тес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179280" y="2060640"/>
            <a:ext cx="4248360" cy="3717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о, какими приёмами компрессии текста пользу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экзаменуемый, зависит не только от уровня его умений, но и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характера текста. Чаще всего для сжатия удаётся использ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иём исключения, реже всего – обобщения. </a:t>
            </a:r>
            <a:r>
              <a:rPr b="0" lang="ru-RU" sz="1800" spc="-1" strike="noStrike">
                <a:solidFill>
                  <a:srgbClr val="0000cc"/>
                </a:solidFill>
                <a:latin typeface="Arial Black"/>
              </a:rPr>
              <a:t>Критерий ИК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 Black"/>
              </a:rPr>
              <a:t>позволяет оценить уровень компрессионных ум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 Black"/>
              </a:rPr>
              <a:t>девятиклассника применительно к любому текс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 Black"/>
              </a:rPr>
              <a:t>публицистического или научного (научно-популярного) стилей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572000" y="1916280"/>
            <a:ext cx="4248000" cy="430056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тепень сжатия исходного текста в изложении может неск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ниться.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Важно при оценивании работы по данному крите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ориентироваться не на количество слов в изложении, а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уровень владения экзаменуемым приёмами сжатия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31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250920" y="1055520"/>
            <a:ext cx="417816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Как определить, правильно ли сжат текс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716360" y="1055520"/>
            <a:ext cx="421344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огда снижается оценка по критерию ИК3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179280" y="1844640"/>
            <a:ext cx="4248360" cy="436284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и оценке сжатия текста необходимо оценивать не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личие приёмов компрессии в изложении, но и прави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х применения. При правильном использовании приё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мпрессии исходного текста </a:t>
            </a:r>
            <a:r>
              <a:rPr b="0" lang="ru-RU" sz="2000" spc="-1" strike="noStrike">
                <a:solidFill>
                  <a:srgbClr val="0000cc"/>
                </a:solidFill>
                <a:latin typeface="Arial Black"/>
              </a:rPr>
              <a:t>в экзаменационном из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 Black"/>
              </a:rPr>
              <a:t>сохраняется адекватность авторской мысли и возможность е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 Black"/>
              </a:rPr>
              <a:t>восприятия читат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4500720" y="2349360"/>
            <a:ext cx="4390920" cy="375156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ценка по критерию ИК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нижается на 1 балл,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даже если в изложении прису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только одна из ошибок: или 1 логическая ошибка, или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нарушение абзацного членения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38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8:18:09Z</dcterms:created>
  <dc:creator/>
  <dc:description/>
  <dc:language>en-US</dc:language>
  <cp:lastModifiedBy/>
  <dcterms:modified xsi:type="dcterms:W3CDTF">2012-12-20T21:36:52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631049</vt:lpwstr>
  </property>
</Properties>
</file>