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8BD-9675-47FF-A295-8908065E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067-3711-46FD-B9FF-66DBB07B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2E9-9776-4DB1-8941-9A686BFE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95B-3D0D-4F5D-834C-7BED243B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97364-9002-4875-AB90-FDB11578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5A890-55A5-4FA3-BB81-D21A5BC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6087-B079-425A-A2C9-66F50E5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36F4C-CDB2-4BCF-9F95-33FB84E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D184-FD72-4CBD-AF58-68255EA1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36742-91A1-4C97-857F-2CE95A5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1FC59-30D6-4A3C-8813-CACF02A4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85B-3974-4961-8C78-B914EFF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3CBA-3FCA-4673-AD35-3A2D05E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BC52B-EAC9-4486-BD3B-F2C55C6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43F4-A294-43A4-8A56-5DE59D4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982E-D3E1-4942-B339-8CB0D571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0BCB-2F68-43C4-B1D0-E026AB6F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197-2407-4036-A2A7-C20B57A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BF3-636B-46E4-A0E6-E1E138A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F7D-E5F3-4B9E-A2C6-3FB1575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50F-8826-47C1-97CE-A923B0A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1A7-2389-4D73-9BD2-2FE3A03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319-7627-4AEF-9B33-66941F1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5C3-7349-4237-B761-A905E61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FEF-3A2C-45D9-87A8-FF0247A47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A1F-A933-482F-A947-0B930037C4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реализации социальным педагогом диагностической и прогностической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гностическая  функция – исходная в деятельности социального педаго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й педагог диагностирует развитие личности ребенка в социальной среде, особенности влияния этой среды на социализацию ребенка, ее позитивные возмож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30592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гностическая функция – проектирует деятельность всех субъектов  социального воспитан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определении сущности и место в диагностической и прогностической функции  системы работы социального педагога, придерживается следующей логике: изучить, чтобы знать; знать чтобы понимать; понимать, чтобы помоч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назначения социального педагог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16</cp:lastModifiedBy>
  <dcterms:modified xsi:type="dcterms:W3CDTF">2013-12-14T02:19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