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76E-ADEC-4C09-BE98-BF2FABC7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8EE-B170-457B-A28A-58A89C1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740-A976-42C8-BF04-D6792ABD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DAD-302E-4F62-8BFE-07AFA0B2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75A3F-8ECC-47BF-B35B-A541DCDE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AF643-DCC9-46C0-88B4-6CE7B83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F190F-B16B-42D4-8BEE-08C8D826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6E4CB-7E75-4321-A1D4-5296743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FD5D-33B4-4FDD-910F-CEEB1253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8D2CC-2E62-4663-B691-CFDD155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70A5C-F24D-45C4-97FA-4DE67D5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962-5F4A-4D5C-8EB8-907B6AD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B5BEC-D7ED-4C5B-8330-6B8F78A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10A7E-4908-442F-A4DF-F54545E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1BED1-4B14-442C-BFEF-8772A47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8391B-4E6E-46DD-9589-76F10868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0A4DE-8B6B-4DA2-9A02-E089A308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D5D-47D6-4711-AEDB-1F9CCB01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07A-2E77-4739-90CE-305720A7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665-2088-44C9-9E4A-AEDC351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136-94AA-4A96-952F-2CE634D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9B8-AB1A-471B-BCE9-DC91445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4FA-C205-4037-A3DE-415A205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B7F-3288-483A-8085-EDE31B8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A781-E27B-4A2F-B5EC-97680FF94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ABB4-2133-45FA-B13D-BD026618EE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хнология реализации социальным педагогом диагностической и прогностической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гностическая  функция – исходная в деятельности социального педагог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й педагог диагностирует развитие личности ребенка в социальной среде, особенности влияния этой среды на социализацию ребенка, ее позитивные возмож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30592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гностическая функция – проектирует деятельность всех субъектов  социального воспитани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определении сущности и место в диагностической и прогностической функции  системы работы социального педагога, придерживается следующей логике: изучить, чтобы знать; знать чтобы понимать; понимать, чтобы помоч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назначения социального педагог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5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016</cp:lastModifiedBy>
  <dcterms:modified xsi:type="dcterms:W3CDTF">2013-12-14T02:19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