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A88C-FC09-4FC1-8443-7878DD66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B09-3261-4C9D-8693-2422DDC8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A94-2C03-4C1A-9E13-F6678D9D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ED21-C668-4F24-9265-2A3F34CB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50299-86EB-4E34-BAC4-CA2EEBA2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B1E48-6BFD-4446-A94F-3133E2A4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3A52C-049F-4595-A506-7AA10F99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61EB7-ABA6-44A3-AFBF-27AF4E47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0285C-141C-4636-A58C-5B456AEC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3F2B1-EAB1-4D23-BF8B-6BFB73D0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01C34-5366-4F90-8DAC-4B02C657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81EE-CAA2-4F9B-823D-D2B2912F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F4BDC-4213-44A2-81EC-B44A49EC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4A8D2-9579-46D9-82F0-58A5E14C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8193B-43A4-4E2B-B718-05BC2222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8D620-E436-4978-86F0-94681006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D7FA0-C589-4345-AB74-E75244BA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A22B-5216-4FF6-8398-8D757632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F15-5E11-42EF-A3FC-E6E84823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6B16-D5EE-41FD-AA47-02FF3396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E0B-B36B-4207-8EF9-083AA4D6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EAE6-9759-4585-8556-C52AC5AE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47BF-7F9A-460C-B611-0A42672C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BD30-DF6B-4CC1-86D1-8F62D2F3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D413-E746-4043-B3B0-631BF39C57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5D89-3EA8-46A6-840D-56933C7A83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хнология реализации социальным педагогом диагностической и прогностической функ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иагностическая  функция – исходная в деятельности социального педагог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циальный педагог диагностирует развитие личности ребенка в социальной среде, особенности влияния этой среды на социализацию ребенка, ее позитивные возмож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305920" cy="397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гностическая функция – проектирует деятельность всех субъектов  социального воспитания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определении сущности и место в диагностической и прогностической функции  системы работы социального педагога, придерживается следующей логике: изучить, чтобы знать; знать чтобы понимать; понимать, чтобы помоч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едназначения социального педагог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ня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зн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я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моч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58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пасибо за внимани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0016</cp:lastModifiedBy>
  <dcterms:modified xsi:type="dcterms:W3CDTF">2013-12-14T02:19:5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