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954-6F1E-47B9-A773-80CB5E86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8AD-10BF-4133-B773-3396F786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49E-C4C0-4D2A-A3CB-5405C7B1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BA9-FB61-4CE6-98EA-54111BC2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B95-2F4B-4E51-AFA7-F65E0AFC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E9D-D593-4755-86C1-9BBF1834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D85-C38E-4C5C-B177-C76E450E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F10-CFF8-42B8-A56D-CBAE81CB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A98-BD81-4663-8BF9-559EEFC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6A5-3D4B-45A4-8814-03201B19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A17-DB57-4C7F-AB2F-955A1F73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0C5-2E84-4D32-8388-725817F7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B4B4-38AA-48C6-A54F-AF0DBA4565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7920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обильны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центр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«Сундучок сюрпризов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вторский дидактический материал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933720"/>
            <a:ext cx="7488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Педагог-психолог  Зубкова Ж.В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МБДОУ «ЦРР – д/с № 18  «Дюймовочка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Г. Усть-Илимск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2012 г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rcRect l="14733" t="0" r="11603" b="0"/>
          <a:stretch/>
        </p:blipFill>
        <p:spPr>
          <a:xfrm>
            <a:off x="2340000" y="1844640"/>
            <a:ext cx="4175280" cy="330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Коробочка желаний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ловесных играх на утреннем круге(«Загадай желание», «Пожеланье другу», «Не упусти мечту»), в самостоятельной деятельности детей, в совместных играх  родителей с детьми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3" descr="C:\Documents and Settings\Administrator\Рабочий стол\дсад 2012\DSC06278.JPG"/>
          <p:cNvPicPr/>
          <p:nvPr/>
        </p:nvPicPr>
        <p:blipFill>
          <a:blip r:embed="rId1"/>
          <a:stretch/>
        </p:blipFill>
        <p:spPr>
          <a:xfrm>
            <a:off x="179280" y="1989000"/>
            <a:ext cx="2843280" cy="2443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C:\Documents and Settings\Administrator\Рабочий стол\дсад 2012\DSC06279.JPG"/>
          <p:cNvPicPr/>
          <p:nvPr/>
        </p:nvPicPr>
        <p:blipFill>
          <a:blip r:embed="rId2"/>
          <a:stretch/>
        </p:blipFill>
        <p:spPr>
          <a:xfrm>
            <a:off x="755640" y="4408560"/>
            <a:ext cx="3384720" cy="244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SC06684"/>
          <p:cNvPicPr/>
          <p:nvPr/>
        </p:nvPicPr>
        <p:blipFill>
          <a:blip r:embed="rId3"/>
          <a:stretch/>
        </p:blipFill>
        <p:spPr>
          <a:xfrm>
            <a:off x="4356000" y="2444760"/>
            <a:ext cx="460872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Коллекция двигающихся игрушек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оздания эмоционального комфорта детей раннего возраста в период адаптации, в сюрпризных мотивационных  моментах, в самостоятельных играх дете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Содержимое 3" descr="C:\Documents and Settings\Administrator\Рабочий стол\дсад 2012\DSC06242.JPG"/>
          <p:cNvPicPr/>
          <p:nvPr/>
        </p:nvPicPr>
        <p:blipFill>
          <a:blip r:embed="rId1"/>
          <a:stretch/>
        </p:blipFill>
        <p:spPr>
          <a:xfrm>
            <a:off x="500040" y="2205000"/>
            <a:ext cx="3927600" cy="255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DSC06511"/>
          <p:cNvPicPr/>
          <p:nvPr/>
        </p:nvPicPr>
        <p:blipFill>
          <a:blip r:embed="rId2"/>
          <a:stretch/>
        </p:blipFill>
        <p:spPr>
          <a:xfrm>
            <a:off x="4716360" y="3284640"/>
            <a:ext cx="397512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Звуковые мешочки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привлечения внимания детей, сюрпризных игровых моментов («Что звучит?», «От куда звуки?», «Громко или тихо?», «Кто спрятался в мешочке?», «Веселый смех по кругу»); создания положительного эмоционального фона  для детей в период адаптации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Содержимое 3" descr="C:\Documents and Settings\Administrator\Рабочий стол\дсад 2012\DSC06248.JPG"/>
          <p:cNvPicPr/>
          <p:nvPr/>
        </p:nvPicPr>
        <p:blipFill>
          <a:blip r:embed="rId1"/>
          <a:stretch/>
        </p:blipFill>
        <p:spPr>
          <a:xfrm>
            <a:off x="179280" y="2276640"/>
            <a:ext cx="3672000" cy="302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DSC06694"/>
          <p:cNvPicPr/>
          <p:nvPr/>
        </p:nvPicPr>
        <p:blipFill>
          <a:blip r:embed="rId2"/>
          <a:stretch/>
        </p:blipFill>
        <p:spPr>
          <a:xfrm>
            <a:off x="4643280" y="3213000"/>
            <a:ext cx="381636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Интерактивный бычок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при подбрасывании говорит разными фразами)</a:t>
            </a: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юрпризных моментов, совместных игр на утреннем круге ( «Пожелания бычка», «Поймай и передай тому …у кого длинные волосы (красный цвет в одежде, кто ниже тебя и т. п.)») и при совместной деятельности детей и взрослых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Содержимое 3" descr="C:\Documents and Settings\Administrator\Рабочий стол\дсад 2012\DSC06257.JPG"/>
          <p:cNvPicPr/>
          <p:nvPr/>
        </p:nvPicPr>
        <p:blipFill>
          <a:blip r:embed="rId1"/>
          <a:stretch/>
        </p:blipFill>
        <p:spPr>
          <a:xfrm>
            <a:off x="179280" y="2708280"/>
            <a:ext cx="3867120" cy="300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SC06693"/>
          <p:cNvPicPr/>
          <p:nvPr/>
        </p:nvPicPr>
        <p:blipFill>
          <a:blip r:embed="rId2"/>
          <a:stretch/>
        </p:blipFill>
        <p:spPr>
          <a:xfrm>
            <a:off x="4643280" y="3409920"/>
            <a:ext cx="388944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Коробочка «Чудесные прикосновения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работы в центрах, самостоятельных исследованиях детей и проведения экспериментов , для парных игр («Угадай на ощупь», «Чудесное прикосновение»,« Опиши словами», «Узнай по описанию», «Давай сравним»)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Содержимое 3" descr="C:\Documents and Settings\Administrator\Рабочий стол\дсад 2012\DSC06240.JPG"/>
          <p:cNvPicPr/>
          <p:nvPr/>
        </p:nvPicPr>
        <p:blipFill>
          <a:blip r:embed="rId1"/>
          <a:stretch/>
        </p:blipFill>
        <p:spPr>
          <a:xfrm>
            <a:off x="179280" y="2565360"/>
            <a:ext cx="4321440" cy="283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SC06707"/>
          <p:cNvPicPr/>
          <p:nvPr/>
        </p:nvPicPr>
        <p:blipFill>
          <a:blip r:embed="rId2"/>
          <a:stretch/>
        </p:blipFill>
        <p:spPr>
          <a:xfrm>
            <a:off x="4932360" y="3556080"/>
            <a:ext cx="396072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Коллекция звуковых предметов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колокольчик, «крякающие» молоточки, хлопающая ладошка)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(«Передай колокольчик», «Где звенит»), для привлечения внимания детей при совместной деятельности, при двигательных играх на смену действий, при играх-соревнованиях, для самостоятельной деятельност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C:\Documents and Settings\Administrator\Рабочий стол\дсад 2012\DSC06267.JPG"/>
          <p:cNvPicPr/>
          <p:nvPr/>
        </p:nvPicPr>
        <p:blipFill>
          <a:blip r:embed="rId1"/>
          <a:stretch/>
        </p:blipFill>
        <p:spPr>
          <a:xfrm>
            <a:off x="285840" y="2357280"/>
            <a:ext cx="4429080" cy="2251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C:\Documents and Settings\Administrator\Рабочий стол\дсад 2012\DSC06266.JPG"/>
          <p:cNvPicPr/>
          <p:nvPr/>
        </p:nvPicPr>
        <p:blipFill>
          <a:blip r:embed="rId2"/>
          <a:stretch/>
        </p:blipFill>
        <p:spPr>
          <a:xfrm>
            <a:off x="5572080" y="235728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C:\Documents and Settings\Administrator\Рабочий стол\дсад 2012\DSC06269.JPG"/>
          <p:cNvPicPr/>
          <p:nvPr/>
        </p:nvPicPr>
        <p:blipFill>
          <a:blip r:embed="rId3"/>
          <a:stretch/>
        </p:blipFill>
        <p:spPr>
          <a:xfrm>
            <a:off x="2286000" y="4635360"/>
            <a:ext cx="432432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орская раковина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-приветствиях, словесных играх («Передай раковину и поздоровайся морскими словами», «Волшебные звуки моря», «Я слышу…», «Загадай раковине желание»), в самостоятельной деятельности детей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C:\Documents and Settings\Administrator\Рабочий стол\дсад 2012\DSC06262.JPG"/>
          <p:cNvPicPr/>
          <p:nvPr/>
        </p:nvPicPr>
        <p:blipFill>
          <a:blip r:embed="rId1"/>
          <a:stretch/>
        </p:blipFill>
        <p:spPr>
          <a:xfrm>
            <a:off x="250920" y="2492280"/>
            <a:ext cx="3352680" cy="278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SC06685"/>
          <p:cNvPicPr/>
          <p:nvPr/>
        </p:nvPicPr>
        <p:blipFill>
          <a:blip r:embed="rId2"/>
          <a:srcRect l="0" t="0" r="-566" b="0"/>
          <a:stretch/>
        </p:blipFill>
        <p:spPr>
          <a:xfrm>
            <a:off x="4067280" y="3068640"/>
            <a:ext cx="4537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ячик настроений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Идеи использования: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 -приветствиях и словесных играх («Какое у тебя сегодня настроение», «Пожелание другу», «Комплименты»), для самостоятельной деятельности и играх детей.</a:t>
            </a:r>
            <a:br>
              <a:rPr sz="20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Содержимое 3" descr="C:\Documents and Settings\Administrator\Рабочий стол\дсад 2012\DSC06276.JPG"/>
          <p:cNvPicPr/>
          <p:nvPr/>
        </p:nvPicPr>
        <p:blipFill>
          <a:blip r:embed="rId1"/>
          <a:srcRect l="33351" t="20088" r="23839" b="27444"/>
          <a:stretch/>
        </p:blipFill>
        <p:spPr>
          <a:xfrm>
            <a:off x="5357880" y="2786040"/>
            <a:ext cx="257184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C:\Documents and Settings\Administrator\Рабочий стол\дсад 2012\DSC06314.JPG"/>
          <p:cNvPicPr/>
          <p:nvPr/>
        </p:nvPicPr>
        <p:blipFill>
          <a:blip r:embed="rId2"/>
          <a:stretch/>
        </p:blipFill>
        <p:spPr>
          <a:xfrm>
            <a:off x="1071720" y="271476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C:\Documents and Settings\Administrator\Рабочий стол\дсад 2012\DSC06315.JPG"/>
          <p:cNvPicPr/>
          <p:nvPr/>
        </p:nvPicPr>
        <p:blipFill>
          <a:blip r:embed="rId3"/>
          <a:stretch/>
        </p:blipFill>
        <p:spPr>
          <a:xfrm>
            <a:off x="5357880" y="2714760"/>
            <a:ext cx="29289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Шляпа фокусник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br>
              <a:rPr sz="1600"/>
            </a:b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играх на утреннем круге («Угадай, что в шляпе», «Фокус-покус..», «Я хочу наколдовать..», «Шляпа по кругу»), в психоэтюдах, в самостоятельной деятельности детей, с/р играх («Цирк», «Школа фокусов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Содержимое 3" descr="C:\Documents and Settings\Administrator\Рабочий стол\дсад 2012\DSC06274.JPG"/>
          <p:cNvPicPr/>
          <p:nvPr/>
        </p:nvPicPr>
        <p:blipFill>
          <a:blip r:embed="rId1"/>
          <a:stretch/>
        </p:blipFill>
        <p:spPr>
          <a:xfrm>
            <a:off x="324000" y="2421000"/>
            <a:ext cx="3168360" cy="269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6699"/>
          <p:cNvPicPr/>
          <p:nvPr/>
        </p:nvPicPr>
        <p:blipFill>
          <a:blip r:embed="rId2"/>
          <a:srcRect l="0" t="-146" r="0" b="0"/>
          <a:stretch/>
        </p:blipFill>
        <p:spPr>
          <a:xfrm>
            <a:off x="5867280" y="2565360"/>
            <a:ext cx="3060720" cy="246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SC06697"/>
          <p:cNvPicPr/>
          <p:nvPr/>
        </p:nvPicPr>
        <p:blipFill>
          <a:blip r:embed="rId3"/>
          <a:stretch/>
        </p:blipFill>
        <p:spPr>
          <a:xfrm>
            <a:off x="3564000" y="4314960"/>
            <a:ext cx="266364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альчиковый театр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050b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парных играх- диалогах, в самостоятельной и индивидуальной деятельности детей, в с/р играх («Театр», «Режисер», «На спектакле»), при разыгрывании проблемных ситуаций с помощью куко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Содержимое 3" descr="C:\Documents and Settings\Administrator\Рабочий стол\дсад 2012\DSC06273.JPG"/>
          <p:cNvPicPr/>
          <p:nvPr/>
        </p:nvPicPr>
        <p:blipFill>
          <a:blip r:embed="rId1"/>
          <a:stretch/>
        </p:blipFill>
        <p:spPr>
          <a:xfrm>
            <a:off x="2771640" y="1700280"/>
            <a:ext cx="3527640" cy="2624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05961"/>
          <p:cNvPicPr/>
          <p:nvPr/>
        </p:nvPicPr>
        <p:blipFill>
          <a:blip r:embed="rId2"/>
          <a:stretch/>
        </p:blipFill>
        <p:spPr>
          <a:xfrm>
            <a:off x="5651640" y="422100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DSC05962"/>
          <p:cNvPicPr/>
          <p:nvPr/>
        </p:nvPicPr>
        <p:blipFill>
          <a:blip r:embed="rId3"/>
          <a:stretch/>
        </p:blipFill>
        <p:spPr>
          <a:xfrm>
            <a:off x="468360" y="4186080"/>
            <a:ext cx="324000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Calibri"/>
              </a:rPr>
              <a:t>Цель</a:t>
            </a:r>
            <a:r>
              <a:rPr b="1" lang="ru-RU" sz="1800" spc="-1" strike="noStrike">
                <a:solidFill>
                  <a:srgbClr val="590907"/>
                </a:solidFill>
                <a:latin typeface="Arial"/>
              </a:rPr>
              <a:t> использования</a:t>
            </a:r>
            <a:r>
              <a:rPr b="1" lang="ru-RU" sz="1800" spc="-1" strike="noStrike">
                <a:solidFill>
                  <a:srgbClr val="590907"/>
                </a:solidFill>
                <a:latin typeface="Calibri"/>
              </a:rPr>
              <a:t>: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3b1ab6"/>
                </a:solidFill>
                <a:latin typeface="Calibri"/>
              </a:rPr>
              <a:t>создание благоприятного эмоционального и мотивационного фона  у детей с помощью сюрпризных моментов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в самостоятельной деятельности детей, в играх, развлечениях и в совместной со взрослыми деятельнос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Calibri"/>
              </a:rPr>
              <a:t>Материалы: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310fc1"/>
                </a:solidFill>
                <a:latin typeface="Calibri"/>
              </a:rPr>
              <a:t>различные сказочные персонажи в виде кукол (перчаточных, мягких, звуковых, интерактивных, марионеток); «волшебные предметы» –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«коробочка желаний»</a:t>
            </a:r>
            <a:r>
              <a:rPr b="1" lang="ru-RU" sz="1800" spc="-1" strike="noStrike">
                <a:solidFill>
                  <a:srgbClr val="310fc1"/>
                </a:solidFill>
                <a:latin typeface="Calibri"/>
              </a:rPr>
              <a:t>, музыкальная шкатулка, перо «Жар-птицы», морская раковина, шляпа волшебника, чудесный микрофон, волшебная палочка, мерцающая свеча; предметы для сюрпризов и загадок -  муляж посылки, конверт с письмом, загадочная карта-схема, телеграммы, проектор звездного неба, коробочка «чудесных прикосновений» и т. п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Arial"/>
              </a:rPr>
              <a:t>Особенности: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мобильность центра, использование любыми специалистами и воспитателями, постоянная наполняемость новыми пособиям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бильный центр «Сударушка»</a:t>
            </a:r>
            <a:br>
              <a:rPr sz="1600"/>
            </a:br>
            <a:r>
              <a:rPr b="1" lang="ru-RU" sz="1600" spc="-1" strike="noStrike">
                <a:solidFill>
                  <a:srgbClr val="5b050b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амостоятельной деятельности детей, в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ролевых играх («Магазин бижутерии», «Модельер», «Стилисты», «На подиуме»), в играх-развлечениях  с родителями («Наряди маму», «Мамин стилист», «Современная бабушка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Содержимое 3" descr="C:\Documents and Settings\Administrator\Рабочий стол\дсад 2012\DSC06294.JPG"/>
          <p:cNvPicPr/>
          <p:nvPr/>
        </p:nvPicPr>
        <p:blipFill>
          <a:blip r:embed="rId1"/>
          <a:stretch/>
        </p:blipFill>
        <p:spPr>
          <a:xfrm>
            <a:off x="357120" y="2214720"/>
            <a:ext cx="264312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DSC06173"/>
          <p:cNvPicPr/>
          <p:nvPr/>
        </p:nvPicPr>
        <p:blipFill>
          <a:blip r:embed="rId2"/>
          <a:stretch/>
        </p:blipFill>
        <p:spPr>
          <a:xfrm>
            <a:off x="5286240" y="2214720"/>
            <a:ext cx="2857680" cy="2068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SC06179"/>
          <p:cNvPicPr/>
          <p:nvPr/>
        </p:nvPicPr>
        <p:blipFill>
          <a:blip r:embed="rId3"/>
          <a:stretch/>
        </p:blipFill>
        <p:spPr>
          <a:xfrm>
            <a:off x="2928960" y="447840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бильный центр «Дрессировщики»</a:t>
            </a: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амостоятельных подгрупповых и парных играх детей («Дрессированный жук», «На поле битвы», «Кто первый дойдет»), в центре математики при непосредственной образовательной деятельности ( задания - «Шаги по схеме», «Проложи путь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Содержимое 3" descr="C:\Documents and Settings\Administrator\Рабочий стол\дсад 2012\DSC06293.JPG"/>
          <p:cNvPicPr/>
          <p:nvPr/>
        </p:nvPicPr>
        <p:blipFill>
          <a:blip r:embed="rId1"/>
          <a:stretch/>
        </p:blipFill>
        <p:spPr>
          <a:xfrm>
            <a:off x="714240" y="2714760"/>
            <a:ext cx="2746440" cy="2635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SC06678"/>
          <p:cNvPicPr/>
          <p:nvPr/>
        </p:nvPicPr>
        <p:blipFill>
          <a:blip r:embed="rId2"/>
          <a:stretch/>
        </p:blipFill>
        <p:spPr>
          <a:xfrm>
            <a:off x="4500720" y="3571920"/>
            <a:ext cx="380520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льные пузыри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оздания эмоционального комфорта детей раннего возраста в период адаптации, в сюрпризных мотивационных  моментах, в самостоятельных играх дете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4" descr="DSC06507"/>
          <p:cNvPicPr/>
          <p:nvPr/>
        </p:nvPicPr>
        <p:blipFill>
          <a:blip r:embed="rId1"/>
          <a:stretch/>
        </p:blipFill>
        <p:spPr>
          <a:xfrm>
            <a:off x="3708360" y="3205080"/>
            <a:ext cx="4506840" cy="326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SC06284"/>
          <p:cNvPicPr/>
          <p:nvPr/>
        </p:nvPicPr>
        <p:blipFill>
          <a:blip r:embed="rId2"/>
          <a:stretch/>
        </p:blipFill>
        <p:spPr>
          <a:xfrm>
            <a:off x="684360" y="2357280"/>
            <a:ext cx="22780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олшебная светящаяся бабочк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светодиодная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br>
              <a:rPr sz="1600"/>
            </a:b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играх-приветствиях и в словесных играх на утреннем круге («Бабочка настроения», «Передай по кругу», «Летящий комплимент», «Скажи, кто еще летает», «Крылья пожеланий», «Какого цвета крылья»), в сюрпризных моментах,в самостоятельной деятельности детей, в играх – экспериментах, динамических паузах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4" descr="DSC06565"/>
          <p:cNvPicPr/>
          <p:nvPr/>
        </p:nvPicPr>
        <p:blipFill>
          <a:blip r:embed="rId1"/>
          <a:stretch/>
        </p:blipFill>
        <p:spPr>
          <a:xfrm>
            <a:off x="468360" y="3068640"/>
            <a:ext cx="3527280" cy="239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SC06498"/>
          <p:cNvPicPr/>
          <p:nvPr/>
        </p:nvPicPr>
        <p:blipFill>
          <a:blip r:embed="rId2"/>
          <a:stretch/>
        </p:blipFill>
        <p:spPr>
          <a:xfrm>
            <a:off x="4643280" y="3357720"/>
            <a:ext cx="4141800" cy="310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SC06565"/>
          <p:cNvPicPr/>
          <p:nvPr/>
        </p:nvPicPr>
        <p:blipFill>
          <a:blip r:embed="rId3"/>
          <a:stretch/>
        </p:blipFill>
        <p:spPr>
          <a:xfrm>
            <a:off x="468360" y="3154320"/>
            <a:ext cx="35989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кольная шкатул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самодельные куклы из носков, перчаток)</a:t>
            </a:r>
            <a:br>
              <a:rPr sz="1800"/>
            </a:br>
            <a:r>
              <a:rPr b="1" lang="ru-RU" sz="1800" spc="-1" strike="noStrike">
                <a:solidFill>
                  <a:srgbClr val="5b050b"/>
                </a:solidFill>
                <a:latin typeface="Arial"/>
              </a:rPr>
              <a:t>Идеи использования: </a:t>
            </a:r>
            <a:br>
              <a:rPr sz="1800"/>
            </a:b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для создания положительного эмоционального фона  для детей в период адаптации, для игр-диалогов, разыгрывания психоэтюдов, в сюрпризных моментах, в совместной деятельности детей с родителям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6" descr="DSC06589"/>
          <p:cNvPicPr/>
          <p:nvPr/>
        </p:nvPicPr>
        <p:blipFill>
          <a:blip r:embed="rId1"/>
          <a:srcRect l="0" t="-117" r="0" b="0"/>
          <a:stretch/>
        </p:blipFill>
        <p:spPr>
          <a:xfrm>
            <a:off x="500040" y="2786040"/>
            <a:ext cx="3298680" cy="2473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SC06034"/>
          <p:cNvPicPr/>
          <p:nvPr/>
        </p:nvPicPr>
        <p:blipFill>
          <a:blip r:embed="rId2"/>
          <a:stretch/>
        </p:blipFill>
        <p:spPr>
          <a:xfrm>
            <a:off x="5000760" y="3571920"/>
            <a:ext cx="310356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катулки сюрпризов и сюрпризные фигурки</a:t>
            </a:r>
            <a:br>
              <a:rPr sz="1800"/>
            </a:br>
            <a:r>
              <a:rPr b="1" lang="ru-RU" sz="1800" spc="-1" strike="noStrike">
                <a:solidFill>
                  <a:srgbClr val="5b050b"/>
                </a:solidFill>
                <a:latin typeface="Arial"/>
              </a:rPr>
              <a:t>Идеи использования: </a:t>
            </a:r>
            <a:br>
              <a:rPr sz="1800"/>
            </a:b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для привлечения детского внимания, сюрпризных моментов, словесных игр на утреннем круге («Мой тебе подарок», «Отгадай, что лежит в шкатулке», «Неожиданный сюрприз»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4" descr="DSC06250"/>
          <p:cNvPicPr/>
          <p:nvPr/>
        </p:nvPicPr>
        <p:blipFill>
          <a:blip r:embed="rId1"/>
          <a:srcRect l="0" t="0" r="-685" b="0"/>
          <a:stretch/>
        </p:blipFill>
        <p:spPr>
          <a:xfrm>
            <a:off x="250920" y="2492280"/>
            <a:ext cx="4284720" cy="302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SC06251"/>
          <p:cNvPicPr/>
          <p:nvPr/>
        </p:nvPicPr>
        <p:blipFill>
          <a:blip r:embed="rId2"/>
          <a:stretch/>
        </p:blipFill>
        <p:spPr>
          <a:xfrm>
            <a:off x="4427640" y="3541680"/>
            <a:ext cx="439416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ужные песочные часы</a:t>
            </a:r>
            <a:br>
              <a:rPr sz="1800"/>
            </a:br>
            <a:r>
              <a:rPr b="1" lang="ru-RU" sz="1800" spc="-1" strike="noStrike">
                <a:solidFill>
                  <a:srgbClr val="5b050b"/>
                </a:solidFill>
                <a:latin typeface="Arial"/>
              </a:rPr>
              <a:t>Идеи использования: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для игр на утреннем и вечернем круге («Цвет моего времени», «Пока течет песок», «Я хотел бы сегодня успеть»), для динамических игр со сменой движений («Как только протечет синий песок», «Желтая минутка»), для самостоятельной деятельности детей и игр-эксперименто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4" descr="DSC06652"/>
          <p:cNvPicPr/>
          <p:nvPr/>
        </p:nvPicPr>
        <p:blipFill>
          <a:blip r:embed="rId1"/>
          <a:srcRect l="0" t="-131" r="0" b="0"/>
          <a:stretch/>
        </p:blipFill>
        <p:spPr>
          <a:xfrm>
            <a:off x="2647800" y="2897280"/>
            <a:ext cx="366264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мик «Чудесного зазеркалья»</a:t>
            </a:r>
            <a:br>
              <a:rPr sz="1800"/>
            </a:br>
            <a:r>
              <a:rPr b="1" lang="ru-RU" sz="18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при деятельности детей в центре строительства и конструирования («Фигуры по схеме», «Построй свой замок»), в играх-экспериментах («Как изменился предмет», «Сколько отражений», «Геометрические фигуры», «Ссиметричные узоры», «Все наоборот»), в самостоятельной деятельности детей как парами, так и подгруппам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8" descr="DSC06675"/>
          <p:cNvPicPr/>
          <p:nvPr/>
        </p:nvPicPr>
        <p:blipFill>
          <a:blip r:embed="rId1"/>
          <a:srcRect l="0" t="-213" r="0" b="0"/>
          <a:stretch/>
        </p:blipFill>
        <p:spPr>
          <a:xfrm>
            <a:off x="2786040" y="3143160"/>
            <a:ext cx="385776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6" descr="DSC06672"/>
          <p:cNvPicPr/>
          <p:nvPr/>
        </p:nvPicPr>
        <p:blipFill>
          <a:blip r:embed="rId1"/>
          <a:srcRect l="0" t="-124" r="0" b="0"/>
          <a:stretch/>
        </p:blipFill>
        <p:spPr>
          <a:xfrm>
            <a:off x="4859280" y="3602160"/>
            <a:ext cx="3745080" cy="2904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SC06666"/>
          <p:cNvPicPr/>
          <p:nvPr/>
        </p:nvPicPr>
        <p:blipFill>
          <a:blip r:embed="rId2"/>
          <a:stretch/>
        </p:blipFill>
        <p:spPr>
          <a:xfrm>
            <a:off x="4572000" y="404640"/>
            <a:ext cx="3887640" cy="280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SC06660"/>
          <p:cNvPicPr/>
          <p:nvPr/>
        </p:nvPicPr>
        <p:blipFill>
          <a:blip r:embed="rId3"/>
          <a:stretch/>
        </p:blipFill>
        <p:spPr>
          <a:xfrm>
            <a:off x="324000" y="347760"/>
            <a:ext cx="3600360" cy="287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DSC06673"/>
          <p:cNvPicPr/>
          <p:nvPr/>
        </p:nvPicPr>
        <p:blipFill>
          <a:blip r:embed="rId4"/>
          <a:stretch/>
        </p:blipFill>
        <p:spPr>
          <a:xfrm>
            <a:off x="324000" y="3699000"/>
            <a:ext cx="3744720" cy="27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Волшебный микрофон»</a:t>
            </a:r>
            <a:br>
              <a:rPr sz="1600"/>
            </a:br>
            <a:r>
              <a:rPr b="1" lang="ru-RU" sz="1600" spc="-1" strike="noStrike">
                <a:solidFill>
                  <a:srgbClr val="590907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на утреннем круге в играх- приветствиях, в словесных играх «Интервью», «Вопрос- ответ», «Журналисты»,»Репортаж с места событий», с/р игра «Телевидение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6" descr="DSC06260"/>
          <p:cNvPicPr/>
          <p:nvPr/>
        </p:nvPicPr>
        <p:blipFill>
          <a:blip r:embed="rId1"/>
          <a:stretch/>
        </p:blipFill>
        <p:spPr>
          <a:xfrm>
            <a:off x="428760" y="2286000"/>
            <a:ext cx="2208240" cy="25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DSC05951"/>
          <p:cNvPicPr/>
          <p:nvPr/>
        </p:nvPicPr>
        <p:blipFill>
          <a:blip r:embed="rId2"/>
          <a:stretch/>
        </p:blipFill>
        <p:spPr>
          <a:xfrm>
            <a:off x="5857920" y="2286000"/>
            <a:ext cx="3000240" cy="239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DSC05953"/>
          <p:cNvPicPr/>
          <p:nvPr/>
        </p:nvPicPr>
        <p:blipFill>
          <a:blip r:embed="rId3"/>
          <a:srcRect l="0" t="-108" r="0" b="0"/>
          <a:stretch/>
        </p:blipFill>
        <p:spPr>
          <a:xfrm>
            <a:off x="3000240" y="4000680"/>
            <a:ext cx="2722680" cy="26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Свечки» (светодиодные)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59090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- приветствиях («Передай тепло по кругу», «Единый огонек» т.п.),в пластических этюдах и мини-сценках («Раздуй пламя», «Потуши огонек», «Изобрази пламя-разгорающееся-затухающее»), в динамических паузах («Пока горит свеча..», «Задуй свечу».), с/р игры «День рождение», «Домашний праздник»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DSC06244"/>
          <p:cNvPicPr/>
          <p:nvPr/>
        </p:nvPicPr>
        <p:blipFill>
          <a:blip r:embed="rId1"/>
          <a:stretch/>
        </p:blipFill>
        <p:spPr>
          <a:xfrm>
            <a:off x="214200" y="3000240"/>
            <a:ext cx="254340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SC05948"/>
          <p:cNvPicPr/>
          <p:nvPr/>
        </p:nvPicPr>
        <p:blipFill>
          <a:blip r:embed="rId2"/>
          <a:stretch/>
        </p:blipFill>
        <p:spPr>
          <a:xfrm>
            <a:off x="5643720" y="3214800"/>
            <a:ext cx="3031920" cy="21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SC05978"/>
          <p:cNvPicPr/>
          <p:nvPr/>
        </p:nvPicPr>
        <p:blipFill>
          <a:blip r:embed="rId3"/>
          <a:srcRect l="0" t="-115" r="0" b="0"/>
          <a:stretch/>
        </p:blipFill>
        <p:spPr>
          <a:xfrm>
            <a:off x="2714760" y="4500720"/>
            <a:ext cx="276228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75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ящийся меч» и «Волшебная палочка»</a:t>
            </a: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65a08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- приветствиях, </a:t>
            </a:r>
            <a:br>
              <a:rPr sz="1600"/>
            </a:b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словесных играх («Волшебная палочка мне нужна..». «Мечом я хотел бы защитить..»), для разыгрывания психоэтюдов («Чудесные превращения»,«Я взмахну волшебной палочкой..), для использования в сюрпризных моментах, с/ р играх («Волшебники», «Рыцари»)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6" descr="DSC06286"/>
          <p:cNvPicPr/>
          <p:nvPr/>
        </p:nvPicPr>
        <p:blipFill>
          <a:blip r:embed="rId1"/>
          <a:stretch/>
        </p:blipFill>
        <p:spPr>
          <a:xfrm>
            <a:off x="1000080" y="3214800"/>
            <a:ext cx="3000600" cy="20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SC05940"/>
          <p:cNvPicPr/>
          <p:nvPr/>
        </p:nvPicPr>
        <p:blipFill>
          <a:blip r:embed="rId2"/>
          <a:stretch/>
        </p:blipFill>
        <p:spPr>
          <a:xfrm>
            <a:off x="5214960" y="3429000"/>
            <a:ext cx="33163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Проектор звездного неба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для создания положительного эмоционального настроения, психологического комфорта, для сюрпризного момента, в играх на утреннем круге, в психоэтюдах, динамических паузах («В космосе», «Невесомость»), с/р играх («Космическое путешествие»), самостоятельного проведения детьми экспериментов и исследовани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5" descr="DSC06246"/>
          <p:cNvPicPr/>
          <p:nvPr/>
        </p:nvPicPr>
        <p:blipFill>
          <a:blip r:embed="rId1"/>
          <a:stretch/>
        </p:blipFill>
        <p:spPr>
          <a:xfrm>
            <a:off x="468360" y="3259080"/>
            <a:ext cx="3672000" cy="333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SC05922"/>
          <p:cNvPicPr/>
          <p:nvPr/>
        </p:nvPicPr>
        <p:blipFill>
          <a:blip r:embed="rId2"/>
          <a:stretch/>
        </p:blipFill>
        <p:spPr>
          <a:xfrm>
            <a:off x="4932360" y="3224160"/>
            <a:ext cx="3960720" cy="33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Очки именинника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 выделения именинника в группе и при его поздравлении (индивидуализация), с/р игра «Именины», «На день рожденье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5" descr="DSC06254"/>
          <p:cNvPicPr/>
          <p:nvPr/>
        </p:nvPicPr>
        <p:blipFill>
          <a:blip r:embed="rId1"/>
          <a:srcRect l="0" t="-361" r="0" b="0"/>
          <a:stretch/>
        </p:blipFill>
        <p:spPr>
          <a:xfrm>
            <a:off x="539640" y="2708280"/>
            <a:ext cx="33847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SC05949"/>
          <p:cNvPicPr/>
          <p:nvPr/>
        </p:nvPicPr>
        <p:blipFill>
          <a:blip r:embed="rId2"/>
          <a:stretch/>
        </p:blipFill>
        <p:spPr>
          <a:xfrm>
            <a:off x="4427640" y="3213000"/>
            <a:ext cx="41050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Волшебная шляпа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юрпризных моментах, на утреннем круге в играх – приветствиях, пожеланиях, комплиментах; в свободной деятельности детей; в с/р играх и психоэтюдах («Колдовство», «Сказочные превращения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7" descr="DSC06239"/>
          <p:cNvPicPr/>
          <p:nvPr/>
        </p:nvPicPr>
        <p:blipFill>
          <a:blip r:embed="rId1"/>
          <a:stretch/>
        </p:blipFill>
        <p:spPr>
          <a:xfrm>
            <a:off x="611280" y="3211560"/>
            <a:ext cx="3240000" cy="309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SC06653"/>
          <p:cNvPicPr/>
          <p:nvPr/>
        </p:nvPicPr>
        <p:blipFill>
          <a:blip r:embed="rId2"/>
          <a:stretch/>
        </p:blipFill>
        <p:spPr>
          <a:xfrm>
            <a:off x="4572000" y="3068640"/>
            <a:ext cx="387360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Коробка-мирилка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оздания между детьми дружеских взаимоотношений, создания условий для самостоятельного решения конфликтных ситуаций, примерений при ссорах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Рисунок 3" descr="C:\Documents and Settings\Administrator\Рабочий стол\дсад 2012\DSC05947.JPG"/>
          <p:cNvPicPr/>
          <p:nvPr/>
        </p:nvPicPr>
        <p:blipFill>
          <a:blip r:embed="rId1"/>
          <a:stretch/>
        </p:blipFill>
        <p:spPr>
          <a:xfrm>
            <a:off x="4929120" y="3500280"/>
            <a:ext cx="3786120" cy="27864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C:\Documents and Settings\Administrator\Рабочий стол\дсад 2012\DSC06298.JPG"/>
          <p:cNvPicPr/>
          <p:nvPr/>
        </p:nvPicPr>
        <p:blipFill>
          <a:blip r:embed="rId2"/>
          <a:stretch/>
        </p:blipFill>
        <p:spPr>
          <a:xfrm>
            <a:off x="571680" y="2000160"/>
            <a:ext cx="3924000" cy="290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4:39:22Z</dcterms:created>
  <dc:creator>123</dc:creator>
  <dc:description/>
  <dc:language>en-US</dc:language>
  <cp:lastModifiedBy>Admin</cp:lastModifiedBy>
  <dcterms:modified xsi:type="dcterms:W3CDTF">2012-06-23T05:35:17Z</dcterms:modified>
  <cp:revision>33</cp:revision>
  <dc:subject/>
  <dc:title>Паспорт центра  «Сундучок сюрпризов».</dc:title>
</cp:coreProperties>
</file>