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B746-FBD4-42E7-AFAA-FFB86FC2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F9BC-4819-4E41-9304-A0CD9330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635D-185A-43A7-83DC-481E95F6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A701-5D63-4FBF-BD39-FFCEE7D5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8CCC-431A-47BC-93F8-7BA98959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B1F6-5CC2-4A23-A1CF-10BD300C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BB8A-BBC0-47FA-BC91-1D3DCE82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EB8E-8153-4E28-B5F9-6014A12F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90E5-D08D-432F-9718-9C08F0DD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6511-F259-4C41-B0B1-8AE082D0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DFBA-F27E-4568-82B7-777AE798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198B-8EB0-42DC-88C5-80EF037C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4E99-6A63-4228-B062-9443DB95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DEBC-972D-4877-A57F-E86B8F9A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8085-7D4D-4817-B9D6-F0ECD405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0E01-E9AB-4E29-BFA3-9F1E965F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A7E9-E590-46C2-B900-9BF31B2B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C736-57F5-42AD-A1A6-EFD3ADCC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0007-A572-4DC6-A357-8FB018D8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46D2-B25A-4820-A9CA-43A8EE14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6846-90FA-4292-BB28-91D8A275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F996-A8AF-4584-9B11-4347438B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65FC-83A1-47D3-8C3B-126D0170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94EF-CD29-44DF-AE20-575B16B4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1168-CBA2-4F30-9ADD-0C31F6B2DE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2E35-4F71-433D-A5E6-9A9A1CFDE2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ahoma"/>
              </a:rPr>
              <a:t>Урок математики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3691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в 4 класс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Учитель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Климёнок Ирина Викторов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Tahoma"/>
              </a:rPr>
              <a:t>Умножение на 0 и 1.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ff"/>
                </a:solidFill>
                <a:latin typeface="Tahoma"/>
              </a:rPr>
              <a:t>а х 0=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ff"/>
                </a:solidFill>
                <a:latin typeface="Tahoma"/>
              </a:rPr>
              <a:t>0 х а=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ff"/>
                </a:solidFill>
                <a:latin typeface="Tahoma"/>
              </a:rPr>
              <a:t>а х 1=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ff"/>
                </a:solidFill>
                <a:latin typeface="Tahoma"/>
              </a:rPr>
              <a:t>1 х а=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«Закрепляйкино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29152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(10+8)х3=       0х92=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1х24=              165х1=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(6+5)х7=        19х0=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983х1=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ff66"/>
                </a:solidFill>
                <a:latin typeface="Tahoma"/>
              </a:rPr>
              <a:t>«Отдыхайкино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Мы туристы, мы в пу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Веселей шагайте ноги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Легче выдох, глубже вдох.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Впереди течёт ручей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Перепрыгнем поскоре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«Решайкино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С. 72,задание №350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Tahoma"/>
              </a:rPr>
              <a:t>«Решайкино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Tahoma"/>
              </a:rPr>
              <a:t>Прошли- 16 км, это1/8ч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en-US" sz="5400" spc="-1" strike="noStrike">
                <a:solidFill>
                  <a:srgbClr val="a50021"/>
                </a:solidFill>
                <a:latin typeface="Tahoma"/>
              </a:rPr>
              <a:t>Осталось- ? к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«Решайкино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1) 16х8=128(км)-весь пу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2)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128-16=112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(км)-осталос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Ответ: 112 к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Tahoma"/>
              </a:rPr>
              <a:t>«Решайкино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Tahoma"/>
              </a:rPr>
              <a:t>I</a:t>
            </a:r>
            <a:r>
              <a:rPr b="1" lang="ru-RU" sz="5400" spc="-1" strike="noStrike">
                <a:solidFill>
                  <a:srgbClr val="ff00ff"/>
                </a:solidFill>
                <a:latin typeface="Tahoma"/>
              </a:rPr>
              <a:t> в.  58932;868;106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Tahoma"/>
              </a:rPr>
              <a:t>II</a:t>
            </a:r>
            <a:r>
              <a:rPr b="1" lang="ru-RU" sz="5400" spc="-1" strike="noStrike">
                <a:solidFill>
                  <a:srgbClr val="ff00ff"/>
                </a:solidFill>
                <a:latin typeface="Tahoma"/>
              </a:rPr>
              <a:t> в. 347920;704;184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ff33"/>
                </a:solidFill>
                <a:latin typeface="Tahoma"/>
              </a:rPr>
              <a:t>«Решайкино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ff33"/>
                </a:solidFill>
                <a:latin typeface="Tahoma"/>
              </a:rPr>
              <a:t>Длина- 40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ff33"/>
                </a:solidFill>
                <a:latin typeface="Tahoma"/>
              </a:rPr>
              <a:t>Ширина- ? В 2 раза больш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33"/>
                </a:solidFill>
                <a:latin typeface="Tahoma"/>
              </a:rPr>
              <a:t>S</a:t>
            </a:r>
            <a:r>
              <a:rPr b="1" lang="ru-RU" sz="4800" spc="-1" strike="noStrike">
                <a:solidFill>
                  <a:srgbClr val="ccff33"/>
                </a:solidFill>
                <a:latin typeface="Tahoma"/>
              </a:rPr>
              <a:t>- 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ff"/>
                </a:solidFill>
                <a:latin typeface="Tahoma"/>
              </a:rPr>
              <a:t>Рефлексия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Красным- в полную сил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Tahoma"/>
              </a:rPr>
              <a:t>Зеленым- хорошо, но мог лучш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Желтым- недоволен своей работ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ahoma"/>
              </a:rPr>
              <a:t>Страна «Умножение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ahoma"/>
              </a:rPr>
              <a:t>« В математику тропинки одолеем без запинки»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9966"/>
                </a:solidFill>
                <a:latin typeface="Tahoma"/>
              </a:rPr>
              <a:t>«Считайкино»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Tahoma"/>
              </a:rPr>
              <a:t>7301622         80030040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Tahoma"/>
              </a:rPr>
              <a:t>188227501    54000199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ff66"/>
                </a:solidFill>
                <a:latin typeface="Tahoma"/>
              </a:rPr>
              <a:t>«Считайкино»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6560" y="1980720"/>
            <a:ext cx="785988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66"/>
                </a:solidFill>
                <a:latin typeface="Tahoma"/>
              </a:rPr>
              <a:t>90 х 6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66"/>
                </a:solidFill>
                <a:latin typeface="Tahoma"/>
              </a:rPr>
              <a:t>500 х 7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66"/>
                </a:solidFill>
                <a:latin typeface="Tahoma"/>
              </a:rPr>
              <a:t>83 х 2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66"/>
                </a:solidFill>
                <a:latin typeface="Tahoma"/>
              </a:rPr>
              <a:t>9 дес. х 4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66"/>
                </a:solidFill>
                <a:latin typeface="Tahoma"/>
              </a:rPr>
              <a:t>3 сот. Х 8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Tahoma"/>
              </a:rPr>
              <a:t>«Узнавайкино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ff"/>
                </a:solidFill>
                <a:latin typeface="Tahoma"/>
              </a:rPr>
              <a:t>83056,83156,83256,…,… .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ahoma"/>
              </a:rPr>
              <a:t>«Узнавайкино»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ahoma"/>
              </a:rPr>
              <a:t>15+15+15+15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ahoma"/>
              </a:rPr>
              <a:t>29+29+29+92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«Узнавайкино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8487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Тема.</a:t>
            </a: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Умножение и его свойства.</a:t>
            </a: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Умножение на 0 и 1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50021"/>
                </a:solidFill>
                <a:latin typeface="Tahoma"/>
              </a:rPr>
              <a:t>Сравните: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Tahoma"/>
              </a:rPr>
              <a:t>5 х а * а х 5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Tahoma"/>
              </a:rPr>
              <a:t>(2+4)х7 * 2 х 7+ 4 х 7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Tahoma"/>
              </a:rPr>
              <a:t>(3 х5)х4 * 3х(5 х4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33"/>
                </a:solidFill>
                <a:latin typeface="Tahoma"/>
              </a:rPr>
              <a:t>Свойства умножения: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33"/>
                </a:solidFill>
                <a:latin typeface="Tahoma"/>
              </a:rPr>
              <a:t>а х в = в х 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33"/>
                </a:solidFill>
                <a:latin typeface="Tahoma"/>
              </a:rPr>
              <a:t>а х(в х с) = (а х в)х 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33"/>
                </a:solidFill>
                <a:latin typeface="Tahoma"/>
              </a:rPr>
              <a:t>(а + в)х с = а х с + в х с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21:27:41Z</dcterms:created>
  <dc:creator>Сергей</dc:creator>
  <dc:description/>
  <dc:language>en-US</dc:language>
  <cp:lastModifiedBy>Admin</cp:lastModifiedBy>
  <dcterms:modified xsi:type="dcterms:W3CDTF">2012-04-12T14:43:49Z</dcterms:modified>
  <cp:revision>6</cp:revision>
  <dc:subject/>
  <dc:title>Урок математики</dc:title>
</cp:coreProperties>
</file>