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AD3-8A89-4612-BCC6-71F6B25E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093-7847-4BFE-BA89-B2AC097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AC5-CC19-43B1-A9DE-8F93852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51A-DDD1-4822-8C89-596FCEC5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211A-C47D-4C5D-AD6B-32E69691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AA56-ADFF-429F-ADCD-1668A69F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6A1-6C19-496E-8B50-0303520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058E-8FDC-400B-B82D-0E586CD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15D6-095A-4C90-8174-FCF70CD0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87C2-9918-4BA6-BDA0-69DC517A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1464-7335-46D4-9784-0AD004B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CAC-C3AD-453A-9EC5-6CCFADF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4C37-E4BB-452C-858D-EE0DC8A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096-8541-40B1-9F1A-CC085C5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6DA1-987F-43BB-B14C-0F75FA1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97F-A840-4D49-A1A8-B106932D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0A4-5688-4D69-93B2-FEF73C2D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81C-C9E4-455F-8426-11695F8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041-B75C-42C0-A544-67A904A2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121-3D4F-4D03-B0A9-88F16AA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6AB-3916-4DB3-84FB-E3AC88B0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A09-75DD-42D3-B92F-68BA6B9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070-3989-4AB2-8240-BFBB34D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5A6-E5F9-4F2F-9452-11228F5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ADB0-D096-40AD-90FC-33FBC075D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6F5-379B-472F-93D6-F01601325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Урок математик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3691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в 4 класс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Учитель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лимёнок Ирина Виктор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Умножение на 0 и 1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0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0 х а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1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1 х а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акрепля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10+8)х3=       0х92=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х24=              165х1=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6+5)х7=        19х0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983х1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66"/>
                </a:solidFill>
                <a:latin typeface="Tahoma"/>
              </a:rPr>
              <a:t>«Отдых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Мы туристы, мы в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еселей шагайте ног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Легче выдох, глубже вдох.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переди течёт ручей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Перепрыгнем поскор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С. 72,задание №35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Прошли- 16 км, это1/8ч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Осталось- ? 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1) 16х8=128(км)-весь пу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2)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28-16=112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(км)-остало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твет: 112 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 58932;868;10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347920;704;184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Длина- 40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Ширина- ? В 2 раза больш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S</a:t>
            </a: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-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ahoma"/>
              </a:rPr>
              <a:t>Рефлекс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расным- в полную сил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ahoma"/>
              </a:rPr>
              <a:t>Зеленым- хорошо, но мог лучш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елтым- недоволен своей работ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ahoma"/>
              </a:rPr>
              <a:t>Страна «Умножение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« В математику тропинки одолеем без запинки»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99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7301622         8003004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188227501    54000199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0 х 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500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83 х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 дес. х 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3 сот. Х 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ahoma"/>
              </a:rPr>
              <a:t>83056,83156,83256,…,… 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«Узнав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15+15+15+1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29+29+29+9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ем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и его свойств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на 0 и 1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Tahoma"/>
              </a:rPr>
              <a:t>Сравните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5 х а * а х 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2+4)х7 * 2 х 7+ 4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3 х5)х4 * 3х(5 х4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Tahoma"/>
              </a:rPr>
              <a:t>Свойства умножения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 в = в х 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(в х с) = (а х в)х 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(а + в)х с = а х с + в х с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1:27:41Z</dcterms:created>
  <dc:creator>Сергей</dc:creator>
  <dc:description/>
  <dc:language>en-US</dc:language>
  <cp:lastModifiedBy>Admin</cp:lastModifiedBy>
  <dcterms:modified xsi:type="dcterms:W3CDTF">2012-04-12T14:43:49Z</dcterms:modified>
  <cp:revision>6</cp:revision>
  <dc:subject/>
  <dc:title>Урок математики</dc:title>
</cp:coreProperties>
</file>