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78C-7990-4EB5-8F54-56DD597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319-5926-4E9E-95D7-45BC32BA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99B-D91F-4ED8-A7B3-33E34EF1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D95-689B-4D1F-AF23-3E22C9F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95E0-8E66-40EB-9670-7E9BC410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4E37-A2EC-4C4F-BC46-27CE4776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FF89-EEF0-4EEF-96B2-D3668DC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605-7F1E-4F13-9579-7EEFF67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B47A-7EF0-4F39-BC9B-DE1FF057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33F-D88C-45BB-9BCB-D8C74D3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BD5-20B1-4876-8453-9E10461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8D5-2007-4DB4-BF4D-CBF784A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BCAF-BD43-4FF2-8087-5C26808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0FA-CFF0-4A43-9C43-A49AFE1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6643-8684-4470-9904-4EF348A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D7F6-0B13-473C-B40A-21510321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EE6-23BA-4D20-894D-AA3B2C40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F01-E614-4E16-AF83-6AEF09E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14B-44FB-4C5A-82E7-BB507591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559-467D-4809-BD66-C729047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6E0-F7B9-4E5F-91E1-C58BBCE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6EF-66C7-4196-BE2E-4D3B57F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105-986C-4860-828B-D6AFAEC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1BC-0580-4DFC-89A1-3665779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1D8B-D641-4CC4-817F-B8FE47BF2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A79-4A4D-49E0-A59E-B6767A88F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Урок математик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3691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в 4 класс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Учитель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лимёнок Ирина Виктор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Умножение на 0 и 1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0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0 х а=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а х 1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1 х а=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акрепля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10+8)х3=       0х92=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х24=              165х1=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6+5)х7=        19х0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983х1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66"/>
                </a:solidFill>
                <a:latin typeface="Tahoma"/>
              </a:rPr>
              <a:t>«Отдых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Мы туристы, мы в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еселей шагайте ног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Легче выдох, глубже вдох.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Впереди течёт ручей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Перепрыгнем поскор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С. 72,задание №35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Прошли- 16 км, это1/8ч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ahoma"/>
              </a:rPr>
              <a:t>Осталось- ? 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1) 16х8=128(км)-весь пу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2)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28-16=112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(км)-остало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твет: 112 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 58932;868;10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II</a:t>
            </a:r>
            <a:r>
              <a:rPr b="1" lang="ru-RU" sz="5400" spc="-1" strike="noStrike">
                <a:solidFill>
                  <a:srgbClr val="ff00ff"/>
                </a:solidFill>
                <a:latin typeface="Tahoma"/>
              </a:rPr>
              <a:t> в. 347920;704;184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Tahoma"/>
              </a:rPr>
              <a:t>«Реш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Длина- 40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Ширина- ? В 2 раза больш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S</a:t>
            </a:r>
            <a:r>
              <a:rPr b="1" lang="ru-RU" sz="4800" spc="-1" strike="noStrike">
                <a:solidFill>
                  <a:srgbClr val="ccff33"/>
                </a:solidFill>
                <a:latin typeface="Tahoma"/>
              </a:rPr>
              <a:t>-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ahoma"/>
              </a:rPr>
              <a:t>Рефлекс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расным- в полную сил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ahoma"/>
              </a:rPr>
              <a:t>Зеленым- хорошо, но мог лучш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елтым- недоволен своей работ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ahoma"/>
              </a:rPr>
              <a:t>Страна «Умножение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« В математику тропинки одолеем без запинки»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99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7301622         80030040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188227501    54000199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66"/>
                </a:solidFill>
                <a:latin typeface="Tahoma"/>
              </a:rPr>
              <a:t>«Счит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0 х 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500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83 х 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9 дес. х 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Tahoma"/>
              </a:rPr>
              <a:t>3 сот. Х 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ahoma"/>
              </a:rPr>
              <a:t>83056,83156,83256,…,… 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«Узнавайкин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15+15+15+1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29+29+29+9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«Узнавайкино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ем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и его свойства.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Умножение на 0 и 1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Tahoma"/>
              </a:rPr>
              <a:t>Сравните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5 х а * а х 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2+4)х7 * 2 х 7+ 4 х 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ahoma"/>
              </a:rPr>
              <a:t>(3 х5)х4 * 3х(5 х4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Tahoma"/>
              </a:rPr>
              <a:t>Свойства умножения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 в = в х 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а х(в х с) = (а х в)х 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Tahoma"/>
              </a:rPr>
              <a:t>(а + в)х с = а х с + в х с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1:27:41Z</dcterms:created>
  <dc:creator>Сергей</dc:creator>
  <dc:description/>
  <dc:language>en-US</dc:language>
  <cp:lastModifiedBy>Admin</cp:lastModifiedBy>
  <dcterms:modified xsi:type="dcterms:W3CDTF">2012-04-12T14:43:49Z</dcterms:modified>
  <cp:revision>6</cp:revision>
  <dc:subject/>
  <dc:title>Урок математики</dc:title>
</cp:coreProperties>
</file>