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4DD-E167-4623-84BA-AEE4086E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8E1-8D79-4D8B-9C78-B4DD6784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D2DB8-A1B9-449A-A95F-4C2C090A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B5953-9A31-4870-B654-F5CE3D1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8838B-19B8-46A1-B808-B990BBE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279DD-F5E4-48B3-B52F-50C7511B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26E23-26DB-48CB-8424-2C89513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FEA1B-CCA1-421E-A7AB-A112723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4487A-34A1-4FD0-8ADA-A726D06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CDE08-CFBC-43F2-9AB0-0A67CBFB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8EDC5-49A5-4EF4-AE5B-0DE536CD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E9E7-870B-427D-A3FC-F82089B0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A11-6BAC-48D0-B37A-2E147270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584A4-7E87-45B9-8BEC-2DDECF8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7F8C9-5890-467D-89EA-11EBCD3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9C986-F466-4870-BBF8-77C6024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602E-38BB-478B-92E8-2D5D6C9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4A9FC-8BE3-429A-8290-D534EC3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32646-AC6C-4EFB-A92F-DCF9ED8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0F956-020B-42DC-8909-0C8327AD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FD6AD-6CFF-4FB8-96AB-861D285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B91DE-0293-4424-8EBC-19A4FA78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3FDFA-4501-49EF-A836-9FA0BC16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D80-1D32-4B27-9F47-74A2807C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A1843-FE43-47DF-B84E-2E9A21D5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C5A5-8AA0-4A49-81FE-341555C6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80E65-A3CB-4127-96DC-877D138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9058-A8E0-4A4A-BF6B-0C7F828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BACD4-2891-4138-9F3E-3B1015E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189B-FB8B-4F01-B3AF-192EB27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A2A2-681D-43FA-B838-F9DD8EB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491FC-896F-4AFC-A2C0-E5E92E2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BA6B-3765-42B6-95DB-5D7548A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7D993-5423-42F4-A167-864361E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2892-D98A-4A99-96BD-CF766A30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B9A50-70B2-4839-8A6D-99ACAC3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CFA3-BE01-40E0-B0B3-97E2F95B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1D975-5B75-4D59-AD06-8AC77275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96A016-052C-4060-BC76-2022950E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7521D7-7D76-4E4E-8E73-8C0CCB6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2710A0-3A3E-4A72-93C5-95FC7E31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1CE759-ACD1-4750-BCA0-9E7D0344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136AD-F7FE-4981-BF00-B466700E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7DAC07-BDBE-4B26-95EE-184611D9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27C82A-0C93-4D53-B2EA-CA52740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4073-6D63-4637-A3C8-517D66D7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B80D9E-F54B-4C32-B6F0-F5A314D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4074E1-7F8C-4867-BDCE-0D8C697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CF30EE-3C34-4CBF-B955-CB851CD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D44E28-2E28-4C41-9F8C-56D3554A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9F783-F01E-48F9-91CD-CD8AFEB7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ABC13-3623-4BA5-85C9-2114514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F615A-68DA-4369-B8B4-C86F159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E3684-303E-43BA-9100-4FC5894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F563F-31C9-41A6-BEC1-324C7914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A21EE-3217-43E3-ADA5-A190AD0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E99-ECF3-4220-9752-23206A5E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0E5DF-F474-4D3D-8FC3-9BCE354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75368-EDCA-4CE7-896D-76DAABD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162FF-A2FD-462B-BCCB-561D9F4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0992B-5346-4E78-AB32-643B27F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0598-3BDD-4DBE-BE6C-B3FC78F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853C9-78BE-4590-8DAF-5DED9D5A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730BB-5DCC-4976-8757-804202F8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9E200-0194-4D48-B538-52BC517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91633-95B5-4414-B698-F765041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2079D-538E-49C6-B05B-3C22BC90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1F8-49E1-4D0B-9B2D-A6C1F30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BF9A0-5FBB-49F4-A040-3CD558C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530E8-F675-43AE-8715-DEE7F54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4AA49-F951-41AB-B9AB-DD1A9DC2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F59EB-517A-4529-B137-4B4DB309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C3D31-9A0C-4E74-B197-ED7415A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49262-1C91-4CCA-86DB-C571500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E1247-A54E-4A60-A8C4-075E3F43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4A5F9-70BD-4161-B0E8-5FFCACC4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6FBB6-A174-4454-8F20-C4E580C1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ED7-7F33-4748-83C1-4DCC37BE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5686-6F3C-4D38-95BB-AFEEE6A0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7C1B-8C92-4499-802D-25331AF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D74-C77F-400F-A2F5-77417CE7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2D84-2942-4A48-BB57-A71813D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39B6-0FBA-4EE6-86DA-96573C0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DB49-BC7E-42F5-A28D-4540FB49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C18-A521-4D2B-86C3-11B726B6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8134-F528-4E41-A6EC-B713443A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95BD-7BC9-4164-8704-7A9D9B2A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F69C-F02A-4998-9E9C-77FA134C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0081-CE6D-4CFE-AC47-83C038B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5C08-E83D-44F2-B073-9A54995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17C6-1C3D-47AE-A00A-80682A8C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E9E-E872-4DA8-94C7-E60C480E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E8A8-F958-4844-AA9D-4754BA38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3A5F-297C-4EA3-89A2-F3CCBF0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6972-906A-49AA-B72D-707E2007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E8F5-4ED7-4C9D-85F1-DFD06D5E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9762-7131-46FA-93FB-D4F0A8C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3258-BF89-4D3B-95EA-CD74518B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E0A7-F8F7-466A-9087-120F94E6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D3BD8-C74D-447D-B375-7C192061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FBA74-1A23-47B5-A211-1E7AE15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02DF0-0E81-4637-8E9D-A4EAF68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380-977E-4FE1-9EFB-03D86C6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4D832-006E-474C-A2F7-409965E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B5A03-295E-484F-97F2-4F0007CE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3D115-FA73-4D42-876A-F824E84B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A474C-A963-4898-96F3-E064A7E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A2AF3-440E-44E9-89B2-E73C7B0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6186F-A51D-4DA9-89EC-A2CB6B5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5CE2A-548B-4329-AEFB-BDAF6C3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F0188-5FC0-4CF5-9CA2-FCC1544A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E5D98-1B64-4AF2-95CC-C785E2F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06FF-8A3E-4B1F-B6F2-01DCA29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157-45EA-49CB-A107-F1EB42CE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30D0-BAFD-41D0-94F9-271A6CA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ABF5-9BD7-49AD-BD6A-1019B5E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9627-E395-46D8-AB35-0C5F5E3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E67B-97A9-41FF-8571-9AD8D46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41E8-424A-4EBE-B093-74C0BA7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9026-9E2E-40A1-BADC-E9502BA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9CD3-C9A6-4B90-8505-26E5F86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81A7A-E464-4CA7-9A5C-86693AE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97A3-2FDB-41DB-999B-E10910B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8E15-4BF5-441C-AA24-733A8EF1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E3A-DD01-4918-B1F2-02C939D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8EB7-183E-43F6-8191-24819E2B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6C8FF-93B7-48F6-A347-264C61A9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52373-DCDA-439B-84FC-088FD02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1D75-9E10-4CA9-A7E4-9987315D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A3BE7-D64F-4129-AB54-1470FDC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C847-30F0-4E69-A486-34C30EE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21A0-6738-4DC5-9996-85EE477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F2A4-25CD-4EBA-84C8-300BACC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1B58-A260-4C1E-A66A-FCF91F9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AF09-1C6F-4387-86B8-1BB3639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589-1209-413F-AC9E-DB53AC9E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40FB-5EDA-4934-ABD5-3CBB2255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8730-5888-47B5-A18E-D0C8F96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F4D7-0888-46E6-A9CD-276652F1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225E-0E34-4B18-9ADD-AE8B6837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0E01-9964-458B-830E-960F70F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88C8-1A0F-406A-8A65-F5482A5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D45BB-2889-43C7-A969-3D14CB2B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FBBD-A18F-4FEF-9D44-9C2F026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BF96-713D-4AD8-B1A7-3AB03F3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2829-ED9F-4C4A-B650-CEA90761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052-0440-4702-ABF2-9440233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76BBD-F8D1-4467-8E53-AA8CBD4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13B4-0C52-491C-AAF5-8844708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206B-980B-4510-877B-B49F3BDC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04E8D-B0FE-4EA1-A799-BFBBE5D4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76EC-BFBB-493F-8FA9-6D1B5FC9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BC22-6703-49B6-906D-590F5137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11ED-E5AC-4C99-943C-C9800F9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23178-6D7A-4316-9EE1-94762C1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31189-0941-4D31-8B7A-840E394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0561C-1BA7-48BD-B014-1D08B180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A24-2C9B-416B-BC0B-38F236A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10BD-9F6F-4E5E-A73B-C926809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52B3-CAB1-4FC2-9BA0-8900076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2982-5E9B-4E8D-BE14-ADABDAA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A7D8-F9EC-4B33-B0DD-19626AA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8F0A-220C-4B80-B505-256391F2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ED81E-01AD-4663-9408-22E69D36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71EB-AB19-4458-8679-5161CEDE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74F5C-2272-4157-BCF9-31148280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540B4-9427-4F42-85B7-CDE3E1C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59CD8-AF90-4D04-BC40-1B2E4CB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273-2690-45BE-BB83-FE2246BE8DD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B05-19F0-4384-BA32-25B461D04F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DA2-506F-45A3-9030-C4568AD7B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954-9F5F-4ED2-B787-7C19B127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E04A-9D6B-4C8F-9E7A-E0C506721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6D1-A2EE-4D68-B6DC-613D1FE20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FA1B-7CFA-4052-8D0D-D11F7421A03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CE9-9C65-450B-85D2-F372545E7B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402-4C62-4E63-80BB-A6E36F82DC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F29-ECC9-4841-A475-541275DDD5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C808-0FE3-4BD8-B968-B2C1C015F0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A88-1048-4F11-9483-5D2133E8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F60-2A20-4626-BB17-F12B86089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2D3-8E4D-413B-B208-C1E83A45EF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цифика деятельности социального педагога в школ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179280" y="504360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29 4.04624E-007 L 0.8816 4.04624E-007 E">
                                      <p:cBhvr>
                                        <p:cTn id="12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ся деятельность социального педагога должна способствовать созданию обстановки психологического комфорта и безопасности личности обучающихся, обес­печению охраны их жизни и здоровья, установ­лению гуманных, нравственно здоровых отношений в социальной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-1260360" y="5043600"/>
            <a:ext cx="176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4624E-007 L 0.91129 4.04624E-007 E">
                                      <p:cBhvr>
                                        <p:cTn id="91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феру профессиональных обязанностей социальных педагогов входит работа с детьми, подростками, молодежью и их родителями, взрослыми в семейно-бытовой среде, с подростковыми и молодежными группами, объединен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ункции социального педагога в школ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рганизует воспитательную работу в классе, группе, направленную на формирование общей культуры личности, адаптацию личности к жизни в обществе, уважение к окружающей природ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учает психолого-педагогические особенности личности и её микросреды, условия жизни, выявляет интересы и потребности, трудности и проблемы, конфликтные ситуации, отклонения в поведении и своевременно оказывает социальную помощь и поддержку обучающимся и воспитанника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тупает посредником между личностью и образовательным учреждением, семьёй, средой, органами в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80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7715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ует реализации прав и свобод обучающихся, созданию комфортной и безопасной обстановки, обеспечению охраны их жизни и здоровь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ёт условия для развития талантов, умственных и физических способностей обучающихся во внеурочное врем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заимодействует с учителями, родителями (лицами, их заменяющими), специалистами социальных служб, семейных и молодёжных служб занятости и других служб в оказании помощи обучающимся, детям, нуждающимся в опеке и попечительстве, детям с ограниченными физическими возможностями, а также попавшим в экстремальные ситу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нструментарий социального педаго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чес­кий инструментарий социального педагога включает в себя как социологические, так и психологические методики. Поэтому в методическом багаже социального педагога значительное место за­нимают диагностические методики: тесты, опросники, анкеты и др. Также большой интерес представляют разные отчеты, справ­ки, таблицы, документы, медицинские карты учащихся и прочее, что всегда имеется в нали­чии в любом образовательном учрежде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630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е место в деятельности социального педагога занимают стимулирование и собственно развитие социально ценной деятельности обучающихся и взрослых, поддержка социальных инициатив, мероприятий, акций, социальных проектов и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Методы изучения семьи учащего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ая семью, важно выяснить, как уживаются в ней такие понятия, как любовь, понимание, жалобы, трудности, желания, надежды, отношение к современному состоянию общества в стр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уб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месте с семьей он разрабатывает для ребенка варианты реабилитационной програм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наблю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дагог наблюдает за общением ребенка, его поведением в семье, в школе, на уроке, со сверстниками, его труд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бесе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жно, чтобы к беседе социальный педагог готовил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Метод социомет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математической обработки собираются данные бесед, анкетирования, опроса и алгоритмов, оценки кризисного состояния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203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заключение хотелось бы  сказ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58920" y="549360"/>
            <a:ext cx="59259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циальный педагог – это должность, предназначенная для профессионала, компетентного специалиста, конкретного субъекта воспитательной системы. Он не похож на школьного учителя или другого работника образовательной системы. Ему приходится действовать непосредственно,  в среде, окружающей личность – общаться с семьей, «трудиться» на улице, где нет привычной ситуации с привычным и определенным школьным режимом, наличием авторитетов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539640" y="472428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20231E-007 L 0.10243 -0.81133 E">
                                      <p:cBhvr>
                                        <p:cTn id="82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47:50Z</dcterms:created>
  <dc:creator>Admin</dc:creator>
  <dc:description/>
  <dc:language>en-US</dc:language>
  <cp:lastModifiedBy>Admin</cp:lastModifiedBy>
  <dcterms:modified xsi:type="dcterms:W3CDTF">2010-03-31T07:43:16Z</dcterms:modified>
  <cp:revision>2</cp:revision>
  <dc:subject/>
  <dc:title>Специфика деятельности социального педагога в школе </dc:title>
</cp:coreProperties>
</file>