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BF1-5135-441D-8B4F-09A01157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A3D-F4F6-469F-9ABD-950C5D6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BE1C2-9B07-4ED5-A037-5DB67D4E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B1DB8-1895-4A50-A2D1-3F6BA42D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F7D8A-7E02-4930-8003-F0186246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DCA77-CF7F-4A60-8B5F-3EE1CB90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9206C-B9DC-41C0-9103-CB761F6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CE934-CC0C-47D5-8FEE-97F633C2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391DE-EF1F-4274-9533-822DC5C4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024B1-441A-4300-A7C0-EAE82539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A7FEC-C946-47F7-931D-E3B29129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D909D-1165-4D89-A389-4E37E901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557-AD16-442D-83C1-55307869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6CAEE-B99E-4C23-A8BF-4E34016F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868E9-D22B-4F77-89B3-F37F756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179B9-A0C2-40E5-BE48-3E6969AF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96DC4-08B5-40A6-A665-39E97AF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959D4-1CBA-4F74-96CC-1A06C1C2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90487-E8BB-4B7B-9844-EA748C80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8BF86-3E5C-4EBE-9553-B0ED2F3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DE5EA-BAE7-40FE-A30B-15FC12A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41A22-54A7-435F-A02D-7C6047E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3A7FF-94F7-42F8-B979-64D9A75C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B5A-DC12-4A06-8DB6-4E4273AB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64375-ED32-464E-B7DB-355F64D5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78AA5-AD50-4B20-9937-255627A8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3E1B4-0A5A-4798-ACA0-439E123F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E54BC-9605-480B-8795-4CFAF3C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5D257-67AD-463A-AB7C-A7932F04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F78E0-6BC9-4C34-AA19-05CB63D8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4CB46-A2A8-490F-BF64-F353EC7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35ED0-15D8-4172-80CD-376243D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EB918-B8B3-4E29-B937-9D19F5E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500D8-0064-4E6C-8241-F674FD9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BF08-0037-42C4-ADD7-E835E216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6A31-BFBB-4E97-AF36-644FA2AB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102A5-9FFE-4AEE-A50E-0A68EA6A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96A5B-55A3-4493-A5DD-A941519C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D3C17-69C9-41DD-935D-C38A2FAC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EFD037-271E-4A8C-8F0D-20A8FB2B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850FDC-B42A-441B-BC57-78C8E286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4C8767-BD2B-44B3-B131-C2136F9B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87FC20-84A0-4D67-ACC6-71F54E02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4DEBAB-FEE9-41BF-80AC-1664B5F7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85D49C-0811-4F88-AEBD-C7695FE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F86-44C4-446E-8E90-BDB3A52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C7F853-9A8B-47B7-BAF6-1951B1F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610E7D-EF6E-4C37-98C3-1A333E6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F24645-7FAA-4DC1-B04E-4E3B2FD7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D55283-DFB3-4B38-B64E-04989848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7D782F-20DC-447C-B789-E401C0FF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86D07-D635-4FD5-ADB4-C46D3EDE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3B45A-D3AC-4FB1-AE04-BC8DA393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C5EDC-B7E0-42EB-AC5D-43D55708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F8743-8980-4A15-BC18-588DFBE6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07D6E-926B-4B7E-9C66-3C5725F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590C-E4C7-4594-8BA4-D4550A2B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34CE3-75F5-422E-A242-F27A19EB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89929-FA1D-4FBB-9065-21B7A4C5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E0999-1FB5-4F6E-B4A5-A941EE2B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0B5ED-CEB8-4BE4-AF25-CE198B61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C9045-F9DD-4376-B783-1BE6E02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A0047-7CB7-40D6-B470-162D3093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7909A-226E-4625-BFEA-B7385A37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99093-C1C8-45A5-8246-4A3FE8F3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A5F0B-A72C-4FDF-AAD3-81834499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D2EA7-A84F-4FDD-A030-43AC2A65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76F1-1391-4BDB-98C1-EF3E7227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A9B4D-75C7-4763-8739-EE9C16E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DB53E-6D17-4E87-895D-EB387E5A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94951-0A3B-46D1-ACA3-1A7ECBF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6C2F1-F79B-4ABA-BB64-0FD31162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4FA36-4AF7-4FF8-9AC2-324828D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B12F3-C066-4366-9699-AC20176E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FB26C-7457-489B-AE6A-3C3C5E00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C1633-E884-4165-9733-ED1ADF73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01E37-32D5-47DD-AC25-791FDFFA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5C0-6A56-45F1-9FC5-1A429C9B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DBA0-052E-4054-B321-04FDB45E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F73-042A-4E7E-9963-BF8B7F20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993-41AC-481F-8525-B4C3588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F6CF-D0EB-4EBB-B84F-B3A11BFC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E6D6-73D4-4455-ADA0-7F7E3291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91A-D254-4D96-B84F-868A0D21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3F56-295C-4767-AF2B-CC6783E3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F2AB-2CCF-4529-AE8D-B766FC57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DC7F-A2E5-4D60-A9FF-6B2283BE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B43E-768E-473F-96A4-B5823B7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AF7F-3FA8-486D-A497-F56260FA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8B05-57C1-4B45-A119-901DDD11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674E-F57E-4C70-9A35-9897AAC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590-22CD-4D61-A525-37EB3E87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F9EE-96D2-4A49-9AD6-0EBADB2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7A93-0462-4555-93D6-969323F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1E2B-E98A-4A4A-830F-0218FF3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4BA2-DE65-466F-8AEF-99F898E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B6AE-A9FF-4C4B-A5F1-49AB6DB3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37C0-F3CB-4B06-9BAE-3B01DDB7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1415-E178-42FD-A34C-BCECDCDB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25CB2-A99C-4EF0-9D5D-93BEE5AE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2CAE0-2E83-4A42-86A6-3B9FDB15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5D68F-0C0E-4DB2-9D1A-52880AF7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AB7-A58F-4F84-B815-D7CC3153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06F82-DE5E-4EF4-9C95-020B461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738CC-A899-49D5-8190-68E1C5E4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9E9DD-9239-4D1F-B75E-31E32EF0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31CDC-6091-429B-B8B8-43B925C7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875CA-7C1C-4E00-82B5-834DFFC2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F73C6-9A9B-4C18-A555-366F8984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63645-CB72-4749-83F3-02041EA2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E23CF-503E-44C7-88D5-339EA8FA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3A320-131C-484F-8023-8A701CC3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DCB5-1580-4C6E-B8F9-7A8060FA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0E4-6413-4230-A485-C46B094C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96A5-9692-4D53-9B14-B703C4AA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D7D0-EE7A-4EE4-9001-4FD6CCE7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69F0-40B1-4B7D-BDBC-CCF83FFE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4C8C8-7F3F-4ADE-B0F6-4FED38A9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97194-8DCB-4727-BBB5-96E41410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63BC5-9903-48AF-BCDE-E3AE021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D2A9-1E6D-48BA-8D91-D36AADF3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B0895-652B-4332-9ED2-A8BD7DA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6FCE-5380-4475-991C-7E640325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0919-CC0A-4A7F-9D91-AE8DB147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939-8C8C-43DE-93AC-4888BE1D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FFB5C-0935-4BA3-BD55-6F7B02CC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D63E-6241-4E3E-AE36-6DF3920C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3D818-8C64-4369-8327-DEFE3F06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EC6E-E0C2-4A1D-8A01-405A8A4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903B-6CD6-4C23-B315-2D9DCB72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886F-8898-4742-A819-1B66412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73BB8-1F98-4961-A428-548FE25C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D13E0-E33B-473E-BD3D-B53C9E2A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6F4F4-535F-4CC5-BE75-AF0E3BFB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A37C-258D-49E4-9D1A-1CD43D6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45A-531D-45D8-9FB6-511A9A5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FB492-AC51-4810-807A-CA8AF7E3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24964-8090-44BD-B6BE-C8FBD8DE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7FA89-5058-4F61-957F-EC58E2B7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9134E-3BCF-4864-B6F2-08B3D3CD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98D89-FE3D-4081-9117-1B3A301C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1EB8-581D-49B2-91B8-42368BC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77D82-FF29-4919-A418-370A0B6E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5259-9E78-46BA-9D3A-209C16E2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BDA3E-29F9-46E3-BDC2-934A5B03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1D65-56F7-48FB-BBBA-11F5685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996-11B3-4659-8333-2A09B23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0ABD-14F5-4187-A2B8-15E3B3F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5DD32-9F07-4C03-AD84-013C7136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7AB20-340C-47E2-BB20-3EE8691B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E930-2C31-4D0F-847E-4EB22671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0F2B8-5FC0-41B9-B491-5F6B5B39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23796-8037-4D73-8B56-9EE44FE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6F6F-D5D7-46CC-95A9-CBA57704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8191-C8FA-479F-B999-CB46F62F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D47BB-EA9F-4736-8535-D7B30637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DE6F-52CC-4585-9766-A6310A3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1E3-F693-4D9B-AE64-B42981B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2708-3574-4C32-84A9-621AF0DE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6CCD-F35B-4CB7-AA80-6DC4651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C4A8-BC2B-4787-A9E9-24854C5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44586-32A5-4F62-8344-B9705C6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E71A9-EBB6-4C1D-93DA-FEF34899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BE19-2A1E-4CE7-B518-591F0BD6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C46F8-C268-4498-AD71-EF01FA5E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B99C0-E3A5-4A09-B3B6-B2240A38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93A1A-1887-4704-87D2-6C418C82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E96B3-85AB-40BD-B28A-A655D9B1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4A9-B816-4DB6-869C-9480CF72FED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D7CA-0032-4D92-915A-C11E106C78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595-4430-40E1-ACFE-209C7A8C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145-3010-4550-B9E5-DDFF0BE73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8D36-EA79-41F3-BB9D-6783C4C26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D2E0-F4FF-4786-ADAF-F411CEE98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EF6D-8E32-4865-BD7F-BB670D4D0E8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5B50-F568-4D12-A112-ACBF55E3C1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483B-716C-4AA5-AC1D-F6EE5E6F5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7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0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0594-AC19-4052-A178-6DBD301D15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1F9-8F59-418F-AFA8-CE1522C9A5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2E8-3E72-489A-9F7E-F93B109E7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3FD9-90B1-4625-A54C-4A7F80A4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F96A-23DD-408B-8979-95E1F0B0A4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цифика деятельности социального педагога в школ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179280" y="504360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29 4.04624E-007 L 0.8816 4.04624E-007 E">
                                      <p:cBhvr>
                                        <p:cTn id="12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ся деятельность социального педагога должна способствовать созданию обстановки психологического комфорта и безопасности личности обучающихся, обес­печению охраны их жизни и здоровья, установ­лению гуманных, нравственно здоровых отношений в социальной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-1260360" y="5043600"/>
            <a:ext cx="176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4624E-007 L 0.91129 4.04624E-007 E">
                                      <p:cBhvr>
                                        <p:cTn id="91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феру профессиональных обязанностей социальных педагогов входит работа с детьми, подростками, молодежью и их родителями, взрослыми в семейно-бытовой среде, с подростковыми и молодежными группами, объединен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ункции социального педагога в школ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рганизует воспитательную работу в классе, группе, направленную на формирование общей культуры личности, адаптацию личности к жизни в обществе, уважение к окружающей природ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учает психолого-педагогические особенности личности и её микросреды, условия жизни, выявляет интересы и потребности, трудности и проблемы, конфликтные ситуации, отклонения в поведении и своевременно оказывает социальную помощь и поддержку обучающимся и воспитанника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ступает посредником между личностью и образовательным учреждением, семьёй, средой, органами вла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80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7715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особствует реализации прав и свобод обучающихся, созданию комфортной и безопасной обстановки, обеспечению охраны их жизни и здоровь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ёт условия для развития талантов, умственных и физических способностей обучающихся во внеурочное врем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заимодействует с учителями, родителями (лицами, их заменяющими), специалистами социальных служб, семейных и молодёжных служб занятости и других служб в оказании помощи обучающимся, детям, нуждающимся в опеке и попечительстве, детям с ограниченными физическими возможностями, а также попавшим в экстремальные ситу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6443640" y="4292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нструментарий социального педаго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чес­кий инструментарий социального педагога включает в себя как социологические, так и психологические методики. Поэтому в методическом багаже социального педагога значительное место за­нимают диагностические методики: тесты, опросники, анкеты и др. Также большой интерес представляют разные отчеты, справ­ки, таблицы, документы, медицинские карты учащихся и прочее, что всегда имеется в нали­чии в любом образовательном учрежде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4630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ое место в деятельности социального педагога занимают стимулирование и собственно развитие социально ценной деятельности обучающихся и взрослых, поддержка социальных инициатив, мероприятий, акций, социальных проектов и програ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Методы изучения семьи учащего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ая семью, важно выяснить, как уживаются в ней такие понятия, как любовь, понимание, жалобы, трудности, желания, надежды, отношение к современному состоянию общества в стр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уб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месте с семьей он разрабатывает для ребенка варианты реабилитационной програм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наблю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дагог наблюдает за общением ребенка, его поведением в семье, в школе, на уроке, со сверстниками, его труд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бесе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о, чтобы к беседе социальный педагог готовил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социомет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математической обработки собираются данные бесед, анкетирования, опроса и алгоритмов, оценки кризисного состояния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203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заключение хотелось бы  сказ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58920" y="549360"/>
            <a:ext cx="59259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циальный педагог – это должность, предназначенная для профессионала, компетентного специалиста, конкретного субъекта воспитательной системы. Он не похож на школьного учителя или другого работника образовательной системы. Ему приходится действовать непосредственно,  в среде, окружающей личность – общаться с семьей, «трудиться» на улице, где нет привычной ситуации с привычным и определенным школьным режимом, наличием авторитетов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539640" y="472428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20231E-007 L 0.10243 -0.81133 E">
                                      <p:cBhvr>
                                        <p:cTn id="82" dur="2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47:50Z</dcterms:created>
  <dc:creator>Admin</dc:creator>
  <dc:description/>
  <dc:language>en-US</dc:language>
  <cp:lastModifiedBy>Admin</cp:lastModifiedBy>
  <dcterms:modified xsi:type="dcterms:W3CDTF">2010-03-31T07:43:16Z</dcterms:modified>
  <cp:revision>2</cp:revision>
  <dc:subject/>
  <dc:title>Специфика деятельности социального педагога в школе </dc:title>
</cp:coreProperties>
</file>