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0DD-DDBD-44C8-A1EC-2E18C081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5EB-A33B-4339-9AB3-864B24A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190C-A441-483D-8C4E-3EE3C043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A13C4-D28D-4A68-9674-3F511E1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3B99-C5BA-498C-BBB1-9D8FA4F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E5C5C-49E2-4D55-BAEB-8EAD498D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515EB-A9A8-4B74-88AF-EE00AEB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06696-DC58-4665-8F3A-DDED4C5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714A2-4E93-4524-8EB6-28403372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2CD7C-3102-463A-873D-7E95C04B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D89AC-71C9-456E-82F7-DBF5B689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8BAA6-5549-4E1D-8C8E-2F685239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BB6-CBFB-4178-A270-71FA7BB5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A6F13-F4BD-4FF7-97C6-0C896621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5050B-CA7D-4770-9EDF-4AB00F4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5AE53-A24C-40D0-8CCD-4C35FFF8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1B0F-FE21-4F57-9FA5-8D44D64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1A89-B316-4A8E-A08E-2DA20D7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55738-595A-4876-9A19-776114B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3F683-FACA-4275-BFE3-E685BC0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5512-920B-453C-9AC7-9B24488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69F59-4ADE-4A8F-B96C-F210680A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3D20C-42C8-4BB4-B2CA-DE932505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1A7-9214-4E42-A5C8-27B274E9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0C90D-118E-42F8-A4B5-18F5182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6D618-57E5-45D2-B881-691E7B3A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55EA-1FDA-4FDC-91F0-8E4877C5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F3174-293D-4CD6-AEB8-A30BA42B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CF71B-5B0F-410C-AA35-330F23F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DC57-E775-44AC-8DC2-D40E84E4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EF830-0D58-4BCE-818A-F745E54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3191-9A49-435C-81EE-3A05A54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81AB1-6524-4010-868F-0B4F877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DB3B-188F-420A-9206-77FB305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16C-A394-464A-A140-2DA8A028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65EA-C9CB-4C1F-87D9-A95A1D8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B2755-C4C0-47A4-ACD0-0D65D243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D0D8D-A132-4757-9021-BB4593C5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6FE700-97E6-43C1-B444-D05A5453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4E1E19-3971-4E48-8457-F89DFF56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338F14-7327-4411-B3C1-5917A4F1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B40D21-5590-4627-8C31-583C920E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8EB8F0-309F-49A5-B61D-5EB94C98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4A3B47-5AA7-43D4-A865-9D4E36A2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FB6411-54E2-4C20-8CD3-CD1FA7B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47D0-57F0-453B-A634-EFC991A8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5F5C4-941F-458D-B229-988E883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05D7A7-2F65-42B6-A40E-22CB65A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62161B-8C3D-4202-9CA6-A97EA19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0924A8-C85B-41D5-B5E5-439795CA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6D76D-461D-4C93-919B-C03B881D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6B1B6-43CA-463B-B617-76FC7E0D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54CA8-FF7C-4B50-8AAC-D2F2EF6A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D8A9D-E974-4BA0-8086-1EF4E125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CC3AC-B264-40C7-8A99-231D1F2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012E0-71E8-4F16-A361-4E4373B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DC51-9D7E-46D0-BF3F-A7FEF98A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44C4B-D278-483C-B254-F6520EA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48C34-A6A9-44D6-BC30-55DB0C0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B2016-3D3B-4A7D-8914-DB71AC4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002FB-BC47-4E1D-833C-38840EA5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1F95C-08A9-43C6-A321-5D52E33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80824-05EE-44E2-8462-E37F6322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D024B-2FEB-4EB5-B8FE-8263A0F2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60B11-8369-46AB-8CCE-5A0BF4A9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98BF4-026B-4ADC-ACCD-04AB4339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07B5C-0CB3-42B1-AD98-5B9E2E43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143-D6DB-4DBC-BBE6-A85B015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6466E-C233-4BB0-9012-99C116F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6CDC1-67F5-4E09-A800-B6506BA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9FC77-A017-45CB-9D6C-52DB651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B58E1-35BE-4C9A-BCD3-CF594E2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F6C14-BB36-4817-ACFC-E446C28E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A2B4C-FE45-48E8-B033-6714FAD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53C6F-E415-4A22-B21D-A435C84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4E5E3-4627-45A8-A33F-AFC9C513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51DB6-10E5-4385-A90D-E57B6591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7874-947B-4B15-AFB1-23F5645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D049-86CF-49D7-B208-2B27147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47C4-1BF4-4A6F-BD0D-2FE5EDF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349-86F6-46B3-A7AB-B07C347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483-AF2C-4A3A-B052-94CC476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01D-BA9F-46C4-9640-FD19BD1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C6A8-47BC-4551-A7E3-61F839E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1D83-1AED-4432-9D80-D9625D4C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FD2-6C23-4F7E-8246-BB471E9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5E21-CAC6-409D-9085-ED172BAF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706A-6B9D-4198-86DE-4EF2492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4968-EC49-42A6-9423-DA337AE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9033-ED59-43FE-8F8E-678C0F10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BF98-DF14-46F0-8C20-A6E91492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AED-DA9E-48E9-AEA6-C14FF81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2B92-2D47-49DA-A5DE-728E0AA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DDBC-A915-4E7D-99F4-74D0D2B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ED70-BF28-42EB-8D31-02CB1F1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EFC8-95FB-47D6-9277-FC57ECD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8846-4D50-46E7-98DD-06DA956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159C-B37E-482D-B696-FCBD1344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AAA5-A444-44F7-9F93-C657A3C4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365A1-DE6D-44C3-9EF2-DFBBCD20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1A71F-F2CD-4104-9671-D8CD3B8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DAB3D-FED2-4411-A1EB-0864EEE1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85A-81EA-4279-8B2D-111B6A3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6BE8E-0EAA-4748-A97B-E972795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59C80-DCBD-443A-9AEF-85B6DCFF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D0419-8B34-4CCA-8899-518D3552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411FB-2B25-4F99-A8EF-F21995A8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E2665-FC85-4343-8797-A20BEEA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BDEC2-4F2B-4374-8FAE-2E6E67F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23DAC-4D0F-4770-90A5-F1DB0E4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8C0F2-16A7-418E-A8A7-5C886702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16EB3-5D7B-4905-BB5C-79B20D26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7A06C-1D03-4D7D-AD48-5A030D1F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AA9-4AA3-4CAE-A3E1-286D5697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DA88-B602-40BB-A893-8096CE8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4B23-BD49-43F7-9551-4149090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24BB-328E-4509-A456-297B127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9D48-5A6B-4E35-B354-E2CFDEC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C80D-4069-47F3-A0F7-293723F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04F7-745D-42F5-AD54-B94F6864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B614-DC14-47DC-A579-1FC9585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A669-B9CA-4D33-967C-50FC0B6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56D2-453C-450F-95EA-196B5E65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3533-15BF-4033-9CE3-C592C406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96D-CEBC-442C-A25C-A62F224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4BA6-DF02-4647-907F-3CA2956C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4F1A-D4AC-459B-8E25-585068A4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11C73-5104-4C9C-8822-4FB0C3E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BDF6-9B29-476F-8F14-3FD2072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70BE-9040-400E-B512-38957BE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587C-2718-4407-B2F9-16F9FAF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0716-20E0-46C6-8B5C-91942E5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058E-0B03-4F77-83AF-9CA9AF2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EA60-E057-4A36-B18A-F8C11AE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455F-9DE2-44BE-A166-D782D40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D86-DC78-4A6C-8914-B2B29A3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8877-70C8-4D33-8654-C15F78D9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D601-F98D-4CE5-A6D4-3DF7434D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5BB0-A96E-4583-BBF3-F7A8B138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FF01-7C9C-44D4-8059-9642F11A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E2CB-5439-4A1E-BE4C-9320E49B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D0DA-E6E6-4779-B658-6696420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7E68-F100-4F39-8FE7-0CE713D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1B1A5-E670-4167-B952-0F679B0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34F9-E5F3-481C-9450-94D0FCE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1D41E-8EE6-4BB4-9187-154A43D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93F-A2EB-4232-A4F3-82AEE2A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B42A4-E9E3-4A3A-9AD7-208CBE6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5B32-CF76-484A-9381-C1E027C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7648-83AF-4606-BE87-51F1E34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90B3-A364-4B19-B8A1-7F57E02F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2193-2033-4222-9322-5640C169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A881-5972-4EC4-9EBC-23EED416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6D18-D4E1-4C6F-9C1B-C63A3D47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F2793-B6DE-4CE4-9819-F0E88F9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92B39-3B2F-47E4-B8FA-0C43EF9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76F4A-8237-4298-842E-0E9F6A66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2E6-5D72-4325-A200-48DD4CC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EF1FB-0ED5-4E81-950C-62FBA89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4008-990F-47F7-A708-E3BBDB1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39B7-ED23-4F2C-8B76-82D318B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2175-BFDC-4652-A67E-965F7B5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2FA3-C1A4-4425-BE11-9F03EA1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98E71-1490-4FCC-AE0D-0FAD66E2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27CC-18A5-45AE-8053-D47A4EA8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849C7-66FE-45DB-9E35-D92A3979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E0A1-F840-4CCC-AB03-142B66F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B3B79-F5C6-49DD-BCE1-F3D3279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250-E1FA-4EF8-AE9F-67866654D7E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B61-2815-4876-95EA-A465BEB65C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DA3-2F4A-4F36-8EC3-9FF42F01C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CEE-7340-43A3-9861-15384617F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6FFF-5C5B-450E-8807-8D3701C1F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A6F-3204-4E9E-AFC2-145A0B07A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514-CBE6-4553-ABAA-B6117B4C6F1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C5B-31F0-4C78-8F9A-0CC31B565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96F-67C3-412E-A214-5A7B8A35E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890-E4BC-4D8A-B55D-E72CB2704E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CD16-DF5B-4FB2-9304-3C35129E44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A17-563E-4517-BF7F-0E4AFC02B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01C-C8C6-42C7-9EE0-A24A4FD1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953-847D-4259-8128-01594F28C9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цифика деятельности социального педагога в школ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179280" y="504360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29 4.04624E-007 L 0.8816 4.04624E-007 E">
                                      <p:cBhvr>
                                        <p:cTn id="12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ся деятельность социального педагога должна способствовать созданию обстановки психологического комфорта и безопасности личности обучающихся, обес­печению охраны их жизни и здоровья, установ­лению гуманных, нравственно здоровых отношений в социальной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-1260360" y="5043600"/>
            <a:ext cx="176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4624E-007 L 0.91129 4.04624E-007 E">
                                      <p:cBhvr>
                                        <p:cTn id="91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феру профессиональных обязанностей социальных педагогов входит работа с детьми, подростками, молодежью и их родителями, взрослыми в семейно-бытовой среде, с подростковыми и молодежными группами, объединен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ункции социального педагога в школ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рганизует воспитательную работу в классе, группе, направленную на формирование общей культуры личности, адаптацию личности к жизни в обществе, уважение к окружающей природ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учает психолого-педагогические особенности личности и её микросреды, условия жизни, выявляет интересы и потребности, трудности и проблемы, конфликтные ситуации, отклонения в поведении и своевременно оказывает социальную помощь и поддержку обучающимся и воспитанника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тупает посредником между личностью и образовательным учреждением, семьёй, средой, органами в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80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771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ует реализации прав и свобод обучающихся, созданию комфортной и безопасной обстановки, обеспечению охраны их жизни и здоровь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ёт условия для развития талантов, умственных и физических способностей обучающихся во внеурочное врем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заимодействует с учителями, родителями (лицами, их заменяющими), специалистами социальных служб, семейных и молодёжных служб занятости и других служб в оказании помощи обучающимся, детям, нуждающимся в опеке и попечительстве, детям с ограниченными физическими возможностями, а также попавшим в экстремальные ситу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нструментарий социального педаго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чес­кий инструментарий социального педагога включает в себя как социологические, так и психологические методики. Поэтому в методическом багаже социального педагога значительное место за­нимают диагностические методики: тесты, опросники, анкеты и др. Также большой интерес представляют разные отчеты, справ­ки, таблицы, документы, медицинские карты учащихся и прочее, что всегда имеется в нали­чии в любом образовательном учрежд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630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е место в деятельности социального педагога занимают стимулирование и собственно развитие социально ценной деятельности обучающихся и взрослых, поддержка социальных инициатив, мероприятий, акций, социальных проектов и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Методы изучения семьи учащего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ая семью, важно выяснить, как уживаются в ней такие понятия, как любовь, понимание, жалобы, трудности, желания, надежды, отношение к современному состоянию общества в стр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уб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месте с семьей он разрабатывает для ребенка варианты реабилитационной програм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наблю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дагог наблюдает за общением ребенка, его поведением в семье, в школе, на уроке, со сверстниками, его труд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бесе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, чтобы к беседе социальный педагог готовил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социомет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математической обработки собираются данные бесед, анкетирования, опроса и алгоритмов, оценки кризисного состояния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203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заключение хотелось бы  сказ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58920" y="549360"/>
            <a:ext cx="59259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циальный педагог – это должность, предназначенная для профессионала, компетентного специалиста, конкретного субъекта воспитательной системы. Он не похож на школьного учителя или другого работника образовательной системы. Ему приходится действовать непосредственно,  в среде, окружающей личность – общаться с семьей, «трудиться» на улице, где нет привычной ситуации с привычным и определенным школьным режимом, наличием авторитетов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20231E-007 L 0.10243 -0.81133 E">
                                      <p:cBhvr>
                                        <p:cTn id="82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47:50Z</dcterms:created>
  <dc:creator>Admin</dc:creator>
  <dc:description/>
  <dc:language>en-US</dc:language>
  <cp:lastModifiedBy>Admin</cp:lastModifiedBy>
  <dcterms:modified xsi:type="dcterms:W3CDTF">2010-03-31T07:43:16Z</dcterms:modified>
  <cp:revision>2</cp:revision>
  <dc:subject/>
  <dc:title>Специфика деятельности социального педагога в школе </dc:title>
</cp:coreProperties>
</file>